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AB6-E0CB-463A-88E7-31C4284D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92D-15E6-44DB-828C-D6E16DE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B9D-B053-40FD-BA98-22C8BB84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6B7-92F9-4632-8D29-95ECBBE5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CC6-3DB8-4FFD-BE3A-0E33107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D65-B21B-4EE3-A02D-39FD1D25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A30-C750-4CD6-87DD-68936408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D4B-77C7-4F52-A979-7D720521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DBA-2FC4-49D0-9FD5-085C8B4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672-4DE2-4932-8B48-3C94393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B83-060C-4473-9929-0FFE07B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41F-2709-434D-ACE9-2960D55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593-2205-4DF0-AB17-B828303C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76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Электронно дидактическая иг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«Поможем Зай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ложить фрукты в корзин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266920"/>
            <a:ext cx="7632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формировать у детей представление об овощах и фруктах. Формировать представление о том, где они растут. Научить различать их. Закрепить названия овощей и фруктов. Обогащать и развивать словарный запас. Учить правильно называть названия фруктов и ово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052640"/>
            <a:ext cx="770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кажи, что ты больше любишь кушать, фрукты или овощи? Наверняка фрукты! Давай попробуем разобраться, чем же они отличаются друг от друга. Фрукты сладкие и растут в саду. А овощи, как правило, не сладкие, зато очень полезные и растут в огороде. Конечно ты всё это знаешь и видел на даче или у бабушки в деревне. Зайка «Длинное ушко» тоже любит фрукты но он их перепутал с овощами, и просит помочь ему. Нужно сложить в корзинку только фрукты называя их.  Итак, проверь свои зна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3276720" cy="46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56000" y="4910040"/>
            <a:ext cx="4681440" cy="194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2158920" cy="15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2470200">
            <a:off x="1692000" y="-1324080"/>
            <a:ext cx="3693960" cy="372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6720" y="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508720" y="189000"/>
            <a:ext cx="294624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6635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 rot="4132800">
            <a:off x="4241160" y="401400"/>
            <a:ext cx="2433600" cy="1630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020000" y="333360"/>
            <a:ext cx="151272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635280" y="981000"/>
            <a:ext cx="145116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435640" y="260280"/>
            <a:ext cx="349236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 rot="5082600">
            <a:off x="5838480" y="179280"/>
            <a:ext cx="1001880" cy="15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6084720" y="260280"/>
            <a:ext cx="2686320" cy="18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708360" y="90792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 rot="7122000">
            <a:off x="2711880" y="1256400"/>
            <a:ext cx="21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63 -0.02983 L 0.41024 0.51295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 -0.02728 C 0.08924 -0.02844 0.10434 -0.03145 0.11927 -0.03098 C 0.13576 -0.03052 0.16858 -0.02728 0.16858 -0.02705 C 0.18368 -0.02474 0.19861 -0.02173 0.21371 -0.01965 C 0.22274 -0.01665 0.2316 -0.01433 0.24045 -0.0104 C 0.2441 -0.00878 0.25174 -0.0067 0.25174 -0.00647 C 0.26024 0.00139 0.27014 0.00047 0.27986 0.00463 C 0.29167 0.00972 0.30347 0.01712 0.3151 0.02151 C 0.32205 0.02406 0.32812 0.02938 0.33472 0.03284 C 0.3375 0.03423 0.34323 0.03655 0.34323 0.03678 C 0.3493 0.04233 0.3559 0.04857 0.36302 0.05158 C 0.36441 0.05273 0.36562 0.05435 0.36719 0.05528 C 0.36858 0.0562 0.37014 0.0562 0.37135 0.05713 C 0.3776 0.06198 0.38246 0.068 0.38976 0.07031 C 0.39531 0.07401 0.40521 0.07864 0.41076 0.08349 C 0.4184 0.0902 0.40851 0.08488 0.41788 0.08904 C 0.42413 0.09737 0.43142 0.10292 0.43767 0.11148 C 0.44774 0.12535 0.45799 0.14177 0.46996 0.15287 C 0.47604 0.15865 0.48403 0.16166 0.48976 0.16791 C 0.49496 0.17369 0.49913 0.18039 0.50382 0.18664 C 0.50885 0.19334 0.5151 0.19936 0.52066 0.20537 C 0.52656 0.21185 0.52986 0.22017 0.53472 0.2278 C 0.54358 0.24191 0.55121 0.25486 0.55451 0.2729 C 0.55399 0.28099 0.55417 0.28932 0.55312 0.29741 C 0.55226 0.30366 0.54601 0.30944 0.54323 0.3143 C 0.53767 0.32378 0.52795 0.34136 0.52066 0.34806 C 0.51597 0.35754 0.50989 0.36124 0.50382 0.36865 C 0.49722 0.37651 0.49253 0.38437 0.48698 0.39293 C 0.47726 0.40796 0.48854 0.389 0.47708 0.40426 C 0.47222 0.41074 0.47691 0.41074 0.46858 0.41374 C 0.46302 0.41582 0.45729 0.41536 0.45174 0.41744 C 0.4375 0.42253 0.42361 0.4297 0.40937 0.43433 C 0.3901 0.44728 0.34549 0.44635 0.325 0.44751 C 0.32031 0.44866 0.31528 0.44913 0.31076 0.45121 C 0.30799 0.45236 0.30521 0.45375 0.30243 0.45491 C 0.30104 0.4556 0.29809 0.45676 0.29809 0.45699 C 0.29427 0.46023 0.28958 0.4637 0.28542 0.46624 C 0.28281 0.46786 0.27986 0.46878 0.27708 0.46994 C 0.27569 0.47063 0.27274 0.47179 0.27274 0.47202 C 0.27031 0.4741 0.2684 0.47757 0.2658 0.47942 C 0.26319 0.48127 0.25729 0.48312 0.25729 0.48335 C 0.2526 0.48937 0.24531 0.49307 0.23906 0.4963 C 0.2375 0.50255 0.23489 0.50486 0.23333 0.51111 C 0.23212 0.52059 0.23368 0.52429 0.22639 0.52429 E">
                                      <p:cBhvr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11263 L -0.00243 0.44565 E">
                                      <p:cBhvr>
                                        <p:cTn id="5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5633 L -0.00052 0.48936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8001 L -0.00417 0.41304 E">
                                      <p:cBhvr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07:42:21Z</dcterms:created>
  <dc:creator>user</dc:creator>
  <dc:description/>
  <dc:language>en-US</dc:language>
  <cp:lastModifiedBy>user</cp:lastModifiedBy>
  <dcterms:modified xsi:type="dcterms:W3CDTF">2018-02-02T02:07:49Z</dcterms:modified>
  <cp:revision>6</cp:revision>
  <dc:subject/>
  <dc:title>Слайд 1</dc:title>
</cp:coreProperties>
</file>