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E2B-3FF2-414F-A20D-99B184FF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22E-7556-4BA1-BB07-639EF62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831-B92D-46F6-8926-176AD636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0FC-A1C2-4CE9-B17E-63C7BAA9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D74-7935-4B4C-AD0E-C3F08E0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7EB-39E6-45CB-98D7-FEA3053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C6C-0CBD-401B-B7DC-999E1E2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984-BB41-4D07-B00F-98704949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A97-C869-4C7C-8C29-A5B5EAEF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3FE4-EC03-4675-961C-69DE4EE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3BE-C9A4-4EDB-8DC6-6680943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E08-566E-481C-B7BE-011F3A75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7CBF-29B5-4169-89F2-11C2B63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5770-75D8-4883-832E-639BF98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E9FA-431D-409A-98E3-E3248BF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20FA-9BA3-4BE9-817B-40B441BF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69E-72A6-4990-BC63-E62853BF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1D3-7CAD-4516-BEED-42A07B55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A0B-9E42-4170-ACBC-4FB0733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84B-80DF-4E07-9EE8-8F5966C3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DF3-45FE-4D14-8ECC-BF1B1A6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A74-6D1A-46B5-A9F8-AE92A69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28F-7CAA-46AD-84DD-C7A7568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10B-B3AB-489F-AE3D-FBDED93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474-D7E1-4CFB-915D-ADDD632B7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58A7-5583-4ACC-8031-4739A711E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t-n.r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«Благовещенская СОШ №2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по литературе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.А.Крыл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Избранные басни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ebi"/>
          <p:cNvPicPr/>
          <p:nvPr/>
        </p:nvPicPr>
        <p:blipFill>
          <a:blip r:embed="rId1"/>
          <a:stretch/>
        </p:blipFill>
        <p:spPr>
          <a:xfrm>
            <a:off x="4222800" y="476280"/>
            <a:ext cx="4848120" cy="56894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3"/>
          <p:cNvSpPr txBox="1"/>
          <p:nvPr/>
        </p:nvSpPr>
        <p:spPr>
          <a:xfrm>
            <a:off x="179280" y="333360"/>
            <a:ext cx="389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А воз и ныне та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557360"/>
            <a:ext cx="3671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ворится обычно в ситуации, когда прошло много времени, а дело с места не сдвину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колько раз говорили, что надо готовиться к каждому уроку,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«а воз и ныне там»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- опять вы не подгото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icture"/>
          <p:cNvPicPr/>
          <p:nvPr/>
        </p:nvPicPr>
        <p:blipFill>
          <a:blip r:embed="rId1"/>
          <a:stretch/>
        </p:blipFill>
        <p:spPr>
          <a:xfrm>
            <a:off x="250920" y="2421000"/>
            <a:ext cx="5153040" cy="368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6" name="WordArt 3"/>
          <p:cNvSpPr txBox="1"/>
          <p:nvPr/>
        </p:nvSpPr>
        <p:spPr>
          <a:xfrm>
            <a:off x="684360" y="260280"/>
            <a:ext cx="4143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ем кумушек считать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трудиться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не лучше ль на себя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кума, оборотиться?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435640" y="404640"/>
            <a:ext cx="352908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место того, чтобы критиковать недостатки других, лучше посмотреть, нет ли их у тебя са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Говорится обычно иронически в ситуации, когда кто-либо указывает другому на недостатки, которые есть и у него са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ому из нас  в той или иной мере надо прежде всег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на себя оборотиться»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быть строже к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79280" y="61657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ар., раз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 – здесь: приятельница, обращение к представительнице женского п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0920" y="580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icture"/>
          <p:cNvPicPr/>
          <p:nvPr/>
        </p:nvPicPr>
        <p:blipFill>
          <a:blip r:embed="rId1"/>
          <a:stretch/>
        </p:blipFill>
        <p:spPr>
          <a:xfrm>
            <a:off x="324000" y="1413000"/>
            <a:ext cx="5327640" cy="4636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1" name="WordArt 3"/>
          <p:cNvSpPr txBox="1"/>
          <p:nvPr/>
        </p:nvSpPr>
        <p:spPr>
          <a:xfrm>
            <a:off x="826920" y="333360"/>
            <a:ext cx="7777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Кукушка хвалит петуха за то,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то хвалит он кукушку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796000" y="1989000"/>
            <a:ext cx="3168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заимные похвалы не бывают искрен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оворят иронически, когда один хвалит другого потому, что тот похвалил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76360" y="609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970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«Волк на псарне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отклик на события войны 1812 года, когда Наполеон вошел в оставленную русским полководцем Кутузовым Москву и понял, что русская армия не побеждена, а набирает силы. Эти события и запечатлел в своей басне великий русский баснописец, затем переслал басню Кутузову, который, прочитав ее вслух после сражения под красным, обнажил голову, показав свои сед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icture"/>
          <p:cNvPicPr/>
          <p:nvPr/>
        </p:nvPicPr>
        <p:blipFill>
          <a:blip r:embed="rId1"/>
          <a:stretch/>
        </p:blipFill>
        <p:spPr>
          <a:xfrm>
            <a:off x="4427640" y="1484280"/>
            <a:ext cx="4333680" cy="4942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7" name="Text Box 6"/>
          <p:cNvSpPr/>
          <p:nvPr/>
        </p:nvSpPr>
        <p:spPr>
          <a:xfrm>
            <a:off x="5076720" y="6381720"/>
            <a:ext cx="3167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А. М. С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755640" y="620640"/>
            <a:ext cx="756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У каждой басни своя истори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476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 перекликаются строчки басни с реальными событиями войны 181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Е"/>
          <p:cNvPicPr/>
          <p:nvPr/>
        </p:nvPicPr>
        <p:blipFill>
          <a:blip r:embed="rId1"/>
          <a:stretch/>
        </p:blipFill>
        <p:spPr>
          <a:xfrm>
            <a:off x="5189400" y="1125360"/>
            <a:ext cx="3938760" cy="5732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6335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удожник Е. М. Рач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79280" y="566100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Здесь под Ловчим подразумевается великий русский полководец М. И. Кутузов, под Волком – Наполе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0"/>
          <p:cNvSpPr txBox="1"/>
          <p:nvPr/>
        </p:nvSpPr>
        <p:spPr>
          <a:xfrm>
            <a:off x="1403280" y="404640"/>
            <a:ext cx="6515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Рассмотрим басню подробне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7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txBody>
          <a:bodyPr lIns="104040" rIns="104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ражение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опал на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псарню»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ет дополнительный смысл: слово «попал» несет оттенок неожиданности, а псарня – это не овчарня, псы могут защитить себя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95280" y="2637000"/>
            <a:ext cx="8353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однялся…двор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значает, что с Волком начал сражаться весь    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11280" y="342900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ое значение фразы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и вмиг ворота на запор»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полняется переносным: русская армия, совершив маневр и выйдя на Калужскую дорогу, закрыла для Наполеона пути отхода в области, где были запасы продоволь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11280" y="472428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лк забился в угол, </a:t>
            </a: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ощетиня шерсть, глазами, кажется, хотел бы всех он съесть»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У русского народа есть пословица: «Видит око, да зуб неймет». Волк- Наполеон хочет завоевать всю Россию, но не может. Его возможности меньше его жел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1258920" y="620640"/>
            <a:ext cx="6648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Поработаем над языком бас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162864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Пустился в переговоры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значит «начал переговоры». «Начал» - в данном случае синоним слова «пустился». Но «пустился» звучит выразитель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826920" y="2708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Уставим общий лад»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начит  «заключим мирный договор». Волк- Наполеон предлагает русскому царю стать союзником и «грызться», то есть воевать на сторон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2692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Не делать мировой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значает не заключать мирного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826920" y="4581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ahoma"/>
              </a:rPr>
              <a:t>«Выпустить на Волка гончих стаю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дать армии команду преследовать отступающих французов, чтобы изгнать их за пределы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icture"/>
          <p:cNvPicPr/>
          <p:nvPr/>
        </p:nvPicPr>
        <p:blipFill>
          <a:blip r:embed="rId1"/>
          <a:stretch/>
        </p:blipFill>
        <p:spPr>
          <a:xfrm>
            <a:off x="3635280" y="1773360"/>
            <a:ext cx="5189760" cy="380340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168" name="AutoShape 3"/>
          <p:cNvSpPr/>
          <p:nvPr/>
        </p:nvSpPr>
        <p:spPr>
          <a:xfrm>
            <a:off x="3635280" y="5516640"/>
            <a:ext cx="5184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винья под Дубом». Художник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1844640"/>
            <a:ext cx="3168360" cy="39243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явление жизни  аллегорически описывает бас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вам представляется Свин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их строчках заключена мораль бас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йте свои иллюстрации к бас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1116000" y="549360"/>
            <a:ext cx="712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винья под Дубом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468360" y="1628640"/>
            <a:ext cx="4390920" cy="4392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picture"/>
          <p:cNvPicPr/>
          <p:nvPr/>
        </p:nvPicPr>
        <p:blipFill>
          <a:blip r:embed="rId1"/>
          <a:stretch/>
        </p:blipFill>
        <p:spPr>
          <a:xfrm>
            <a:off x="5508720" y="1557360"/>
            <a:ext cx="3295440" cy="430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73" name="AutoShape 4"/>
          <p:cNvSpPr/>
          <p:nvPr/>
        </p:nvSpPr>
        <p:spPr>
          <a:xfrm>
            <a:off x="5508720" y="5877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Ворона и Лисиц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. Г. Куприя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39640" y="234936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 басню И. А. Крылова «Ворона и Лисица» с басня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Эзо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афонт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бщего и чем различаются бас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мысл морали? Какая ситуация подтверждает эту мора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качества осуждают и высмеивают баснописц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ья басня кажется вам более выразите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971640" y="620640"/>
            <a:ext cx="734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рона и Лисиц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211640" y="213372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асни И. А. Крылова учат быть добрыми, честными, справедливыми. Хотя в баснях действуют животные, птицы или предметы, мы понимаем, что речь идет о людях. Автор помогает нам оценить их поступ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1763640" y="620640"/>
            <a:ext cx="5800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Чему учат басни Крылова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80" name="Picture 8" descr="Крылов"/>
          <p:cNvPicPr/>
          <p:nvPr/>
        </p:nvPicPr>
        <p:blipFill>
          <a:blip r:embed="rId1"/>
          <a:stretch/>
        </p:blipFill>
        <p:spPr>
          <a:xfrm>
            <a:off x="468360" y="1844640"/>
            <a:ext cx="3705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ahoma"/>
              </a:rPr>
              <a:t>«Люблю, где случай есть, пороки пощипат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826920" y="333360"/>
            <a:ext cx="76359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. А. Крылов. Избранные басн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7" name="02 - Басни Ивана Андреевича Крылова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Постер Крылов"/>
          <p:cNvPicPr/>
          <p:nvPr/>
        </p:nvPicPr>
        <p:blipFill>
          <a:blip r:embed="rId5"/>
          <a:stretch/>
        </p:blipFill>
        <p:spPr>
          <a:xfrm>
            <a:off x="468360" y="1413000"/>
            <a:ext cx="4032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8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уппа обучающихся 5а класса МБОУ «Благовещенская СОШ №2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тель проекта: учитель русского языка и литературы МБОУ «Благовещенская СОШ №2» Костецкая Л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908000" y="620640"/>
            <a:ext cx="5295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Над проектом работали: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32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пользованные матери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504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олотарева И. В., Егорова Н. В. Поурочные разработки по литературе. 5 класс. – М. : Вако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итература. 5 класс. Учебник-хрестоматия в двух частях. Часть 1. Авторы-составители В. Я. Коровина и др.- М. : Просвещение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роки литературы Кирилла и Мефод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нтернет-рес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it-n.ru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ttp://school-collection.edu.ru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http://window.edu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kostyor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нтерактивные тестовые задания по басням И. А. Крыл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фильм по басне «Ворона и Лисиц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 для выполнения проектных заданий. Режим доступа http://school-collection.edu.ru/catalog/search/?text=%C1%E0%F1%ED%E8+%CA%F0%FB%EB%EE%E2%E0&amp;context=current&amp;interface=pupil&amp;class%5B%5D=47&amp;subject%5B%5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it-n.ru/communities.aspx?cat_no=2168&amp;lib_no=21422&amp;tmpl=lib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356000" y="1484280"/>
            <a:ext cx="424980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то не слыхал его живого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то в жизни с ним не встретился сво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ссмертные творения 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ы с каждым годом любим все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школьной парты с ними мы сжива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те дни букварь постигшие е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в памяти навеки оста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рылатые крыловски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. Иса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971640" y="476280"/>
            <a:ext cx="7238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Иван Андреевич Крылов (1769 - 1844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92" name="Picture 7" descr="lit41-08"/>
          <p:cNvPicPr/>
          <p:nvPr/>
        </p:nvPicPr>
        <p:blipFill>
          <a:blip r:embed="rId1"/>
          <a:stretch/>
        </p:blipFill>
        <p:spPr>
          <a:xfrm>
            <a:off x="324000" y="1341360"/>
            <a:ext cx="3906720" cy="5281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250920" y="6308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. Брюллов. Портрет И. А. 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5113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Петербург Крылов переехал в 1782 с Львовыми. С 1783 служил в Казенной палате в Петербурге, активно занимался самообразованием. Кроме французского, он выучился читать и писать по-немецки и по-итальянски. Хорошо играл на скрипке, выучил теорию музыки, разбирался в математике. У Львовых и, возможно, у драматурга Я. Б. Княжнина, Крылов познакомился практически со всем, довольно узким кругом литераторов и знатоков искусств того времени, в числе которых был и Г. Р. Державин с женой, покровительствовавшей Кры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Группа писателей в Летнем саду"/>
          <p:cNvPicPr/>
          <p:nvPr/>
        </p:nvPicPr>
        <p:blipFill>
          <a:blip r:embed="rId1"/>
          <a:stretch/>
        </p:blipFill>
        <p:spPr>
          <a:xfrm>
            <a:off x="155520" y="1197000"/>
            <a:ext cx="365292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50920" y="6093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писателей в Летнем саду. Слева: И. 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627280" y="404640"/>
            <a:ext cx="4314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В Санкт-Петербург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p:transition spd="slow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4038480" cy="4752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55 году в Летнем саду Петербурга был установлен памятник великому баснописцу в бронзе. В конкурсе на лучший проект победил барон Петр Карлович Клодт. Он работал над памятником вместе с художниками К.Брюлловым и Аги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лов изображен сидящим в кресле, задумчивым. На каждой стороне постамента – барельефные изображения персонажей наиболее известных басен Кры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Памятник Крылову"/>
          <p:cNvPicPr/>
          <p:nvPr/>
        </p:nvPicPr>
        <p:blipFill>
          <a:blip r:embed="rId2"/>
          <a:stretch/>
        </p:blipFill>
        <p:spPr>
          <a:xfrm>
            <a:off x="4859280" y="141300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"/>
          <p:cNvSpPr txBox="1"/>
          <p:nvPr/>
        </p:nvSpPr>
        <p:spPr>
          <a:xfrm>
            <a:off x="2124000" y="476280"/>
            <a:ext cx="51436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Памятник И. А. Крылов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64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Эзоп – древнегреческий баснописец 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век до н. э.), считавшийся создателем бас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205240" y="1628640"/>
            <a:ext cx="3042000" cy="338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643280" y="494172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афонтен Жан де (1621 – 1695) – французский поэт, прославившийся как баснопис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187280" y="47628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У истоков басенного жан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313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200320" cy="25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11140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369120" y="1413000"/>
            <a:ext cx="213516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76280" y="4221000"/>
            <a:ext cx="2198520" cy="223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68360" y="3860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. 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39640" y="6515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 И. Хемн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4364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. И. Май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516720" y="645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. П. Сума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2767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. 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11280" y="404640"/>
            <a:ext cx="77817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Басни в русской литературе пис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21" name="Picture 12" descr="lit41-08"/>
          <p:cNvPicPr/>
          <p:nvPr/>
        </p:nvPicPr>
        <p:blipFill>
          <a:blip r:embed="rId5"/>
          <a:stretch/>
        </p:blipFill>
        <p:spPr>
          <a:xfrm>
            <a:off x="2843280" y="1413000"/>
            <a:ext cx="3351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4427640" y="1413000"/>
            <a:ext cx="431640" cy="4824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824360"/>
              <a:gd name="textAreaBottom" fmla="*/ 4803480 h 4824360"/>
            </a:gdLst>
            <a:ahLst/>
            <a:rect l="textAreaLeft" t="textAreaTop" r="textAreaRight" b="textAreaBottom"/>
            <a:pathLst>
              <a:path w="21600" h="241236">
                <a:moveTo>
                  <a:pt x="3600" y="0"/>
                </a:moveTo>
                <a:arcTo wR="3600" hR="3600" stAng="16200000" swAng="-5400000"/>
                <a:lnTo>
                  <a:pt x="0" y="237636"/>
                </a:lnTo>
                <a:arcTo wR="3600" hR="3600" stAng="10800000" swAng="-5400000"/>
                <a:lnTo>
                  <a:pt x="18000" y="24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68360" y="1413000"/>
            <a:ext cx="3959280" cy="4824360"/>
          </a:xfrm>
          <a:prstGeom prst="rect">
            <a:avLst/>
          </a:prstGeom>
          <a:gradFill rotWithShape="0">
            <a:gsLst>
              <a:gs pos="0">
                <a:srgbClr val="c49f00"/>
              </a:gs>
              <a:gs pos="50000">
                <a:srgbClr val="ffffff"/>
              </a:gs>
              <a:gs pos="100000">
                <a:srgbClr val="c49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59280" y="1413000"/>
            <a:ext cx="3959280" cy="4824360"/>
          </a:xfrm>
          <a:prstGeom prst="rect">
            <a:avLst/>
          </a:prstGeom>
          <a:gradFill rotWithShape="0">
            <a:gsLst>
              <a:gs pos="0">
                <a:srgbClr val="c49f00"/>
              </a:gs>
              <a:gs pos="50000">
                <a:srgbClr val="ffffff"/>
              </a:gs>
              <a:gs pos="100000">
                <a:srgbClr val="c49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1628640"/>
            <a:ext cx="3888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кий рассказ, часто стихот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части: основное повествование и мораль (нравоу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легория (иносказ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тирическо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 – чащ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932360" y="1628640"/>
            <a:ext cx="38876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просторечной лек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ко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ористичность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ый басенный стих (строчки разной длины), передающий разговорную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3059280" y="404640"/>
            <a:ext cx="32763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Басня как жан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icture"/>
          <p:cNvPicPr/>
          <p:nvPr/>
        </p:nvPicPr>
        <p:blipFill>
          <a:blip r:embed="rId1"/>
          <a:stretch/>
        </p:blipFill>
        <p:spPr>
          <a:xfrm>
            <a:off x="250920" y="1197000"/>
            <a:ext cx="4014720" cy="5495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29" name="WordArt 3"/>
          <p:cNvSpPr txBox="1"/>
          <p:nvPr/>
        </p:nvSpPr>
        <p:spPr>
          <a:xfrm>
            <a:off x="1763640" y="404640"/>
            <a:ext cx="561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А Васька слушает да е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27640" y="1484280"/>
            <a:ext cx="4319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дин говорит, стыдит, убеждает, а другой, не обращая внимания, продолжает делать что-то плох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оворят, когда хотят подчеркнуть, что бесполезно уговаривать в тех случаях, когда нужны решительные меры, а н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удожник А. М. С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8:18:28Z</dcterms:created>
  <dc:creator>Лидия Криницина</dc:creator>
  <dc:description/>
  <dc:language>en-US</dc:language>
  <cp:lastModifiedBy>Ludmila</cp:lastModifiedBy>
  <dcterms:modified xsi:type="dcterms:W3CDTF">2015-02-06T06:14:20Z</dcterms:modified>
  <cp:revision>31</cp:revision>
  <dc:subject/>
  <dc:title>Слайд 1</dc:title>
</cp:coreProperties>
</file>