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8.png" ContentType="image/png"/>
  <Override PartName="/ppt/media/image13.png" ContentType="image/png"/>
  <Override PartName="/ppt/media/image30.jpeg" ContentType="image/jpeg"/>
  <Override PartName="/ppt/media/image24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27.jpeg" ContentType="image/jpeg"/>
  <Override PartName="/ppt/media/image36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8.gif" ContentType="image/gif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media/image1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dt" idx="5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ftr" idx="5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6"/>
          <p:cNvSpPr>
            <a:spLocks noGrp="1"/>
          </p:cNvSpPr>
          <p:nvPr>
            <p:ph type="sldNum" idx="5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176B-391D-4098-AE6D-C856A688B4F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F2A7-0C83-40D8-901F-A9240FF0A6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BC94-2789-4671-B5F5-A95717C22E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AA0E-20C7-465F-8B66-BFDAD0E57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A81D-B1FE-4253-94ED-D8A43CD7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5F0C10-2C7C-4C59-9EF0-D30D51A7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AA2C42-499B-48E1-88E9-4E32FD49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33A3BB-1877-4494-AA7D-5210E99D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5D836E-F1AE-4ED4-8E74-DE864D6A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2939F5-A87B-477A-A207-13C4463C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71C5E-8010-4243-AF4B-979314F3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F413A2-7B9A-4D38-AA58-9ECAFD9F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A6F388-7C1D-446F-A008-697CA97DB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5EA96D-C275-49B3-8866-277C23E2A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39573F-27E7-4E7B-B574-A883D6F0E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709E-0698-4505-BC1C-B29B517E0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DE59D2-8F5E-42CC-83A4-F13FFE90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96C42A-3DD3-4CEB-B459-CCD09D9B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8CE215-5D6B-4D81-B800-B9DCA8DB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10E852-FDD5-4BAD-8B99-FE6FE5C7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6AAF16-2612-43D8-8F3D-7726208E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86B92C-FCB5-4F9C-A755-4AC35EF8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75B3A1-6D12-4EAE-8209-F606B83D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35C499-BA51-4FF8-84E3-963B05F1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A4C0C6-7A2C-4157-8070-DCA30F19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595F25-33F4-4ECC-9D2B-03C545F61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FC72-EB37-4728-AA2C-457C27323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3B43B3-D6C9-4EAB-8279-CF9E2A2DC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4BE0A2-1D84-4790-81CD-94430E9BB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93858-FD64-47D9-B9DF-9588228E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B32863-3511-4B2C-9928-CC485118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2E813-ECE2-4AC7-9192-422C81A8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92B41-89A8-4A6C-BC8A-3541453A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448486-F90B-4451-8BED-E92A7037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83372-38E7-4A70-9001-E7D68785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FBB716-2CCE-42C4-9809-AD0D5534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9FDF4-C134-43E9-A59D-1ECDD088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688E-7303-4207-AF04-2F91791E1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302662-AF4C-4F66-8645-A59C3E1A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C0C4B-5B45-401E-901E-148374A1F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1E9CE-8BE0-482D-BEBC-B54BCB849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F613A0-B3BC-4BDD-A6FC-5EFC2C2BE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88E5C7-4F09-4003-95C0-D7BBE141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04EC23-30A5-4959-A788-A7A370D1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55B92B-A9A5-41F4-9649-8332E34C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7AE2DB-0B72-4CB8-A469-BE41DA6F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52D031-A49F-44CB-A5FB-320B1882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885660-3DDE-4ADE-B64F-47D2C022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E75B-7858-4B36-B563-4C58D5E3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B27D2D-EDAE-4C90-9968-AB59C9C9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794EC3-4502-4F5E-83FD-B2AEAD5B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EE2C3E-8478-4206-B75B-F2009F77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12462F-0014-43EC-9E1F-10713F29B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9AEB20-83A9-4268-B2B3-B16F311A4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EF946B-9435-48F6-A29E-64B7B1B5D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2F67E4-5B1F-4125-8107-ED3012E7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1D119D-4598-4670-84F8-D3B748A6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E5FF20-BF4E-4C42-815B-DDF6DA4E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DE5A81-C9CC-4646-A42D-264F718D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DF81E-1B4C-4C6A-9E36-02929811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7257A0-E2EF-4DD9-BAE9-D9F37A74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A3464A-F7BB-435F-9FBB-3D42E896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8214B5-FBDB-46B8-BC59-9EE0389E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C964BA-CAFF-4A7B-A6D8-DA7A5B93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437E4A-F810-4EF4-A5E1-725FCFA8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4FE228-066A-4E76-AE4D-20D99D6FA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F2A95F-D02B-4EE5-8130-2F52C3337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3F4936-5BE2-41BE-A454-1CD954A99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D54038-5004-43C5-9336-A4ABDD9E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1D00BD-6009-40E9-9533-8C90868F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8FE3-B0F3-4825-90B7-80D97A71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8D1DA8-D77F-478B-955C-A4715E43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3D2844-EF2A-437E-B6B0-AD999FBA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5BAABA-41FD-42B3-956C-AFDFA212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F2923D-17DF-4484-A10F-311BC036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8795FD-0C23-4666-9FD5-C383514F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FC72B3-E5A6-417A-A231-189FC0F4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9E1725-6214-443F-9D5A-8A9ABC82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7F9327-7326-4899-BB63-3D771E18C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684701-1C1A-4F91-AA0E-C2B5DE3AF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DC40A4-9379-4821-A4C4-9777A6451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5A36-116D-42E2-A378-F3231F1E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E31922-303D-46F1-A76D-531F0852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D1558A-9A99-4CA6-AB87-4AA43461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AF94C1-5EC5-4B51-A169-11BEA5AC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8693AD-59FC-46D8-90C8-09159EFB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254B10-6E81-478E-95E1-F416A834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013157-1A53-4962-A4F1-A58AF3FA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00C737-4E3C-4C01-9319-6D22A2BD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79DF44-EB9F-4695-99C8-FE622A37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61D57E-B685-4193-A56F-82E79CB3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4084F6-3C4A-4274-930F-F40CFC980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D9B4-12C8-4C35-8C3A-4F2246CF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F75B22-7FA8-47F4-9AB6-3D27D4771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24DEB6-BA97-47DA-8E8B-D153C430C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8E0A04-3FB9-4152-BCA7-8CF6CDBA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2D5733-B1E3-435D-B985-D616B604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1F9428-C775-49BB-B8C3-B16FE13C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C49855-AAEC-40F1-AC57-85C40170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AC0B79-87A3-4E49-BA3A-4D7EBC9A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463073-E4F1-4434-9E1D-0155C09B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5D9FAA-078A-4520-80DE-D4D1A588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7EF8B4-867A-4C29-BA4C-898CFE65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4CE6-186F-499B-B9FF-F4E4F0D0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513A69-6D7E-4336-B816-C7C6D817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5009AB-58EC-4A0D-BE7A-D5817D911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9F6265-2CAA-48BC-BDE5-D7C2E3D31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7509EA-F60E-4DA3-AD47-7BDED0877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112935-E501-40EB-9B98-C80D8417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8FECDE-BF20-43AF-9D53-FADA9FC9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655807-66EC-4ED9-BD16-1EC83435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F7C370-1DDE-40D0-BF1C-A24BFAD3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39D861-386A-4CD9-8939-498053A1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7B94DD-2C2E-4DA7-879D-646ADC2C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C0EB-52DA-4CF5-B663-5C652F3D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9A1E8-3F10-42AE-8C94-50B92AA6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9A9FF6-B091-4060-8E23-41DAF72C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B691D3-D7EF-4DB6-802A-9CB8CA63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474F4E-DC8A-4D9C-9E01-9AA51C75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F42064-A7E3-4C51-AD6D-9077DF9D4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1B4C17-3256-4D2C-ADCF-4AC3A8D6D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271713-13DA-4A6D-A8A3-EC5791734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E7E20F-24B5-4BDF-B90B-F2E15E19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8A6F8B-19AA-49B4-BA77-9DC87C7C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4F6104-FE8C-4A22-AE6F-1644F56A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9C668E-424A-4D52-970D-45F5BF57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C0AE-9442-4B9C-BA94-28DEE843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0F6D96-E648-4530-A318-643BFD9F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CAF376-8A95-4330-BAD5-4811AE53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6C182E-32C7-437E-B7D3-CAEEBA8F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9929F2-BCA9-470F-9D2C-FB337DF4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1D7568-F492-4F5E-8774-C19F4A67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DCCE95-9AD5-49BA-9B5B-A9C6862E7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980207-7074-4164-9C5A-C0F50F1CD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5AF8C-51BF-467B-B66B-03328DEC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7054-0538-4603-8A40-35448BF74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8483D-3DB0-4510-B363-A0FAEA182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832BB-21CC-4C8A-B268-F5442204D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991D1-5ED9-44F6-99EE-013AF499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4564A-A2B8-4A13-AABB-FC8DC2C6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650D5-6181-4B9A-8049-C5FE6CC1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B4456-05ED-43C9-ABB5-B9B057D6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B6B2-193D-4E55-AFD2-3E0F82E8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4BCF3-5BA9-4D76-A0B5-F5B72032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1CDDE-8A03-4796-907F-618DE8D2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C9C79-9285-44E8-A17D-9480CB24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0231D-92B7-44CB-A264-1470FCF5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DC72D-1E71-4AB6-A235-BEB6171A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B3B45-B8A8-43A0-8A53-F9828AF4A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B04BC-D2B7-498C-B1A8-3313F9CAF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B0145-7EAF-49D7-B19E-EB1BF93D8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9932D-95FD-4D51-9FCB-745D71A1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59EF1-C6FB-4E09-B364-8431C9D7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CBC1-E9DA-41E7-938A-D2E48A94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3597E-D157-4DF2-9C59-0780B482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BD685-0275-48FB-91FE-C37B930F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8C05E-9AF2-4B23-9179-27B38251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308B6-A009-490C-BF14-A867C08A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484AD-F0BB-4EFD-83ED-530264B3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F8035-F29D-4DAF-BA73-6ACD1B44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A9F4F-FEFB-4A46-90C8-7D806085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65BB7-6782-4955-BF64-E0C3A4788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143EA-E123-45F1-88A0-46211CFE2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4131F-824B-4D36-88F0-70E813C56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2D0E-50EF-4C65-A8A2-9AAB2249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5B08D-BE66-4A3E-B629-17E0FDEC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ACC40-F09D-47AF-98CA-BF8DF852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A1CC2-0C39-4422-8AA9-D07C0C61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76C2B-C7FD-40E3-901A-9778D9DD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F50CD-0246-4DA7-BCB7-7B453567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B44BF-C034-4044-AD3D-EFDB6D23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CAC3D-CE30-4563-B4E0-B6795FB6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BBB8F-C62C-4C3A-90F4-AF2FEA1D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65175-4262-48CA-8FD2-BE2568E2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AF794-0C62-4D6B-9F16-7C56D2BFA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B5FC-1C55-4594-ADFD-9B1502A2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E3F9E-10BE-40EB-9C77-887D63E17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34F0E-9776-48FE-BDA3-274AB2E6A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6953D-8C5B-4FF9-A525-DD00F5C6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BF7F3-E1DB-4318-BCE5-2C6C3ACD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D74E6-7DE5-42CA-A262-9F5926B5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E9DB1-5A28-4007-BAC6-AF690438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0D37D-DC24-4C99-8A6F-EC98EA33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A2C62-755E-45C2-B742-374E2976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A1CD6-FF4A-40AD-948D-8CA699C5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0D3FC-9ABD-4379-924C-549C3BDB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70D0-2332-4E0D-A12E-C459A5AD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F4FFD-7683-4B93-B845-3FACF79B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60149-CE8A-4F93-BE51-DA36D83BB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FEBDE-173D-485D-A70E-309C2AEB9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66943-D2FE-4BD9-9905-1DBB1085E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9CF63-ED94-4388-882C-2D4BB480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A17C7-8515-4A15-A7C8-FDCD4D84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3A430-113B-4170-B59A-736E7C1A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D6A9E-CE4D-4774-8FE0-570BC7A2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44B3E-0A3B-4DB7-9BF3-ADA70829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BB179-D3F0-47E5-B0CA-B14B473A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0567-393A-4EE0-97DA-CB18B5E5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4553C-DBB0-4A1B-BFE8-098AF0DF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A8B1C-B909-4FC0-8FCA-16C3C0A7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4BECD-CDE7-466F-97BA-90E0900E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AD28B-EA2D-4055-8996-36AFBB92A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88B41-982F-4E73-8D2D-9C4912840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F271A-CC42-46A8-A53E-559F478C9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61351-548D-4D24-9C70-EBEA5593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7DEEB-40C1-46F6-BF7E-C9F2A890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4E7C1-6770-4556-AD8A-9FF20A49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20AE0-2A10-4C5C-8FBA-D16160B3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C628-5D81-42DD-8B6F-8EC0EBC6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A341E-6252-4683-9DCB-A41DFA2E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C8A0D-B974-4A94-A3B0-D3FBC50E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3058D-E408-4AE7-990D-DD595384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4F598-ED56-421D-829C-B1DD576A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8CFDD-EB56-43E7-9136-DB8F889C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0A832-7299-499D-9B15-EB379C5FC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FBA3C-F76A-44B3-BD9D-F5E61EB63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E5E317-5E14-4979-8A9C-3B4D3C366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411183-F38F-4B56-ACE9-599E6523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05AE35-8445-468C-A86C-396FD8C7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FD93-2541-4EDC-8D63-0B5F38CADDC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Рисунок 6" descr="bd60188967180e3145c205c9bf58ccff.png"/>
          <p:cNvPicPr/>
          <p:nvPr/>
        </p:nvPicPr>
        <p:blipFill>
          <a:blip r:embed="rId3"/>
          <a:stretch/>
        </p:blipFill>
        <p:spPr>
          <a:xfrm>
            <a:off x="4497480" y="4808520"/>
            <a:ext cx="4646520" cy="2049480"/>
          </a:xfrm>
          <a:prstGeom prst="rect">
            <a:avLst/>
          </a:prstGeom>
          <a:ln w="0">
            <a:noFill/>
          </a:ln>
        </p:spPr>
      </p:pic>
      <p:pic>
        <p:nvPicPr>
          <p:cNvPr id="387" name="Рисунок 7" descr="2f8063da48fd59810f34d16ef3f14be3 (1).png"/>
          <p:cNvPicPr/>
          <p:nvPr/>
        </p:nvPicPr>
        <p:blipFill>
          <a:blip r:embed="rId4"/>
          <a:stretch/>
        </p:blipFill>
        <p:spPr>
          <a:xfrm>
            <a:off x="3546360" y="0"/>
            <a:ext cx="5597640" cy="685800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8" descr="002 (3).jpg"/>
          <p:cNvPicPr/>
          <p:nvPr/>
        </p:nvPicPr>
        <p:blipFill>
          <a:blip r:embed="rId5"/>
          <a:stretch/>
        </p:blipFill>
        <p:spPr>
          <a:xfrm>
            <a:off x="5016600" y="3765600"/>
            <a:ext cx="4127400" cy="30924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f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f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f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5B55-E07E-4FC7-90D4-7969DD699446}" type="slidenum">
              <a:rPr b="0" lang="ru-RU" sz="1200" spc="-1" strike="noStrike">
                <a:solidFill>
                  <a:srgbClr val="898f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Рисунок 6" descr="0_8de24_beb7aea6_orig.png"/>
          <p:cNvPicPr/>
          <p:nvPr/>
        </p:nvPicPr>
        <p:blipFill>
          <a:blip r:embed="rId3"/>
          <a:stretch/>
        </p:blipFill>
        <p:spPr>
          <a:xfrm>
            <a:off x="5892840" y="2852640"/>
            <a:ext cx="3251160" cy="4005360"/>
          </a:xfrm>
          <a:prstGeom prst="rect">
            <a:avLst/>
          </a:prstGeom>
          <a:ln w="0">
            <a:noFill/>
          </a:ln>
        </p:spPr>
      </p:pic>
      <p:pic>
        <p:nvPicPr>
          <p:cNvPr id="431" name="Рисунок 7" descr="042 (4).jpg"/>
          <p:cNvPicPr/>
          <p:nvPr/>
        </p:nvPicPr>
        <p:blipFill>
          <a:blip r:embed="rId4"/>
          <a:stretch/>
        </p:blipFill>
        <p:spPr>
          <a:xfrm>
            <a:off x="5305320" y="4216320"/>
            <a:ext cx="3838680" cy="264168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f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f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f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C1EB-04BE-4BBF-A282-D22CBDF69BAE}" type="slidenum">
              <a:rPr b="0" lang="ru-RU" sz="1200" spc="-1" strike="noStrike">
                <a:solidFill>
                  <a:srgbClr val="898f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Рисунок 6" descr="2f8063da48fd59810f34d16ef3f14be3.png"/>
          <p:cNvPicPr/>
          <p:nvPr/>
        </p:nvPicPr>
        <p:blipFill>
          <a:blip r:embed="rId3"/>
          <a:stretch/>
        </p:blipFill>
        <p:spPr>
          <a:xfrm>
            <a:off x="4932360" y="1413000"/>
            <a:ext cx="4444920" cy="5445000"/>
          </a:xfrm>
          <a:prstGeom prst="rect">
            <a:avLst/>
          </a:prstGeom>
          <a:ln w="0">
            <a:noFill/>
          </a:ln>
        </p:spPr>
      </p:pic>
      <p:pic>
        <p:nvPicPr>
          <p:cNvPr id="474" name="Рисунок 7" descr="0_82745_e233cb_XL.png"/>
          <p:cNvPicPr/>
          <p:nvPr/>
        </p:nvPicPr>
        <p:blipFill>
          <a:blip r:embed="rId4"/>
          <a:stretch/>
        </p:blipFill>
        <p:spPr>
          <a:xfrm>
            <a:off x="6921360" y="4419720"/>
            <a:ext cx="2222640" cy="243828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f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f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f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D309-389A-4D04-84D6-75C76CDDCD43}" type="slidenum">
              <a:rPr b="0" lang="ru-RU" sz="1200" spc="-1" strike="noStrike">
                <a:solidFill>
                  <a:srgbClr val="898f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Рисунок 6" descr="2f8063da48fd59810f34d16ef3f14be3.png"/>
          <p:cNvPicPr/>
          <p:nvPr/>
        </p:nvPicPr>
        <p:blipFill>
          <a:blip r:embed="rId3"/>
          <a:stretch/>
        </p:blipFill>
        <p:spPr>
          <a:xfrm>
            <a:off x="4699080" y="1413000"/>
            <a:ext cx="4444920" cy="5445000"/>
          </a:xfrm>
          <a:prstGeom prst="rect">
            <a:avLst/>
          </a:prstGeom>
          <a:ln w="0">
            <a:noFill/>
          </a:ln>
        </p:spPr>
      </p:pic>
      <p:pic>
        <p:nvPicPr>
          <p:cNvPr id="517" name="Рисунок 7" descr="Ц2.jpg"/>
          <p:cNvPicPr/>
          <p:nvPr/>
        </p:nvPicPr>
        <p:blipFill>
          <a:blip r:embed="rId4"/>
          <a:stretch/>
        </p:blipFill>
        <p:spPr>
          <a:xfrm>
            <a:off x="6513480" y="4365720"/>
            <a:ext cx="2630520" cy="249228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f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f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f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EB06-D19C-48E7-9328-6C46E81E2762}" type="slidenum">
              <a:rPr b="0" lang="ru-RU" sz="1200" spc="-1" strike="noStrike">
                <a:solidFill>
                  <a:srgbClr val="898f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Рисунок 6" descr="2f8063da48fd59810f34d16ef3f14be3 (1).png"/>
          <p:cNvPicPr/>
          <p:nvPr/>
        </p:nvPicPr>
        <p:blipFill>
          <a:blip r:embed="rId3"/>
          <a:stretch/>
        </p:blipFill>
        <p:spPr>
          <a:xfrm>
            <a:off x="3546360" y="0"/>
            <a:ext cx="5597640" cy="6858000"/>
          </a:xfrm>
          <a:prstGeom prst="rect">
            <a:avLst/>
          </a:prstGeom>
          <a:ln w="0">
            <a:noFill/>
          </a:ln>
        </p:spPr>
      </p:pic>
      <p:pic>
        <p:nvPicPr>
          <p:cNvPr id="560" name="Рисунок 7" descr="085 (1).jpg"/>
          <p:cNvPicPr/>
          <p:nvPr/>
        </p:nvPicPr>
        <p:blipFill>
          <a:blip r:embed="rId4"/>
          <a:stretch/>
        </p:blipFill>
        <p:spPr>
          <a:xfrm>
            <a:off x="7099200" y="0"/>
            <a:ext cx="204480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Рисунок 8" descr="085 (1).jpg"/>
          <p:cNvPicPr/>
          <p:nvPr/>
        </p:nvPicPr>
        <p:blipFill>
          <a:blip r:embed="rId5"/>
          <a:stretch/>
        </p:blipFill>
        <p:spPr>
          <a:xfrm>
            <a:off x="7099200" y="0"/>
            <a:ext cx="2044800" cy="6858000"/>
          </a:xfrm>
          <a:prstGeom prst="rect">
            <a:avLst/>
          </a:prstGeom>
          <a:ln w="0">
            <a:noFill/>
          </a:ln>
        </p:spPr>
      </p:pic>
      <p:pic>
        <p:nvPicPr>
          <p:cNvPr id="562" name="Рисунок 9" descr="0_895ff_bf8d122b_M.png"/>
          <p:cNvPicPr/>
          <p:nvPr/>
        </p:nvPicPr>
        <p:blipFill>
          <a:blip r:embed="rId6"/>
          <a:stretch/>
        </p:blipFill>
        <p:spPr>
          <a:xfrm>
            <a:off x="5435640" y="3911760"/>
            <a:ext cx="1676520" cy="294624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1C27-9710-4163-9049-C00EB184051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Рисунок 6" descr="bd60188967180e3145c205c9bf58ccff.png"/>
          <p:cNvPicPr/>
          <p:nvPr/>
        </p:nvPicPr>
        <p:blipFill>
          <a:blip r:embed="rId3"/>
          <a:stretch/>
        </p:blipFill>
        <p:spPr>
          <a:xfrm>
            <a:off x="4497480" y="4808520"/>
            <a:ext cx="4646520" cy="2049480"/>
          </a:xfrm>
          <a:prstGeom prst="rect">
            <a:avLst/>
          </a:prstGeom>
          <a:ln w="0">
            <a:noFill/>
          </a:ln>
        </p:spPr>
      </p:pic>
      <p:pic>
        <p:nvPicPr>
          <p:cNvPr id="605" name="Рисунок 7" descr="2f8063da48fd59810f34d16ef3f14be3 (1).png"/>
          <p:cNvPicPr/>
          <p:nvPr/>
        </p:nvPicPr>
        <p:blipFill>
          <a:blip r:embed="rId4"/>
          <a:stretch/>
        </p:blipFill>
        <p:spPr>
          <a:xfrm>
            <a:off x="3546360" y="0"/>
            <a:ext cx="5597640" cy="6858000"/>
          </a:xfrm>
          <a:prstGeom prst="rect">
            <a:avLst/>
          </a:prstGeom>
          <a:ln w="0">
            <a:noFill/>
          </a:ln>
        </p:spPr>
      </p:pic>
      <p:pic>
        <p:nvPicPr>
          <p:cNvPr id="606" name="Рисунок 8" descr="002 (3).jpg"/>
          <p:cNvPicPr/>
          <p:nvPr/>
        </p:nvPicPr>
        <p:blipFill>
          <a:blip r:embed="rId5"/>
          <a:stretch/>
        </p:blipFill>
        <p:spPr>
          <a:xfrm>
            <a:off x="5016600" y="3765600"/>
            <a:ext cx="4127400" cy="309240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6949-4B32-497E-AE7C-C02A2579D6B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Рисунок 6" descr="0_8de24_beb7aea6_orig.png"/>
          <p:cNvPicPr/>
          <p:nvPr/>
        </p:nvPicPr>
        <p:blipFill>
          <a:blip r:embed="rId3"/>
          <a:stretch/>
        </p:blipFill>
        <p:spPr>
          <a:xfrm>
            <a:off x="5892840" y="2852640"/>
            <a:ext cx="3251160" cy="4005360"/>
          </a:xfrm>
          <a:prstGeom prst="rect">
            <a:avLst/>
          </a:prstGeom>
          <a:ln w="0">
            <a:noFill/>
          </a:ln>
        </p:spPr>
      </p:pic>
      <p:pic>
        <p:nvPicPr>
          <p:cNvPr id="649" name="Рисунок 7" descr="042 (4).jpg"/>
          <p:cNvPicPr/>
          <p:nvPr/>
        </p:nvPicPr>
        <p:blipFill>
          <a:blip r:embed="rId4"/>
          <a:stretch/>
        </p:blipFill>
        <p:spPr>
          <a:xfrm>
            <a:off x="5305320" y="4216320"/>
            <a:ext cx="3838680" cy="264168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380C-7D95-41AB-976F-3F9AF20884C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Рисунок 6" descr="2f8063da48fd59810f34d16ef3f14be3.png"/>
          <p:cNvPicPr/>
          <p:nvPr/>
        </p:nvPicPr>
        <p:blipFill>
          <a:blip r:embed="rId3"/>
          <a:stretch/>
        </p:blipFill>
        <p:spPr>
          <a:xfrm>
            <a:off x="4932360" y="1413000"/>
            <a:ext cx="4444920" cy="5445000"/>
          </a:xfrm>
          <a:prstGeom prst="rect">
            <a:avLst/>
          </a:prstGeom>
          <a:ln w="0">
            <a:noFill/>
          </a:ln>
        </p:spPr>
      </p:pic>
      <p:pic>
        <p:nvPicPr>
          <p:cNvPr id="692" name="Рисунок 7" descr="0_82745_e233cb_XL.png"/>
          <p:cNvPicPr/>
          <p:nvPr/>
        </p:nvPicPr>
        <p:blipFill>
          <a:blip r:embed="rId4"/>
          <a:stretch/>
        </p:blipFill>
        <p:spPr>
          <a:xfrm>
            <a:off x="6921360" y="4419720"/>
            <a:ext cx="2222640" cy="243828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C920-94E7-45A8-9B63-08D3F3C13DB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Рисунок 6" descr="2f8063da48fd59810f34d16ef3f14be3.png"/>
          <p:cNvPicPr/>
          <p:nvPr/>
        </p:nvPicPr>
        <p:blipFill>
          <a:blip r:embed="rId3"/>
          <a:stretch/>
        </p:blipFill>
        <p:spPr>
          <a:xfrm>
            <a:off x="4699080" y="1413000"/>
            <a:ext cx="4444920" cy="5445000"/>
          </a:xfrm>
          <a:prstGeom prst="rect">
            <a:avLst/>
          </a:prstGeom>
          <a:ln w="0">
            <a:noFill/>
          </a:ln>
        </p:spPr>
      </p:pic>
      <p:pic>
        <p:nvPicPr>
          <p:cNvPr id="735" name="Рисунок 7" descr="Ц2.jpg"/>
          <p:cNvPicPr/>
          <p:nvPr/>
        </p:nvPicPr>
        <p:blipFill>
          <a:blip r:embed="rId4"/>
          <a:stretch/>
        </p:blipFill>
        <p:spPr>
          <a:xfrm>
            <a:off x="6513480" y="4365720"/>
            <a:ext cx="2630520" cy="2492280"/>
          </a:xfrm>
          <a:prstGeom prst="rect">
            <a:avLst/>
          </a:prstGeom>
          <a:ln w="0">
            <a:noFill/>
          </a:ln>
        </p:spPr>
      </p:pic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F4D3-15E3-4E2B-BF8C-1C0012E5F58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f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f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f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A1C2-FA8C-488F-A32C-BFDDB95E5D47}" type="slidenum">
              <a:rPr b="0" lang="ru-RU" sz="1200" spc="-1" strike="noStrike">
                <a:solidFill>
                  <a:srgbClr val="898f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47E5-FA52-4BEE-AAA5-A005ABAF4C1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6" descr="2f8063da48fd59810f34d16ef3f14be3 (1).png"/>
          <p:cNvPicPr/>
          <p:nvPr/>
        </p:nvPicPr>
        <p:blipFill>
          <a:blip r:embed="rId3"/>
          <a:stretch/>
        </p:blipFill>
        <p:spPr>
          <a:xfrm>
            <a:off x="3546360" y="0"/>
            <a:ext cx="559764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7" descr="085 (1).jpg"/>
          <p:cNvPicPr/>
          <p:nvPr/>
        </p:nvPicPr>
        <p:blipFill>
          <a:blip r:embed="rId4"/>
          <a:stretch/>
        </p:blipFill>
        <p:spPr>
          <a:xfrm>
            <a:off x="7099200" y="0"/>
            <a:ext cx="20448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8" descr="085 (1).jpg"/>
          <p:cNvPicPr/>
          <p:nvPr/>
        </p:nvPicPr>
        <p:blipFill>
          <a:blip r:embed="rId5"/>
          <a:stretch/>
        </p:blipFill>
        <p:spPr>
          <a:xfrm>
            <a:off x="7099200" y="0"/>
            <a:ext cx="20448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9" descr="0_895ff_bf8d122b_M.png"/>
          <p:cNvPicPr/>
          <p:nvPr/>
        </p:nvPicPr>
        <p:blipFill>
          <a:blip r:embed="rId6"/>
          <a:stretch/>
        </p:blipFill>
        <p:spPr>
          <a:xfrm>
            <a:off x="5435640" y="3911760"/>
            <a:ext cx="1676520" cy="29462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972B-EE4E-4168-968A-6E88BD1C93E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Рисунок 6" descr="bd60188967180e3145c205c9bf58ccff.png"/>
          <p:cNvPicPr/>
          <p:nvPr/>
        </p:nvPicPr>
        <p:blipFill>
          <a:blip r:embed="rId3"/>
          <a:stretch/>
        </p:blipFill>
        <p:spPr>
          <a:xfrm>
            <a:off x="4497480" y="4808520"/>
            <a:ext cx="4646520" cy="204948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7" descr="2f8063da48fd59810f34d16ef3f14be3 (1).png"/>
          <p:cNvPicPr/>
          <p:nvPr/>
        </p:nvPicPr>
        <p:blipFill>
          <a:blip r:embed="rId4"/>
          <a:stretch/>
        </p:blipFill>
        <p:spPr>
          <a:xfrm>
            <a:off x="3546360" y="0"/>
            <a:ext cx="559764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8" descr="002 (3).jpg"/>
          <p:cNvPicPr/>
          <p:nvPr/>
        </p:nvPicPr>
        <p:blipFill>
          <a:blip r:embed="rId5"/>
          <a:stretch/>
        </p:blipFill>
        <p:spPr>
          <a:xfrm>
            <a:off x="5016600" y="3765600"/>
            <a:ext cx="4127400" cy="30924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AA92-511C-4526-8C9C-03981F465D1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Рисунок 6" descr="0_8de24_beb7aea6_orig.png"/>
          <p:cNvPicPr/>
          <p:nvPr/>
        </p:nvPicPr>
        <p:blipFill>
          <a:blip r:embed="rId3"/>
          <a:stretch/>
        </p:blipFill>
        <p:spPr>
          <a:xfrm>
            <a:off x="5892840" y="2852640"/>
            <a:ext cx="3251160" cy="400536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7" descr="042 (4).jpg"/>
          <p:cNvPicPr/>
          <p:nvPr/>
        </p:nvPicPr>
        <p:blipFill>
          <a:blip r:embed="rId4"/>
          <a:stretch/>
        </p:blipFill>
        <p:spPr>
          <a:xfrm>
            <a:off x="5305320" y="4216320"/>
            <a:ext cx="3838680" cy="26416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FD24-45D2-4F18-BC11-18E2D2A0334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Рисунок 6" descr="2f8063da48fd59810f34d16ef3f14be3.png"/>
          <p:cNvPicPr/>
          <p:nvPr/>
        </p:nvPicPr>
        <p:blipFill>
          <a:blip r:embed="rId3"/>
          <a:stretch/>
        </p:blipFill>
        <p:spPr>
          <a:xfrm>
            <a:off x="4932360" y="1413000"/>
            <a:ext cx="4444920" cy="544500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7" descr="0_82745_e233cb_XL.png"/>
          <p:cNvPicPr/>
          <p:nvPr/>
        </p:nvPicPr>
        <p:blipFill>
          <a:blip r:embed="rId4"/>
          <a:stretch/>
        </p:blipFill>
        <p:spPr>
          <a:xfrm>
            <a:off x="6921360" y="4419720"/>
            <a:ext cx="2222640" cy="24382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0B1C-B34D-4C32-BD98-C3FEBF91DF3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Рисунок 6" descr="2f8063da48fd59810f34d16ef3f14be3.png"/>
          <p:cNvPicPr/>
          <p:nvPr/>
        </p:nvPicPr>
        <p:blipFill>
          <a:blip r:embed="rId3"/>
          <a:stretch/>
        </p:blipFill>
        <p:spPr>
          <a:xfrm>
            <a:off x="4699080" y="1413000"/>
            <a:ext cx="4444920" cy="5445000"/>
          </a:xfrm>
          <a:prstGeom prst="rect">
            <a:avLst/>
          </a:prstGeom>
          <a:ln w="0">
            <a:noFill/>
          </a:ln>
        </p:spPr>
      </p:pic>
      <p:pic>
        <p:nvPicPr>
          <p:cNvPr id="299" name="Рисунок 7" descr="Ц2.jpg"/>
          <p:cNvPicPr/>
          <p:nvPr/>
        </p:nvPicPr>
        <p:blipFill>
          <a:blip r:embed="rId4"/>
          <a:stretch/>
        </p:blipFill>
        <p:spPr>
          <a:xfrm>
            <a:off x="6513480" y="4365720"/>
            <a:ext cx="2630520" cy="249228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3C6C-FCE3-4259-96E0-927A34ACAE9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Рисунок 6" descr="2f8063da48fd59810f34d16ef3f14be3 (1).png"/>
          <p:cNvPicPr/>
          <p:nvPr/>
        </p:nvPicPr>
        <p:blipFill>
          <a:blip r:embed="rId3"/>
          <a:stretch/>
        </p:blipFill>
        <p:spPr>
          <a:xfrm>
            <a:off x="3546360" y="0"/>
            <a:ext cx="5597640" cy="685800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7" descr="085 (1).jpg"/>
          <p:cNvPicPr/>
          <p:nvPr/>
        </p:nvPicPr>
        <p:blipFill>
          <a:blip r:embed="rId4"/>
          <a:stretch/>
        </p:blipFill>
        <p:spPr>
          <a:xfrm>
            <a:off x="7099200" y="0"/>
            <a:ext cx="2044800" cy="685800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8" descr="085 (1).jpg"/>
          <p:cNvPicPr/>
          <p:nvPr/>
        </p:nvPicPr>
        <p:blipFill>
          <a:blip r:embed="rId5"/>
          <a:stretch/>
        </p:blipFill>
        <p:spPr>
          <a:xfrm>
            <a:off x="7099200" y="0"/>
            <a:ext cx="204480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Рисунок 9" descr="0_895ff_bf8d122b_M.png"/>
          <p:cNvPicPr/>
          <p:nvPr/>
        </p:nvPicPr>
        <p:blipFill>
          <a:blip r:embed="rId6"/>
          <a:stretch/>
        </p:blipFill>
        <p:spPr>
          <a:xfrm>
            <a:off x="5435640" y="3911760"/>
            <a:ext cx="1676520" cy="294624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f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f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f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83A3-1627-47BA-84BF-5816DCA32800}" type="slidenum">
              <a:rPr b="0" lang="ru-RU" sz="1200" spc="-1" strike="noStrike">
                <a:solidFill>
                  <a:srgbClr val="898f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gif"/><Relationship Id="rId3" Type="http://schemas.openxmlformats.org/officeDocument/2006/relationships/image" Target="../media/image38.gi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3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object 2" descr=""/>
          <p:cNvPicPr/>
          <p:nvPr/>
        </p:nvPicPr>
        <p:blipFill>
          <a:blip r:embed="rId1"/>
          <a:stretch/>
        </p:blipFill>
        <p:spPr>
          <a:xfrm>
            <a:off x="6167520" y="2647800"/>
            <a:ext cx="2976480" cy="421020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3" descr=""/>
          <p:cNvPicPr/>
          <p:nvPr/>
        </p:nvPicPr>
        <p:blipFill>
          <a:blip r:embed="rId2"/>
          <a:stretch/>
        </p:blipFill>
        <p:spPr>
          <a:xfrm>
            <a:off x="7551720" y="115920"/>
            <a:ext cx="1457280" cy="118908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4" descr=""/>
          <p:cNvPicPr/>
          <p:nvPr/>
        </p:nvPicPr>
        <p:blipFill>
          <a:blip r:embed="rId3"/>
          <a:stretch/>
        </p:blipFill>
        <p:spPr>
          <a:xfrm rot="11953800">
            <a:off x="192960" y="-17640"/>
            <a:ext cx="1189080" cy="1457640"/>
          </a:xfrm>
          <a:prstGeom prst="rect">
            <a:avLst/>
          </a:prstGeom>
          <a:ln w="0">
            <a:noFill/>
          </a:ln>
        </p:spPr>
      </p:pic>
      <p:pic>
        <p:nvPicPr>
          <p:cNvPr id="787" name="Прямоугольник 4" descr=""/>
          <p:cNvPicPr/>
          <p:nvPr/>
        </p:nvPicPr>
        <p:blipFill>
          <a:blip r:embed="rId4"/>
          <a:stretch/>
        </p:blipFill>
        <p:spPr>
          <a:xfrm>
            <a:off x="353880" y="201600"/>
            <a:ext cx="8436240" cy="676440"/>
          </a:xfrm>
          <a:prstGeom prst="rect">
            <a:avLst/>
          </a:prstGeom>
          <a:ln w="0">
            <a:noFill/>
          </a:ln>
        </p:spPr>
      </p:pic>
      <p:sp>
        <p:nvSpPr>
          <p:cNvPr id="788" name="Прямоугольник 5"/>
          <p:cNvSpPr/>
          <p:nvPr/>
        </p:nvSpPr>
        <p:spPr>
          <a:xfrm>
            <a:off x="357120" y="928800"/>
            <a:ext cx="857268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Рассказ – презентаци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Monotype Corsiva"/>
              </a:rPr>
              <a:t>«Мы славим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Monotype Corsiva"/>
              </a:rPr>
              <a:t>всех женщин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Прямоугольник 7"/>
          <p:cNvSpPr/>
          <p:nvPr/>
        </p:nvSpPr>
        <p:spPr>
          <a:xfrm>
            <a:off x="5658480" y="6000840"/>
            <a:ext cx="33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80841"/>
                </a:solidFill>
                <a:latin typeface="Arial"/>
              </a:rPr>
              <a:t>Подготови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80841"/>
                </a:solidFill>
                <a:latin typeface="Arial"/>
              </a:rPr>
              <a:t>воспитатель Жданова В.С.</a:t>
            </a:r>
            <a:r>
              <a:rPr b="0" lang="ru-RU" sz="1800" spc="-1" strike="noStrike">
                <a:solidFill>
                  <a:srgbClr val="9cb084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object 27" descr=""/>
          <p:cNvPicPr/>
          <p:nvPr/>
        </p:nvPicPr>
        <p:blipFill>
          <a:blip r:embed="rId5"/>
          <a:stretch/>
        </p:blipFill>
        <p:spPr>
          <a:xfrm>
            <a:off x="214200" y="3643200"/>
            <a:ext cx="25732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Picture 3" descr="I:\Праздник 8 марта1\IMG-20220305-WA0019.jpg"/>
          <p:cNvPicPr/>
          <p:nvPr/>
        </p:nvPicPr>
        <p:blipFill>
          <a:blip r:embed="rId1"/>
          <a:stretch/>
        </p:blipFill>
        <p:spPr>
          <a:xfrm>
            <a:off x="395280" y="765000"/>
            <a:ext cx="6200640" cy="547704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sp>
        <p:nvSpPr>
          <p:cNvPr id="828" name="Прямоугольник 2"/>
          <p:cNvSpPr/>
          <p:nvPr/>
        </p:nvSpPr>
        <p:spPr>
          <a:xfrm>
            <a:off x="2281680" y="0"/>
            <a:ext cx="393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одарки  для м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 txBox="1"/>
          <p:nvPr/>
        </p:nvSpPr>
        <p:spPr>
          <a:xfrm>
            <a:off x="2857320" y="357120"/>
            <a:ext cx="54291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82971"/>
                </a:solidFill>
                <a:latin typeface="Monotype Corsiva"/>
              </a:rPr>
              <a:t>С праздником бабушки, мамы, сестрёнки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82971"/>
                </a:solidFill>
                <a:latin typeface="Monotype Corsiva"/>
              </a:rPr>
              <a:t>Тети, подружки и просто девчонки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82971"/>
                </a:solidFill>
                <a:latin typeface="Monotype Corsiva"/>
              </a:rPr>
              <a:t>Я вам желаю всегда быть счастливыми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82971"/>
                </a:solidFill>
                <a:latin typeface="Monotype Corsiva"/>
              </a:rPr>
              <a:t>Сильными, добрыми, очень красивыми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82971"/>
                </a:solidFill>
                <a:latin typeface="Monotype Corsiva"/>
              </a:rPr>
              <a:t>Солнышко пусть вам всегда улыбается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82971"/>
                </a:solidFill>
                <a:latin typeface="Monotype Corsiva"/>
              </a:rPr>
              <a:t>Ваши мечты пусть скоре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82971"/>
                </a:solidFill>
                <a:latin typeface="Monotype Corsiva"/>
              </a:rPr>
              <a:t>сбываются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spcBef>
                <a:spcPts val="799"/>
              </a:spcBef>
              <a:buClr>
                <a:srgbClr val="3829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0" name="Рисунок 4" descr="солнышко-300x286.png"/>
          <p:cNvPicPr/>
          <p:nvPr/>
        </p:nvPicPr>
        <p:blipFill>
          <a:blip r:embed="rId1"/>
          <a:stretch/>
        </p:blipFill>
        <p:spPr>
          <a:xfrm flipH="1" rot="1015800">
            <a:off x="276120" y="81000"/>
            <a:ext cx="2365560" cy="2254320"/>
          </a:xfrm>
          <a:prstGeom prst="rect">
            <a:avLst/>
          </a:prstGeom>
          <a:ln w="0">
            <a:noFill/>
          </a:ln>
        </p:spPr>
      </p:pic>
      <p:pic>
        <p:nvPicPr>
          <p:cNvPr id="831" name="Рисунок 6" descr="0_85bbc_9505fac9_S.gif"/>
          <p:cNvPicPr/>
          <p:nvPr/>
        </p:nvPicPr>
        <p:blipFill>
          <a:blip r:embed="rId2"/>
          <a:stretch/>
        </p:blipFill>
        <p:spPr>
          <a:xfrm rot="20670600">
            <a:off x="2614320" y="5601960"/>
            <a:ext cx="1008000" cy="982800"/>
          </a:xfrm>
          <a:prstGeom prst="rect">
            <a:avLst/>
          </a:prstGeom>
          <a:ln w="0">
            <a:noFill/>
          </a:ln>
        </p:spPr>
      </p:pic>
      <p:pic>
        <p:nvPicPr>
          <p:cNvPr id="832" name="Рисунок 7" descr="0_85bbc_9505fac9_S.gif"/>
          <p:cNvPicPr/>
          <p:nvPr/>
        </p:nvPicPr>
        <p:blipFill>
          <a:blip r:embed="rId3"/>
          <a:stretch/>
        </p:blipFill>
        <p:spPr>
          <a:xfrm rot="5400000">
            <a:off x="8111520" y="418680"/>
            <a:ext cx="1046160" cy="1017720"/>
          </a:xfrm>
          <a:prstGeom prst="rect">
            <a:avLst/>
          </a:prstGeom>
          <a:ln w="0">
            <a:noFill/>
          </a:ln>
        </p:spPr>
      </p:pic>
      <p:pic>
        <p:nvPicPr>
          <p:cNvPr id="833" name="object 2" descr=""/>
          <p:cNvPicPr/>
          <p:nvPr/>
        </p:nvPicPr>
        <p:blipFill>
          <a:blip r:embed="rId4"/>
          <a:stretch/>
        </p:blipFill>
        <p:spPr>
          <a:xfrm>
            <a:off x="250920" y="2421000"/>
            <a:ext cx="297648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8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8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8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8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8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8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8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8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" dur="5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15955 -0.02381 C -0.15174 -0.01896 -0.14549 -0.01479 -0.13993 -0.00555 C -0.13438 0.00324 -0.13142 0.01133 -0.12413 0.01804 C -0.12153 0.02313 -0.11892 0.02844 -0.11632 0.03353 C -0.11511 0.03607 -0.11441 0.03954 -0.1125 0.04139 C -0.09462 0.05734 -0.07622 0.06821 -0.05747 0.0807 C -0.05035 0.08555 -0.04566 0.09295 -0.03785 0.09619 C -0.0217 0.11792 0.00625 0.11815 0.02673 0.11977 C 0.03802 0.12463 0.07048 0.12047 0.08368 0.11191 C 0.09792 0.10266 0.08038 0.11006 0.09739 0.10405 C 0.10729 0.0955 0.11944 0.0955 0.13073 0.0911 C 0.14028 0.08717 0.14861 0.08139 0.15816 0.07769 C 0.16614 0.07076 0.17031 0.07006 0.17378 0.05966 C 0.17552 0.05434 0.17778 0.04393 0.17778 0.04417 C 0.17847 0.03353 0.17812 0.02289 0.17969 0.01272 C 0.18021 0.00971 0.18298 0.00787 0.18368 0.00486 C 0.18489 -0.00023 0.18472 -0.00578 0.18559 -0.01086 C 0.18698 -0.01965 0.18993 -0.0282 0.19149 -0.03699 C 0.1908 -0.043 0.19201 -0.05017 0.18958 -0.05526 C 0.18351 -0.06797 0.16788 -0.07144 0.15816 -0.07352 C 0.14635 -0.0726 0.12969 -0.07514 0.11701 -0.0682 C 0.1125 -0.06566 0.10764 -0.06358 0.1033 -0.06034 C 0.09913 -0.05734 0.09149 -0.04994 0.09149 -0.04971 C 0.08663 -0.03075 0.09045 -0.03815 0.08177 -0.02635 C 0.08246 -0.003 0.08125 0.02081 0.08368 0.04393 C 0.08403 0.04671 0.08767 0.04555 0.08958 0.04671 C 0.09219 0.0481 0.09462 0.05041 0.09739 0.0518 C 0.10121 0.05365 0.1092 0.05711 0.1092 0.05734 C 0.1283 0.05434 0.13333 0.06266 0.12673 0.0363 C 0.12621 0.03399 0.12413 0.03284 0.12292 0.03099 E">
                                      <p:cBhvr>
                                        <p:cTn id="29" dur="2000" fill="hold"/>
                                        <p:tgtEl>
                                          <p:spTgt spid="8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39306E-006 C -0.01041 0.00925 -0.02518 0.01041 -0.03733 0.01573 C -0.0566 0.01365 -0.07049 0.01434 -0.08629 -4.39306E-006 C -0.09843 -0.02312 -0.09046 -0.05341 -0.08438 -0.07815 C -0.0823 -0.0867 -0.07448 -0.10173 -0.07448 -0.1015 C -0.07379 -0.10427 -0.07396 -0.10774 -0.07257 -0.10959 C -0.07014 -0.11283 -0.05105 -0.12855 -0.04705 -0.1304 C -0.04132 -0.13294 -0.03525 -0.13317 -0.02952 -0.13572 C 0.02119 -0.13364 0.03664 -0.14196 0.07257 -0.10959 C 0.09185 -0.06982 0.07796 -0.10173 0.07448 0.01318 C 0.07414 0.02451 0.06459 0.06798 0.05678 0.07584 C 0.04185 0.09087 0.02553 0.09203 0.00764 0.09411 C -0.00503 0.09966 -0.01962 0.10243 -0.02743 0.08625 C -0.02466 0.06359 -0.02639 0.05295 -0.01372 0.03677 C -0.01112 0.0222 -0.00364 0.01503 5E-006 -4.39306E-006 Z">
                                      <p:cBhvr>
                                        <p:cTn id="31" dur="2000" fill="hold"/>
                                        <p:tgtEl>
                                          <p:spTgt spid="8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9" presetSubtype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12222 0.10428 C -0.14271 0.12139 -0.13055 0.10937 -0.15625 0.14335 C -0.1776 0.17156 -0.15764 0.13202 -0.17847 0.16786 C -0.18403 0.17688 -0.18837 0.18752 -0.19323 0.19653 C -0.19583 0.20139 -0.20069 0.2111 -0.20069 0.21133 C -0.20937 0.24601 -0.19722 0.20393 -0.21545 0.24046 C -0.21788 0.24463 -0.21684 0.25064 -0.21909 0.25526 C -0.22222 0.26081 -0.22708 0.26382 -0.23038 0.26983 C -0.23941 0.28416 -0.25225 0.32139 -0.26736 0.32763 C -0.29514 0.34081 -0.31701 0.36902 -0.34548 0.3822 C -0.36545 0.40786 -0.38107 0.42428 -0.40503 0.44463 C -0.43177 0.46752 -0.50382 0.47122 -0.53125 0.47376 C -0.56909 0.48671 -0.60903 0.47307 -0.64635 0.48833 C -0.66597 0.48694 -0.68594 0.4874 -0.70555 0.4837 C -0.73229 0.47885 -0.75659 0.46405 -0.78385 0.45919 C -0.8033 0.46174 -0.82326 0.45919 -0.84288 0.46405 C -0.85121 0.46705 -0.85781 0.47815 -0.8651 0.4837 C -0.86944 0.48786 -0.87517 0.48694 -0.87986 0.48833 C -0.89409 0.50752 -0.90972 0.52046 -0.92083 0.5422 C -0.92725 0.56671 -0.93403 0.59075 -0.93958 0.61596 C -0.93802 0.64879 -0.93923 0.68139 -0.93576 0.71399 C -0.93246 0.74752 -0.83559 0.74752 -0.83194 0.74798 C -0.80208 0.74428 -0.77812 0.75607 -0.76892 0.71838 C -0.7717 0.66867 -0.76857 0.64046 -0.79496 0.60624 C -0.81007 0.56532 -0.81528 0.56555 -0.8467 0.55214 C -0.91371 0.55561 -0.93732 0.55584 -0.99149 0.56671 C -1.00659 0.57411 -1.0217 0.58104 -1.02847 0.60185 C -1.03177 0.6111 -1.03576 0.63075 -1.03576 0.63145 C -1.03455 0.66335 -1.03524 0.69596 -1.03212 0.72833 C -1.03021 0.74867 -1.01371 0.74428 -1.01371 0.77249 E">
                                      <p:cBhvr>
                                        <p:cTn id="37" dur="5000" fill="hold"/>
                                        <p:tgtEl>
                                          <p:spTgt spid="8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4 -0.01041 C 0.00208 -0.00393 0.021 -0.01318 0.03541 -0.01549 C 0.05086 -0.0222 0.06441 -0.02821 0.08055 -0.03121 C 0.10781 -0.043 0.15677 -0.03745 0.18646 -0.03907 C 0.23264 -0.04762 0.27482 -0.04554 0.32361 -0.04693 C 0.35277 -0.04924 0.38073 -0.05664 0.40989 -0.05987 C 0.4243 -0.05895 0.43871 -0.05872 0.45312 -0.05733 C 0.46406 -0.05618 0.46128 -0.05479 0.47066 -0.04947 C 0.47934 -0.04439 0.48923 -0.043 0.49826 -0.03907 C 0.50017 -0.03653 0.50173 -0.03329 0.50399 -0.03121 C 0.50573 -0.02959 0.50833 -0.03029 0.50989 -0.02867 C 0.51423 -0.02404 0.51857 -0.01919 0.5217 -0.01295 C 0.52309 -0.01041 0.52378 -0.00694 0.52569 -0.00509 C 0.52725 -0.00347 0.52968 -0.00347 0.53159 -0.00255 C 0.54271 0.01271 0.53125 -0.000229999999999999 0.54531 0.00786 C 0.54965 0.0104 0.55382 0.01687 0.55694 0.02103 C 0.55607 0.03768 0.55937 0.05617 0.55312 0.07073 C 0.54757 0.08345 0.53455 0.09408 0.52569 0.10194 C 0.51736 0.10934 0.51059 0.11789 0.50208 0.12552 C 0.49965 0.1276 0.48646 0.13176 0.48246 0.13338 C 0.46527 0.14008 0.44965 0.14401 0.43159 0.14632 C 0.41007 0.15788 0.43316 0.14655 0.41198 0.15418 C 0.40087 0.15811 0.39114 0.16504 0.38055 0.1699 C 0.37152 0.17406 0.36215 0.17637 0.35312 0.1803 C 0.3375 0.17845 0.32152 0.17915 0.30607 0.17498 C 0.30399 0.17452 0.30399 0.1699 0.30399 0.16713 C 0.30399 0.12089 0.29583 0.12713 0.31198 0.1202 C 0.31892 0.11419 0.32569 0.11303 0.33333 0.1098 C 0.3585 0.11142 0.36771 0.10541 0.38437 0.1202 C 0.38646 0.13823 0.38784 0.15765 0.39236 0.17498 C 0.39045 0.18701 0.38941 0.19394 0.38437 0.20388 C 0.37916 0.20296 0.36875 0.20111 0.36875 0.20134 E">
                                      <p:cBhvr>
                                        <p:cTn id="39" dur="5000" fill="hold"/>
                                        <p:tgtEl>
                                          <p:spTgt spid="8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875 0.20134 C 0.37274 0.19972 0.37778 0.19833 0.38055 0.19348 C 0.39097 0.17591 0.37187 0.19463 0.38837 0.18053 C 0.39114 0.16112 0.38837 0.17106 0.39809 0.15164 C 0.40382 0.14008 0.39583 0.14701 0.40399 0.13615 C 0.40764 0.1313 0.41215 0.12783 0.4158 0.12297 C 0.42066 0.10309 0.41354 0.12667 0.42361 0.11003 C 0.42691 0.10471 0.42864 0.09038 0.43142 0.08391 C 0.43368 0.07836 0.43941 0.06819 0.43941 0.06819 C 0.44184 0.05501 0.44791 0.04461 0.45104 0.03167 C 0.44982 0.01595 0.44896 0.000230000000000001 0.44722 -0.01549 C 0.44687 -0.01827 0.44496 -0.02035 0.44514 -0.02312 C 0.44635 -0.04254 0.44948 -0.04485 0.45694 -0.05987 C 0.45798 -0.06219 0.45764 -0.06542 0.45885 -0.0675 C 0.46232 -0.07328 0.47274 -0.07652 0.47656 -0.07814 C 0.48489 -0.08183 0.49288 -0.08738 0.50017 -0.09362 C 0.50139 -0.09894 0.5026 -0.10403 0.50399 -0.10934 C 0.50469 -0.11189 0.50607 -0.1172 0.50607 -0.1172 C 0.50538 -0.13639 0.50555 -0.15557 0.50399 -0.17453 C 0.50347 -0.18008 0.50156 -0.18493 0.50017 -0.19025 C 0.49948 -0.19279 0.49809 -0.19811 0.49809 -0.19811 C 0.49462 -0.24087 0.4868 -0.2908 0.52552 -0.30005 C 0.53142 -0.2982 0.53767 -0.29797 0.54323 -0.29473 C 0.54896 -0.29127 0.55173 -0.26237 0.55312 -0.25567 C 0.55416 -0.25035 0.55573 -0.24526 0.55694 -0.23995 C 0.55764 -0.23741 0.55885 -0.23209 0.55885 -0.23209 C 0.55677 -0.20735 0.56111 -0.21406 0.55503 -0.20597 E">
                                      <p:cBhvr>
                                        <p:cTn id="41" dur="5000" fill="hold"/>
                                        <p:tgtEl>
                                          <p:spTgt spid="8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8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3000" fill="hold"/>
                                        <p:tgtEl>
                                          <p:spTgt spid="8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8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8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Прямоугольник 6"/>
          <p:cNvSpPr/>
          <p:nvPr/>
        </p:nvSpPr>
        <p:spPr>
          <a:xfrm>
            <a:off x="214200" y="0"/>
            <a:ext cx="85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ИСТОРИЯ ПРАЗДНИКА 8 МАРТА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Прямоугольник 7"/>
          <p:cNvSpPr/>
          <p:nvPr/>
        </p:nvSpPr>
        <p:spPr>
          <a:xfrm>
            <a:off x="0" y="504720"/>
            <a:ext cx="9144000" cy="62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a"/>
                </a:solidFill>
                <a:latin typeface="Arial"/>
              </a:rPr>
              <a:t>Почему Международный женский день празднуют именно 8 март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a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339a"/>
                </a:solidFill>
                <a:latin typeface="Arial"/>
              </a:rPr>
              <a:t>Какая история 8 март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a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339a"/>
                </a:solidFill>
                <a:latin typeface="Arial"/>
              </a:rPr>
              <a:t>Раньше во многих странах женщины не имели права голоса, не могли учиться. Девочкам не позволяли ходить в школу. Конечно, их это обижало! Потом женщинам позволили работать. Но условия труда были тяжёлыми. Тогда в Нью-Йорке более 150 лет тому назад работницы прошли «маршем пустых кастрюль». Они громко били в пустые кастрюли и требовали повышения зарплаты, улучшения условий работы и равные права для женщин и мужчин. Это так удивило всех, что событие стали называть Женским днё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a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339a"/>
                </a:solidFill>
                <a:latin typeface="Arial"/>
              </a:rPr>
              <a:t>В течение многих лет женщины устраивали акции протестов. Тогда было решено избрать один общий женский день для многих стран. Женщины разных стран договорились, что именно в этот день будут напоминать мужчинам, что женщин надо уваж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a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339a"/>
                </a:solidFill>
                <a:latin typeface="Arial"/>
              </a:rPr>
              <a:t>Впервые Международный женский день был проведён 19 марта 1911 года в Германии, Австрии, Дании и некоторых других европейских странах. Эта дата была избрана женщинами Германии. В Советском Союзе 8 марта длительное время было обычным рабочим днём. Но 8 мая 1965 года, накануне 20-летия Победы в Великой Отечественной войне, Международный женский день был объявлен праздничным. В 1977 году ООН объявила 8 марта днём борьбы за женские права — Международным женским днём. Этот день объявлен национальным выходным во многих странах. Поэтому мамы и бабушки в этот день могут немного отдохнуть, сходить на праздничный концерт, пообщаться со своими деть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Это первый праздник весны — самого прекрасного времени г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Прямоугольник 7"/>
          <p:cNvSpPr/>
          <p:nvPr/>
        </p:nvSpPr>
        <p:spPr>
          <a:xfrm>
            <a:off x="0" y="0"/>
            <a:ext cx="8929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8 марта</a:t>
            </a:r>
            <a:br>
              <a:rPr sz="2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Вместе с весной к нам пришел замечательный праздник – Международный Женский день 8 Марта. Этот день согрет лучами солнца, теплыми улыбками, украшенными россыпью цв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И, не случайно, среди многочисленных праздников, отмечаемых в нашей стране,«8 Марта» занимает особое место.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Праздник « 8 Марта» - это возможность  начать формирование понимания того, что вокруг живёт ещё много таких людей как мама – это все женщины: и бабушка, и сестра, и девочки в группе, и воспитательница, и любая другая женщин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Прямоугольник 8"/>
          <p:cNvSpPr/>
          <p:nvPr/>
        </p:nvSpPr>
        <p:spPr>
          <a:xfrm>
            <a:off x="285840" y="2857680"/>
            <a:ext cx="6429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Georgia"/>
              </a:rPr>
              <a:t>8 марта</a:t>
            </a: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4000" spc="-1" strike="noStrike">
                <a:solidFill>
                  <a:srgbClr val="0070c0"/>
                </a:solidFill>
                <a:latin typeface="Georgia"/>
              </a:rPr>
              <a:t>– день торжественный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Georgia"/>
              </a:rPr>
              <a:t>День радости и красоты!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Georgia"/>
              </a:rPr>
              <a:t>На всей земле он дарит женщинам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Georgia"/>
              </a:rPr>
              <a:t>Свои улыбки и цвет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Picture 2" descr=""/>
          <p:cNvPicPr/>
          <p:nvPr/>
        </p:nvPicPr>
        <p:blipFill>
          <a:blip r:embed="rId1"/>
          <a:stretch/>
        </p:blipFill>
        <p:spPr>
          <a:xfrm rot="5913000">
            <a:off x="313560" y="5439240"/>
            <a:ext cx="1188720" cy="1457280"/>
          </a:xfrm>
          <a:prstGeom prst="rect">
            <a:avLst/>
          </a:prstGeom>
          <a:ln w="0">
            <a:noFill/>
          </a:ln>
        </p:spPr>
      </p:pic>
      <p:pic>
        <p:nvPicPr>
          <p:cNvPr id="796" name="Picture 3" descr=""/>
          <p:cNvPicPr/>
          <p:nvPr/>
        </p:nvPicPr>
        <p:blipFill>
          <a:blip r:embed="rId2"/>
          <a:stretch/>
        </p:blipFill>
        <p:spPr>
          <a:xfrm>
            <a:off x="7551720" y="115920"/>
            <a:ext cx="1457280" cy="118908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4" descr=""/>
          <p:cNvPicPr/>
          <p:nvPr/>
        </p:nvPicPr>
        <p:blipFill>
          <a:blip r:embed="rId3"/>
          <a:stretch/>
        </p:blipFill>
        <p:spPr>
          <a:xfrm rot="11953800">
            <a:off x="192960" y="-17640"/>
            <a:ext cx="1189080" cy="1457640"/>
          </a:xfrm>
          <a:prstGeom prst="rect">
            <a:avLst/>
          </a:prstGeom>
          <a:ln w="0">
            <a:noFill/>
          </a:ln>
        </p:spPr>
      </p:pic>
      <p:sp>
        <p:nvSpPr>
          <p:cNvPr id="798" name="Rectangle 1"/>
          <p:cNvSpPr/>
          <p:nvPr/>
        </p:nvSpPr>
        <p:spPr>
          <a:xfrm>
            <a:off x="571680" y="314280"/>
            <a:ext cx="857232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раздник  8 марта в нашем детском са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Дети младшей группы подготовили для мам и бабушек замечательный концерт: выступали с песнями и танцами, стихами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А в старшей группе  этот день решили отметить интересной и веселой программой «А ну-ка, девочки!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Участницы мероприятия соревновались в различных конкурсах. Девчонки порадовали нас своим артистизмом, смекалкой, находчивостью, доставили немало удовольствия, подняли всем настро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Жюри конкурса, а это были мальчики подготовительной группы, которые каждый конкурс оценивали лепестком,  убедилось, что наши девочки  умеют прекрасно  отвечать на самые каверзные вопросы и находить выход из любой ситу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Благодаря своей артистичности, невероятной сообразительности, ответственности, с достойностью пройдя сквозь все препятствия в конкурсе «А ну-ка, девочки!»  между командами  «Розочка» и «Ромашка» победила  Дружба, все участники были награждены  медалями и сладким уго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Традиционно не обошлось без подарков, которые ребята приготовили милым мамам и бабушкам, сделанные своими руками. Праздник, несомненно, принес в жизнь детского сада атмосферу весенней радости и счаст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Прямоугольник 4"/>
          <p:cNvSpPr/>
          <p:nvPr/>
        </p:nvSpPr>
        <p:spPr>
          <a:xfrm>
            <a:off x="214200" y="0"/>
            <a:ext cx="89298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Праздничный концерт «8 марта»</a:t>
            </a:r>
            <a:r>
              <a:rPr b="1" lang="en-US" sz="4000" spc="-1" strike="noStrike">
                <a:solidFill>
                  <a:srgbClr val="ff0000"/>
                </a:solidFill>
                <a:latin typeface="Monotype Corsiva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младшая  груп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Прямоугольник 5"/>
          <p:cNvSpPr/>
          <p:nvPr/>
        </p:nvSpPr>
        <p:spPr>
          <a:xfrm>
            <a:off x="785880" y="114300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Дети поздравляют родных женщин стих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1"/>
          <a:stretch/>
        </p:blipFill>
        <p:spPr>
          <a:xfrm>
            <a:off x="357120" y="1714680"/>
            <a:ext cx="1785960" cy="391140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802" name="Picture 5" descr=""/>
          <p:cNvPicPr/>
          <p:nvPr/>
        </p:nvPicPr>
        <p:blipFill>
          <a:blip r:embed="rId2"/>
          <a:stretch/>
        </p:blipFill>
        <p:spPr>
          <a:xfrm>
            <a:off x="4572000" y="2286000"/>
            <a:ext cx="1892160" cy="419580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803" name="Picture 6" descr=""/>
          <p:cNvPicPr/>
          <p:nvPr/>
        </p:nvPicPr>
        <p:blipFill>
          <a:blip r:embed="rId3"/>
          <a:stretch/>
        </p:blipFill>
        <p:spPr>
          <a:xfrm>
            <a:off x="2357280" y="2071800"/>
            <a:ext cx="1943280" cy="370512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804" name="Picture 7" descr=""/>
          <p:cNvPicPr/>
          <p:nvPr/>
        </p:nvPicPr>
        <p:blipFill>
          <a:blip r:embed="rId4"/>
          <a:stretch/>
        </p:blipFill>
        <p:spPr>
          <a:xfrm>
            <a:off x="6643800" y="2857680"/>
            <a:ext cx="2219040" cy="383832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Прямоугольник 1"/>
          <p:cNvSpPr/>
          <p:nvPr/>
        </p:nvSpPr>
        <p:spPr>
          <a:xfrm>
            <a:off x="2248200" y="214200"/>
            <a:ext cx="438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Танец для ма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Picture 4" descr=""/>
          <p:cNvPicPr/>
          <p:nvPr/>
        </p:nvPicPr>
        <p:blipFill>
          <a:blip r:embed="rId1"/>
          <a:stretch/>
        </p:blipFill>
        <p:spPr>
          <a:xfrm>
            <a:off x="4716360" y="1052640"/>
            <a:ext cx="3203640" cy="144432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807" name="Picture 5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3135240" cy="142560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sp>
        <p:nvSpPr>
          <p:cNvPr id="808" name="Прямоугольник 4"/>
          <p:cNvSpPr/>
          <p:nvPr/>
        </p:nvSpPr>
        <p:spPr>
          <a:xfrm>
            <a:off x="3212280" y="2708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арки  для м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Picture 2" descr=""/>
          <p:cNvPicPr/>
          <p:nvPr/>
        </p:nvPicPr>
        <p:blipFill>
          <a:blip r:embed="rId3"/>
          <a:stretch/>
        </p:blipFill>
        <p:spPr>
          <a:xfrm>
            <a:off x="395280" y="3213000"/>
            <a:ext cx="3303720" cy="220356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810" name="Picture 2" descr="C:\Users\user\Desktop\Праздник 8 марта1\IMG-20220305-WA0057.jpg"/>
          <p:cNvPicPr/>
          <p:nvPr/>
        </p:nvPicPr>
        <p:blipFill>
          <a:blip r:embed="rId4"/>
          <a:stretch/>
        </p:blipFill>
        <p:spPr>
          <a:xfrm>
            <a:off x="4643280" y="3213000"/>
            <a:ext cx="2990880" cy="224316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3" descr=""/>
          <p:cNvPicPr/>
          <p:nvPr/>
        </p:nvPicPr>
        <p:blipFill>
          <a:blip r:embed="rId1"/>
          <a:stretch/>
        </p:blipFill>
        <p:spPr>
          <a:xfrm rot="20396400">
            <a:off x="8183160" y="2843280"/>
            <a:ext cx="976320" cy="1076400"/>
          </a:xfrm>
          <a:prstGeom prst="rect">
            <a:avLst/>
          </a:prstGeom>
          <a:ln w="0">
            <a:noFill/>
          </a:ln>
        </p:spPr>
      </p:pic>
      <p:sp>
        <p:nvSpPr>
          <p:cNvPr id="812" name="Прямоугольник 2"/>
          <p:cNvSpPr/>
          <p:nvPr/>
        </p:nvSpPr>
        <p:spPr>
          <a:xfrm>
            <a:off x="684360" y="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Поздравления  для  мам  и  бабуш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старшая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Picture 2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4727520" cy="295452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sp>
        <p:nvSpPr>
          <p:cNvPr id="814" name="Прямоугольник 5"/>
          <p:cNvSpPr/>
          <p:nvPr/>
        </p:nvSpPr>
        <p:spPr>
          <a:xfrm>
            <a:off x="-518760" y="1773360"/>
            <a:ext cx="537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Танцевальная компози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с цве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Picture 5" descr="C:\Users\user\Desktop\Attachments_yusma.abasheva@mail.ru_2022-03-09_10-12-14\Screenshot_20220309_095300_com.huawei.himovie.overseas.jpg"/>
          <p:cNvPicPr/>
          <p:nvPr/>
        </p:nvPicPr>
        <p:blipFill>
          <a:blip r:embed="rId3"/>
          <a:stretch/>
        </p:blipFill>
        <p:spPr>
          <a:xfrm>
            <a:off x="4067280" y="981000"/>
            <a:ext cx="4851360" cy="280836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Прямоугольник 3"/>
          <p:cNvSpPr/>
          <p:nvPr/>
        </p:nvSpPr>
        <p:spPr>
          <a:xfrm>
            <a:off x="1857240" y="0"/>
            <a:ext cx="50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ежный танец ма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Picture 2" descr=""/>
          <p:cNvPicPr/>
          <p:nvPr/>
        </p:nvPicPr>
        <p:blipFill>
          <a:blip r:embed="rId1"/>
          <a:stretch/>
        </p:blipFill>
        <p:spPr>
          <a:xfrm>
            <a:off x="5508720" y="3068640"/>
            <a:ext cx="3384360" cy="349092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818" name="Picture 3" descr=""/>
          <p:cNvPicPr/>
          <p:nvPr/>
        </p:nvPicPr>
        <p:blipFill>
          <a:blip r:embed="rId2"/>
          <a:stretch/>
        </p:blipFill>
        <p:spPr>
          <a:xfrm>
            <a:off x="2268360" y="620640"/>
            <a:ext cx="5050080" cy="230508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819" name="Picture 2" descr=""/>
          <p:cNvPicPr/>
          <p:nvPr/>
        </p:nvPicPr>
        <p:blipFill>
          <a:blip r:embed="rId3">
            <a:lum bright="14000"/>
          </a:blip>
          <a:stretch/>
        </p:blipFill>
        <p:spPr>
          <a:xfrm>
            <a:off x="468360" y="3054240"/>
            <a:ext cx="4367160" cy="347040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820" name="Picture 4" descr=""/>
          <p:cNvPicPr/>
          <p:nvPr/>
        </p:nvPicPr>
        <p:blipFill>
          <a:blip r:embed="rId4"/>
          <a:stretch/>
        </p:blipFill>
        <p:spPr>
          <a:xfrm rot="7008000">
            <a:off x="447480" y="441360"/>
            <a:ext cx="164304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Прямоугольник 3"/>
          <p:cNvSpPr/>
          <p:nvPr/>
        </p:nvSpPr>
        <p:spPr>
          <a:xfrm>
            <a:off x="468360" y="0"/>
            <a:ext cx="82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Конкурс  «А ну-ка, девоч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Picture 2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3240360" cy="292716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823" name="Picture 3" descr=""/>
          <p:cNvPicPr/>
          <p:nvPr/>
        </p:nvPicPr>
        <p:blipFill>
          <a:blip r:embed="rId2"/>
          <a:stretch/>
        </p:blipFill>
        <p:spPr>
          <a:xfrm>
            <a:off x="6227640" y="620640"/>
            <a:ext cx="2700360" cy="312588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824" name="Picture 4" descr=""/>
          <p:cNvPicPr/>
          <p:nvPr/>
        </p:nvPicPr>
        <p:blipFill>
          <a:blip r:embed="rId3"/>
          <a:stretch/>
        </p:blipFill>
        <p:spPr>
          <a:xfrm>
            <a:off x="3780000" y="620640"/>
            <a:ext cx="2249280" cy="348624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825" name="Picture 2" descr="I:\Праздник 8 марта1\IMG_20220308_193053.jpg"/>
          <p:cNvPicPr/>
          <p:nvPr/>
        </p:nvPicPr>
        <p:blipFill>
          <a:blip r:embed="rId4"/>
          <a:stretch/>
        </p:blipFill>
        <p:spPr>
          <a:xfrm>
            <a:off x="1763640" y="4221000"/>
            <a:ext cx="3576600" cy="242892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826" name="Picture 4" descr=""/>
          <p:cNvPicPr/>
          <p:nvPr/>
        </p:nvPicPr>
        <p:blipFill>
          <a:blip r:embed="rId5"/>
          <a:stretch/>
        </p:blipFill>
        <p:spPr>
          <a:xfrm rot="7494600">
            <a:off x="356760" y="4146120"/>
            <a:ext cx="179388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5T21:04:15Z</dcterms:created>
  <dc:creator>1</dc:creator>
  <dc:description/>
  <dc:language>en-US</dc:language>
  <cp:lastModifiedBy>acer</cp:lastModifiedBy>
  <dcterms:modified xsi:type="dcterms:W3CDTF">2023-01-25T17:04:08Z</dcterms:modified>
  <cp:revision>252</cp:revision>
  <dc:subject/>
  <dc:title>Слайд 1</dc:title>
</cp:coreProperties>
</file>