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6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698-2E83-4F32-8DC0-EE9F27F6A0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83AF-0752-43D7-B133-C60C701573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1B8C-BB60-4C1B-A053-AC4260CF5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686-447A-42C6-8757-BBB7B108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8A3-614D-4F21-81BE-10120713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A2FF9-642C-4565-B451-F7869E98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947BE-ABA6-40CB-AD55-BD05D006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3E227-B5F5-4AA4-9BA8-A6CC240B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42A08-1AE1-4A00-AA08-762E01FF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2327E-7C85-4806-80F8-03E2585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4C022-8AA3-44F3-82B7-12E88B2D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A6C52-F2B0-45F0-9331-9AE466A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25A3F-E43D-4DF8-A5ED-165AC7B0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C8EB2-A2DE-4A12-81C5-AFC3D9E2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1ECE1-D6FD-431F-936B-189DF351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DD9-18DB-47C7-B167-237D50D2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3F7FB-1624-435A-B096-F98D5010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56A5D-F389-432C-B1CC-A3E25CDE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DD6B2-990C-40B8-9038-3958557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7F8CF-307F-45EC-9BB8-38867977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8F746-089C-4868-882E-D36B302E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C552A-B780-42FB-92E3-FADA2302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9DA9F-30AA-46D4-AB9D-02BDD23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EB615-F8FF-47D7-B76D-16DB668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F6CB1-E72B-4BC4-8F5F-BB4B49C1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1823B-56A8-44F3-9382-C76C3538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48A-ABAB-4C5C-AE03-9F6AD452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259E3-9719-4AAD-B34F-2C95F915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672F7-D3ED-4F5E-93F5-4F971A07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8B6DE-A0FE-474A-860B-31546180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D2BE4-1578-46DD-BE21-D3274F00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2A8BD-08A4-448B-9A70-281D814D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5637D-4A98-4C8B-A207-19438CD0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BBDBB-5BB9-495D-82A0-3F732F48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4EAFA-6163-4258-B4E2-B5CB6E4D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BCA1F-2278-438E-98E6-ABF179C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3DF86-6298-441E-AB00-11C6EAEF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A491-259B-4CB3-A3EB-6C61837C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E6D40-A347-4C26-94F1-BDA53685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9F7F2-5834-4FA5-9DB6-3DA85D02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43805-C46B-41F4-BBC5-1F470DD4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87013-5FA4-458D-8320-1F967421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B50A4-7C2A-4EEA-BBEA-976F1492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8E7F5-99E7-4788-B387-D947DFF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DE164-AC15-4A83-995C-64EF691E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CAB84-8FC5-49EB-BAA5-9DAC0330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74EDC-E445-4791-A8AE-B971EC18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BA14D-64B3-4740-ACB3-F1373B6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A5F6-9BD5-4624-8303-F9B83E46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F2404-68FC-40B5-A5E7-1BD973E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58A76-01E1-4108-8CFF-D1D61E1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90187-5863-49FF-815A-CA1CB087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F5668-9E6D-46A7-8E33-F5F2D3A9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26A22-31C0-4AA9-844F-E435EE69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0CDD7-0563-4E08-AA1B-56182F19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1FB8D-B750-41CF-BCD0-1E6E1E65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0FBEA-5DFF-41A0-B376-7FC86003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52336-C25B-4F26-8B4A-2A962BB5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A08FC-F422-42ED-B219-9BE757D8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F83A-28F3-4626-8831-EDA05FF7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7BA95-D111-427A-A8EC-B0ED8BD3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F7BE5-9932-414C-ABA2-E33B5DE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6607D-F61A-48B6-8CD4-DBE22B76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011B7-255A-4DCD-9EA3-97718F13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81428-3253-4543-866A-C46A8351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C08C2-13B3-4DF8-89F7-3722E963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F3505-DF4E-490B-A180-3EAE7A6C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AB0B6-771E-4D2F-9AB2-C3F6E21E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F00C1-5C09-4F83-8D4F-116E2FB2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9F5E8-D23F-4956-B515-5CB289F8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B125-5C80-4B19-80B9-7AA8C0FE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36D93-24ED-4998-8B33-C0C0E3DA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81C38-9A83-47BB-8468-F580E2E1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3EB5F-BDA5-4E78-9595-A7FE1B19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30833-2102-4D1B-B164-7D83DF0F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D09CF-BC07-41A9-A017-22A8C2C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D0922-AFA9-478A-B57F-7CA1BBA0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17F27-DB72-4AA2-81D8-95657E2D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2A8E3-0724-410D-A050-1ECEF82D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8A6DF-CFBB-4552-B32C-A8619A84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498B9-0230-4961-8404-A0465889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C9D5-7DF2-45E2-B21A-B78E651E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F9DF3-A6FD-40D2-A53C-852E49D7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34A05-91A8-43B3-AF31-17E8092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B2F32-2372-453D-A2D7-2FDB9D31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94347-05EB-4C7D-99F4-72550560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593B8-7799-4991-9C3A-BF90FFB2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F5124-81C4-4257-B82A-C6331A8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09864-1A0A-4A5A-80EE-9FB80F6F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8E1C4-4174-4F0D-A921-23F39177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8E940-74F1-4ED7-8B9D-2B68ADC4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E2FB5-3DCB-4A6C-B8E9-052B0307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5A6F-A817-40C8-A94E-DAA655D8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0D23F3-C755-491A-A1D5-0E356F03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956CB-7C8F-4C19-9915-9AB1BC40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F62EC-70F2-4869-927F-5228F109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72DEE-1338-4D92-99D3-BAA38ACE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61BF2-9B58-46F8-90F5-FDFB7697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76474-8A37-4634-829E-40AA56D1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590D6-9ECB-4B9D-B53D-2C5F29AC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326BB-003B-42C0-80AB-63216E02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4EFA9-3D74-42F6-B1BF-A503A5A0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3185C-9839-4695-86D8-208602F1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0112-9549-4FBC-8868-025942B1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FB59B-028A-466A-B50D-398C2063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75385-F67B-4F2E-A1B0-050121D0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5E97C-BB2E-4C8C-B243-D6C3693A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DD530-49F7-43D7-8F8C-703494AF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D0AF0-14EF-4DA5-BE1B-B2D7DE73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E28BA-4AA5-4A29-9CC8-4B7F3A0D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8EF64-675F-4A71-88CC-38A639FD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D7FA2-0123-4543-802C-F7EB6C4A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AD482-EF0F-452B-B656-2DB2BE46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56E003-1A78-4263-8136-83130AB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75B-D235-4A82-A2AB-128EAD36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C0CE-655C-4BE2-9483-7649BCD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EDC61-E7C3-4BF6-B4FE-5E2A6012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50C78-2A2F-45A2-9421-F6306D6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D93DA-8A85-4D1C-BD17-522DDB10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C0F2C4-F8A1-418B-8039-CD7362A6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11FC6-C2D1-451E-B86F-D809AEC1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60FF34-4487-4922-880B-EE9E30DB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3ECAD-9E6E-4E29-9605-A8B6F30D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E0B11-AFC2-4D59-AA2E-614D9EA4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5662F-0403-4373-A305-A18AF362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47865-45E8-4B2E-A17C-B366BD2E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AF03-E756-4C75-83A1-27BE209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94099-72EF-41B1-B446-15596326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67E081-8097-4C76-89F2-D3B9DFE6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DACEC0-9569-4E94-A0FA-B2AED77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EC6C5-A43F-4A57-B592-F0DC92F5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1FFD9-D1FF-40EB-A2F8-22A2BFDF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77BF3-8C11-48A4-9489-1FE5766A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5CF066-672C-4FBC-9298-DD01949B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5545-4289-4564-8CE4-E59EC1A8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0B1B-5754-481B-9A43-59E83FA3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AD2D-E17F-43C5-86AB-AB959073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B5EF-638A-48BF-9A09-7D2D75DB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A21A-57D7-4D4F-AAE3-3D32CB94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02CC-F709-4BEE-AEDB-AE535B45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D969-0999-468D-94DF-983BDD4B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FC01-6709-4E39-94C6-AD9AE397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88F-60AE-4E6F-9D26-4A4106DA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919C-A466-4CB1-BC53-6CA38852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983C-394B-4CB7-9F7F-F62FBDC6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5B92-0622-4F59-B9D1-96B9FC11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CAC2-537D-41AF-ABA1-68717BDC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AA7E-9CDA-46F7-BC49-FFD6C4C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2F1A-15BE-4AEC-B8CA-9446DD82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B4A4-D186-4291-8A8B-8E4DB088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3E98-CB48-4912-ADAD-4BE6C6F2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1144-DB36-4FE9-8B5E-8054F52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58963-917C-4BAC-A6B6-BF574ED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851-7671-4E2F-BE25-258248D3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7A74-A92B-488C-A8D0-F6DDE45C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1E2B-FFF0-4D8C-B16D-2BC824E9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F6F5D-1FE7-4930-87CD-5A4378D2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89E1-186F-4A68-8002-B1006BF0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17A3-F0A3-47FE-BB99-DB279558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18BD4-39EE-4E55-896F-3E23A107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B836-1F00-48F6-A2A7-726B3042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C7BB6-79FF-426F-BFEB-2D9CB2B0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8FCD-83CD-4358-86AF-956FFBA5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AE3F9-15E7-4431-B70F-53C68E41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549-7C4B-464A-84F7-C86D3BF8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F2F4-1BEA-4C46-AFBD-B919118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D3651-866E-4D90-980B-90EC2A3B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44E8-AA55-42CD-87E7-153D9E7C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DAE63-7352-4390-AA18-117705E1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8B147-A4BA-41B9-A40E-54388DAD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53CF3-92F5-457F-950C-46835F0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5B71-E8A6-468E-9C48-C68F0C2D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2432-93A1-40CD-B7C3-A01429BF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43351-E7F7-40A9-AF1C-D5CE13B3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C300-DB0A-45EC-8AEF-37851848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0DC-FE0E-490F-8462-F7E544BF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8B786-88FA-4D46-AA67-8BC98F84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AA456-8B4C-4892-87FB-CED9377F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09E9-1068-4DBC-89A1-7841FD82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F274-266F-48AB-9E62-865EAD41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A18A-9DCB-462B-B84D-3EA5F646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A39E5-6AB6-4611-A97D-B0A612F7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3120D-1E69-405E-B3A1-8F4A5BFD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76C8C-F4E9-48C5-B48E-AA42340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082DC-27A5-4C96-BAE5-C85E7298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907F3-E923-48F5-89D3-1233F705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87D-6F5B-4D6D-8259-A9CE995A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E0C26-FF70-4384-9E1A-8360A20F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72FD-E0EB-4A14-9A0E-D05F5A0D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5E36-2846-42FC-A483-C105F799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EB886-5BF3-4291-98C9-DB8A32DA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293F-4226-4E4F-B617-BAF8452C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F0385-3BA6-406F-869E-47691E4E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6282D-9EB3-4348-BB2C-E70BCEF7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4906-C706-4E1F-AE64-5F84C00A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F231E-EDB5-4BC4-9207-50421201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4A7A3-9ABA-4782-A5BB-1AC0CD5F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1F7-2EE3-4ADF-AC12-F1CC439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1EB61-65EB-4E9F-ABDF-944879C4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A6F4B-5A13-4FBB-A8C0-5F192251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DA26F-BDA2-46A4-859F-5CF9800B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90078-977B-4C71-862E-B2F33459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30B92-B942-40D3-8FF3-6E4F13A5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E75A0-216D-4A3B-AE74-1B5CD93B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0F5D1-6B8D-4A3A-B8DF-1A9A55F0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6AA0F-F8A8-4A87-92F5-B138A9BF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6D0E8-201C-4D6C-88A5-BE850073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51075-704E-47C9-A558-6DDE339B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CDF-AB70-4A0A-A266-FBFBD913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8937-6039-4FC5-9082-F126C6BB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596D4-D4A4-415D-90A1-E9DCE5A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F5D1E-9CF1-45DD-A97F-1C924F3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4D88D-6296-4360-A187-26D10EEE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E1F06-E98B-4A1D-A688-9D929B4E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47673-1A2B-4DFB-BD63-5D1629B6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B4A9E-E06B-4875-A0BA-F39F05C0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2311B-E120-464C-ACCA-D5577E1C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4D226-BE5D-4E92-94B1-9A80D1C2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40162-7A7C-4ADE-B1E9-47034E35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7F19-0047-479C-BEB3-D493F13E60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6" descr="bd60188967180e3145c205c9bf58ccff.png"/>
          <p:cNvPicPr/>
          <p:nvPr/>
        </p:nvPicPr>
        <p:blipFill>
          <a:blip r:embed="rId3"/>
          <a:stretch/>
        </p:blipFill>
        <p:spPr>
          <a:xfrm>
            <a:off x="4497480" y="4808520"/>
            <a:ext cx="4646520" cy="20494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7" descr="2f8063da48fd59810f34d16ef3f14be3 (1).png"/>
          <p:cNvPicPr/>
          <p:nvPr/>
        </p:nvPicPr>
        <p:blipFill>
          <a:blip r:embed="rId4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8" descr="002 (3).jpg"/>
          <p:cNvPicPr/>
          <p:nvPr/>
        </p:nvPicPr>
        <p:blipFill>
          <a:blip r:embed="rId5"/>
          <a:stretch/>
        </p:blipFill>
        <p:spPr>
          <a:xfrm>
            <a:off x="5016600" y="3765600"/>
            <a:ext cx="4127400" cy="3092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EE12-1DA9-4ED1-808B-A2CBA1F49C8F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6" descr="0_8de24_beb7aea6_orig.png"/>
          <p:cNvPicPr/>
          <p:nvPr/>
        </p:nvPicPr>
        <p:blipFill>
          <a:blip r:embed="rId3"/>
          <a:stretch/>
        </p:blipFill>
        <p:spPr>
          <a:xfrm>
            <a:off x="5892840" y="2852640"/>
            <a:ext cx="3251160" cy="40053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7" descr="042 (4).jpg"/>
          <p:cNvPicPr/>
          <p:nvPr/>
        </p:nvPicPr>
        <p:blipFill>
          <a:blip r:embed="rId4"/>
          <a:stretch/>
        </p:blipFill>
        <p:spPr>
          <a:xfrm>
            <a:off x="5305320" y="4216320"/>
            <a:ext cx="3838680" cy="26416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E077-7FDC-4675-A2CD-A45A998A2750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93236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7" descr="0_82745_e233cb_XL.png"/>
          <p:cNvPicPr/>
          <p:nvPr/>
        </p:nvPicPr>
        <p:blipFill>
          <a:blip r:embed="rId4"/>
          <a:stretch/>
        </p:blipFill>
        <p:spPr>
          <a:xfrm>
            <a:off x="6921360" y="4419720"/>
            <a:ext cx="2222640" cy="24382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F410-950F-48D6-9F74-568E99839D57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69908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7" descr="Ц2.jpg"/>
          <p:cNvPicPr/>
          <p:nvPr/>
        </p:nvPicPr>
        <p:blipFill>
          <a:blip r:embed="rId4"/>
          <a:stretch/>
        </p:blipFill>
        <p:spPr>
          <a:xfrm>
            <a:off x="6513480" y="4365720"/>
            <a:ext cx="2630520" cy="24922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7FA6-C7D9-4BD6-A909-6CCA5E20C939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Рисунок 6" descr="2f8063da48fd59810f34d16ef3f14be3 (1).png"/>
          <p:cNvPicPr/>
          <p:nvPr/>
        </p:nvPicPr>
        <p:blipFill>
          <a:blip r:embed="rId3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7" descr="085 (1).jpg"/>
          <p:cNvPicPr/>
          <p:nvPr/>
        </p:nvPicPr>
        <p:blipFill>
          <a:blip r:embed="rId4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8" descr="085 (1).jpg"/>
          <p:cNvPicPr/>
          <p:nvPr/>
        </p:nvPicPr>
        <p:blipFill>
          <a:blip r:embed="rId5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9" descr="0_895ff_bf8d122b_M.png"/>
          <p:cNvPicPr/>
          <p:nvPr/>
        </p:nvPicPr>
        <p:blipFill>
          <a:blip r:embed="rId6"/>
          <a:stretch/>
        </p:blipFill>
        <p:spPr>
          <a:xfrm>
            <a:off x="5435640" y="3911760"/>
            <a:ext cx="1676520" cy="294624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E7CF-5869-49DE-9C1E-014F0734B3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Рисунок 6" descr="bd60188967180e3145c205c9bf58ccff.png"/>
          <p:cNvPicPr/>
          <p:nvPr/>
        </p:nvPicPr>
        <p:blipFill>
          <a:blip r:embed="rId3"/>
          <a:stretch/>
        </p:blipFill>
        <p:spPr>
          <a:xfrm>
            <a:off x="4497480" y="4808520"/>
            <a:ext cx="4646520" cy="204948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7" descr="2f8063da48fd59810f34d16ef3f14be3 (1).png"/>
          <p:cNvPicPr/>
          <p:nvPr/>
        </p:nvPicPr>
        <p:blipFill>
          <a:blip r:embed="rId4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8" descr="002 (3).jpg"/>
          <p:cNvPicPr/>
          <p:nvPr/>
        </p:nvPicPr>
        <p:blipFill>
          <a:blip r:embed="rId5"/>
          <a:stretch/>
        </p:blipFill>
        <p:spPr>
          <a:xfrm>
            <a:off x="5016600" y="3765600"/>
            <a:ext cx="4127400" cy="30924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F8CF-5240-453E-9CFD-2ED177BA02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Рисунок 6" descr="0_8de24_beb7aea6_orig.png"/>
          <p:cNvPicPr/>
          <p:nvPr/>
        </p:nvPicPr>
        <p:blipFill>
          <a:blip r:embed="rId3"/>
          <a:stretch/>
        </p:blipFill>
        <p:spPr>
          <a:xfrm>
            <a:off x="5892840" y="2852640"/>
            <a:ext cx="3251160" cy="4005360"/>
          </a:xfrm>
          <a:prstGeom prst="rect">
            <a:avLst/>
          </a:prstGeom>
          <a:ln w="0">
            <a:noFill/>
          </a:ln>
        </p:spPr>
      </p:pic>
      <p:pic>
        <p:nvPicPr>
          <p:cNvPr id="649" name="Рисунок 7" descr="042 (4).jpg"/>
          <p:cNvPicPr/>
          <p:nvPr/>
        </p:nvPicPr>
        <p:blipFill>
          <a:blip r:embed="rId4"/>
          <a:stretch/>
        </p:blipFill>
        <p:spPr>
          <a:xfrm>
            <a:off x="5305320" y="4216320"/>
            <a:ext cx="3838680" cy="2641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0353-53A5-4C5A-918B-BAEC99222A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93236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692" name="Рисунок 7" descr="0_82745_e233cb_XL.png"/>
          <p:cNvPicPr/>
          <p:nvPr/>
        </p:nvPicPr>
        <p:blipFill>
          <a:blip r:embed="rId4"/>
          <a:stretch/>
        </p:blipFill>
        <p:spPr>
          <a:xfrm>
            <a:off x="6921360" y="4419720"/>
            <a:ext cx="2222640" cy="24382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2204-D2B2-4DEB-8282-FD7393589A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69908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7" descr="Ц2.jpg"/>
          <p:cNvPicPr/>
          <p:nvPr/>
        </p:nvPicPr>
        <p:blipFill>
          <a:blip r:embed="rId4"/>
          <a:stretch/>
        </p:blipFill>
        <p:spPr>
          <a:xfrm>
            <a:off x="6513480" y="4365720"/>
            <a:ext cx="2630520" cy="249228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2A05-A6F2-43FD-97D5-2816659762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F722-E397-4787-BF18-FEE8FFA08119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48BE-74C7-4404-9305-E2D1937999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" descr="2f8063da48fd59810f34d16ef3f14be3 (1).png"/>
          <p:cNvPicPr/>
          <p:nvPr/>
        </p:nvPicPr>
        <p:blipFill>
          <a:blip r:embed="rId3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085 (1).jpg"/>
          <p:cNvPicPr/>
          <p:nvPr/>
        </p:nvPicPr>
        <p:blipFill>
          <a:blip r:embed="rId4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85 (1).jpg"/>
          <p:cNvPicPr/>
          <p:nvPr/>
        </p:nvPicPr>
        <p:blipFill>
          <a:blip r:embed="rId5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0_895ff_bf8d122b_M.png"/>
          <p:cNvPicPr/>
          <p:nvPr/>
        </p:nvPicPr>
        <p:blipFill>
          <a:blip r:embed="rId6"/>
          <a:stretch/>
        </p:blipFill>
        <p:spPr>
          <a:xfrm>
            <a:off x="5435640" y="3911760"/>
            <a:ext cx="1676520" cy="2946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20B-AAD7-431C-9F91-B8BADA9244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6" descr="bd60188967180e3145c205c9bf58ccff.png"/>
          <p:cNvPicPr/>
          <p:nvPr/>
        </p:nvPicPr>
        <p:blipFill>
          <a:blip r:embed="rId3"/>
          <a:stretch/>
        </p:blipFill>
        <p:spPr>
          <a:xfrm>
            <a:off x="4497480" y="4808520"/>
            <a:ext cx="4646520" cy="2049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2f8063da48fd59810f34d16ef3f14be3 (1).png"/>
          <p:cNvPicPr/>
          <p:nvPr/>
        </p:nvPicPr>
        <p:blipFill>
          <a:blip r:embed="rId4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8" descr="002 (3).jpg"/>
          <p:cNvPicPr/>
          <p:nvPr/>
        </p:nvPicPr>
        <p:blipFill>
          <a:blip r:embed="rId5"/>
          <a:stretch/>
        </p:blipFill>
        <p:spPr>
          <a:xfrm>
            <a:off x="5016600" y="3765600"/>
            <a:ext cx="4127400" cy="3092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E1EC-F6B6-401B-A96E-9D257ECE04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6" descr="0_8de24_beb7aea6_orig.png"/>
          <p:cNvPicPr/>
          <p:nvPr/>
        </p:nvPicPr>
        <p:blipFill>
          <a:blip r:embed="rId3"/>
          <a:stretch/>
        </p:blipFill>
        <p:spPr>
          <a:xfrm>
            <a:off x="5892840" y="2852640"/>
            <a:ext cx="3251160" cy="40053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7" descr="042 (4).jpg"/>
          <p:cNvPicPr/>
          <p:nvPr/>
        </p:nvPicPr>
        <p:blipFill>
          <a:blip r:embed="rId4"/>
          <a:stretch/>
        </p:blipFill>
        <p:spPr>
          <a:xfrm>
            <a:off x="5305320" y="4216320"/>
            <a:ext cx="3838680" cy="2641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78E5-1707-4CC8-BF5D-12CBA473D8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93236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7" descr="0_82745_e233cb_XL.png"/>
          <p:cNvPicPr/>
          <p:nvPr/>
        </p:nvPicPr>
        <p:blipFill>
          <a:blip r:embed="rId4"/>
          <a:stretch/>
        </p:blipFill>
        <p:spPr>
          <a:xfrm>
            <a:off x="6921360" y="4419720"/>
            <a:ext cx="2222640" cy="2438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801E-5383-42F1-9592-1C7CFFFE08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69908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7" descr="Ц2.jpg"/>
          <p:cNvPicPr/>
          <p:nvPr/>
        </p:nvPicPr>
        <p:blipFill>
          <a:blip r:embed="rId4"/>
          <a:stretch/>
        </p:blipFill>
        <p:spPr>
          <a:xfrm>
            <a:off x="6513480" y="4365720"/>
            <a:ext cx="2630520" cy="2492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39C8-BE8C-405C-81CF-842E2BC77D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6" descr="2f8063da48fd59810f34d16ef3f14be3 (1).png"/>
          <p:cNvPicPr/>
          <p:nvPr/>
        </p:nvPicPr>
        <p:blipFill>
          <a:blip r:embed="rId3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7" descr="085 (1).jpg"/>
          <p:cNvPicPr/>
          <p:nvPr/>
        </p:nvPicPr>
        <p:blipFill>
          <a:blip r:embed="rId4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8" descr="085 (1).jpg"/>
          <p:cNvPicPr/>
          <p:nvPr/>
        </p:nvPicPr>
        <p:blipFill>
          <a:blip r:embed="rId5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0_895ff_bf8d122b_M.png"/>
          <p:cNvPicPr/>
          <p:nvPr/>
        </p:nvPicPr>
        <p:blipFill>
          <a:blip r:embed="rId6"/>
          <a:stretch/>
        </p:blipFill>
        <p:spPr>
          <a:xfrm>
            <a:off x="5435640" y="3911760"/>
            <a:ext cx="1676520" cy="29462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CFC2-5968-40AC-B72E-86591B6E91D8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6167520" y="2647800"/>
            <a:ext cx="2976480" cy="42102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" descr=""/>
          <p:cNvPicPr/>
          <p:nvPr/>
        </p:nvPicPr>
        <p:blipFill>
          <a:blip r:embed="rId2"/>
          <a:stretch/>
        </p:blipFill>
        <p:spPr>
          <a:xfrm>
            <a:off x="7551720" y="115920"/>
            <a:ext cx="1457280" cy="11890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3"/>
          <a:stretch/>
        </p:blipFill>
        <p:spPr>
          <a:xfrm rot="11953800">
            <a:off x="192960" y="-17640"/>
            <a:ext cx="1189080" cy="1457640"/>
          </a:xfrm>
          <a:prstGeom prst="rect">
            <a:avLst/>
          </a:prstGeom>
          <a:ln w="0">
            <a:noFill/>
          </a:ln>
        </p:spPr>
      </p:pic>
      <p:pic>
        <p:nvPicPr>
          <p:cNvPr id="787" name="Прямоугольник 4" descr=""/>
          <p:cNvPicPr/>
          <p:nvPr/>
        </p:nvPicPr>
        <p:blipFill>
          <a:blip r:embed="rId4"/>
          <a:stretch/>
        </p:blipFill>
        <p:spPr>
          <a:xfrm>
            <a:off x="353880" y="201600"/>
            <a:ext cx="8436240" cy="676440"/>
          </a:xfrm>
          <a:prstGeom prst="rect">
            <a:avLst/>
          </a:prstGeom>
          <a:ln w="0">
            <a:noFill/>
          </a:ln>
        </p:spPr>
      </p:pic>
      <p:sp>
        <p:nvSpPr>
          <p:cNvPr id="788" name="Прямоугольник 5"/>
          <p:cNvSpPr/>
          <p:nvPr/>
        </p:nvSpPr>
        <p:spPr>
          <a:xfrm>
            <a:off x="357120" y="928800"/>
            <a:ext cx="85726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Рассказ – презентац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«Мы слави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всех женщин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7"/>
          <p:cNvSpPr/>
          <p:nvPr/>
        </p:nvSpPr>
        <p:spPr>
          <a:xfrm>
            <a:off x="5658480" y="6000840"/>
            <a:ext cx="33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841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841"/>
                </a:solidFill>
                <a:latin typeface="Arial"/>
              </a:rPr>
              <a:t>воспитатель Жданова В.С.</a:t>
            </a:r>
            <a:r>
              <a:rPr b="0" lang="ru-RU" sz="1800" spc="-1" strike="noStrike">
                <a:solidFill>
                  <a:srgbClr val="9cb08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object 27" descr=""/>
          <p:cNvPicPr/>
          <p:nvPr/>
        </p:nvPicPr>
        <p:blipFill>
          <a:blip r:embed="rId5"/>
          <a:stretch/>
        </p:blipFill>
        <p:spPr>
          <a:xfrm>
            <a:off x="214200" y="3643200"/>
            <a:ext cx="2573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3" descr="I:\Праздник 8 марта1\IMG-20220305-WA0019.jpg"/>
          <p:cNvPicPr/>
          <p:nvPr/>
        </p:nvPicPr>
        <p:blipFill>
          <a:blip r:embed="rId1"/>
          <a:stretch/>
        </p:blipFill>
        <p:spPr>
          <a:xfrm>
            <a:off x="395280" y="765000"/>
            <a:ext cx="6200640" cy="547704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sp>
        <p:nvSpPr>
          <p:cNvPr id="828" name="Прямоугольник 2"/>
          <p:cNvSpPr/>
          <p:nvPr/>
        </p:nvSpPr>
        <p:spPr>
          <a:xfrm>
            <a:off x="2281680" y="0"/>
            <a:ext cx="39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дарки  для 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2857320" y="357120"/>
            <a:ext cx="54291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С праздником бабушки, мамы, сестрён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Тети, подружки и просто девчонки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Я вам желаю всегда быть счастливым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Сильными, добрыми, очень красивыми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Солнышко пусть вам всегда улыбае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Ваши мечты пусть скор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сбываю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99"/>
              </a:spcBef>
              <a:buClr>
                <a:srgbClr val="382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Рисунок 4" descr="солнышко-300x286.png"/>
          <p:cNvPicPr/>
          <p:nvPr/>
        </p:nvPicPr>
        <p:blipFill>
          <a:blip r:embed="rId1"/>
          <a:stretch/>
        </p:blipFill>
        <p:spPr>
          <a:xfrm flipH="1" rot="1015800">
            <a:off x="276120" y="81000"/>
            <a:ext cx="2365560" cy="2254320"/>
          </a:xfrm>
          <a:prstGeom prst="rect">
            <a:avLst/>
          </a:prstGeom>
          <a:ln w="0">
            <a:noFill/>
          </a:ln>
        </p:spPr>
      </p:pic>
      <p:pic>
        <p:nvPicPr>
          <p:cNvPr id="831" name="Рисунок 6" descr="0_85bbc_9505fac9_S.gif"/>
          <p:cNvPicPr/>
          <p:nvPr/>
        </p:nvPicPr>
        <p:blipFill>
          <a:blip r:embed="rId2"/>
          <a:stretch/>
        </p:blipFill>
        <p:spPr>
          <a:xfrm rot="20670600">
            <a:off x="2614320" y="5601960"/>
            <a:ext cx="1008000" cy="982800"/>
          </a:xfrm>
          <a:prstGeom prst="rect">
            <a:avLst/>
          </a:prstGeom>
          <a:ln w="0">
            <a:noFill/>
          </a:ln>
        </p:spPr>
      </p:pic>
      <p:pic>
        <p:nvPicPr>
          <p:cNvPr id="832" name="Рисунок 7" descr="0_85bbc_9505fac9_S.gif"/>
          <p:cNvPicPr/>
          <p:nvPr/>
        </p:nvPicPr>
        <p:blipFill>
          <a:blip r:embed="rId3"/>
          <a:stretch/>
        </p:blipFill>
        <p:spPr>
          <a:xfrm rot="5400000">
            <a:off x="8111520" y="418680"/>
            <a:ext cx="1046160" cy="1017720"/>
          </a:xfrm>
          <a:prstGeom prst="rect">
            <a:avLst/>
          </a:prstGeom>
          <a:ln w="0">
            <a:noFill/>
          </a:ln>
        </p:spPr>
      </p:pic>
      <p:pic>
        <p:nvPicPr>
          <p:cNvPr id="833" name="object 2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2976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5955 -0.02381 C -0.15174 -0.01896 -0.14549 -0.01479 -0.13993 -0.00555 C -0.13438 0.00324 -0.13142 0.01133 -0.12413 0.01804 C -0.12153 0.02313 -0.11892 0.02844 -0.11632 0.03353 C -0.11511 0.03607 -0.11441 0.03954 -0.1125 0.04139 C -0.09462 0.05734 -0.07622 0.06821 -0.05747 0.0807 C -0.05035 0.08555 -0.04566 0.09295 -0.03785 0.09619 C -0.0217 0.11792 0.00625 0.11815 0.02673 0.11977 C 0.03802 0.12463 0.07048 0.12047 0.08368 0.11191 C 0.09792 0.10266 0.08038 0.11006 0.09739 0.10405 C 0.10729 0.0955 0.11944 0.0955 0.13073 0.0911 C 0.14028 0.08717 0.14861 0.08139 0.15816 0.07769 C 0.16614 0.07076 0.17031 0.07006 0.17378 0.05966 C 0.17552 0.05434 0.17778 0.04393 0.17778 0.04417 C 0.17847 0.03353 0.17812 0.02289 0.17969 0.01272 C 0.18021 0.00971 0.18298 0.00787 0.18368 0.00486 C 0.18489 -0.00023 0.18472 -0.00578 0.18559 -0.01086 C 0.18698 -0.01965 0.18993 -0.0282 0.19149 -0.03699 C 0.1908 -0.043 0.19201 -0.05017 0.18958 -0.05526 C 0.18351 -0.06797 0.16788 -0.07144 0.15816 -0.07352 C 0.14635 -0.0726 0.12969 -0.07514 0.11701 -0.0682 C 0.1125 -0.06566 0.10764 -0.06358 0.1033 -0.06034 C 0.09913 -0.05734 0.09149 -0.04994 0.09149 -0.04971 C 0.08663 -0.03075 0.09045 -0.03815 0.08177 -0.02635 C 0.08246 -0.003 0.08125 0.02081 0.08368 0.04393 C 0.08403 0.04671 0.08767 0.04555 0.08958 0.04671 C 0.09219 0.0481 0.09462 0.05041 0.09739 0.0518 C 0.10121 0.05365 0.1092 0.05711 0.1092 0.05734 C 0.1283 0.05434 0.13333 0.06266 0.12673 0.0363 C 0.12621 0.03399 0.12413 0.03284 0.12292 0.03099 E">
                                      <p:cBhvr>
                                        <p:cTn id="29" dur="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39306E-006 C -0.01041 0.00925 -0.02518 0.01041 -0.03733 0.01573 C -0.0566 0.01365 -0.07049 0.01434 -0.08629 -4.39306E-006 C -0.09843 -0.02312 -0.09046 -0.05341 -0.08438 -0.07815 C -0.0823 -0.0867 -0.07448 -0.10173 -0.07448 -0.1015 C -0.07379 -0.10427 -0.07396 -0.10774 -0.07257 -0.10959 C -0.07014 -0.11283 -0.05105 -0.12855 -0.04705 -0.1304 C -0.04132 -0.13294 -0.03525 -0.13317 -0.02952 -0.13572 C 0.02119 -0.13364 0.03664 -0.14196 0.07257 -0.10959 C 0.09185 -0.06982 0.07796 -0.10173 0.07448 0.01318 C 0.07414 0.02451 0.06459 0.06798 0.05678 0.07584 C 0.04185 0.09087 0.02553 0.09203 0.00764 0.09411 C -0.00503 0.09966 -0.01962 0.10243 -0.02743 0.08625 C -0.02466 0.06359 -0.02639 0.05295 -0.01372 0.03677 C -0.01112 0.0222 -0.00364 0.01503 5E-006 -4.39306E-006 Z">
                                      <p:cBhvr>
                                        <p:cTn id="31" dur="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12222 0.10428 C -0.14271 0.12139 -0.13055 0.10937 -0.15625 0.14335 C -0.1776 0.17156 -0.15764 0.13202 -0.17847 0.16786 C -0.18403 0.17688 -0.18837 0.18752 -0.19323 0.19653 C -0.19583 0.20139 -0.20069 0.2111 -0.20069 0.21133 C -0.20937 0.24601 -0.19722 0.20393 -0.21545 0.24046 C -0.21788 0.24463 -0.21684 0.25064 -0.21909 0.25526 C -0.22222 0.26081 -0.22708 0.26382 -0.23038 0.26983 C -0.23941 0.28416 -0.25225 0.32139 -0.26736 0.32763 C -0.29514 0.34081 -0.31701 0.36902 -0.34548 0.3822 C -0.36545 0.40786 -0.38107 0.42428 -0.40503 0.44463 C -0.43177 0.46752 -0.50382 0.47122 -0.53125 0.47376 C -0.56909 0.48671 -0.60903 0.47307 -0.64635 0.48833 C -0.66597 0.48694 -0.68594 0.4874 -0.70555 0.4837 C -0.73229 0.47885 -0.75659 0.46405 -0.78385 0.45919 C -0.8033 0.46174 -0.82326 0.45919 -0.84288 0.46405 C -0.85121 0.46705 -0.85781 0.47815 -0.8651 0.4837 C -0.86944 0.48786 -0.87517 0.48694 -0.87986 0.48833 C -0.89409 0.50752 -0.90972 0.52046 -0.92083 0.5422 C -0.92725 0.56671 -0.93403 0.59075 -0.93958 0.61596 C -0.93802 0.64879 -0.93923 0.68139 -0.93576 0.71399 C -0.93246 0.74752 -0.83559 0.74752 -0.83194 0.74798 C -0.80208 0.74428 -0.77812 0.75607 -0.76892 0.71838 C -0.7717 0.66867 -0.76857 0.64046 -0.79496 0.60624 C -0.81007 0.56532 -0.81528 0.56555 -0.8467 0.55214 C -0.91371 0.55561 -0.93732 0.55584 -0.99149 0.56671 C -1.00659 0.57411 -1.0217 0.58104 -1.02847 0.60185 C -1.03177 0.6111 -1.03576 0.63075 -1.03576 0.63145 C -1.03455 0.66335 -1.03524 0.69596 -1.03212 0.72833 C -1.03021 0.74867 -1.01371 0.74428 -1.01371 0.77249 E">
                                      <p:cBhvr>
                                        <p:cTn id="37" dur="5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4 -0.01041 C 0.00208 -0.00393 0.021 -0.01318 0.03541 -0.01549 C 0.05086 -0.0222 0.06441 -0.02821 0.08055 -0.03121 C 0.10781 -0.043 0.15677 -0.03745 0.18646 -0.03907 C 0.23264 -0.04762 0.27482 -0.04554 0.32361 -0.04693 C 0.35277 -0.04924 0.38073 -0.05664 0.40989 -0.05987 C 0.4243 -0.05895 0.43871 -0.05872 0.45312 -0.05733 C 0.46406 -0.05618 0.46128 -0.05479 0.47066 -0.04947 C 0.47934 -0.04439 0.48923 -0.043 0.49826 -0.03907 C 0.50017 -0.03653 0.50173 -0.03329 0.50399 -0.03121 C 0.50573 -0.02959 0.50833 -0.03029 0.50989 -0.02867 C 0.51423 -0.02404 0.51857 -0.01919 0.5217 -0.01295 C 0.52309 -0.01041 0.52378 -0.00694 0.52569 -0.00509 C 0.52725 -0.00347 0.52968 -0.00347 0.53159 -0.00255 C 0.54271 0.01271 0.53125 -0.000229999999999999 0.54531 0.00786 C 0.54965 0.0104 0.55382 0.01687 0.55694 0.02103 C 0.55607 0.03768 0.55937 0.05617 0.55312 0.07073 C 0.54757 0.08345 0.53455 0.09408 0.52569 0.10194 C 0.51736 0.10934 0.51059 0.11789 0.50208 0.12552 C 0.49965 0.1276 0.48646 0.13176 0.48246 0.13338 C 0.46527 0.14008 0.44965 0.14401 0.43159 0.14632 C 0.41007 0.15788 0.43316 0.14655 0.41198 0.15418 C 0.40087 0.15811 0.39114 0.16504 0.38055 0.1699 C 0.37152 0.17406 0.36215 0.17637 0.35312 0.1803 C 0.3375 0.17845 0.32152 0.17915 0.30607 0.17498 C 0.30399 0.17452 0.30399 0.1699 0.30399 0.16713 C 0.30399 0.12089 0.29583 0.12713 0.31198 0.1202 C 0.31892 0.11419 0.32569 0.11303 0.33333 0.1098 C 0.3585 0.11142 0.36771 0.10541 0.38437 0.1202 C 0.38646 0.13823 0.38784 0.15765 0.39236 0.17498 C 0.39045 0.18701 0.38941 0.19394 0.38437 0.20388 C 0.37916 0.20296 0.36875 0.20111 0.36875 0.20134 E">
                                      <p:cBhvr>
                                        <p:cTn id="39" dur="5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875 0.20134 C 0.37274 0.19972 0.37778 0.19833 0.38055 0.19348 C 0.39097 0.17591 0.37187 0.19463 0.38837 0.18053 C 0.39114 0.16112 0.38837 0.17106 0.39809 0.15164 C 0.40382 0.14008 0.39583 0.14701 0.40399 0.13615 C 0.40764 0.1313 0.41215 0.12783 0.4158 0.12297 C 0.42066 0.10309 0.41354 0.12667 0.42361 0.11003 C 0.42691 0.10471 0.42864 0.09038 0.43142 0.08391 C 0.43368 0.07836 0.43941 0.06819 0.43941 0.06819 C 0.44184 0.05501 0.44791 0.04461 0.45104 0.03167 C 0.44982 0.01595 0.44896 0.000230000000000001 0.44722 -0.01549 C 0.44687 -0.01827 0.44496 -0.02035 0.44514 -0.02312 C 0.44635 -0.04254 0.44948 -0.04485 0.45694 -0.05987 C 0.45798 -0.06219 0.45764 -0.06542 0.45885 -0.0675 C 0.46232 -0.07328 0.47274 -0.07652 0.47656 -0.07814 C 0.48489 -0.08183 0.49288 -0.08738 0.50017 -0.09362 C 0.50139 -0.09894 0.5026 -0.10403 0.50399 -0.10934 C 0.50469 -0.11189 0.50607 -0.1172 0.50607 -0.1172 C 0.50538 -0.13639 0.50555 -0.15557 0.50399 -0.17453 C 0.50347 -0.18008 0.50156 -0.18493 0.50017 -0.19025 C 0.49948 -0.19279 0.49809 -0.19811 0.49809 -0.19811 C 0.49462 -0.24087 0.4868 -0.2908 0.52552 -0.30005 C 0.53142 -0.2982 0.53767 -0.29797 0.54323 -0.29473 C 0.54896 -0.29127 0.55173 -0.26237 0.55312 -0.25567 C 0.55416 -0.25035 0.55573 -0.24526 0.55694 -0.23995 C 0.55764 -0.23741 0.55885 -0.23209 0.55885 -0.23209 C 0.55677 -0.20735 0.56111 -0.21406 0.55503 -0.20597 E">
                                      <p:cBhvr>
                                        <p:cTn id="41" dur="5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Прямоугольник 6"/>
          <p:cNvSpPr/>
          <p:nvPr/>
        </p:nvSpPr>
        <p:spPr>
          <a:xfrm>
            <a:off x="214200" y="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СТОРИЯ ПРАЗДНИКА 8 МАРТА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7"/>
          <p:cNvSpPr/>
          <p:nvPr/>
        </p:nvSpPr>
        <p:spPr>
          <a:xfrm>
            <a:off x="0" y="504720"/>
            <a:ext cx="91440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Почему Международный женский день празднуют именно 8 мар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Какая история 8 мар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Раньше во многих странах женщины не имели права голоса, не могли учиться. Девочкам не позволяли ходить в школу. Конечно, их это обижало! Потом женщинам позволили работать. Но условия труда были тяжёлыми. Тогда в Нью-Йорке более 150 лет тому назад работницы прошли «маршем пустых кастрюль». Они громко били в пустые кастрюли и требовали повышения зарплаты, улучшения условий работы и равные права для женщин и мужчин. Это так удивило всех, что событие стали называть Женским дн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В течение многих лет женщины устраивали акции протестов. Тогда было решено избрать один общий женский день для многих стран. Женщины разных стран договорились, что именно в этот день будут напоминать мужчинам, что женщин надо уваж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Впервые Международный женский день был проведён 19 марта 1911 года в Германии, Австрии, Дании и некоторых других европейских странах. Эта дата была избрана женщинами Германии. В Советском Союзе 8 марта длительное время было обычным рабочим днём. Но 8 мая 1965 года, накануне 20-летия Победы в Великой Отечественной войне, Международный женский день был объявлен праздничным. В 1977 году ООН объявила 8 марта днём борьбы за женские права — Международным женским днём. Этот день объявлен национальным выходным во многих странах. Поэтому мамы и бабушки в этот день могут немного отдохнуть, сходить на праздничный концерт, пообщаться со сво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то первый праздник весны — самого прекрасного времени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Прямоугольник 7"/>
          <p:cNvSpPr/>
          <p:nvPr/>
        </p:nvSpPr>
        <p:spPr>
          <a:xfrm>
            <a:off x="0" y="0"/>
            <a:ext cx="8929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8 марта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месте с весной к нам пришел замечательный праздник – Международный Женский день 8 Марта. Этот день согрет лучами солнца, теплыми улыбками, украшенными россыпью 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, не случайно, среди многочисленных праздников, отмечаемых в нашей стране,«8 Марта» занимает особое место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Праздник « 8 Марта» - это возможность  начать формирование понимания того, что вокруг живёт ещё много таких людей как мама – это все женщины: и бабушка, и сестра, и девочки в группе, и воспитательница, и любая другая женщин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8"/>
          <p:cNvSpPr/>
          <p:nvPr/>
        </p:nvSpPr>
        <p:spPr>
          <a:xfrm>
            <a:off x="285840" y="2857680"/>
            <a:ext cx="6429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8 марта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– день торжествен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День радости и красоты!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На всей земле он дарит женщинам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Свои улыбки и цве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2" descr=""/>
          <p:cNvPicPr/>
          <p:nvPr/>
        </p:nvPicPr>
        <p:blipFill>
          <a:blip r:embed="rId1"/>
          <a:stretch/>
        </p:blipFill>
        <p:spPr>
          <a:xfrm rot="5913000">
            <a:off x="313560" y="5439240"/>
            <a:ext cx="1188720" cy="14572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3" descr=""/>
          <p:cNvPicPr/>
          <p:nvPr/>
        </p:nvPicPr>
        <p:blipFill>
          <a:blip r:embed="rId2"/>
          <a:stretch/>
        </p:blipFill>
        <p:spPr>
          <a:xfrm>
            <a:off x="7551720" y="115920"/>
            <a:ext cx="1457280" cy="1189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4" descr=""/>
          <p:cNvPicPr/>
          <p:nvPr/>
        </p:nvPicPr>
        <p:blipFill>
          <a:blip r:embed="rId3"/>
          <a:stretch/>
        </p:blipFill>
        <p:spPr>
          <a:xfrm rot="11953800">
            <a:off x="192960" y="-17640"/>
            <a:ext cx="1189080" cy="145764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1"/>
          <p:cNvSpPr/>
          <p:nvPr/>
        </p:nvSpPr>
        <p:spPr>
          <a:xfrm>
            <a:off x="571680" y="314280"/>
            <a:ext cx="85723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здник  8 марта в нашем детском с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ети младшей группы подготовили для мам и бабушек замечательный концерт: выступали с песнями и танцами, стих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в старшей группе  этот день решили отметить интересной и веселой программой «А ну-ка, девочки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Участницы мероприятия соревновались в различных конкурсах. Девчонки порадовали нас своим артистизмом, смекалкой, находчивостью, доставили немало удовольствия, подняли всем на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Жюри конкурса, а это были мальчики подготовительной группы, которые каждый конкурс оценивали лепестком,  убедилось, что наши девочки  умеют прекрасно  отвечать на самые каверзные вопросы и находить выход из люб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Благодаря своей артистичности, невероятной сообразительности, ответственности, с достойностью пройдя сквозь все препятствия в конкурсе «А ну-ка, девочки!»  между командами  «Розочка» и «Ромашка» победила  Дружба, все участники были награждены  медалями и сладким уго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Традиционно не обошлось без подарков, которые ребята приготовили милым мамам и бабушкам, сделанные своими руками. Праздник, несомненно, принес в жизнь детского сада атмосферу весенней радости и 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Прямоугольник 4"/>
          <p:cNvSpPr/>
          <p:nvPr/>
        </p:nvSpPr>
        <p:spPr>
          <a:xfrm>
            <a:off x="214200" y="0"/>
            <a:ext cx="8929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здничный концерт «8 марта»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ладшая 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5"/>
          <p:cNvSpPr/>
          <p:nvPr/>
        </p:nvSpPr>
        <p:spPr>
          <a:xfrm>
            <a:off x="785880" y="11430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ети поздравляют родных женщин стих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1785960" cy="39114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2" name="Picture 5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1892160" cy="41958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3" name="Picture 6" descr=""/>
          <p:cNvPicPr/>
          <p:nvPr/>
        </p:nvPicPr>
        <p:blipFill>
          <a:blip r:embed="rId3"/>
          <a:stretch/>
        </p:blipFill>
        <p:spPr>
          <a:xfrm>
            <a:off x="2357280" y="2071800"/>
            <a:ext cx="1943280" cy="37051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4" name="Picture 7" descr=""/>
          <p:cNvPicPr/>
          <p:nvPr/>
        </p:nvPicPr>
        <p:blipFill>
          <a:blip r:embed="rId4"/>
          <a:stretch/>
        </p:blipFill>
        <p:spPr>
          <a:xfrm>
            <a:off x="6643800" y="2857680"/>
            <a:ext cx="2219040" cy="38383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Прямоугольник 1"/>
          <p:cNvSpPr/>
          <p:nvPr/>
        </p:nvSpPr>
        <p:spPr>
          <a:xfrm>
            <a:off x="2248200" y="214200"/>
            <a:ext cx="43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анец для м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4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3203640" cy="14443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7" name="Picture 5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135240" cy="14256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sp>
        <p:nvSpPr>
          <p:cNvPr id="808" name="Прямоугольник 4"/>
          <p:cNvSpPr/>
          <p:nvPr/>
        </p:nvSpPr>
        <p:spPr>
          <a:xfrm>
            <a:off x="3212280" y="270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арки  для 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3"/>
          <a:stretch/>
        </p:blipFill>
        <p:spPr>
          <a:xfrm>
            <a:off x="395280" y="3213000"/>
            <a:ext cx="3303720" cy="22035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10" name="Picture 2" descr="C:\Users\user\Desktop\Праздник 8 марта1\IMG-20220305-WA0057.jpg"/>
          <p:cNvPicPr/>
          <p:nvPr/>
        </p:nvPicPr>
        <p:blipFill>
          <a:blip r:embed="rId4"/>
          <a:stretch/>
        </p:blipFill>
        <p:spPr>
          <a:xfrm>
            <a:off x="4643280" y="3213000"/>
            <a:ext cx="2990880" cy="22431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3" descr=""/>
          <p:cNvPicPr/>
          <p:nvPr/>
        </p:nvPicPr>
        <p:blipFill>
          <a:blip r:embed="rId1"/>
          <a:stretch/>
        </p:blipFill>
        <p:spPr>
          <a:xfrm rot="20396400">
            <a:off x="8183160" y="2843280"/>
            <a:ext cx="976320" cy="1076400"/>
          </a:xfrm>
          <a:prstGeom prst="rect">
            <a:avLst/>
          </a:prstGeom>
          <a:ln w="0">
            <a:noFill/>
          </a:ln>
        </p:spPr>
      </p:pic>
      <p:sp>
        <p:nvSpPr>
          <p:cNvPr id="812" name="Прямоугольник 2"/>
          <p:cNvSpPr/>
          <p:nvPr/>
        </p:nvSpPr>
        <p:spPr>
          <a:xfrm>
            <a:off x="684360" y="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здравления  для  мам  и  бабу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тарш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727520" cy="29545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sp>
        <p:nvSpPr>
          <p:cNvPr id="814" name="Прямоугольник 5"/>
          <p:cNvSpPr/>
          <p:nvPr/>
        </p:nvSpPr>
        <p:spPr>
          <a:xfrm>
            <a:off x="-518760" y="1773360"/>
            <a:ext cx="537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Танцевальная 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с цв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5" descr="C:\Users\user\Desktop\Attachments_yusma.abasheva@mail.ru_2022-03-09_10-12-14\Screenshot_20220309_095300_com.huawei.himovie.overseas.jpg"/>
          <p:cNvPicPr/>
          <p:nvPr/>
        </p:nvPicPr>
        <p:blipFill>
          <a:blip r:embed="rId3"/>
          <a:stretch/>
        </p:blipFill>
        <p:spPr>
          <a:xfrm>
            <a:off x="4067280" y="981000"/>
            <a:ext cx="4851360" cy="28083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Прямоугольник 3"/>
          <p:cNvSpPr/>
          <p:nvPr/>
        </p:nvSpPr>
        <p:spPr>
          <a:xfrm>
            <a:off x="1857240" y="0"/>
            <a:ext cx="50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жный танец ма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2" descr=""/>
          <p:cNvPicPr/>
          <p:nvPr/>
        </p:nvPicPr>
        <p:blipFill>
          <a:blip r:embed="rId1"/>
          <a:stretch/>
        </p:blipFill>
        <p:spPr>
          <a:xfrm>
            <a:off x="5508720" y="3068640"/>
            <a:ext cx="3384360" cy="34909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18" name="Picture 3" descr=""/>
          <p:cNvPicPr/>
          <p:nvPr/>
        </p:nvPicPr>
        <p:blipFill>
          <a:blip r:embed="rId2"/>
          <a:stretch/>
        </p:blipFill>
        <p:spPr>
          <a:xfrm>
            <a:off x="2268360" y="620640"/>
            <a:ext cx="5050080" cy="23050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19" name="Picture 2" descr="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468360" y="3054240"/>
            <a:ext cx="4367160" cy="34704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0" name="Picture 4" descr=""/>
          <p:cNvPicPr/>
          <p:nvPr/>
        </p:nvPicPr>
        <p:blipFill>
          <a:blip r:embed="rId4"/>
          <a:stretch/>
        </p:blipFill>
        <p:spPr>
          <a:xfrm rot="7008000">
            <a:off x="447480" y="441360"/>
            <a:ext cx="16430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рямоугольник 3"/>
          <p:cNvSpPr/>
          <p:nvPr/>
        </p:nvSpPr>
        <p:spPr>
          <a:xfrm>
            <a:off x="468360" y="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курс  «А ну-ка, 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240360" cy="29271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3" name="Picture 3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2700360" cy="31258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4" name="Picture 4" descr=""/>
          <p:cNvPicPr/>
          <p:nvPr/>
        </p:nvPicPr>
        <p:blipFill>
          <a:blip r:embed="rId3"/>
          <a:stretch/>
        </p:blipFill>
        <p:spPr>
          <a:xfrm>
            <a:off x="3780000" y="620640"/>
            <a:ext cx="2249280" cy="348624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5" name="Picture 2" descr="I:\Праздник 8 марта1\IMG_20220308_193053.jpg"/>
          <p:cNvPicPr/>
          <p:nvPr/>
        </p:nvPicPr>
        <p:blipFill>
          <a:blip r:embed="rId4"/>
          <a:stretch/>
        </p:blipFill>
        <p:spPr>
          <a:xfrm>
            <a:off x="1763640" y="4221000"/>
            <a:ext cx="3576600" cy="24289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6" name="Picture 4" descr=""/>
          <p:cNvPicPr/>
          <p:nvPr/>
        </p:nvPicPr>
        <p:blipFill>
          <a:blip r:embed="rId5"/>
          <a:stretch/>
        </p:blipFill>
        <p:spPr>
          <a:xfrm rot="7494600">
            <a:off x="356760" y="4146120"/>
            <a:ext cx="17938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21:04:15Z</dcterms:created>
  <dc:creator>1</dc:creator>
  <dc:description/>
  <dc:language>en-US</dc:language>
  <cp:lastModifiedBy>acer</cp:lastModifiedBy>
  <dcterms:modified xsi:type="dcterms:W3CDTF">2023-01-25T17:04:08Z</dcterms:modified>
  <cp:revision>252</cp:revision>
  <dc:subject/>
  <dc:title>Слайд 1</dc:title>
</cp:coreProperties>
</file>