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5DC3-BBD5-48FC-AF4F-BB41885F7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82BC-55C6-455D-BE44-18464CCC4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6235-2EF6-4BD4-94C4-2EF71A06B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A903-326A-48E8-BE56-75B19C7FC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16CB-7A1A-4133-A71B-4E2B93725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C483-EA5A-427C-9BD3-E69A7E98C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FE97-3A7F-46CB-BC21-55EACA221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CA47-2192-4CD8-A166-0CCD9E979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0601-4362-4ADB-8191-4CB4F195B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037A-5FA1-4C5D-B843-D9218483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5B88-BD65-433C-A834-D3F2CB45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65C7-DEAB-4C4C-B702-4C474A57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3292E-0872-4742-BEE8-5311F2FE2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оект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 группе №10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«Россия, мы дети твои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038480" y="388584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питател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ифрина Е.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стрыгина Е.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78000" y="228240"/>
            <a:ext cx="86115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втономное дошкольное образовательное учреждение муниципаль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разования г. Долгопруд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етский сад комбинированного ви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3 «Антошк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792468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Лепка из соленого теста «День Жаворонка» 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младшая групп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9999"/>
                </a:solidFill>
                <a:latin typeface="Arial"/>
              </a:rPr>
              <a:t>Цел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Создание условий для формирования у детей обобщённых представлений о весн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Приобщать детей к традициям и календарно-обрядовым праздникам русского народа и стимулировать к ним интере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9999"/>
                </a:solidFill>
                <a:latin typeface="Arial"/>
              </a:rPr>
              <a:t>Задач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- создать условия для ознакомления детей с признаками вес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- создать условия для обогащения словаря по тем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- создать условия для развития познавательного интереса.                                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19720" y="18288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1. Познакомить со старинной технологией лепки жаворонков-веснянок. Продолжать учить работать с тест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2. Развивать творческое воображение, стойкий интерес к продуктивной деятельности. Развивать мелкую моторику пальцев рук и кист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3. Воспитывать эстетический вкус, умение видеть красоту природы, бережно относиться к птиц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Образовательные области: «Художественно – эстетическое развитие», «социально – коммуникативное развитие», «познавательное развитие», «речевое развитие», «физическое развитие».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85800" y="453384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4191120" y="5334120"/>
            <a:ext cx="12952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Досуг в младшей группе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«Масленица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9999"/>
                </a:solidFill>
                <a:uFillTx/>
                <a:latin typeface="Times New Roman"/>
              </a:rPr>
              <a:t>Цель: 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Знакомство детей с русским народным праздником Масленицей, посвященным концу зим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9999"/>
                </a:solidFill>
                <a:uFillTx/>
                <a:latin typeface="Times New Roman"/>
              </a:rPr>
              <a:t>Задачи</a:t>
            </a:r>
            <a:r>
              <a:rPr b="1" i="1" lang="en-US" sz="1600" spc="-1" strike="noStrike">
                <a:solidFill>
                  <a:srgbClr val="009999"/>
                </a:solidFill>
                <a:latin typeface="Times New Roman"/>
              </a:rPr>
              <a:t>: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 Знакомить с русским народным праздником Масленица, ее значением, символами, традициями, знакомить детей с обрядами масленичной недели и праздничной кухней, знакомство с народными играми, развитие непосредственного эмоционального восприятия. Воспитывать уважительное отношение к традициям русского народа; любовь к родному кра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частие в муниципальном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онкурсе народной современной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гры «Радость» с народной игрой «Домовой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2209320"/>
            <a:ext cx="762012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Цель.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риобщение детей старшего дошкольного возраста к русским народным традициям посредством подвижных иг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Образовательные: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родолжать знакомить детей с русскими народными игра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риобщать детей к народному творчеству, русской культуре, развивать чувство юмора, воображение, смекал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85800" y="3962520"/>
            <a:ext cx="19810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«Никита Водопол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9999"/>
                </a:solidFill>
                <a:latin typeface="Arial"/>
              </a:rPr>
              <a:t>Цель: 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Приобщение детей к обычаям и традициям русского наро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9999"/>
                </a:solidFill>
                <a:latin typeface="Arial"/>
              </a:rPr>
              <a:t>Задач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9999"/>
                </a:solidFill>
                <a:latin typeface="Arial"/>
              </a:rPr>
              <a:t>Образовательны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- Знакомство с элементарными представлениями о русских народных праздника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- Расширение знаний детей о народных традиция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- Продолжать учить говорить полным предложение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- Обогащение словар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9999"/>
                </a:solidFill>
                <a:latin typeface="Arial"/>
              </a:rPr>
              <a:t>Развивающи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- Развитие внимания, мышления, памя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- Активизация речи, побуждение к высказывания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- Развитие навыков связной реч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Воспитательны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- Воспитание нравственных чувств и этического сознания: отзывчивость, доброту, сочувств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9999"/>
                </a:solidFill>
                <a:latin typeface="Arial"/>
              </a:rPr>
              <a:t>Оборудование: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 Компьютер, платок для игры, бусин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1619280" cy="2438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6934320" y="1600200"/>
            <a:ext cx="1752480" cy="2362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40384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Мастер класс для воспитателей</a:t>
            </a:r>
            <a:br>
              <a:rPr sz="2800"/>
            </a:b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Изготовление народной куклы «Сорока-ворон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Цель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приобщение  к традициям русского народа через изготовление традиционной обрядовой куклы «Соро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готовить обрядовую куклу «Сорока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тие  мелкой  моторики рук, усидчивость, внимание, глазомер и умение работать с лоскутами ткани, фантазию и воображ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спитывать интерес к культуре своего народа и бережное отношение к кук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105520" y="1600200"/>
            <a:ext cx="2895480" cy="22096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105520" y="4191120"/>
            <a:ext cx="2895480" cy="19810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5105520" y="1600200"/>
            <a:ext cx="28954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«День России» занятие в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младшей групп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9999"/>
                </a:solidFill>
                <a:uFillTx/>
                <a:latin typeface="Times New Roman"/>
              </a:rPr>
              <a:t>Цель</a:t>
            </a:r>
            <a:r>
              <a:rPr b="1" i="1" lang="en-US" sz="1600" spc="-1" strike="noStrike">
                <a:solidFill>
                  <a:srgbClr val="009999"/>
                </a:solidFill>
                <a:latin typeface="Times New Roman"/>
              </a:rPr>
              <a:t>: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 Воспитывать любовь и уважение к своей Родине, патриотические чувства у де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9999"/>
                </a:solidFill>
                <a:uFillTx/>
                <a:latin typeface="Times New Roman"/>
              </a:rPr>
              <a:t>Задачи</a:t>
            </a:r>
            <a:r>
              <a:rPr b="1" i="1" lang="en-US" sz="1600" spc="-1" strike="noStrike">
                <a:solidFill>
                  <a:srgbClr val="009999"/>
                </a:solidFill>
                <a:latin typeface="Times New Roman"/>
              </a:rPr>
              <a:t>: 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расширять знания детей о символике России (флаг, герб, гимн, о празднике День России); дать знания о праздновании праздника Дня России; приобщать детей к всенародным праздникам; формировать чувство любви и гордости к своей Родин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572000" y="1600200"/>
            <a:ext cx="4038480" cy="4572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228600" y="4648320"/>
            <a:ext cx="2362320" cy="2209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4572000" y="1600200"/>
            <a:ext cx="4038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«Народы России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9999"/>
                </a:solidFill>
                <a:uFillTx/>
                <a:latin typeface="Times New Roman"/>
              </a:rPr>
              <a:t>Цель</a:t>
            </a:r>
            <a:r>
              <a:rPr b="1" i="1" lang="en-US" sz="1600" spc="-1" strike="noStrike">
                <a:solidFill>
                  <a:srgbClr val="009999"/>
                </a:solidFill>
                <a:latin typeface="Times New Roman"/>
              </a:rPr>
              <a:t>: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 Расширение знаний детей о Родин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9999"/>
                </a:solidFill>
                <a:uFillTx/>
                <a:latin typeface="Times New Roman"/>
              </a:rPr>
              <a:t>Задачи</a:t>
            </a:r>
            <a:r>
              <a:rPr b="1" i="1" lang="en-US" sz="1600" spc="-1" strike="noStrike">
                <a:solidFill>
                  <a:srgbClr val="009999"/>
                </a:solidFill>
                <a:latin typeface="Times New Roman"/>
              </a:rPr>
              <a:t>: 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Познакомить детей с разными народами, населяющими Россию. Побуждать детей уважительно относиться к культуре разных народов, любоваться образцами народно-прикладного творчества. Формировать чувство гордости за Родину, поддерживать интерес к истории и культуре России и народов, её населяющи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9999"/>
                </a:solidFill>
                <a:uFillTx/>
                <a:latin typeface="Times New Roman"/>
              </a:rPr>
              <a:t>Обогащать словарный запас детей</a:t>
            </a:r>
            <a:r>
              <a:rPr b="1" i="1" lang="en-US" sz="1600" spc="-1" strike="noStrike">
                <a:solidFill>
                  <a:srgbClr val="009999"/>
                </a:solidFill>
                <a:latin typeface="Times New Roman"/>
              </a:rPr>
              <a:t>: 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Родина, Российская Федерация, россияне, тюбетей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32004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утешествие к героям Славянской мифолог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«Путешествие к героям Славянской мифологии»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: познакомить детей с героями мифов древних славян, формировать понимание слова «предки», понимание того, что Россия – страна с большой многовековой истор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ач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ширять знания детей о мифах и преданиях древних славян, их геро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вивать связную речь, речевой слух, общие речевые навыки  (звукопроизношение, четкость дикции, интонационную выразительность речи). Формировать импрессивную речь и словарь детей по тем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вивать у детей внимание, выдержку, выносливость, координацию движений, воображ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ировать навыки сотрудничества, доброжелательности, инициативности, ответственности, самостоятельности, соревновательные качества, чувства взаимовыручки и поддержки. Формировать интерес к чтению художественной литера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спитывать интерес к истории Родины, чувства гордости за русский нар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800600" y="1523880"/>
            <a:ext cx="38098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391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«Мой любимый Долгопрудный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9999"/>
                </a:solidFill>
                <a:latin typeface="Arial"/>
              </a:rPr>
              <a:t>Цель: 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формирование нравственно-патриотических качеств у дошкольников; воспитание чувства любви к своему город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9999"/>
                </a:solidFill>
                <a:latin typeface="Arial"/>
              </a:rPr>
              <a:t>Задач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1. расширять представления детей о малой Родине на основе знакомства с городом, в котором они живу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2. Уточнить знания о своем городе, его достопримечательностя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3. Развивать творческие, композиционные способности, воображ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4. Воспитывать любовь к родному город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9999"/>
                </a:solidFill>
                <a:latin typeface="Arial"/>
              </a:rPr>
              <a:t>Интеграция образовательных областей: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Познавательное развитие», «Социально – коммуникативное развитие», «Художественно-эстетическое развитие», «Физическое развитие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984920" y="1295280"/>
            <a:ext cx="3363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Игра-путешествие в средней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группе 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«Озеро Байкал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9999"/>
                </a:solidFill>
                <a:uFillTx/>
                <a:latin typeface="Arial"/>
              </a:rPr>
              <a:t>Форма проведения</a:t>
            </a:r>
            <a:r>
              <a:rPr b="1" i="1" lang="en-US" sz="1200" spc="-1" strike="noStrike">
                <a:solidFill>
                  <a:srgbClr val="bbe0e3"/>
                </a:solidFill>
                <a:latin typeface="Arial"/>
              </a:rPr>
              <a:t>: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 игра-путешеств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Возрастная группа: средняя групп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9999"/>
                </a:solidFill>
                <a:uFillTx/>
                <a:latin typeface="Arial"/>
              </a:rPr>
              <a:t>Цель</a:t>
            </a:r>
            <a:r>
              <a:rPr b="1" i="1" lang="en-US" sz="1200" spc="-1" strike="noStrike">
                <a:solidFill>
                  <a:srgbClr val="009999"/>
                </a:solidFill>
                <a:latin typeface="Arial"/>
              </a:rPr>
              <a:t>: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продолжать формировать знания детей среднего дошкольного возраста о Байкальских животных (нерпе, и о важности чистой воды в природ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9999"/>
                </a:solidFill>
                <a:uFillTx/>
                <a:latin typeface="Arial"/>
              </a:rPr>
              <a:t>Задачи</a:t>
            </a:r>
            <a:r>
              <a:rPr b="1" i="1" lang="en-US" sz="1200" spc="-1" strike="noStrike">
                <a:solidFill>
                  <a:srgbClr val="009999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9999"/>
                </a:solidFill>
                <a:uFillTx/>
                <a:latin typeface="Arial"/>
              </a:rPr>
              <a:t>Образовательные</a:t>
            </a:r>
            <a:r>
              <a:rPr b="1" i="1" lang="en-US" sz="1200" spc="-1" strike="noStrike">
                <a:solidFill>
                  <a:srgbClr val="009999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1.Совершенствовать знания о свойствах воды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не имеет цвета, запаха, пресная, соле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2. Формировать у детей целостное представление об уникальных животных озера Байк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9999"/>
                </a:solidFill>
                <a:uFillTx/>
                <a:latin typeface="Arial"/>
              </a:rPr>
              <a:t>Развивающие</a:t>
            </a:r>
            <a:r>
              <a:rPr b="1" i="1" lang="en-US" sz="1200" spc="-1" strike="noStrike">
                <a:solidFill>
                  <a:srgbClr val="009999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9999"/>
                </a:solidFill>
                <a:latin typeface="Arial"/>
              </a:rPr>
              <a:t>1.</a:t>
            </a:r>
            <a:r>
              <a:rPr b="1" i="1" lang="en-US" sz="1200" spc="-1" strike="noStrike" u="sng">
                <a:solidFill>
                  <a:srgbClr val="009999"/>
                </a:solidFill>
                <a:uFillTx/>
                <a:latin typeface="Arial"/>
              </a:rPr>
              <a:t>Формирование активного словаря у детей</a:t>
            </a:r>
            <a:r>
              <a:rPr b="1" i="1" lang="en-US" sz="1200" spc="-1" strike="noStrike">
                <a:solidFill>
                  <a:srgbClr val="009999"/>
                </a:solidFill>
                <a:latin typeface="Arial"/>
              </a:rPr>
              <a:t>: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нерпа, бел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2. Мотивировать познавательную деятельность детей средствами экспериментир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3. Развивать любознательность, мышление и речь детей; умение делать простейшие умозаклю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9999"/>
                </a:solidFill>
                <a:uFillTx/>
                <a:latin typeface="Arial"/>
              </a:rPr>
              <a:t>Воспитательные</a:t>
            </a:r>
            <a:r>
              <a:rPr b="1" i="1" lang="en-US" sz="1200" spc="-1" strike="noStrike">
                <a:solidFill>
                  <a:srgbClr val="009999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1. Формировать умение работать в коллективе, группе; координировать свои действия с действиями других детей, принимать их точку зр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2. Воспитывать бережное отношение к окружающему миру, желание беречь и сохранять красоту природы и чистоту в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3. Воспитывать аккуратность в работе, настойчивость, терпение, умение доводить начатое дело до конц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9999"/>
                </a:solidFill>
                <a:uFillTx/>
                <a:latin typeface="Arial"/>
              </a:rPr>
              <a:t>Образовательная область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: познавательное развит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9999"/>
                </a:solidFill>
                <a:uFillTx/>
                <a:latin typeface="Arial"/>
              </a:rPr>
              <a:t>Основные виды детской деятельности</a:t>
            </a:r>
            <a:r>
              <a:rPr b="1" i="1" lang="en-US" sz="1200" spc="-1" strike="noStrike">
                <a:solidFill>
                  <a:srgbClr val="009999"/>
                </a:solidFill>
                <a:latin typeface="Arial"/>
              </a:rPr>
              <a:t>: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Познавательно – исследовательская деятельность, коммуникативная, двигательна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57200" y="3962520"/>
            <a:ext cx="323532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Россия, мы дети твои!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Цели и задачи проек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5720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ВИД ПРОЕК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познавательный, творческий, информационный, игровой, группов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УЧАСТНИК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Дети младшего ,среднего и старшего дошкольного возрас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ИСПОЛНИТЕ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Дети, воспитатели, родите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ЦЕЛЬ ПРОЕК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Нравственно-патриотическое развитие личности дошкольника, взаимодействии ДОУ и семьи; формирование и систематизация представлений о Родине, её истории, национально-культурных традициях, о символах Росс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333399"/>
                </a:solidFill>
                <a:uFillTx/>
                <a:latin typeface="Times New Roman"/>
              </a:rPr>
              <a:t>ЗАДАЧИ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1. Вызвать у детей чувство восхищения и восторга красотой своей Родин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2.Воспитывать патриотические чувства, связывающие разные поко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3. Формирование первоначальных представлений о нравственных ценностях (семья, любовь, добро, совесть, верность, честь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4. Познакомить детей с символами государства (герб, флаг, гимн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5.Формировать чувства любви к малой Родине на основе изучения национальных культурных традиц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6. Дать знания детям о родном городе: история, символика, достопримечатель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7. Развивать интерес к русским традициям и промыслам, воспитывать трудолюбие, уважение к  труду и бережное отношение к результатам тру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8.Развивать познавательный интерес, психические процессы, мелкую моторику, коммуникативные навыки, делая акцент на гендерную принадлежн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9.Способствовать развитию самостоятельности в достижении результа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Занятие путешествие для детей и родителей «Карелия».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Мастер-класс для родителей и детей 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«Кукла-пеленаш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9999"/>
                </a:solidFill>
                <a:uFillTx/>
                <a:latin typeface="Times New Roman"/>
              </a:rPr>
              <a:t>Цель</a:t>
            </a:r>
            <a:r>
              <a:rPr b="1" i="1" lang="en-US" sz="1200" spc="-1" strike="noStrike">
                <a:solidFill>
                  <a:srgbClr val="009999"/>
                </a:solidFill>
                <a:latin typeface="Times New Roman"/>
              </a:rPr>
              <a:t>: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познакомить детей с историей возникновения Карелии, воспитывать у детей любовь к своей стране, чувство гордости за свою  Родину с её историей, неповторимой красотой природы, развивать культурно-нравственные познавательные качества личности дошкольн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9999"/>
                </a:solidFill>
                <a:uFillTx/>
                <a:latin typeface="Times New Roman"/>
              </a:rPr>
              <a:t>Задачи</a:t>
            </a:r>
            <a:r>
              <a:rPr b="1" i="1" lang="en-US" sz="1200" spc="-1" strike="noStrike">
                <a:solidFill>
                  <a:srgbClr val="009999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- учить ориентироваться на карте Республики Карел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- обобщить и систематизировать знания детей о Карелии: о достопримечательностях, о животном и растительном мире; о водоемах Карел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- </a:t>
            </a:r>
            <a:r>
              <a:rPr b="1" i="1" lang="en-US" sz="1200" spc="-1" strike="noStrike" u="sng">
                <a:solidFill>
                  <a:srgbClr val="009999"/>
                </a:solidFill>
                <a:uFillTx/>
                <a:latin typeface="Times New Roman"/>
              </a:rPr>
              <a:t>активизировать словарь детей за счет имен существительных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: карьер, заповедник, тайга, водопад и т. 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- воспитывать уважительное отношение к государственным символам Карелии, наследию карельского нар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9999"/>
                </a:solidFill>
                <a:uFillTx/>
                <a:latin typeface="Times New Roman"/>
              </a:rPr>
              <a:t>Виды детской деятельности</a:t>
            </a:r>
            <a:r>
              <a:rPr b="1" i="1" lang="en-US" sz="1200" spc="-1" strike="noStrike">
                <a:solidFill>
                  <a:srgbClr val="009999"/>
                </a:solidFill>
                <a:latin typeface="Times New Roman"/>
              </a:rPr>
              <a:t>: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коммуникативная, познавательная, речева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9999"/>
                </a:solidFill>
                <a:uFillTx/>
                <a:latin typeface="Times New Roman"/>
              </a:rPr>
              <a:t>Оборудование</a:t>
            </a:r>
            <a:r>
              <a:rPr b="1" i="1" lang="en-US" sz="1200" spc="-1" strike="noStrike">
                <a:solidFill>
                  <a:srgbClr val="009999"/>
                </a:solidFill>
                <a:latin typeface="Times New Roman"/>
              </a:rPr>
              <a:t>: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Ноутбук, телевизор, рюкзак, компас, походный котелок, теплая одежда, обруч, на каждого ребенка и родителя: лоскут ткани белого цвета, цветной лоскут ткани, нитк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Улицы города Долгопрудного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505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Формирование познавательной активности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дачи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Формировать представления детей о понятии «улица»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Активизировать словарь, через ответы на вопросы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Воспитывать интерес к родному городу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атериал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Презентация «улицы моего города», игрушка Кот, раскрас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267080" y="1447920"/>
            <a:ext cx="43434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крытое занятие «Колядк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Цел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 Создать условия для ознакомления детей с традициями и обычаями Рождественских 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колядок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Приобщать детей к истокам русской народной культуры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и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 Дать знания о происхождении 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праздни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762120" y="3067200"/>
            <a:ext cx="434340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04920" y="1523880"/>
            <a:ext cx="3933720" cy="4457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4495680" y="1676520"/>
          <a:ext cx="4114800" cy="190008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</a:tblGrid>
              <a:tr h="689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ите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ец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сформирова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дии формиро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ормиров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 flipV="1" rot="10800000">
            <a:off x="6246360" y="6101640"/>
            <a:ext cx="35830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Вывод: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ализ результатов диагностики позволяет сделать вывод о том, что наблюдается положительная динамика в формировании у детей бережного отношения к природе родного края, окружающему миру, родному городу, малой Родине. Продолжить работу с детьми по теме "Формирование нравственно-патриотических чувств у детей дошкольного возраста через воспитание любви к родному краю ". Углублять и систематизировать знания детей по разделу: воспитывать любовь и привязанность  к близким людям, стремление заботиться о них; к своему родному городу, восхищаться его красотой; вызвать чувство гордости за свою страну, интерес к её истории; уважение к людям труда, формировать ценностное отношение к природе родного края, окружающему ми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должить взаимодействие с родителями и педагогами по теме «Формирование нравственно-патриотических чувств у детей дошкольного возраста через воспитание любви к родному краю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ониторин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rcRect l="0" t="0" r="36" b="34"/>
          <a:stretch/>
        </p:blipFill>
        <p:spPr>
          <a:xfrm>
            <a:off x="228600" y="1447920"/>
            <a:ext cx="2819520" cy="30016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838080" y="4921200"/>
            <a:ext cx="58676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Количество детей на начало учебного года: 26, конец учебного года:2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проведении диагностики детей в подготовительной группе №10  в 2019-2020 учебном году были получены следующие результат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505320" y="1600200"/>
          <a:ext cx="5314680" cy="1341360"/>
        </p:xfrm>
        <a:graphic>
          <a:graphicData uri="http://schemas.openxmlformats.org/drawingml/2006/table">
            <a:tbl>
              <a:tblPr/>
              <a:tblGrid>
                <a:gridCol w="1771560"/>
                <a:gridCol w="1771560"/>
                <a:gridCol w="177156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ите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ец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сформирова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дии формиро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ормиров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нализ результатов диагностики позволяет сделать вывод о том, что наблюдается положительная динамика в формировании у детей бережного отношения к природе родного края, окружающему миру, родному городу, малой Родине. Продолжить работу с детьми по теме "Формирование нравственно-патриотических чувств у детей дошкольного возраста через воспитание любви к родному краю ". Углублять и систематизировать знания детей по разделу: воспитывать любовь и привязанность  к близким людям, стремление заботиться о них; к своему родному городу, восхищаться его красотой; вызвать чувство гордости за свою страну, интерес к её истории; уважение к людям труда, формировать ценностное отношение к природе родного края, окружающему ми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должить взаимодействие с родителями и педагогами по теме «Формирование нравственно-патриотических чувств у детей дошкольного возраста через воспитание любви к родному краю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3048120" cy="25909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3505320" y="1600200"/>
            <a:ext cx="38098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Сроки и реализация проект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СРОКИ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Долгосроч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РЕАЛИЗАЦИЯ ПРОЕК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формировать у детей представления о Родине, о родной стране, её истории и традициях; развить познавательные способности, интерес к исследовательской деятельности, обогатить словарь детей, творческую активность детей и родителей; воспитать любознательность, патриотические чувства у ребенка, желание быть смелым, сильным и выносливым;  участвовать детям в выставках, конкурсах, спортивных и музыкальных мероприятиях, других видах 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улучшить работу по взаимодействию с родителями, активизировать родителей как участников педагогического процесса в группе детского са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Этапы проек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9999"/>
                </a:solidFill>
                <a:uFillTx/>
                <a:latin typeface="Times New Roman"/>
              </a:rPr>
              <a:t>I этап – подготовительны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Постановка и выявление проблем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Набор диагностического материала и выявление уровня  сформированности нравственно-патриотических чувств у дете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Изучение методической и специальной литературы по данной тем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Оформление уголков по патриотическому воспитанию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Анкетирование родителе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Диагностическое обследование дет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000" y="121896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9999"/>
                </a:solidFill>
                <a:uFillTx/>
                <a:latin typeface="Times New Roman"/>
              </a:rPr>
              <a:t>II этап – основ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Апробация методов и приемов по решению поставленных задач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Разработка и проведение ООД с учетом выделенной проблем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Составление планов, конспектов, наглядных пособий, презентац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Сюжетно-ролевые, дидактические, подвижные игр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Составление альбомов: «Герб моей семьи», «Семья – ключик к счастью», «Генеалогическое древо семьи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Чтение художественной литератур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Прослушивание музыкальных произведен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Конструирование и продуктивная деятельность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Экскурсия в детский сад №10 музей «Русская изба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Сбор собственного материала по выбранной тем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Оформление выставо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9999"/>
                </a:solidFill>
                <a:uFillTx/>
                <a:latin typeface="Times New Roman"/>
              </a:rPr>
              <a:t>III этап – итогов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Презентация проект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Выставки творческих работ детей и родите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Обеспечение проек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Подбор наглядного материала (презентаци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Подбор художественной литератур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Подбор произведений и наглядного материала русского народного творче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Изготовление дидактических, настольных и сюжетно-ролевых иг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Выставки книг, рисунков, подело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Создание условий для проведения открытых мероприятий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Методические разработки (перспективный план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Интерес детей и вовлечение родител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Создание предметно-развивающей сре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АКТУАЛЬНОСТЬ ПРОЕКТ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Чувство Родины… Оно начинается у ребенка с отношения к семье, к самым близким людям – к матери, отцу, бабушке, дедушке. Это корни связывающие его с родным домом и ближайшим окружени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Чувства Родины начинается с восхищения тем, что видит перед собой малыш, чему он изумляется и что вызывает отклик в его душе… И хотя многие впечатления еще не осознаны им глубоко, но, пропущенные через детское восприятие, они играют огромную роль в становлении личности патрио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Прежде чем ребенок начнет воспринимать себя как гражданина, ему нужно помочь в создании своего собственного «Я», своей семьи, своих корней – того, что близко, знакомо и понятн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Особое место в образовательном процессе занимает культура – носитель ценностей народа, отображающая его традиции, нравы, образ жизни многих поколений. Народная культура является живой связующей нитью между поколениями, объединяет прошлое, настоящее и будущее. Её отстранённость от воспитания приводит к распаду социума и лич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Воспитание патриотизма является неотъемлемой частью системы образования. Любовь к Отчизне начинается с любви к своей малой Родине – месту, где родился человек. Огромную роль в становлении личности ребенка играет любовь к близким людям, к родному городу и родной стран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В ходе реализации проекта у детей формируются патриотические чувства, связывающие разные поколения, представления о нравственных ценностях (честь, семья, добро, совесть, верность); чувства любви к Родине; ; знания о родном городе Электростали (история, символика, достопримечательности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В нашем детском саду ежегодно дети с родителями принимают участие в конкурсах, выставках творческих работ, спортивных мероприятиях, фестивалях «Росинки», театрализованных представления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Капустные посидел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1600" spc="-1" strike="noStrike">
                <a:solidFill>
                  <a:srgbClr val="009999"/>
                </a:solidFill>
                <a:latin typeface="Times New Roman"/>
              </a:rPr>
              <a:t>Цель: 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Формирование у детей старшего дошкольного возраста духовно-нравственных чувств посредством знакомства с русской народной культур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9999"/>
                </a:solidFill>
                <a:latin typeface="Times New Roman"/>
              </a:rPr>
              <a:t>     </a:t>
            </a:r>
            <a:r>
              <a:rPr b="1" i="1" lang="ru-RU" sz="1600" spc="-1" strike="noStrike">
                <a:solidFill>
                  <a:srgbClr val="009999"/>
                </a:solidFill>
                <a:latin typeface="Times New Roman"/>
              </a:rPr>
              <a:t>Задачи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1. Знакомить детей с народными обычаями, развивать творческую активность и артистизм. 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2. Расширить и закрепить представления об осени, урожае, сезонных изменениях в природ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3. Приобщать детей к народному творчеству через шутки, потешки, игры, хороводы, народные костю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4. Устанавливать преемственные связи между семьёй и ДО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1981080" cy="2133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629400" y="1600200"/>
            <a:ext cx="2057400" cy="2133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5105520" y="3733920"/>
            <a:ext cx="3352680" cy="2361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5105520" y="3733920"/>
            <a:ext cx="335268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«Моя семья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99"/>
                </a:solidFill>
                <a:latin typeface="Times New Roman"/>
              </a:rPr>
              <a:t>Программное содержани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- учить понимать основы взаимоотношений с родителями, бабушками, дедушками и другими близкими людьм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- понимать общественное значение труда взрослы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- расширить и уточнить представление детей о различных профессия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- воспитывать в детях уважение к повседневному труду родителей, их жизненному опыт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- вызвать в детях потребность радовать своих близких добрыми делами и заботливым отношением к ни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- использовать музыкальное сопровождение для создания радостного и приподнятого настроения от занят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Для ребенка семья-это среда, в которой складываются условия его физического, психического, эмоционального и интеллектуального развит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D:\ЭЛИЗА\Бастрыгина Е.Н. аттестация\2.6 Проектная деятельность\проект моя радословная\IMG-20191003-WA0053.jpg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209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6629400" y="3962520"/>
            <a:ext cx="2057400" cy="2143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4648320" y="3962520"/>
            <a:ext cx="19810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Мастер-класс в подготовительной группе «Народная кукла Сорока-Ворон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9999"/>
                </a:solidFill>
                <a:latin typeface="Arial"/>
              </a:rPr>
              <a:t>Цель: 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приобщение  к традициям русского народа через изготовление традиционной обрядовой куклы «Сорока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9999"/>
                </a:solidFill>
                <a:latin typeface="Arial"/>
              </a:rPr>
              <a:t>Задач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Изготовить обрядовую куклу «Сорока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развитие  мелкой  моторики рук, усидчивость, внимание, глазомер и умение работать с лоскутами ткани, фантазию и воображени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воспитывать интерес к культуре своего народа и бережное отношение к кукле.       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9999"/>
                </a:solidFill>
                <a:latin typeface="Arial"/>
              </a:rPr>
              <a:t>Методы обучения: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 объяснительно-иллюстративный, наглядный, практическ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9999"/>
                </a:solidFill>
                <a:latin typeface="Arial"/>
              </a:rPr>
              <a:t>Форма занятия: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 мастер-клас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9999"/>
                </a:solidFill>
                <a:latin typeface="Arial"/>
              </a:rPr>
              <a:t>Оборудование и материалы: 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компьютер, проектор, презентация к занятию, лоскуты цветной и белой х/б ткани, цветная нитки, ножниц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403848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800600" y="1523880"/>
            <a:ext cx="1981080" cy="2521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5257800" y="4267080"/>
            <a:ext cx="3467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19T20:13:58Z</dcterms:created>
  <dc:creator>bastr</dc:creator>
  <dc:description/>
  <dc:language>en-US</dc:language>
  <cp:lastModifiedBy>HP</cp:lastModifiedBy>
  <dcterms:modified xsi:type="dcterms:W3CDTF">2023-01-24T21:09:24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00c0000000000010292010207f7000400038000</vt:lpwstr>
  </property>
  <property fmtid="{D5CDD505-2E9C-101B-9397-08002B2CF9AE}" pid="3" name="Version">
    <vt:r8>1</vt:r8>
  </property>
</Properties>
</file>