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299-B0CA-4C1D-8024-20E15688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478-1FF9-46FA-8B00-3607A078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D8D-41E7-4CBC-9118-E9461024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6C4-EDE2-4C71-BF93-E1571CFA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A43-890D-414B-B752-CD0B9ADC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16F-9294-44A5-9232-F87921D6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5F1-A675-4A09-A56F-1770EEF2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CED-BAA8-43EF-B018-EF3A530D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6BC-175D-4773-9D33-AF05F720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9A9-2118-46FF-82E9-C9E34AB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F5F-F588-4302-8921-5DEBA84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4EC-91BD-4E2A-AA76-3912E17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E4AB-C4B4-4EE7-9C68-753475B6C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группе №1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Россия, мы дети тво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38858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фрина Е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стрыгина Е.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" y="228240"/>
            <a:ext cx="8611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номное дошкольное образовательное учреждение муницип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я г. Долгопру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ский сад комбиниров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 «Антош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Лепка из соленого теста «День Жаворонка»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младшая групп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Ц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у детей обобщённых представлений о вес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общать детей к традициям и календарно-обрядовым праздникам русского народа и стимулировать к ним интер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создать условия для ознакомления детей с признаками ве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создать условия для обогащения словаря по тем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создать условия для развития познавательного интереса.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197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 Познакомить со старинной технологией лепки жаворонков-веснянок. Продолжать учить работать с тес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 Развивать творческое воображение, стойкий интерес к продуктивной деятельности. Развивать мелкую моторику пальцев рук и ки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 Воспитывать эстетический вкус, умение видеть красоту природы, бережно относиться к птиц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бразовательные области: «Художественно – эстетическое развитие», «социально – коммуникативное развитие», «познавательное развитие», «речевое развитие», «физическое развитие»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45338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191120" y="5334120"/>
            <a:ext cx="1295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осуг в младшей группе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«Маслениц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Цель: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накомство детей с русским народным праздником Масленицей, посвященным концу зи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Задачи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 Знакомить с русским народным праздником Масленица, ее значением, символами, традициями, знакомить детей с обрядами масленичной недели и праздничной кухней, знакомство с народными играми, развитие непосредственного эмоционального восприятия. Воспитывать уважительное отношение к традициям русского народа; любовь к родному кр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астие в муниципальном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курсе народной современной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гры «Радость» с народной игрой «Домов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Цель.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общение детей старшего дошкольного возраста к русским народным традициям посредством подвижных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разовательные: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должать знакомить детей с русскими народными игр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общать детей к народному творчеству, русской культуре, развивать чувство юмора, воображение, смекал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1981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«Никита Водопол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Цель: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общение детей к обычаям и традициям русского на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Знакомство с элементарными представлениями о русских народных праздник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Расширение знаний детей о народных традиц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Продолжать учить говорить полным предлож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Обогащение слов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Развитие внимания, мышления,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Активизация речи, побуждение к высказывани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Развитие навыков связной р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Воспитание нравственных чувств и этического сознания: отзывчивость, доброту, сочувств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Оборудование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Компьютер, платок для игры, бус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161928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934320" y="160020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4038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Мастер класс для воспитателей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Изготовление народной куклы «Сорока-воро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приобщение  к традициям русского народа через изготовление традиционной обрядовой куклы «Соро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готовить обрядовую куклу «Сорок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 мелкой  моторики рук, усидчивость, внимание, глазомер и умение работать с лоскутами ткани, фантазию и вообра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ывать интерес к культуре своего народа и бережное отношение к кук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105520" y="4191120"/>
            <a:ext cx="28954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105520" y="1600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«День России» занятие в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младшей групп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Цель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 Воспитывать любовь и уважение к своей Родине, патриотические чувства у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Задачи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асширять знания детей о символике России (флаг, герб, гимн, о празднике День России); дать знания о праздновании праздника Дня России; приобщать детей к всенародным праздникам; формировать чувство любви и гордости к своей Ро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«Народы Росси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Цель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 Расширение знаний детей о Ро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Задачи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знакомить детей с разными народами, населяющими Россию. Побуждать детей уважительно относиться к культуре разных народов, любоваться образцами народно-прикладного творчества. Формировать чувство гордости за Родину, поддерживать интерес к истории и культуре России и народов, её населяющ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Обогащать словарный запас детей</a:t>
            </a:r>
            <a:r>
              <a:rPr b="1" i="1" lang="en-US" sz="1600" spc="-1" strike="noStrike">
                <a:solidFill>
                  <a:srgbClr val="009999"/>
                </a:solidFill>
                <a:latin typeface="Times New Roman"/>
              </a:rPr>
              <a:t>: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одина, Российская Федерация, россияне, тюбетей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200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утешествие к героям Славянской ми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Путешествие к героям Славянской мифологии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: познакомить детей с героями мифов древних славян, формировать понимание слова «предки», понимание того, что Россия – страна с большой многовековой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ять знания детей о мифах и преданиях древних славян, их геро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вать связную речь, речевой слух, общие речевые навыки  (звукопроизношение, четкость дикции, интонационную выразительность речи). Формировать импрессивную речь и словарь детей по тем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вать у детей внимание, выдержку, выносливость, координацию движений, вообр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ть навыки сотрудничества, доброжелательности, инициативности, ответственности, самостоятельности, соревновательные качества, чувства взаимовыручки и поддержки. Формировать интерес к чтению художествен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итывать интерес к истории Родины, чувства гордости за русский на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39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«Мой любимый Долгопрудный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Цель: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ормирование нравственно-патриотических качеств у дошкольников; воспитание чувства любви к своему го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расширять представления детей о малой Родине на основе знакомства с городом, в котором они жив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Уточнить знания о своем городе, его достопримечательнос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Развивать творческие, композиционные способности, вооб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. Воспитывать любовь к родному го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Интеграция образовательных областей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Познавательное развитие», «Социально – коммуникативное развитие», «Художественно-эстетическое развитие», «Физическое развит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984920" y="1295280"/>
            <a:ext cx="3363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Игра-путешествие в средней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группе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«Озеро Байка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Форма проведения</a:t>
            </a:r>
            <a:r>
              <a:rPr b="1" i="1" lang="en-US" sz="12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 игра-путеше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озрастная группа: средняя груп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Цель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продолжать формировать знания детей среднего дошкольного возраста о Байкальских животных (нерпе, и о важности чистой воды в при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Задачи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Образовательные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.Совершенствовать знания о свойствах воды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не имеет цвета, запаха, пресная, соле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Формировать у детей целостное представление об уникальных животных озера Байк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Развивающие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Формирование активного словаря у детей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нерпа, бел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Мотивировать познавательную деятельность детей средствами эксперимент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. Развивать любознательность, мышление и речь детей; умение делать простейшие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Воспитательные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. Формировать умение работать в коллективе, группе; координировать свои действия с действиями других детей, принимать их точку з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Воспитывать бережное отношение к окружающему миру, желание беречь и сохранять красоту природы и чистоту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. Воспитывать аккуратность в работе, настойчивость, терпение, умение доводить начатое дело до ко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Образовательная область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: познавательное разви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Основные виды детской деятельности</a:t>
            </a:r>
            <a:r>
              <a:rPr b="1" i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Познавательно – исследовательская деятельность, коммуникативная, двигательна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235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оссия, мы дети твои!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Цели и задачи про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5720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ИД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знавательный, творческий, информационный, игровой, групп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Дети младшего ,среднего и старшего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Н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Дети, воспитатели, род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равственно-патриотическое развитие личности дошкольника, взаимодействии ДОУ и семьи; формирование и систематизация представлений о Родине, её истории, национально-культурных традициях, о символах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99"/>
                </a:solidFill>
                <a:uFillTx/>
                <a:latin typeface="Times New Roman"/>
              </a:rPr>
              <a:t>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1. Вызвать у детей чувство восхищения и восторга красотой своей Род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2.Воспитывать патриотические чувства, связывающие разные поко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3. Формирование первоначальных представлений о нравственных ценностях (семья, любовь, добро, совесть, верность, че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. Познакомить детей с символами государства (герб, флаг, гим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5.Формировать чувства любви к малой Родине на основе изучения национальных культурных трад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6. Дать знания детям о родном городе: история, символика, достопримеча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7. Развивать интерес к русским традициям и промыслам, воспитывать трудолюбие, уважение к  труду и бережное отношение к результатам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.Развивать познавательный интерес, психические процессы, мелкую моторику, коммуникативные навыки, делая акцент на гендерную принадлеж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9.Способствовать развитию самостоятельности в достижении результ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нятие путешествие для детей и родителей «Карелия».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астер-класс для родителей и детей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Кукла-пелена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Цель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познакомить детей с историей возникновения Карелии, воспитывать у детей любовь к своей стране, чувство гордости за свою  Родину с её историей, неповторимой красотой природы, развивать культурно-нравственные познавательные качества личности дошк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Задачи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учить ориентироваться на карте Республики Карел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обобщить и систематизировать знания детей о Карелии: о достопримечательностях, о животном и растительном мире; о водоемах Карел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активизировать словарь детей за счет имен существительных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: карьер, заповедник, тайга, водопад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воспитывать уважительное отношение к государственным символам Карелии, наследию карель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Виды детской деятельности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коммуникативная, познавательная, речев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9999"/>
                </a:solidFill>
                <a:uFillTx/>
                <a:latin typeface="Times New Roman"/>
              </a:rPr>
              <a:t>Оборудование</a:t>
            </a:r>
            <a:r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Ноутбук, телевизор, рюкзак, компас, походный котелок, теплая одежда, обруч, на каждого ребенка и родителя: лоскут ткани белого цвета, цветной лоскут ткани, нит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Улицы города Долгопрудног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Формирование познавательной активности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Формировать представления детей о понятии «улица»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Активизировать словарь, через ответы на вопрос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ывать интерес к родному городу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риал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резентация «улицы моего города», игрушка Кот, раскра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крытое занятие «Коляд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Создать условия для ознакомления детей с традициями и обычаями Рождественских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лядо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Приобщать детей к истокам русской народной культур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Дать знания о происхождении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зд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306720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33720" cy="445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495680" y="1676520"/>
          <a:ext cx="4114800" cy="1900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68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формиров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дии форм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V="1" rot="10800000">
            <a:off x="6246360" y="6101640"/>
            <a:ext cx="3583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вод: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результатов диагностики позволяет сделать вывод о том, что наблюдается положительная динамика в формировании у детей бережного отношения к природе родного края, окружающему миру, родному городу, малой Родине. Продолжить работу с детьми по теме "Формирование нравственно-патриотических чувств у детей дошкольного возраста через воспитание любви к родному краю ". Углублять и систематизировать знания детей по разделу: воспитывать любовь и привязанность  к близким людям, стремление заботиться о них; к своему родному городу, восхищаться его красотой; вызвать чувство гордости за свою страну, интерес к её истории; уважение к людям труда, формировать ценностное отношение к природе родного края, окружающему ми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ь взаимодействие с родителями и педагогами по теме «Формирование нравственно-патриотических чувств у детей дошкольного возраста через воспитание любви к родному кра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0" t="0" r="36" b="34"/>
          <a:stretch/>
        </p:blipFill>
        <p:spPr>
          <a:xfrm>
            <a:off x="228600" y="1447920"/>
            <a:ext cx="2819520" cy="3001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4921200"/>
            <a:ext cx="5867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детей на начало учебного года: 26, конец учебного года:2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дении диагностики детей в подготовительной группе №10  в 2019-2020 учебном году были получены следующие результа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05320" y="1600200"/>
          <a:ext cx="5314680" cy="134136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15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формиров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дии форм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лиз результатов диагностики позволяет сделать вывод о том, что наблюдается положительная динамика в формировании у детей бережного отношения к природе родного края, окружающему миру, родному городу, малой Родине. Продолжить работу с детьми по теме "Формирование нравственно-патриотических чувств у детей дошкольного возраста через воспитание любви к родному краю ". Углублять и систематизировать знания детей по разделу: воспитывать любовь и привязанность  к близким людям, стремление заботиться о них; к своему родному городу, восхищаться его красотой; вызвать чувство гордости за свою страну, интерес к её истории; уважение к людям труда, формировать ценностное отношение к природе родного края, окружающ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олжить взаимодействие с родителями и педагогами по теме «Формирование нравственно-патриотических чувств у детей дошкольного возраста через воспитание любви к родному кра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04812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505320" y="160020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роки и реализация проек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СРОК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лгосроч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РЕАЛИЗАЦИЯ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формировать у детей представления о Родине, о родной стране, её истории и традициях; развить познавательные способности, интерес к исследовательской деятельности, обогатить словарь детей, творческую активность детей и родителей; воспитать любознательность, патриотические чувства у ребенка, желание быть смелым, сильным и выносливым;  участвовать детям в выставках, конкурсах, спортивных и музыкальных мероприятиях, других видах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лучшить работу по взаимодействию с родителями, активизировать родителей как участников педагогического процесса в групп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Этапы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Times New Roman"/>
              </a:rPr>
              <a:t>I этап – подготовитель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остановка и выявление пробле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Набор диагностического материала и выявление уровня  сформированности нравственно-патриотических чувств у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Изучение методической и специальной литературы по данной тем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формление уголков по патриотическому воспитан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Анкетирование родите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Диагностическое обследование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Times New Roman"/>
              </a:rPr>
              <a:t>II этап – основ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Апробация методов и приемов по решению поставленных задач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Разработка и проведение ООД с учетом выделенной пробле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оставление планов, конспектов, наглядных пособий, презента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южетно-ролевые, дидактические, подвижные иг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оставление альбомов: «Герб моей семьи», «Семья – ключик к счастью», «Генеалогическое древо семь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тение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ослушивание музыкальных произвед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Конструирование и продуктивная деятель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Экскурсия в детский сад №10 музей «Русская изба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бор собственного материала по выбранной тем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формление выстав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9999"/>
                </a:solidFill>
                <a:uFillTx/>
                <a:latin typeface="Times New Roman"/>
              </a:rPr>
              <a:t>III этап – итого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езентация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 детей и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беспечение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дбор наглядного материала (презент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дбор художественной литер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дбор произведений и наглядного материала русского народного твор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зготовление дидактических, настольных и сюжетно-ролевых иг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ыставки книг, рисунков, подел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проведения открытых мероприятий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етодические разработки (перспективный пл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нтерес детей и вовлечение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оздание предметно-развив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КТУАЛЬНОСТЬ ПРО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увство Родины… Оно начинается у ребенка с отношения к семье, к самым близким людям – к матери, отцу, бабушке, дедушке. Это корни связывающие его с родным домом и ближайшим окру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увства Родины начинается с восхищения тем, что видит перед собой малыш, чему он изумляется и что вызывает отклик в его душе… И хотя многие впечатления еще не осознаны им глубоко, но, пропущенные через детское восприятие, они играют огромную роль в становлении личности патри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ежде чем ребенок начнет воспринимать себя как гражданина, ему нужно помочь в создании своего собственного «Я», своей семьи, своих корней – того, что близко, знакомо и поня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собое место в образовательном процессе занимает культура – носитель ценностей народа, отображающая его традиции, нравы, образ жизни многих поколений. Народная культура является живой связующей нитью между поколениями, объединяет прошлое, настоящее и будущее. Её отстранённость от воспитания приводит к распаду социума 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оспитание патриотизма является неотъемлемой частью системы образования. Любовь к Отчизне начинается с любви к своей малой Родине – месту, где родился человек. Огромную роль в становлении личности ребенка играет любовь к близким людям, к родному городу и родной стр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 ходе реализации проекта у детей формируются патриотические чувства, связывающие разные поколения, представления о нравственных ценностях (честь, семья, добро, совесть, верность); чувства любви к Родине; ; знания о родном городе Электростали (история, символика, достопримечательност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 нашем детском саду ежегодно дети с родителями принимают участие в конкурсах, выставках творческих работ, спортивных мероприятиях, фестивалях «Росинки», театрализованных представл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апустные посидел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9999"/>
                </a:solidFill>
                <a:latin typeface="Times New Roman"/>
              </a:rPr>
              <a:t>Цель: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ормирование у детей старшего дошкольного возраста духовно-нравственных чувств посредством знакомства с русской народной культу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99"/>
                </a:solidFill>
                <a:latin typeface="Times New Roman"/>
              </a:rPr>
              <a:t>     </a:t>
            </a:r>
            <a:r>
              <a:rPr b="1" i="1" lang="ru-RU" sz="1600" spc="-1" strike="noStrike">
                <a:solidFill>
                  <a:srgbClr val="009999"/>
                </a:solidFill>
                <a:latin typeface="Times New Roman"/>
              </a:rPr>
              <a:t>Задач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 Знакомить детей с народными обычаями, развивать творческую активность и артистизм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. Расширить и закрепить представления об осени, урожае, сезонных изменениях в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 Приобщать детей к народному творчеству через шутки, потешки, игры, хороводы, народные костю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. Устанавливать преемственные связи между семьёй и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205740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3352680" cy="236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3352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Моя семья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Программное содерж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учить понимать основы взаимоотношений с родителями, бабушками, дедушками и другими близкими людь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понимать общественное значение труда взросл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расширить и уточнить представление детей о различных професс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воспитывать в детях уважение к повседневному труду родителей, их жизненному оп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вызвать в детях потребность радовать своих близких добрыми делами и заботливым отношением к ни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 использовать музыкальное сопровождение для создания радостного и приподнятого настроения от зан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Для ребенка семья-это среда, в которой складываются условия его физического, психического, эмоционального и интеллектуального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D:\ЭЛИЗА\Бастрыгина Е.Н. аттестация\2.6 Проектная деятельность\проект моя радословная\IMG-20191003-WA0053.jpg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205740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астер-класс в подготовительной группе «Народная кукла Сорока-Воро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Цель: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общение  к традициям русского народа через изготовление традиционной обрядовой куклы «Сорок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зготовить обрядовую куклу «Сорока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развитие  мелкой  моторики рук, усидчивость, внимание, глазомер и умение работать с лоскутами ткани, фантазию и вообра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оспитывать интерес к культуре своего народа и бережное отношение к кукле.  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Методы обучения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объяснительно-иллюстративный, наглядный, практичес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Форма занятия: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мастер-клас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Оборудование и материалы: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мпьютер, проектор, презентация к занятию, лоскуты цветной и белой х/б ткани, цветная нитки, ножн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198108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46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9T20:13:58Z</dcterms:created>
  <dc:creator>bastr</dc:creator>
  <dc:description/>
  <dc:language>en-US</dc:language>
  <cp:lastModifiedBy>HP</cp:lastModifiedBy>
  <dcterms:modified xsi:type="dcterms:W3CDTF">2023-01-24T21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92010207f7000400038000</vt:lpwstr>
  </property>
  <property fmtid="{D5CDD505-2E9C-101B-9397-08002B2CF9AE}" pid="3" name="Version">
    <vt:r8>1</vt:r8>
  </property>
</Properties>
</file>