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7080" y="812520"/>
            <a:ext cx="711828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8C71C-9737-441A-8227-06011EE95F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7EBAE-4059-46A8-BE6E-06B97C8F52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A1E91-A7B7-4F55-A0DD-5D7457A084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63896-A6CA-4076-873D-089473F045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1520" cy="40068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74B2A-6787-44B0-AFE6-172152FD8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6F8C4-2E0B-4F09-975C-AE3D1AB946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6F483-2D45-4883-A2C2-6AB1D7AC2A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7440" y="814320"/>
            <a:ext cx="7128000" cy="40100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63637-AFBC-4222-8CE0-932510A8E4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E6E42-0D09-4E8D-A72B-9BDC6B2755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D78C9-4DFB-47AC-BBF0-7FEBFEDBE6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4AD41-3C57-42E3-B9D4-E0A16EBF7A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486BC-E3DC-447C-BDD2-1B6FB12DF8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19676-7A99-40B0-995D-6EA6CF5A44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219240" y="812880"/>
            <a:ext cx="7116480" cy="4005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32E8-1B24-41BD-91D5-37667AD35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0280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8E76-5C1A-4CC9-A99E-F45C9E36A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52E1-5328-473B-90B8-FA426227C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CFFF-1EBD-41EF-B0DA-8E751F7D07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601E-CE89-47DC-98A6-8D72F091D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F1EF-8EDA-46D3-96BB-B23D98CAD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C113-61F4-4A56-9A18-DE5F2AE7E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3A3F-ECC4-416D-AE96-A3018D6DB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593360"/>
            <a:ext cx="822492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0D69-284F-417C-B98E-EDCAF52AB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AF23-ADC6-45BF-AFDC-781BE0E5B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E948-9F8D-4769-8C19-238077DEB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23D3-2799-42F3-9950-16CA72C9E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3949560"/>
            <a:ext cx="9144000" cy="1194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40000"/>
          </a:bodyPr>
          <a:p>
            <a:pPr marL="137160" indent="0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57200" y="4686480"/>
            <a:ext cx="21286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4880" y="4686480"/>
            <a:ext cx="212544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AB134-77F4-4FB8-A65F-845B849192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14240" y="1001880"/>
            <a:ext cx="77742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81d32"/>
                </a:solidFill>
                <a:latin typeface="Arial"/>
              </a:rPr>
              <a:t>Культура предпринимательства. Корпоративная этик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3040" y="2913120"/>
            <a:ext cx="6400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t">
            <a:noAutofit/>
          </a:bodyPr>
          <a:p>
            <a:pPr algn="r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481d32"/>
                </a:solidFill>
                <a:latin typeface="Arial"/>
              </a:rPr>
              <a:t>преподаватель: Переверзева Н.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69880" y="1571760"/>
            <a:ext cx="8228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903240" y="203040"/>
            <a:ext cx="74502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69880" y="428760"/>
            <a:ext cx="8231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81d32"/>
                </a:solidFill>
                <a:latin typeface="Arial"/>
              </a:rPr>
              <a:t>Культура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31760" y="1430280"/>
            <a:ext cx="907884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16000" y="1224000"/>
            <a:ext cx="89265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 это определенная, сложившаяся совокупность принципов, приемов, методов осуществления предпринимательской деятельности субъектами в соответствии с действующими  правовыми нормами (законами, нормативными актами), обычаями делового оборота, этическими и нравственными правилами, нормами поведения при осуществлении цивилизованного бизн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32880" y="1595160"/>
            <a:ext cx="829476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66000"/>
          </a:bodyPr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законность, строгое соблюдение правовых нор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непременное выполнение обязательств и обязанностей, вытекающих из правовых актов, договорных отношений и совершаемых сделок, не нанесение  имущественного и морального вреда партнерам, конкурентам, потребителям,  работни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честное ведение своего бизнеса (честное отношение к людям, потребителям, партнерам, государств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соблюдение этических нор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057320" y="403200"/>
            <a:ext cx="7597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269"/>
                </a:solidFill>
                <a:latin typeface="Arial"/>
              </a:rPr>
              <a:t>Всеобщие элементы культуры предпринимательской деятель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1280" y="144000"/>
            <a:ext cx="784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Предпринимательская этика и этике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31640" y="1000080"/>
            <a:ext cx="826164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этика — одна из сложных проблем формирования культуры цивилизованного предприниматель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истема моральных и нравственных норм, включая общеобяз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поведения людей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1100160" y="936720"/>
            <a:ext cx="81882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принимательская этика проявляется в таких категориях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ность данному слову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ринятому на себя обязательству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моральной ответственности за невыполнение установленных правовыми нормами обязанност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ому роду человеческой деятельности (научной, педагогической, художественной и т.д.) соответствуют определенные виды профессиональной эти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52200"/>
            <a:ext cx="822456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бы овладеть навыками корректного поведения, нужно соблюда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редставления и знаком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роведения деловых контак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оведения на переговор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 к внешнему облику, манерам, деловой одеж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 к реч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ультуру служебных документов и другие эле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ринимательского этикета, который является составной ч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ринимательской э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863640" y="576360"/>
            <a:ext cx="806436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деловой эти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е имя лучше богатства”, — часто говорили сами куп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знали, что богатство неизменно приходит вслед за репутац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еческое слово в былые времена являлось высшей гарантией, поскольку за ним стояла честь русского купца. От туда и поговорка: «Уговор дороже денег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 честь в традиции русского купечества восходила к православному  старообрядческому поним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оговора заключались, как правило устно, на честном купеческом сло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216000" y="795240"/>
            <a:ext cx="885672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ом честности и принципиальности в купеческой среде может служить промышленник Четвериков, который разыскивал кредиторов своего отца, для того, чтобы отдать им долг за сделку 30-летней да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тому же, купеческие семьи влиятельных фамилий всегда интересовались происхождением капитала своих партнёров по бизнесу.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ремя событий IX-XX веков, в России полностью исчезло высшее купеческое сословие со своими принципами, обычаями, писаными и неписаными законами, когда одним рукопожатием могли заключаться миллионные сдел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любые сделки оформляются документа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0T10:57:34Z</dcterms:created>
  <dc:creator/>
  <dc:description/>
  <dc:language>en-US</dc:language>
  <cp:lastModifiedBy>Пользователь Windows</cp:lastModifiedBy>
  <dcterms:modified xsi:type="dcterms:W3CDTF">2023-01-25T11:47:04Z</dcterms:modified>
  <cp:revision>19</cp:revision>
  <dc:subject/>
  <dc:title>Blue Curve</dc:title>
</cp:coreProperties>
</file>