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5145088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AutoShape 2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217080" y="812520"/>
            <a:ext cx="7118280" cy="400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Click to move the slide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5"/>
          <p:cNvSpPr/>
          <p:nvPr/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Text Box 6"/>
          <p:cNvSpPr/>
          <p:nvPr/>
        </p:nvSpPr>
        <p:spPr>
          <a:xfrm>
            <a:off x="4278240" y="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Text Box 7"/>
          <p:cNvSpPr/>
          <p:nvPr/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Num" idx="2"/>
          </p:nvPr>
        </p:nvSpPr>
        <p:spPr>
          <a:xfrm>
            <a:off x="4278240" y="10156320"/>
            <a:ext cx="327672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F55D51-AD87-4C34-B646-8B4A82B9D92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6710F3-F58F-4BDD-81F2-48B04CCA13E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Text Box 1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7651E4-FE61-42E4-9979-36FB66F8ACE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3320" cy="400824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615CA1-C467-47D5-B5A2-860257450D5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1520" cy="40068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F0B71C-B599-4329-A687-5B50B560B8C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219240" y="812880"/>
            <a:ext cx="7116480" cy="400536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59896D-AADC-4F1E-8E8C-566CC0A6024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Text Box 1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093D5B-963A-4AAA-BAF7-5C4E279C9C2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217440" y="814320"/>
            <a:ext cx="7128000" cy="401004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AE6F39-2659-42FF-AF08-6FF917E4B1F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219240" y="812880"/>
            <a:ext cx="7116480" cy="400536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D961B0-A29C-4C68-AE05-5E507BA0D59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219240" y="812880"/>
            <a:ext cx="7116480" cy="400536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FF39EB-F7B9-4441-8A95-5FB706A0081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219240" y="812880"/>
            <a:ext cx="7116480" cy="400536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17FEE1-A5D3-4FF3-BADA-C80C64ECD9E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219240" y="812880"/>
            <a:ext cx="7116480" cy="400536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ECFBFF-9F98-4B91-BFFC-3E40DB7977C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219240" y="812880"/>
            <a:ext cx="7116480" cy="400536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5B10F1-5CD3-4040-8AEE-934F0C9368C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219240" y="812880"/>
            <a:ext cx="7116480" cy="400536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FFFBA4-B833-400D-BAA1-F730C238BB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-360" y="1593360"/>
            <a:ext cx="8224920" cy="8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759040"/>
            <a:ext cx="8223120" cy="67896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6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502800"/>
            <a:ext cx="8223120" cy="67896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6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57D0EE-4C81-4F93-A821-273AE41C9C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-360" y="1593360"/>
            <a:ext cx="8224920" cy="8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2759040"/>
            <a:ext cx="4012560" cy="67896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6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640" y="2759040"/>
            <a:ext cx="4012560" cy="67896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6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502800"/>
            <a:ext cx="4012560" cy="67896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6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0640" y="3502800"/>
            <a:ext cx="4012560" cy="67896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6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D1FFF1-01BF-4D61-B079-246118FA3C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-360" y="1593360"/>
            <a:ext cx="8224920" cy="8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759040"/>
            <a:ext cx="2647440" cy="67896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6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7480" y="2759040"/>
            <a:ext cx="2647440" cy="67896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6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17760" y="2759040"/>
            <a:ext cx="2647440" cy="67896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6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502800"/>
            <a:ext cx="2647440" cy="67896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6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7480" y="3502800"/>
            <a:ext cx="2647440" cy="67896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6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17760" y="3502800"/>
            <a:ext cx="2647440" cy="67896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6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61709B-31B1-4783-AE82-074BB799017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-360" y="1593360"/>
            <a:ext cx="8224920" cy="8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2759040"/>
            <a:ext cx="8223120" cy="142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6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F5D422-BF0A-462C-B326-A3975C7550F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-360" y="1593360"/>
            <a:ext cx="8224920" cy="8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2759040"/>
            <a:ext cx="8223120" cy="142416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6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FD1522-C4F4-4590-9E48-896C68B0E5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360" y="1593360"/>
            <a:ext cx="8224920" cy="8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2759040"/>
            <a:ext cx="4012560" cy="142416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6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0640" y="2759040"/>
            <a:ext cx="4012560" cy="142416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6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3CC826-2663-4887-AFC8-BCBB7B2996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-360" y="1593360"/>
            <a:ext cx="8224920" cy="8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669207-8D01-4296-A486-5A80726809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-360" y="1593360"/>
            <a:ext cx="8224920" cy="39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162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E8A214-FD19-4E89-9822-B899A9291C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1593360"/>
            <a:ext cx="8224920" cy="8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2759040"/>
            <a:ext cx="4012560" cy="67896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6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640" y="2759040"/>
            <a:ext cx="4012560" cy="142416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6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502800"/>
            <a:ext cx="4012560" cy="67896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6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36AE51-700B-474A-9E75-706AF0E325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-360" y="1593360"/>
            <a:ext cx="8224920" cy="8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2759040"/>
            <a:ext cx="4012560" cy="142416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6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640" y="2759040"/>
            <a:ext cx="4012560" cy="67896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6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0640" y="3502800"/>
            <a:ext cx="4012560" cy="67896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6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739058-FE33-455B-8F7D-DEDA6E7406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-360" y="1593360"/>
            <a:ext cx="8224920" cy="8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2759040"/>
            <a:ext cx="4012560" cy="67896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6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640" y="2759040"/>
            <a:ext cx="4012560" cy="67896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6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502800"/>
            <a:ext cx="8223120" cy="67896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6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470E20-D8AF-4A02-A5E0-B9AF27BC9B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3949560"/>
            <a:ext cx="9144000" cy="11941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-360" y="1593360"/>
            <a:ext cx="8224920" cy="8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2759040"/>
            <a:ext cx="8223120" cy="142416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t">
            <a:normAutofit fontScale="40000"/>
          </a:bodyPr>
          <a:p>
            <a:pPr marL="137160" indent="0">
              <a:lnSpc>
                <a:spcPct val="93000"/>
              </a:lnSpc>
              <a:spcBef>
                <a:spcPts val="1162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37160" indent="-137160">
              <a:lnSpc>
                <a:spcPct val="93000"/>
              </a:lnSpc>
              <a:spcBef>
                <a:spcPts val="1162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37160" indent="-137160">
              <a:lnSpc>
                <a:spcPct val="93000"/>
              </a:lnSpc>
              <a:spcBef>
                <a:spcPts val="1162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37160" indent="-137160">
              <a:lnSpc>
                <a:spcPct val="93000"/>
              </a:lnSpc>
              <a:spcBef>
                <a:spcPts val="1162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37160" indent="-137160">
              <a:lnSpc>
                <a:spcPct val="93000"/>
              </a:lnSpc>
              <a:spcBef>
                <a:spcPts val="1162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37160" indent="-137160">
              <a:lnSpc>
                <a:spcPct val="93000"/>
              </a:lnSpc>
              <a:spcBef>
                <a:spcPts val="1162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37160" indent="-137160">
              <a:lnSpc>
                <a:spcPct val="93000"/>
              </a:lnSpc>
              <a:spcBef>
                <a:spcPts val="1162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457200" y="4686480"/>
            <a:ext cx="212868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127320" y="4686480"/>
            <a:ext cx="2898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554880" y="4686480"/>
            <a:ext cx="2125440" cy="35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A7D86C-5D9C-4C01-886D-F1F3A910004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"/>
          <p:cNvSpPr/>
          <p:nvPr/>
        </p:nvSpPr>
        <p:spPr>
          <a:xfrm>
            <a:off x="714240" y="1001880"/>
            <a:ext cx="7774200" cy="11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132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481d32"/>
                </a:solidFill>
                <a:latin typeface="Arial"/>
              </a:rPr>
              <a:t>Культура предпринимательства. Корпоративная этика.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Text Box 2"/>
          <p:cNvSpPr/>
          <p:nvPr/>
        </p:nvSpPr>
        <p:spPr>
          <a:xfrm>
            <a:off x="1373040" y="2913120"/>
            <a:ext cx="6400800" cy="13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2680" bIns="0" anchor="t">
            <a:noAutofit/>
          </a:bodyPr>
          <a:p>
            <a:pPr algn="r">
              <a:lnSpc>
                <a:spcPct val="93000"/>
              </a:lnSpc>
              <a:spcBef>
                <a:spcPts val="1162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600" spc="-1" strike="noStrike">
                <a:solidFill>
                  <a:srgbClr val="481d32"/>
                </a:solidFill>
                <a:latin typeface="Arial"/>
              </a:rPr>
              <a:t>преподаватель: Переверзева Н.А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1"/>
          <p:cNvSpPr/>
          <p:nvPr/>
        </p:nvSpPr>
        <p:spPr>
          <a:xfrm>
            <a:off x="569880" y="1571760"/>
            <a:ext cx="822816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006699"/>
                </a:solidFill>
                <a:latin typeface="Arial"/>
              </a:rPr>
              <a:t>Спасибо за внимание!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"/>
          <p:cNvPicPr/>
          <p:nvPr/>
        </p:nvPicPr>
        <p:blipFill>
          <a:blip r:embed="rId1"/>
          <a:stretch/>
        </p:blipFill>
        <p:spPr>
          <a:xfrm>
            <a:off x="903240" y="203040"/>
            <a:ext cx="7450200" cy="433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1"/>
          <p:cNvSpPr/>
          <p:nvPr/>
        </p:nvSpPr>
        <p:spPr>
          <a:xfrm>
            <a:off x="569880" y="428760"/>
            <a:ext cx="823140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132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481d32"/>
                </a:solidFill>
                <a:latin typeface="Arial"/>
              </a:rPr>
              <a:t>Культура предпринимательств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Text Box 2"/>
          <p:cNvSpPr/>
          <p:nvPr/>
        </p:nvSpPr>
        <p:spPr>
          <a:xfrm>
            <a:off x="131760" y="1430280"/>
            <a:ext cx="9078840" cy="24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216000" y="1224000"/>
            <a:ext cx="892656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-  это определенная, сложившаяся совокупность принципов, приемов, методов осуществления предпринимательской деятельности субъектами в соответствии с действующими  правовыми нормами (законами, нормативными актами), обычаями делового оборота, этическими и нравственными правилами, нормами поведения при осуществлении цивилизованного бизнес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632880" y="1595160"/>
            <a:ext cx="8294760" cy="229212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t">
            <a:normAutofit fontScale="66000"/>
          </a:bodyPr>
          <a:p>
            <a:pPr marL="226080" indent="0">
              <a:lnSpc>
                <a:spcPct val="93000"/>
              </a:lnSpc>
              <a:spcBef>
                <a:spcPts val="1162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1. законность, строгое соблюдение правовых норм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26080" indent="0">
              <a:lnSpc>
                <a:spcPct val="93000"/>
              </a:lnSpc>
              <a:spcBef>
                <a:spcPts val="1162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2. непременное выполнение обязательств и обязанностей, вытекающих из правовых актов, договорных отношений и совершаемых сделок, не нанесение  имущественного и морального вреда партнерам, конкурентам, потребителям,  работникам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26080" indent="0">
              <a:lnSpc>
                <a:spcPct val="93000"/>
              </a:lnSpc>
              <a:spcBef>
                <a:spcPts val="1162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3. честное ведение своего бизнеса (честное отношение к людям, потребителям, партнерам, государству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26080" indent="0">
              <a:lnSpc>
                <a:spcPct val="93000"/>
              </a:lnSpc>
              <a:spcBef>
                <a:spcPts val="1162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4. соблюдение этических норм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2"/>
          <p:cNvSpPr/>
          <p:nvPr/>
        </p:nvSpPr>
        <p:spPr>
          <a:xfrm>
            <a:off x="1057320" y="403200"/>
            <a:ext cx="759780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355269"/>
                </a:solidFill>
                <a:latin typeface="Arial"/>
              </a:rPr>
              <a:t>Всеобщие элементы культуры предпринимательской деятельности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11280" y="144000"/>
            <a:ext cx="7848720" cy="85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6699"/>
                </a:solidFill>
                <a:latin typeface="Arial"/>
              </a:rPr>
              <a:t>Предпринимательская этика и этикет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0" name="Text Box 3"/>
          <p:cNvSpPr/>
          <p:nvPr/>
        </p:nvSpPr>
        <p:spPr>
          <a:xfrm>
            <a:off x="431640" y="1000080"/>
            <a:ext cx="8261640" cy="28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дпринимательская этика — одна из сложных проблем формирования культуры цивилизованного предпринимательства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 система моральных и нравственных норм, включая общеобязательны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авила поведения людей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1"/>
          <p:cNvSpPr/>
          <p:nvPr/>
        </p:nvSpPr>
        <p:spPr>
          <a:xfrm>
            <a:off x="1100160" y="936720"/>
            <a:ext cx="818820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6360" bIns="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Предпринимательская этика проявляется в таких категориях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- верность данному слову,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- принятому на себя обязательству,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- моральной ответственности за невыполнение установленных правовыми нормами обязанностей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аждому роду человеческой деятельности (научной, педагогической, художественной и т.д.) соответствуют определенные виды профессиональной этики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324000" y="52200"/>
            <a:ext cx="8224560" cy="337500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t">
            <a:normAutofit fontScale="69000"/>
          </a:bodyPr>
          <a:p>
            <a:pPr marL="236520" indent="0">
              <a:lnSpc>
                <a:spcPct val="93000"/>
              </a:lnSpc>
              <a:spcBef>
                <a:spcPts val="1162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Чтобы овладеть навыками корректного поведения, нужно соблюдать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3000"/>
              </a:lnSpc>
              <a:spcBef>
                <a:spcPts val="1162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равила представления и знакомства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3000"/>
              </a:lnSpc>
              <a:spcBef>
                <a:spcPts val="1162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равила проведения деловых контактов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3000"/>
              </a:lnSpc>
              <a:spcBef>
                <a:spcPts val="1162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равила поведения на переговорах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3000"/>
              </a:lnSpc>
              <a:spcBef>
                <a:spcPts val="1162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требования к внешнему облику, манерам, деловой одежде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3000"/>
              </a:lnSpc>
              <a:spcBef>
                <a:spcPts val="1162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требования к речи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3000"/>
              </a:lnSpc>
              <a:spcBef>
                <a:spcPts val="1162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культуру служебных документов и другие элементы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3000"/>
              </a:lnSpc>
              <a:spcBef>
                <a:spcPts val="1162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редпринимательского этикета, который является составной частью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3000"/>
              </a:lnSpc>
              <a:spcBef>
                <a:spcPts val="1162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редпринимательской этики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1"/>
          <p:cNvSpPr/>
          <p:nvPr/>
        </p:nvSpPr>
        <p:spPr>
          <a:xfrm>
            <a:off x="863640" y="576360"/>
            <a:ext cx="8064360" cy="365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р деловой этики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брое имя лучше богатства”, — часто говорили сами купц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ни знали, что богатство неизменно приходит вслед за репутацие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упеческое слово в былые времена являлось высшей гарантией, поскольку за ним стояла честь русского купца. От туда и поговорка: «Уговор дороже денег»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ама честь в традиции русского купечества восходила к православному  старообрядческому пониманию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се договора заключались, как правило устно, на честном купеческом слов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1"/>
          <p:cNvSpPr/>
          <p:nvPr/>
        </p:nvSpPr>
        <p:spPr>
          <a:xfrm>
            <a:off x="216000" y="795240"/>
            <a:ext cx="8856720" cy="366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ром честности и принципиальности в купеческой среде может служить промышленник Четвериков, который разыскивал кредиторов своего отца, для того, чтобы отдать им долг за сделку 30-летней давност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 тому же, купеческие семьи влиятельных фамилий всегда интересовались происхождением капитала своих партнёров по бизнесу. 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 время событий IX-XX веков, в России полностью исчезло высшее купеческое сословие со своими принципами, обычаями, писаными и неписаными законами, когда одним рукопожатием могли заключаться миллионные сделк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ейчас любые сделки оформляются документально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4-10T10:57:34Z</dcterms:created>
  <dc:creator/>
  <dc:description/>
  <dc:language>en-US</dc:language>
  <cp:lastModifiedBy>Пользователь Windows</cp:lastModifiedBy>
  <dcterms:modified xsi:type="dcterms:W3CDTF">2023-01-25T11:47:04Z</dcterms:modified>
  <cp:revision>19</cp:revision>
  <dc:subject/>
  <dc:title>Blue Curve</dc:title>
</cp:coreProperties>
</file>