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D18A-6F99-42F2-ADA6-D7937077C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2F1E-0D78-41DC-93A3-AC2846611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3CAA-D7AC-4BD4-AD8B-097F6CA5C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E9B1-7C79-4DD8-9C66-626FB795B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0F41-5AD5-4C4A-8C5B-C706B3931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B44A-5D35-46EF-896F-220536A72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8D4E-6D6C-4A80-BC6B-52559D560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073F-0BDB-4658-B0A8-D60C784C1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73F0-AF3E-496E-A1F8-B0A1E108F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4122-AF68-47A6-B38B-70121BA30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E2A4-DC8E-449A-A214-AFE1ECD4C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1D92-B77B-4385-B37C-8CB477108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07E05-4431-4E4A-A26E-40A8C4B8371A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187280" y="836640"/>
            <a:ext cx="67788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222a3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200" spc="-1" strike="noStrike">
                <a:solidFill>
                  <a:srgbClr val="222a35"/>
                </a:solidFill>
                <a:latin typeface="Calibri"/>
              </a:rPr>
              <a:t>Демосфе́н</a:t>
            </a:r>
            <a:r>
              <a:rPr b="0" lang="ru-RU" sz="3200" spc="-1" strike="noStrike">
                <a:solidFill>
                  <a:srgbClr val="222a35"/>
                </a:solidFill>
                <a:latin typeface="Calibri"/>
              </a:rPr>
              <a:t> — </a:t>
            </a:r>
            <a:r>
              <a:rPr b="0" i="1" lang="ru-RU" sz="3200" spc="-1" strike="noStrike">
                <a:solidFill>
                  <a:srgbClr val="222a35"/>
                </a:solidFill>
                <a:latin typeface="Calibri"/>
              </a:rPr>
              <a:t>оратор Древнего мира, считается родоначальником риторики как наук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Рисунок 3" descr=""/>
          <p:cNvPicPr/>
          <p:nvPr/>
        </p:nvPicPr>
        <p:blipFill>
          <a:blip r:embed="rId1"/>
          <a:stretch/>
        </p:blipFill>
        <p:spPr>
          <a:xfrm>
            <a:off x="1432080" y="2322360"/>
            <a:ext cx="440820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468360" y="1052640"/>
            <a:ext cx="7559640" cy="61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91300"/>
                </a:solidFill>
                <a:latin typeface="Monotype Corsiva"/>
              </a:rPr>
              <a:t>Истинная вежливость заключается  в благожелательном отношении к людям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191300"/>
                </a:solidFill>
                <a:latin typeface="Monotype Corsiva"/>
              </a:rPr>
              <a:t>Жан Жак Руссо</a:t>
            </a:r>
            <a:r>
              <a:rPr b="0" lang="ru-RU" sz="5400" spc="-1" strike="noStrike">
                <a:solidFill>
                  <a:srgbClr val="191300"/>
                </a:solidFill>
                <a:latin typeface="Monotype Corsiva"/>
              </a:rPr>
              <a:t> </a:t>
            </a:r>
            <a:r>
              <a:rPr b="0" lang="ru-RU" sz="2200" spc="-1" strike="noStrike">
                <a:solidFill>
                  <a:srgbClr val="191300"/>
                </a:solidFill>
                <a:latin typeface="Monotype Corsiv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42920" y="2349360"/>
            <a:ext cx="8244000" cy="131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4900" spc="-1" strike="noStrike">
                <a:solidFill>
                  <a:srgbClr val="191300"/>
                </a:solidFill>
                <a:latin typeface="comic"/>
              </a:rPr>
              <a:t>Риторика</a:t>
            </a:r>
            <a:r>
              <a:rPr b="1" lang="ru-RU" sz="4900" spc="-1" strike="noStrike">
                <a:solidFill>
                  <a:srgbClr val="191300"/>
                </a:solidFill>
                <a:latin typeface="comic"/>
              </a:rPr>
              <a:t> – искусство речи;</a:t>
            </a:r>
            <a:br>
              <a:rPr sz="4900"/>
            </a:br>
            <a:r>
              <a:rPr b="1" lang="ru-RU" sz="4900" spc="-1" strike="noStrike">
                <a:solidFill>
                  <a:srgbClr val="191300"/>
                </a:solidFill>
                <a:latin typeface="comic"/>
              </a:rPr>
              <a:t>Ритор, оратор – человек, владеющий искусством речи.</a:t>
            </a:r>
            <a:endParaRPr b="0" lang="en-US" sz="4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11280" y="105264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100" spc="-1" strike="noStrike">
                <a:solidFill>
                  <a:srgbClr val="cc3300"/>
                </a:solidFill>
                <a:latin typeface="Times New Roman"/>
              </a:rPr>
              <a:t>             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6" name="Объект 2" descr=""/>
          <p:cNvPicPr/>
          <p:nvPr/>
        </p:nvPicPr>
        <p:blipFill>
          <a:blip r:embed="rId1"/>
          <a:stretch/>
        </p:blipFill>
        <p:spPr>
          <a:xfrm>
            <a:off x="-9360" y="-23760"/>
            <a:ext cx="91738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8" name="Объект 3" descr=""/>
          <p:cNvPicPr/>
          <p:nvPr/>
        </p:nvPicPr>
        <p:blipFill>
          <a:blip r:embed="rId1"/>
          <a:stretch/>
        </p:blipFill>
        <p:spPr>
          <a:xfrm>
            <a:off x="19080" y="-12600"/>
            <a:ext cx="9159840" cy="68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0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2" name="Объект 3" descr=""/>
          <p:cNvPicPr/>
          <p:nvPr/>
        </p:nvPicPr>
        <p:blipFill>
          <a:blip r:embed="rId1"/>
          <a:srcRect l="0" t="0" r="336" b="903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4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36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826920" y="836640"/>
            <a:ext cx="728352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64160" indent="-1641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ократ как-то сказал: </a:t>
            </a: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«Заговори, чтоб я тебя узнал»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64160" indent="-1641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64160" indent="-1641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усская народная мудрость гласит: </a:t>
            </a: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«Слово – не воробей, вылетит – не поймаешь»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64160" indent="-1641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бъясните эти выражения</a:t>
            </a:r>
            <a:r>
              <a:rPr b="0" lang="ru-RU" sz="4000" spc="-1" strike="noStrike">
                <a:solidFill>
                  <a:srgbClr val="1f4e79"/>
                </a:solidFill>
                <a:latin typeface="Calibri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 Light"/>
              </a:rPr>
              <a:t>Речевая ситуация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4000" y="1557360"/>
            <a:ext cx="74278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222a3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800" spc="-1" strike="noStrike">
                <a:solidFill>
                  <a:srgbClr val="222a35"/>
                </a:solidFill>
                <a:latin typeface="Calibri"/>
              </a:rPr>
              <a:t>Тебя друг пригласил на день рождения, но ты не можешь прийти, т.к. уезжаешь в этот день. Откажи вежливо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222a3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800" spc="-1" strike="noStrike">
                <a:solidFill>
                  <a:srgbClr val="222a35"/>
                </a:solidFill>
                <a:latin typeface="Calibri"/>
              </a:rPr>
              <a:t>Соседка по парте просит у тебя телефон, чтобы позвонить родителям, но ты не можешь дать, потому что он разрядился. Откажи вежливо и предложи решение проблемы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9T06:29:40Z</dcterms:created>
  <dc:creator>Mother</dc:creator>
  <dc:description/>
  <dc:language>en-US</dc:language>
  <cp:lastModifiedBy>кц</cp:lastModifiedBy>
  <dcterms:modified xsi:type="dcterms:W3CDTF">2022-12-09T21:28:16Z</dcterms:modified>
  <cp:revision>28</cp:revision>
  <dc:subject/>
  <dc:title>Будьте вежливы. Вежливый отказ.</dc:title>
</cp:coreProperties>
</file>