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4C8-CDE4-42C5-843C-FDB76773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032-FDB9-44FC-9860-1BE71AC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9AF-E7BA-4A29-BF0F-895B8DE6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B5E-658C-442C-9DA1-C259A2F7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528-495F-4C6C-B7AE-FBB99D17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A21-635B-42C1-9DFB-E914CC6F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DAA-1EAE-4FA3-84A3-67BA3719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F7B-DB3B-4851-AE5E-F51F1E86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3A5-59F2-4CF1-A6D2-4E7EBD73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BD5-9EAE-4744-9721-A7D7303C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E0D-0B2D-4ACF-8184-A1D09D92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548-BE1E-47D2-BA16-6BE1FC7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8C5F-D195-4716-AC19-E63CBDFFBBF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amidoktora.ru/wp-content/uploads/2012/06/0_7f9ae_c0b4ced4_XL.jpe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4316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5c06"/>
                </a:solidFill>
                <a:latin typeface="Calibri"/>
              </a:rPr>
              <a:t>Здоровьесберегающие технологии на уроках музык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Вольфганг Амадей Моцарт - Маленькая ночная серенада (mp3ostrov.com).mp3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libri"/>
              </a:rPr>
              <a:t>Улыбкотерап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На уроке важна не только улыбка учителя, но и улыбка ребёнка. Если ребёнок поёт и улыбается, то звук его голоса становится светлым, чистым и свободн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Качество пения способно перейти на личность  учащегося. Улыбка внешняя становится улыбкой внутренней, с которой учащийся смотрит на мир и на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588_1755.jpg"/>
          <p:cNvPicPr/>
          <p:nvPr/>
        </p:nvPicPr>
        <p:blipFill>
          <a:blip r:embed="rId2"/>
          <a:stretch/>
        </p:blipFill>
        <p:spPr>
          <a:xfrm>
            <a:off x="5160960" y="1484280"/>
            <a:ext cx="3298680" cy="495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Результаты музыкально – оздоровитель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Повышение уровня развития музыкальных и твор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Стабильность эмоционального благополучия каждого учени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Повышение уровня речевого разви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Снижение уровня заболеваем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Стабильность физической и умственной работоспособности круглый  год, не зависимо от пого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7" descr="vokal1.jpg"/>
          <p:cNvPicPr/>
          <p:nvPr/>
        </p:nvPicPr>
        <p:blipFill>
          <a:blip r:embed="rId2"/>
          <a:stretch/>
        </p:blipFill>
        <p:spPr>
          <a:xfrm>
            <a:off x="5148360" y="1700280"/>
            <a:ext cx="357660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0" descr="2.jpg"/>
          <p:cNvPicPr/>
          <p:nvPr/>
        </p:nvPicPr>
        <p:blipFill>
          <a:blip r:embed="rId2"/>
          <a:srcRect l="0" t="5138" r="0" b="5138"/>
          <a:stretch/>
        </p:blipFill>
        <p:spPr>
          <a:xfrm>
            <a:off x="1835280" y="1773360"/>
            <a:ext cx="5486400" cy="4833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«Здоровье не означает просто отсутствие болезней: это нечто положительное, это жизнерадостное и охотное выполнение обязанностей, которые жизнь возлагает на человека»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      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Г. Сигери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5c06"/>
                </a:solidFill>
                <a:latin typeface="Calibri"/>
              </a:rPr>
              <a:t>Концепция содержания образовательной области</a:t>
            </a:r>
            <a:br>
              <a:rPr sz="2800"/>
            </a:br>
            <a:r>
              <a:rPr b="1" lang="ru-RU" sz="2800" spc="-1" strike="noStrike">
                <a:solidFill>
                  <a:srgbClr val="e35c06"/>
                </a:solidFill>
                <a:latin typeface="Calibri"/>
              </a:rPr>
              <a:t> «Искусств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5c06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5c06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e35c06"/>
                </a:solidFill>
                <a:latin typeface="Calibri"/>
              </a:rPr>
              <a:t>Одна из основных задач уроков музыки: снимать нервно – психические перегрузки, восстанавливать положительный эмоционально – энергетический тонус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~PP161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сследование психофизиологического аспекта воздействия музыки на здоровье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Музыка оказывает заметное воздействие на частоту пульса, кровяное давление, уровень сахара в кр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Повышает и понижает мышечный тон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Стимулирует проявление эмо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Улучшает вербальные и арифметические спосо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Стимулирует процессы восприятия и памя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Активизирует творческое мыш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Виды музыкальной деятельности, способные помочь здоровьесбережению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П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Дыхательн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Речев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Двигательн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Восприятие музыки (музыкотерап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Ритмопла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Улыбкотерап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6" descr="arm99011283.jpg"/>
          <p:cNvPicPr/>
          <p:nvPr/>
        </p:nvPicPr>
        <p:blipFill>
          <a:blip r:embed="rId2"/>
          <a:stretch/>
        </p:blipFill>
        <p:spPr>
          <a:xfrm>
            <a:off x="4788000" y="1628640"/>
            <a:ext cx="3792600" cy="432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«Кто много поёт, того хворь не берё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57000"/>
            <a:ext cx="4475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Пение – любимый вид деятельности учащихся и средство оздоров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Голос – индикатор здоровья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Обладатели сильного голоса имею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крепкое здоров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Пение полезно даже при  отсутств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музыкального слу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Вокализация – отличное сре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для снятия внутреннего напряжен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оздоровления дыхатель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системы, развития артикуляционного аппар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237391_rebenok_-mikrofon_-penie_-noty_1680x1050_www.GdeFon.ru_.jpg"/>
          <p:cNvPicPr/>
          <p:nvPr/>
        </p:nvPicPr>
        <p:blipFill>
          <a:blip r:embed="rId2"/>
          <a:stretch/>
        </p:blipFill>
        <p:spPr>
          <a:xfrm>
            <a:off x="4859280" y="1844640"/>
            <a:ext cx="403848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Дыхательные и речевые упраж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557000"/>
            <a:ext cx="4475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Реализация методики Стрельник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А.Н., педагога – вокал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способствует нормальному развит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голоса, формированию певческ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дыхания, профилактике простуд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заболев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Речевые упражнения помог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выработке качественных дви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органов артикуляции, повышени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уровня развития речи учащих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улучшению памяти и вним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330026694634_1277986904_.jpg"/>
          <p:cNvPicPr/>
          <p:nvPr/>
        </p:nvPicPr>
        <p:blipFill>
          <a:blip r:embed="rId2"/>
          <a:stretch/>
        </p:blipFill>
        <p:spPr>
          <a:xfrm>
            <a:off x="4788000" y="1557360"/>
            <a:ext cx="403848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Психотерапевтический метод, основанный на целительном воздействии музыки на психологическое состояние человека, где музыка используется как лечебное сред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Специально подобранная музыка способна тренировать эмоциональный мир ребенка, повышает уровень иммунных процессов в организме, т.е. приводит к снижению заболеваемости, создание музыкальных образов приводит к оживлению эмоциональной сферы, активизация деятельности правого полушария при музицир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Лечебная музы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libri"/>
              </a:rPr>
              <a:t>Ритмопл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Танец, мимика, жест – древнейшие способы выражения чувств и пережив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Музыкально – ритмические упражнения помогают добиться эмоциональной разрядки, снять умственную перегрузку и утом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Движение и танец, игра на детских музыкальных шумовых инструментах  снимают нервно – психическое напря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8" descr="77df7a7d1a333dea87cc5a7a24bfa2c8_XL.jpg"/>
          <p:cNvPicPr/>
          <p:nvPr/>
        </p:nvPicPr>
        <p:blipFill>
          <a:blip r:embed="rId2"/>
          <a:stretch/>
        </p:blipFill>
        <p:spPr>
          <a:xfrm>
            <a:off x="4648320" y="1484280"/>
            <a:ext cx="4038480" cy="454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3:16Z</dcterms:created>
  <dc:creator>ppsworld.ru</dc:creator>
  <dc:description/>
  <dc:language>en-US</dc:language>
  <cp:lastModifiedBy>Тома</cp:lastModifiedBy>
  <dcterms:modified xsi:type="dcterms:W3CDTF">2016-10-06T18:07:55Z</dcterms:modified>
  <cp:revision>46</cp:revision>
  <dc:subject/>
  <dc:title>PRESENTATION  NAME</dc:title>
</cp:coreProperties>
</file>