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A0E-384D-4EA5-95AD-A129F628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569E-0B4D-48CD-A931-955A641C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0E3-885B-406C-9C92-7BB39671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00A-BECE-4FC3-90A7-C3B54B06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609B-6A96-4A23-A4A6-549F1B23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929-21F0-4D26-97BB-50F5C326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6E0-A573-49BC-A784-B7A44148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088-3C53-4273-AF7E-9A286160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6EC-39E1-4634-A2B2-8269B1A5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2390-15B9-40DB-B4EA-8B6B6584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388-1B9D-437C-B0A9-F3479A91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D37-61F9-4D8E-8043-471281E9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4564-B1B3-4576-ADDA-59811CB5D40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amidoktora.ru/wp-content/uploads/2012/06/0_7f9ae_c0b4ced4_XL.jpe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14316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5c06"/>
                </a:solidFill>
                <a:latin typeface="Calibri"/>
              </a:rPr>
              <a:t>Здоровьесберегающие технологии на уроках музыки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Вольфганг Амадей Моцарт - Маленькая ночная серенада (mp3ostrov.com).mp3" descr=""/>
          <p:cNvPicPr/>
          <p:nvPr/>
        </p:nvPicPr>
        <p:blipFill>
          <a:blip r:embed="rId2"/>
          <a:stretch/>
        </p:blipFill>
        <p:spPr>
          <a:xfrm>
            <a:off x="21420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alibri"/>
              </a:rPr>
              <a:t>Улыбкотерап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На уроке важна не только улыбка учителя, но и улыбка ребёнка. Если ребёнок поёт и улыбается, то звук его голоса становится светлым, чистым и свободны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Качество пения способно перейти на личность  учащегося. Улыбка внешняя становится улыбкой внутренней, с которой учащийся смотрит на мир и на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588_1755.jpg"/>
          <p:cNvPicPr/>
          <p:nvPr/>
        </p:nvPicPr>
        <p:blipFill>
          <a:blip r:embed="rId2"/>
          <a:stretch/>
        </p:blipFill>
        <p:spPr>
          <a:xfrm>
            <a:off x="5160960" y="1484280"/>
            <a:ext cx="3298680" cy="495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Calibri"/>
              </a:rPr>
              <a:t>Результаты музыкально – оздоровитель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Calibri"/>
              </a:rPr>
              <a:t>Повышение уровня развития музыкальных и творческих способностей дет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alibri"/>
              </a:rPr>
              <a:t>Стабильность эмоционального благополучия каждого учени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alibri"/>
              </a:rPr>
              <a:t>Повышение уровня речевого развит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alibri"/>
              </a:rPr>
              <a:t>Снижение уровня заболеваем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alibri"/>
              </a:rPr>
              <a:t>Стабильность физической и умственной работоспособности круглый  год, не зависимо от пого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7" descr="vokal1.jpg"/>
          <p:cNvPicPr/>
          <p:nvPr/>
        </p:nvPicPr>
        <p:blipFill>
          <a:blip r:embed="rId2"/>
          <a:stretch/>
        </p:blipFill>
        <p:spPr>
          <a:xfrm>
            <a:off x="5148360" y="1700280"/>
            <a:ext cx="3576600" cy="35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0" descr="2.jpg"/>
          <p:cNvPicPr/>
          <p:nvPr/>
        </p:nvPicPr>
        <p:blipFill>
          <a:blip r:embed="rId2"/>
          <a:srcRect l="0" t="5138" r="0" b="5138"/>
          <a:stretch/>
        </p:blipFill>
        <p:spPr>
          <a:xfrm>
            <a:off x="1835280" y="1773360"/>
            <a:ext cx="5486400" cy="4833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«Здоровье не означает просто отсутствие болезней: это нечто положительное, это жизнерадостное и охотное выполнение обязанностей, которые жизнь возлагает на человека»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          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Г. Сигери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5c06"/>
                </a:solidFill>
                <a:latin typeface="Calibri"/>
              </a:rPr>
              <a:t>Концепция содержания образовательной области</a:t>
            </a:r>
            <a:br>
              <a:rPr sz="2800"/>
            </a:br>
            <a:r>
              <a:rPr b="1" lang="ru-RU" sz="2800" spc="-1" strike="noStrike">
                <a:solidFill>
                  <a:srgbClr val="e35c06"/>
                </a:solidFill>
                <a:latin typeface="Calibri"/>
              </a:rPr>
              <a:t> «Искусство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5c06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5c06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e35c06"/>
                </a:solidFill>
                <a:latin typeface="Calibri"/>
              </a:rPr>
              <a:t>Одна из основных задач уроков музыки: снимать нервно – психические перегрузки, восстанавливать положительный эмоционально – энергетический тонус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~PP161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сследование психофизиологического аспекта воздействия музыки на здоровье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Музыка оказывает заметное воздействие на частоту пульса, кровяное давление, уровень сахара в кр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Повышает и понижает мышечный тону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Стимулирует проявление эмо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Улучшает вербальные и арифметические способ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Стимулирует процессы восприятия и памя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Активизирует творческое мыш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Виды музыкальной деятельности, способные помочь здоровьесбережению уча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5c06"/>
                </a:solidFill>
                <a:latin typeface="Calibri"/>
              </a:rPr>
              <a:t>П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5c06"/>
                </a:solidFill>
                <a:latin typeface="Calibri"/>
              </a:rPr>
              <a:t>Дыхательные упраж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5c06"/>
                </a:solidFill>
                <a:latin typeface="Calibri"/>
              </a:rPr>
              <a:t>Речевые упраж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5c06"/>
                </a:solidFill>
                <a:latin typeface="Calibri"/>
              </a:rPr>
              <a:t>Двигательные упраж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5c06"/>
                </a:solidFill>
                <a:latin typeface="Calibri"/>
              </a:rPr>
              <a:t>Восприятие музыки (музыкотерап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5c06"/>
                </a:solidFill>
                <a:latin typeface="Calibri"/>
              </a:rPr>
              <a:t>Ритмопла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5c06"/>
                </a:solidFill>
                <a:latin typeface="Calibri"/>
              </a:rPr>
              <a:t>Улыбкотерап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35c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6" descr="arm99011283.jpg"/>
          <p:cNvPicPr/>
          <p:nvPr/>
        </p:nvPicPr>
        <p:blipFill>
          <a:blip r:embed="rId2"/>
          <a:stretch/>
        </p:blipFill>
        <p:spPr>
          <a:xfrm>
            <a:off x="4788000" y="1628640"/>
            <a:ext cx="3792600" cy="432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«Кто много поёт, того хворь не берё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57000"/>
            <a:ext cx="4475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Пение – любимый вид деятельности учащихся и средство оздоров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Голос – индикатор здоровья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Обладатели сильного голоса имею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крепкое здоровь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Пение полезно даже при  отсутств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музыкального слух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Вокализация – отличное сред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для снятия внутреннего напряжен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оздоровления дыхатель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системы, развития артикуляционного аппар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237391_rebenok_-mikrofon_-penie_-noty_1680x1050_www.GdeFon.ru_.jpg"/>
          <p:cNvPicPr/>
          <p:nvPr/>
        </p:nvPicPr>
        <p:blipFill>
          <a:blip r:embed="rId2"/>
          <a:stretch/>
        </p:blipFill>
        <p:spPr>
          <a:xfrm>
            <a:off x="4859280" y="1844640"/>
            <a:ext cx="4038480" cy="396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Дыхательные и речевые упраж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557000"/>
            <a:ext cx="4475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Реализация методики Стрельников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А.Н., педагога – вокал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способствует нормальному развит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голоса, формированию певческ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дыхания, профилактике простуд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заболев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Речевые упражнения помог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выработке качественных дви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органов артикуляции, повышени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уровня развития речи учащихс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5c06"/>
                </a:solidFill>
                <a:latin typeface="Calibri"/>
              </a:rPr>
              <a:t>улучшению памяти и вним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4" descr="330026694634_1277986904_.jpg"/>
          <p:cNvPicPr/>
          <p:nvPr/>
        </p:nvPicPr>
        <p:blipFill>
          <a:blip r:embed="rId2"/>
          <a:stretch/>
        </p:blipFill>
        <p:spPr>
          <a:xfrm>
            <a:off x="4788000" y="1557360"/>
            <a:ext cx="4038480" cy="42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5c06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Психотерапевтический метод, основанный на целительном воздействии музыки на психологическое состояние человека, где музыка используется как лечебное сред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Специально подобранная музыка способна тренировать эмоциональный мир ребенка, повышает уровень иммунных процессов в организме, т.е. приводит к снижению заболеваемости, создание музыкальных образов приводит к оживлению эмоциональной сферы, активизация деятельности правого полушария при музициров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Лечебная музы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0"/>
            <a:ext cx="770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alibri"/>
              </a:rPr>
              <a:t>Ритмопл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Танец, мимика, жест – древнейшие способы выражения чувств и пережив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Музыкально – ритмические упражнения помогают добиться эмоциональной разрядки, снять умственную перегрузку и утом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Движение и танец, игра на детских музыкальных шумовых инструментах  снимают нервно – психическое напря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8" descr="77df7a7d1a333dea87cc5a7a24bfa2c8_XL.jpg"/>
          <p:cNvPicPr/>
          <p:nvPr/>
        </p:nvPicPr>
        <p:blipFill>
          <a:blip r:embed="rId2"/>
          <a:stretch/>
        </p:blipFill>
        <p:spPr>
          <a:xfrm>
            <a:off x="4648320" y="1484280"/>
            <a:ext cx="4038480" cy="454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53:16Z</dcterms:created>
  <dc:creator>ppsworld.ru</dc:creator>
  <dc:description/>
  <dc:language>en-US</dc:language>
  <cp:lastModifiedBy>Тома</cp:lastModifiedBy>
  <dcterms:modified xsi:type="dcterms:W3CDTF">2016-10-06T18:07:55Z</dcterms:modified>
  <cp:revision>46</cp:revision>
  <dc:subject/>
  <dc:title>PRESENTATION  NAME</dc:title>
</cp:coreProperties>
</file>