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511-4983-43C4-BEA3-4931FD63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69B-708C-44E1-970E-717E3DC1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652-1C4D-48B5-9205-376B27F5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A6D-4098-49CE-984D-41C73AF0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3C8-BA07-47B2-8D6D-755D951E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694-6B87-4079-A06C-513F067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983-6452-45D2-AB18-CA6068D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0B4-BE80-440E-8431-BC4E34B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C59-FF4E-4C8C-9105-837A88C2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56E-15C5-4CDA-84FD-04C85D2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A78-FE8A-42D8-BBF8-29A1D73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462-29AD-4112-9251-4507F85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2EE6-2080-4706-B9E4-16553EAA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7.png"/><Relationship Id="rId6" Type="http://schemas.openxmlformats.org/officeDocument/2006/relationships/image" Target="../media/image19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6.png"/><Relationship Id="rId6" Type="http://schemas.openxmlformats.org/officeDocument/2006/relationships/image" Target="../media/image28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6.png"/><Relationship Id="rId4" Type="http://schemas.openxmlformats.org/officeDocument/2006/relationships/image" Target="../media/image29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457200"/>
            <a:ext cx="29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учае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609480"/>
            <a:ext cx="1981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нр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бразительного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3048120"/>
            <a:ext cx="25527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0"/>
          <a:stretch/>
        </p:blipFill>
        <p:spPr>
          <a:xfrm>
            <a:off x="3657600" y="4191120"/>
            <a:ext cx="1828800" cy="25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1"/>
          <a:stretch/>
        </p:blipFill>
        <p:spPr>
          <a:xfrm>
            <a:off x="228600" y="41148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12"/>
          <a:stretch/>
        </p:blipFill>
        <p:spPr>
          <a:xfrm>
            <a:off x="5943600" y="41148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467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расширение знаний детей о разнообразии жанров изобразительного искусства, а также знакомство с выдающимися произведениями этого искусства и великими худож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закрепить знания о  жанрах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родолжать работу над развитием умения различать жанры изобразительного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познакомить детей с отдельными жанрами, особенностями их выражения в произведениях изобразительного искусства выработать у детей интерес к работам худож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800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воспитывать любовь к изобразительному искус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способствовать повышению эстетической культуры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8098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Интерес к жанрам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19520" y="762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Смотрит кто - ни будь на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принц в плаще старин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в роде верхол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Летчик или бале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Или Колька - твой сос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Обязательно картина, </a:t>
            </a: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Monotype Corsiva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3462480" cy="20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40388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19076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212904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80880" y="609480"/>
            <a:ext cx="217512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81680" y="838080"/>
            <a:ext cx="20862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81680" y="685800"/>
            <a:ext cx="2175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3818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тре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Портретом называют картину с изображение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или группы людей. В портретах художники стремятся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только точно передать внешнее сходство, но и характе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251080" cy="375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234936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24080" y="3200400"/>
            <a:ext cx="2059200" cy="272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71800" y="3200400"/>
            <a:ext cx="2349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91320" y="25146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91320" y="2438280"/>
            <a:ext cx="304776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0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28600" y="6340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.Е. Маковский                       «Дети бегущие от гроз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324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 Брюлова «Всадн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5943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евочка с ягод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62520" y="60156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33520"/>
            <a:ext cx="40384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рисована р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ель и белый и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ад и обл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снежная равн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поле и шалаш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бязательно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зывается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208240" cy="3353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5146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514600" y="4191120"/>
            <a:ext cx="4038480" cy="24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4343400" cy="264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019920" y="152280"/>
            <a:ext cx="2895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5228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йза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– рисунок или картина изображающие природу.      Пейзаж французское слово, дословный перевод –«местность»   В пейзажной картине представлено изображение  - открытого пространства водной или земной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Шишкин «Пшеничное по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6324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Э. Грабарь «Зимуш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8782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.И. Левитан «Золотая ос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38280" y="1766880"/>
            <a:ext cx="3505320" cy="206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3581640" cy="206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36576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3886200" cy="20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81480" y="4267080"/>
            <a:ext cx="3353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105520" y="4191120"/>
            <a:ext cx="35812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8280" y="3729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04920"/>
            <a:ext cx="48006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Если видишь на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шку кофе на ст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морс в большом графи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розу в хруста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бронзовую ваз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грушу, или тор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Или все предметы сразу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най, что это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ТЮРМ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3973680"/>
            <a:ext cx="3733920" cy="237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3733560" cy="260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3733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30492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тюрморт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– это жанр изобразительного искусства. Произведения этого жанра – изображение предметов или природных форм. На этих картинах художники передают красочное богатство и разнообразие предмет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10080" y="4495680"/>
            <a:ext cx="2819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44197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124080" y="205740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334120" y="4419720"/>
            <a:ext cx="304776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6324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 Ильева «Урож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886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А. Вещилов «Ваза с цвет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6324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 Тимофеев «Дары лес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7T13:36:27Z</dcterms:created>
  <dc:creator>user</dc:creator>
  <dc:description/>
  <dc:language>en-US</dc:language>
  <cp:lastModifiedBy>user</cp:lastModifiedBy>
  <dcterms:modified xsi:type="dcterms:W3CDTF">2018-01-28T15:47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