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F13-5E4C-4CEE-A389-B98D494E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375-C7FF-4E42-977E-DBB1FD59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A11-F49E-49A7-9FAB-F70A0C39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1C2-EAF4-4F01-852B-BE1BCD5F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D76-8BB4-4D5E-B0C1-D81EBBC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6C6-AF77-4852-A390-DC9223F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A2A-A382-4FA3-8F91-B736764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F0F-9297-465B-A041-2271D50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6ED-6BE5-4660-A1C3-64323C2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F09-7BCD-4DA1-BE1B-088B703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A4C-7CA4-4CB7-B961-5CC58AB0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BE1-3867-4E55-8358-1393F4C6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58A-F26C-431A-ABF6-34A3D337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7.png"/><Relationship Id="rId6" Type="http://schemas.openxmlformats.org/officeDocument/2006/relationships/image" Target="../media/image19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6.png"/><Relationship Id="rId6" Type="http://schemas.openxmlformats.org/officeDocument/2006/relationships/image" Target="../media/image28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6.png"/><Relationship Id="rId4" Type="http://schemas.openxmlformats.org/officeDocument/2006/relationships/image" Target="../media/image29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457200"/>
            <a:ext cx="29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учае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609480"/>
            <a:ext cx="198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нр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бразительного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3048120"/>
            <a:ext cx="25527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0"/>
          <a:stretch/>
        </p:blipFill>
        <p:spPr>
          <a:xfrm>
            <a:off x="3657600" y="4191120"/>
            <a:ext cx="1828800" cy="25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1"/>
          <a:stretch/>
        </p:blipFill>
        <p:spPr>
          <a:xfrm>
            <a:off x="228600" y="41148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5943600" y="41148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467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расширение знаний детей о разнообразии жанров изобразительного искусства, а также знакомство с выдающимися произведениями этого искусства и великими худож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закрепить знания о  жанрах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родолжать работу над развитием умения различать жанры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ознакомить детей с отдельными жанрами, особенностями их выражения в произведениях изобразительного искусства выработать у детей интерес к работам худож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800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воспитывать любовь к изобразительному искус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способствовать повышению эстетической культуры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8098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Интерес к жанрам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19520" y="762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Смотрит кто - ни будь на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принц в плаще старин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в роде верхол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Летчик или бале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Колька - твой сос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Обязательно картина, </a:t>
            </a: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3462480" cy="20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40388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19076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212904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80880" y="609480"/>
            <a:ext cx="217512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81680" y="838080"/>
            <a:ext cx="20862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81680" y="685800"/>
            <a:ext cx="2175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3818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тре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Портретом называют картину с изображение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ли группы людей. В портретах художники стремятся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только точно передать внешнее сходство, но и характе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251080" cy="375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234936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24080" y="3200400"/>
            <a:ext cx="2059200" cy="272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71800" y="3200400"/>
            <a:ext cx="2349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91320" y="25146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91320" y="2438280"/>
            <a:ext cx="304776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0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28600" y="6340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.Е. Маковский                       «Дети бегущие от гроз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324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 Брюлова «Всадн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943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евочка с ягод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62520" y="60156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33520"/>
            <a:ext cx="40384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рисована р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ель и белый и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ад и обл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нежная равн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поле и шалаш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бязательно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208240" cy="3353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5146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514600" y="4191120"/>
            <a:ext cx="4038480" cy="24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4343400" cy="264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019920" y="15228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5228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йза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– рисунок или картина изображающие природу.      Пейзаж французское слово, дословный перевод –«местность»   В пейзажной картине представлено изображение  - открытого пространства водной или земн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Шишкин «Пшеничное по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6324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Э. Грабарь «Зим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8782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Левитан «Золотая ос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38280" y="1766880"/>
            <a:ext cx="3505320" cy="206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3581640" cy="206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36576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3886200" cy="20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81480" y="4267080"/>
            <a:ext cx="3353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105520" y="4191120"/>
            <a:ext cx="35812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8280" y="3729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04920"/>
            <a:ext cx="48006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шку кофе на ст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морс в большом графи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розу в хруста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бронзовую ваз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грушу, или тор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все предметы сразу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най, что это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ТЮРМ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3973680"/>
            <a:ext cx="3733920" cy="237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30492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тюрмор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 Произведения этого жанра – изображение предметов или природных форм. На этих картинах художники передают красочное богатство и разнообразие предмет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10080" y="4495680"/>
            <a:ext cx="2819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44197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124080" y="205740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334120" y="4419720"/>
            <a:ext cx="304776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6324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 Ильева «Урож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886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А. Вещилов «Ваза с цвет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ары ле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7T13:36:27Z</dcterms:created>
  <dc:creator>user</dc:creator>
  <dc:description/>
  <dc:language>en-US</dc:language>
  <cp:lastModifiedBy>user</cp:lastModifiedBy>
  <dcterms:modified xsi:type="dcterms:W3CDTF">2018-01-28T15:47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