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4.png" ContentType="image/png"/>
  <Override PartName="/ppt/media/image29.png" ContentType="image/png"/>
  <Override PartName="/ppt/media/image28.gif" ContentType="image/gif"/>
  <Override PartName="/ppt/media/image25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2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9E81-FBA9-48D8-9E58-386E9E9E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077-0DA2-44B0-A5F9-4DB1CC3C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D950-BA5E-4A45-99F6-C1A5AA61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97E4-533B-40EC-9231-E7166EB4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3603-5D3E-4E2A-B91D-50D18788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4232-4200-4420-AD9E-148C7ECA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CE93-3E66-44C7-9BDE-4EA4B18C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D35-4864-41D2-9542-80DA68F9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3BA1-D2FD-469F-9517-0A69ABB6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C3B2-484A-4D8A-BD26-D0B65598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0CD8-6F6C-41F5-B34B-B113C2C3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AE95-9EC0-4600-ABF9-D2898487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2E40-307C-444E-9968-5FC5141695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gif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Users\Наталья\Desktop\Рисунок13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Как человек космос покорял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Rectangle 21"/>
          <p:cNvSpPr/>
          <p:nvPr/>
        </p:nvSpPr>
        <p:spPr>
          <a:xfrm>
            <a:off x="1449360" y="1773360"/>
            <a:ext cx="6888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ffff00"/>
                </a:solidFill>
                <a:latin typeface="Arial"/>
              </a:rPr>
              <a:t>«Проектная деятельность в ознакомлении детей старшего дошкольного возраста с космосом»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214200" y="56577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b800"/>
                </a:solidFill>
                <a:latin typeface="Arial"/>
              </a:rPr>
              <a:t>Автор: Веркина Любовь Алексеевна, воспитатель ГКДОУ «Здравушка», г.Калу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b8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b800"/>
                </a:solidFill>
                <a:latin typeface="Arial"/>
              </a:rPr>
              <a:t>201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1" descr="77554_yenergiya-buran_buran_kosmos_raketa_korabl_1944x1296_(www"/>
          <p:cNvPicPr/>
          <p:nvPr/>
        </p:nvPicPr>
        <p:blipFill>
          <a:blip r:embed="rId1"/>
          <a:stretch/>
        </p:blipFill>
        <p:spPr>
          <a:xfrm>
            <a:off x="4097160" y="1830240"/>
            <a:ext cx="5046840" cy="502776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1" descr=""/>
          <p:cNvPicPr/>
          <p:nvPr/>
        </p:nvPicPr>
        <p:blipFill>
          <a:blip r:embed="rId2"/>
          <a:stretch/>
        </p:blipFill>
        <p:spPr>
          <a:xfrm>
            <a:off x="171360" y="79200"/>
            <a:ext cx="8942400" cy="1994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220680" y="1713960"/>
            <a:ext cx="4800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южетно-ролевые игр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Исследователи новой планет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оликлини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осмодро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идактические игр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Найди ошибку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бери космический корабл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Звёзды на неб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ложи по порядку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Чего не стал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огда это быва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акое время год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Хорошо – плох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Найди лишне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1" descr=""/>
          <p:cNvPicPr/>
          <p:nvPr/>
        </p:nvPicPr>
        <p:blipFill>
          <a:blip r:embed="rId1"/>
          <a:stretch/>
        </p:blipFill>
        <p:spPr>
          <a:xfrm>
            <a:off x="396720" y="79200"/>
            <a:ext cx="8498160" cy="19940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179280" y="1707840"/>
            <a:ext cx="4953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лективная работа «Создание Вселенно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ование и апплика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Звёздная фантаз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реди план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звездия» (по замыслу дете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Нарисуй свои небесные фигур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игами «Космонав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4591080" y="3612240"/>
            <a:ext cx="448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арш юных космонавт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акеты» муз. Ю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чкова слова Я.Серп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тмическая игра «Молоточк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муникативная игра «Звёзды» муз.М.Картуши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звездия» (по замыслу дете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Нарисуй свои небесные фигур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игами «Космонав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1" descr=""/>
          <p:cNvPicPr/>
          <p:nvPr/>
        </p:nvPicPr>
        <p:blipFill>
          <a:blip r:embed="rId1"/>
          <a:stretch/>
        </p:blipFill>
        <p:spPr>
          <a:xfrm>
            <a:off x="396720" y="79200"/>
            <a:ext cx="8498160" cy="1305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200160" y="1282680"/>
            <a:ext cx="4952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вижные иг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ланеты, стройся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осмонавт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Земля, Огонь, Вода! Воздух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Звездочё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ы-эстафет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олёт на Луну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Готовим ракету к полёту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3940200" y="3657240"/>
            <a:ext cx="4952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льчиковая иг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Напёрсто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олоточк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е на развитие слухового вним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риземлени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кс двигательных упражн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«Будем космонавтам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Выгнутая влево стрелка 4"/>
          <p:cNvSpPr/>
          <p:nvPr/>
        </p:nvSpPr>
        <p:spPr>
          <a:xfrm>
            <a:off x="250920" y="609480"/>
            <a:ext cx="865080" cy="1189080"/>
          </a:xfrm>
          <a:custGeom>
            <a:avLst/>
            <a:gdLst>
              <a:gd name="textAreaLeft" fmla="*/ 115920 w 865080"/>
              <a:gd name="textAreaRight" fmla="*/ 749160 w 865080"/>
              <a:gd name="textAreaTop" fmla="*/ 216000 h 1189080"/>
              <a:gd name="textAreaBottom" fmla="*/ 864720 h 11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53" stAng="-5400000" swAng="-5400000"/>
                <a:lnTo>
                  <a:pt x="0" y="11783"/>
                </a:lnTo>
                <a:arcTo wR="21600" hR="7853" stAng="10800000" swAng="-3277088"/>
                <a:lnTo>
                  <a:pt x="16200" y="21351"/>
                </a:lnTo>
                <a:lnTo>
                  <a:pt x="21600" y="17671"/>
                </a:lnTo>
                <a:lnTo>
                  <a:pt x="16200" y="13493"/>
                </a:lnTo>
                <a:lnTo>
                  <a:pt x="16200" y="15457"/>
                </a:lnTo>
                <a:arcTo wR="21600" hR="7853" stAng="7522912" swAng="2955019"/>
                <a:lnTo>
                  <a:pt x="687" y="9818"/>
                </a:lnTo>
                <a:arcTo wR="21600" hR="7853" stAng="-10477930" swAng="5077930"/>
                <a:close/>
              </a:path>
              <a:path fill="darkenLess" w="21600" h="21600">
                <a:moveTo>
                  <a:pt x="21600" y="0"/>
                </a:moveTo>
                <a:arcTo wR="21600" hR="7853" stAng="-5400000" swAng="-5400000"/>
                <a:lnTo>
                  <a:pt x="0" y="7853"/>
                </a:lnTo>
                <a:arcTo wR="21600" hR="7853" stAng="10800000" swAng="-322070"/>
                <a:lnTo>
                  <a:pt x="687" y="9818"/>
                </a:lnTo>
                <a:arcTo wR="21600" hR="7853" stAng="-10477930" swAng="5077930"/>
                <a:close/>
              </a:path>
            </a:pathLst>
          </a:custGeom>
          <a:solidFill>
            <a:srgbClr val="59ffff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Выгнутая вправо стрелка 5"/>
          <p:cNvSpPr/>
          <p:nvPr/>
        </p:nvSpPr>
        <p:spPr>
          <a:xfrm>
            <a:off x="8028000" y="663480"/>
            <a:ext cx="919080" cy="3341880"/>
          </a:xfrm>
          <a:custGeom>
            <a:avLst/>
            <a:gdLst>
              <a:gd name="textAreaLeft" fmla="*/ 123120 w 919080"/>
              <a:gd name="textAreaRight" fmla="*/ 795960 w 919080"/>
              <a:gd name="textAreaTop" fmla="*/ 749160 h 3341880"/>
              <a:gd name="textAreaBottom" fmla="*/ 2477880 h 334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86" stAng="-5400000" swAng="5400000"/>
                <a:lnTo>
                  <a:pt x="21600" y="11171"/>
                </a:lnTo>
                <a:arcTo wR="21600" hR="9686" stAng="0" swAng="3604027"/>
                <a:lnTo>
                  <a:pt x="5400" y="21292"/>
                </a:lnTo>
                <a:lnTo>
                  <a:pt x="0" y="20115"/>
                </a:lnTo>
                <a:lnTo>
                  <a:pt x="5400" y="18321"/>
                </a:lnTo>
                <a:lnTo>
                  <a:pt x="5400" y="19064"/>
                </a:lnTo>
                <a:arcTo wR="21600" hR="9686" stAng="3604027" swAng="-3485553"/>
                <a:lnTo>
                  <a:pt x="21536" y="10429"/>
                </a:lnTo>
                <a:arcTo wR="21600" hR="9686" stAng="-118474" swAng="-5281526"/>
                <a:close/>
              </a:path>
              <a:path fill="darkenLess" w="21600" h="21600">
                <a:moveTo>
                  <a:pt x="0" y="0"/>
                </a:moveTo>
                <a:arcTo wR="21600" hR="9686" stAng="-5400000" swAng="5400000"/>
                <a:lnTo>
                  <a:pt x="21600" y="11171"/>
                </a:lnTo>
                <a:arcTo wR="21600" hR="9686" stAng="0" swAng="-118474"/>
                <a:lnTo>
                  <a:pt x="21536" y="10429"/>
                </a:lnTo>
                <a:arcTo wR="21600" hR="9686" stAng="-118474" swAng="-5281526"/>
                <a:close/>
              </a:path>
            </a:pathLst>
          </a:custGeom>
          <a:solidFill>
            <a:srgbClr val="59ffff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1" descr=""/>
          <p:cNvPicPr/>
          <p:nvPr/>
        </p:nvPicPr>
        <p:blipFill>
          <a:blip r:embed="rId1"/>
          <a:stretch/>
        </p:blipFill>
        <p:spPr>
          <a:xfrm>
            <a:off x="396720" y="122400"/>
            <a:ext cx="8498160" cy="1304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200160" y="1422720"/>
            <a:ext cx="610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пка-передвижка «Играйте вместе с ребёнко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казать детям, под каким знаком зодиака родились они и их близ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еты родителя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1" descr="1278621470_ebe3de504279"/>
          <p:cNvPicPr/>
          <p:nvPr/>
        </p:nvPicPr>
        <p:blipFill>
          <a:blip r:embed="rId2"/>
          <a:stretch/>
        </p:blipFill>
        <p:spPr>
          <a:xfrm>
            <a:off x="4019400" y="2801880"/>
            <a:ext cx="4753080" cy="3541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682560" y="42840"/>
            <a:ext cx="7991640" cy="1994040"/>
          </a:xfrm>
          <a:prstGeom prst="rect">
            <a:avLst/>
          </a:prstGeom>
          <a:ln w="0">
            <a:noFill/>
          </a:ln>
        </p:spPr>
      </p:pic>
      <p:sp>
        <p:nvSpPr>
          <p:cNvPr id="103" name="Лента лицом вверх 3"/>
          <p:cNvSpPr/>
          <p:nvPr/>
        </p:nvSpPr>
        <p:spPr>
          <a:xfrm>
            <a:off x="1104840" y="927000"/>
            <a:ext cx="6624720" cy="1224000"/>
          </a:xfrm>
          <a:custGeom>
            <a:avLst/>
            <a:gdLst>
              <a:gd name="textAreaLeft" fmla="*/ 1656000 w 6624720"/>
              <a:gd name="textAreaRight" fmla="*/ 4968720 w 6624720"/>
              <a:gd name="textAreaTop" fmla="*/ 0 h 1224000"/>
              <a:gd name="textAreaBottom" fmla="*/ 1020240 h 122400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культурное развл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C:\Users\Наталья\Desktop\Рисунок4.jpg"/>
          <p:cNvPicPr/>
          <p:nvPr/>
        </p:nvPicPr>
        <p:blipFill>
          <a:blip r:embed="rId2"/>
          <a:stretch/>
        </p:blipFill>
        <p:spPr>
          <a:xfrm>
            <a:off x="1763640" y="2421000"/>
            <a:ext cx="5580000" cy="4010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1" descr=""/>
          <p:cNvPicPr/>
          <p:nvPr/>
        </p:nvPicPr>
        <p:blipFill>
          <a:blip r:embed="rId1"/>
          <a:stretch/>
        </p:blipFill>
        <p:spPr>
          <a:xfrm>
            <a:off x="426960" y="212760"/>
            <a:ext cx="8296200" cy="10666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2"/>
          <p:cNvSpPr/>
          <p:nvPr/>
        </p:nvSpPr>
        <p:spPr>
          <a:xfrm>
            <a:off x="2124000" y="1573200"/>
            <a:ext cx="4680000" cy="9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формированность у дошкольников первичных представлений о Вселенной, Солнечной системе, планетах, звёздах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трелка вниз 3"/>
          <p:cNvSpPr/>
          <p:nvPr/>
        </p:nvSpPr>
        <p:spPr>
          <a:xfrm>
            <a:off x="3851280" y="922320"/>
            <a:ext cx="936720" cy="56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99ff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417600" y="2997360"/>
            <a:ext cx="3708360" cy="92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итие способности у детей старшего дошкольного возраста к поисковой деятельн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4772160" y="2997360"/>
            <a:ext cx="3708360" cy="92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итие у детей инициативы, сообразительности, пытливости, самостоятельн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2271600" y="4653000"/>
            <a:ext cx="46818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итие интереса  к  проведению экспериментов  и желания принимать  участие в ни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Стрелка вниз 7"/>
          <p:cNvSpPr/>
          <p:nvPr/>
        </p:nvSpPr>
        <p:spPr>
          <a:xfrm>
            <a:off x="2124000" y="2502000"/>
            <a:ext cx="647640" cy="495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99ff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Стрелка вниз 8"/>
          <p:cNvSpPr/>
          <p:nvPr/>
        </p:nvSpPr>
        <p:spPr>
          <a:xfrm>
            <a:off x="6138720" y="2502000"/>
            <a:ext cx="648000" cy="495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99ff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Стрелка вниз 9"/>
          <p:cNvSpPr/>
          <p:nvPr/>
        </p:nvSpPr>
        <p:spPr>
          <a:xfrm>
            <a:off x="3851280" y="3925800"/>
            <a:ext cx="1225440" cy="72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99ff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1" descr=""/>
          <p:cNvPicPr/>
          <p:nvPr/>
        </p:nvPicPr>
        <p:blipFill>
          <a:blip r:embed="rId1"/>
          <a:stretch/>
        </p:blipFill>
        <p:spPr>
          <a:xfrm>
            <a:off x="695160" y="579600"/>
            <a:ext cx="7766280" cy="1517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73684956"/>
          <p:cNvPicPr/>
          <p:nvPr/>
        </p:nvPicPr>
        <p:blipFill>
          <a:blip r:embed="rId2"/>
          <a:stretch/>
        </p:blipFill>
        <p:spPr>
          <a:xfrm>
            <a:off x="1459080" y="2162160"/>
            <a:ext cx="6260760" cy="4695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8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4" descr=""/>
          <p:cNvPicPr/>
          <p:nvPr/>
        </p:nvPicPr>
        <p:blipFill>
          <a:blip r:embed="rId4"/>
          <a:stretch/>
        </p:blipFill>
        <p:spPr>
          <a:xfrm>
            <a:off x="706320" y="5273640"/>
            <a:ext cx="7767720" cy="1517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9" descr="star_012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1"/>
          <p:cNvSpPr/>
          <p:nvPr/>
        </p:nvSpPr>
        <p:spPr>
          <a:xfrm>
            <a:off x="287280" y="345600"/>
            <a:ext cx="8569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древних времён людей манило всё недоступное и загадочное. Без сомнения самым недостижимым из всего того, что их окружало, был космос. Дети, подобно древним людям, находятся в слиянии с природой, а потому всё что их окружает, кажется им таким родным и интересным С детства их интересуют загадки Вселенной, Солнце, Луна, звёз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дошкольном возрасте формируется личность человека, его мировоззрение, которое определяет отношение человека к внешнему миру и к самому себе. Здесь немаловажное значение имеет астрономическая грамотность. Это способствует расширению кругозора , дает возможность в будущем ощутить  связь со Вселенной и ответственность за сохранение уникальной природы нашей плане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Прямоугольник 4" descr=""/>
          <p:cNvPicPr/>
          <p:nvPr/>
        </p:nvPicPr>
        <p:blipFill>
          <a:blip r:embed="rId2"/>
          <a:stretch/>
        </p:blipFill>
        <p:spPr>
          <a:xfrm>
            <a:off x="731880" y="-360360"/>
            <a:ext cx="7321680" cy="1274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267904598_sokolov_k_marsu"/>
          <p:cNvPicPr/>
          <p:nvPr/>
        </p:nvPicPr>
        <p:blipFill>
          <a:blip r:embed="rId1"/>
          <a:stretch/>
        </p:blipFill>
        <p:spPr>
          <a:xfrm>
            <a:off x="250920" y="260280"/>
            <a:ext cx="4483080" cy="63374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49" name="Picture 5" descr="mars04"/>
          <p:cNvPicPr/>
          <p:nvPr/>
        </p:nvPicPr>
        <p:blipFill>
          <a:blip r:embed="rId2"/>
          <a:stretch/>
        </p:blipFill>
        <p:spPr>
          <a:xfrm>
            <a:off x="4932360" y="2997360"/>
            <a:ext cx="3772080" cy="35906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Rectangle 6"/>
          <p:cNvSpPr/>
          <p:nvPr/>
        </p:nvSpPr>
        <p:spPr>
          <a:xfrm>
            <a:off x="5148360" y="410760"/>
            <a:ext cx="3384360" cy="22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ffff"/>
                </a:solidFill>
                <a:latin typeface="Arial"/>
              </a:rPr>
              <a:t>Цель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ffff"/>
                </a:solidFill>
                <a:latin typeface="Arial"/>
              </a:rPr>
              <a:t>Формирование у дошкольников первичных представлений о Вселенной, планетах, звёзд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211640" y="2946240"/>
            <a:ext cx="4932360" cy="39117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2"/>
          <p:cNvSpPr/>
          <p:nvPr/>
        </p:nvSpPr>
        <p:spPr>
          <a:xfrm>
            <a:off x="168120" y="926640"/>
            <a:ext cx="317988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Образовательные: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Дать представление о Солнечной системе и порядке расположения планет вокруг солнца, познакомить с названиями план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Дать представления о звёздах и созвездия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2"/>
          <p:cNvSpPr/>
          <p:nvPr/>
        </p:nvSpPr>
        <p:spPr>
          <a:xfrm>
            <a:off x="2411280" y="106200"/>
            <a:ext cx="46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b8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59ffff"/>
                </a:solidFill>
                <a:latin typeface="Arial"/>
              </a:rPr>
              <a:t>Задачи проек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3348000" y="800640"/>
            <a:ext cx="565164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Развивающие: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азвивать стремление к поисково-познавательной,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сследовательской деятельн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азвивать умение получать необходимые  сведения из разнообразных источник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азвивать мыслительную активность, умение наблюдать, анализировать, делать вывод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9360" y="3753720"/>
            <a:ext cx="421164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Воспитательные: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Воспитывать интерес к познанию Вселенной, развивать любознательност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Вызвать радость от открытий, полученных из эксперимен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спитывать умение работать в коллектив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b8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b8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0" descr="C:\Users\Наталья\Desktop\Рисунок15.jp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Группа 6"/>
          <p:cNvGrpSpPr/>
          <p:nvPr/>
        </p:nvGrpSpPr>
        <p:grpSpPr>
          <a:xfrm>
            <a:off x="274680" y="3860640"/>
            <a:ext cx="2967120" cy="1397160"/>
            <a:chOff x="274680" y="3860640"/>
            <a:chExt cx="2967120" cy="1397160"/>
          </a:xfrm>
        </p:grpSpPr>
        <p:grpSp>
          <p:nvGrpSpPr>
            <p:cNvPr id="58" name="Овал 7"/>
            <p:cNvGrpSpPr/>
            <p:nvPr/>
          </p:nvGrpSpPr>
          <p:grpSpPr>
            <a:xfrm>
              <a:off x="274680" y="3860640"/>
              <a:ext cx="2967120" cy="1397160"/>
              <a:chOff x="274680" y="3860640"/>
              <a:chExt cx="2967120" cy="1397160"/>
            </a:xfrm>
          </p:grpSpPr>
          <p:pic>
            <p:nvPicPr>
              <p:cNvPr id="59" name="Овал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74680" y="3860640"/>
                <a:ext cx="2967120" cy="13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717840" y="4074840"/>
                <a:ext cx="2079720" cy="9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" name="Овал 4"/>
            <p:cNvSpPr/>
            <p:nvPr/>
          </p:nvSpPr>
          <p:spPr>
            <a:xfrm>
              <a:off x="718200" y="4075200"/>
              <a:ext cx="2079000" cy="96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1" lang="ru-RU" sz="36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Родители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" name="Группа 10"/>
          <p:cNvGrpSpPr/>
          <p:nvPr/>
        </p:nvGrpSpPr>
        <p:grpSpPr>
          <a:xfrm>
            <a:off x="223920" y="631800"/>
            <a:ext cx="2971800" cy="1397160"/>
            <a:chOff x="223920" y="631800"/>
            <a:chExt cx="2971800" cy="1397160"/>
          </a:xfrm>
        </p:grpSpPr>
        <p:grpSp>
          <p:nvGrpSpPr>
            <p:cNvPr id="63" name="Овал 11"/>
            <p:cNvGrpSpPr/>
            <p:nvPr/>
          </p:nvGrpSpPr>
          <p:grpSpPr>
            <a:xfrm>
              <a:off x="223920" y="631800"/>
              <a:ext cx="2971800" cy="1397160"/>
              <a:chOff x="223920" y="631800"/>
              <a:chExt cx="2971800" cy="1397160"/>
            </a:xfrm>
          </p:grpSpPr>
          <p:pic>
            <p:nvPicPr>
              <p:cNvPr id="64" name="Овал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3920" y="631800"/>
                <a:ext cx="2971800" cy="13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666360" y="842760"/>
                <a:ext cx="208656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" name="Овал 4"/>
            <p:cNvSpPr/>
            <p:nvPr/>
          </p:nvSpPr>
          <p:spPr>
            <a:xfrm>
              <a:off x="666000" y="843120"/>
              <a:ext cx="208692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ru-RU" sz="40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Дети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Rectangle 22"/>
          <p:cNvSpPr/>
          <p:nvPr/>
        </p:nvSpPr>
        <p:spPr>
          <a:xfrm>
            <a:off x="1403280" y="-59400"/>
            <a:ext cx="60483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9ffff"/>
                </a:solidFill>
                <a:latin typeface="Arial"/>
              </a:rPr>
              <a:t>Участники проек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Группа 14"/>
          <p:cNvGrpSpPr/>
          <p:nvPr/>
        </p:nvGrpSpPr>
        <p:grpSpPr>
          <a:xfrm>
            <a:off x="1393920" y="2216160"/>
            <a:ext cx="3284280" cy="1397160"/>
            <a:chOff x="1393920" y="2216160"/>
            <a:chExt cx="3284280" cy="1397160"/>
          </a:xfrm>
        </p:grpSpPr>
        <p:grpSp>
          <p:nvGrpSpPr>
            <p:cNvPr id="69" name="Овал 15"/>
            <p:cNvGrpSpPr/>
            <p:nvPr/>
          </p:nvGrpSpPr>
          <p:grpSpPr>
            <a:xfrm>
              <a:off x="1393920" y="2216160"/>
              <a:ext cx="3284280" cy="1397160"/>
              <a:chOff x="1393920" y="2216160"/>
              <a:chExt cx="3284280" cy="1397160"/>
            </a:xfrm>
          </p:grpSpPr>
          <p:pic>
            <p:nvPicPr>
              <p:cNvPr id="70" name="Овал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1393920" y="2216160"/>
                <a:ext cx="3284280" cy="13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1881720" y="2426400"/>
                <a:ext cx="230868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" name="Овал 4"/>
            <p:cNvSpPr/>
            <p:nvPr/>
          </p:nvSpPr>
          <p:spPr>
            <a:xfrm>
              <a:off x="1882080" y="2426760"/>
              <a:ext cx="230868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Воспитател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3" name="Группа 17" descr=""/>
          <p:cNvPicPr/>
          <p:nvPr/>
        </p:nvPicPr>
        <p:blipFill>
          <a:blip r:embed="rId5"/>
          <a:stretch/>
        </p:blipFill>
        <p:spPr>
          <a:xfrm>
            <a:off x="2962440" y="4784760"/>
            <a:ext cx="3566880" cy="1682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space_ph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2"/>
          <a:stretch/>
        </p:blipFill>
        <p:spPr>
          <a:xfrm>
            <a:off x="1670040" y="36360"/>
            <a:ext cx="6035760" cy="15606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179280" y="1197720"/>
            <a:ext cx="8713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I этап. Подготовительный (Организационны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бор информации и подготовка  литературы по теме проект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развивающей  среды в групп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сти анкетирование детей с помощью опросни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ить перспективный план мероприят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обрать материал для изобразительной и продуктивно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216000" y="3402360"/>
            <a:ext cx="87120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II этап. Внедренческ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ализация запланированной рабо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влечение родителей к предстоящей творческой рабо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246240" y="4553640"/>
            <a:ext cx="871344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III этап. Обобщающ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ведение викторины «Что мы знаем о Космосе?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ыставка «Космос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Физкультурное развлеч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  <a:ea typeface="Calibri"/>
              </a:rPr>
              <a:t>Обобщение результатов инновационной деятельности на педагогическом сове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Прямоугольник 1" descr=""/>
          <p:cNvPicPr/>
          <p:nvPr/>
        </p:nvPicPr>
        <p:blipFill>
          <a:blip r:embed="rId1"/>
          <a:stretch/>
        </p:blipFill>
        <p:spPr>
          <a:xfrm>
            <a:off x="957240" y="36360"/>
            <a:ext cx="6967440" cy="2382840"/>
          </a:xfrm>
          <a:prstGeom prst="rect">
            <a:avLst/>
          </a:prstGeom>
          <a:ln w="0">
            <a:noFill/>
          </a:ln>
        </p:spPr>
      </p:pic>
      <p:sp>
        <p:nvSpPr>
          <p:cNvPr id="80" name="Багетная рамка 5"/>
          <p:cNvSpPr/>
          <p:nvPr/>
        </p:nvSpPr>
        <p:spPr>
          <a:xfrm>
            <a:off x="4692600" y="2349360"/>
            <a:ext cx="3794040" cy="4280040"/>
          </a:xfrm>
          <a:prstGeom prst="bevel">
            <a:avLst>
              <a:gd name="adj" fmla="val 12500"/>
            </a:avLst>
          </a:prstGeom>
          <a:solidFill>
            <a:srgbClr val="3399ff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ссматривание картин, плакатов, иллюстрац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Экскурсия в музей Космонавтик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оведение опытов, экспериментов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«Звёзды светя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стоянно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«Эксперимент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глобусом и лампой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«Почему все падает 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Землю?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Багетная рамка 6"/>
          <p:cNvSpPr/>
          <p:nvPr/>
        </p:nvSpPr>
        <p:spPr>
          <a:xfrm>
            <a:off x="539640" y="1982880"/>
            <a:ext cx="3884760" cy="4470480"/>
          </a:xfrm>
          <a:prstGeom prst="bevel">
            <a:avLst>
              <a:gd name="adj" fmla="val 12500"/>
            </a:avLst>
          </a:prstGeom>
          <a:solidFill>
            <a:srgbClr val="3399ff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НОД «Почему бывает день и ночь, лето и зима?», «Сколько звёзд на небе?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знавательные беседы «Неизвестная вселенная», «Планеты Солнечной системы», «Земля-какая она?», «Первооткрыватели космоса», «Земля – планета, на которой мы живём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Выгнутая влево стрелка 2"/>
          <p:cNvSpPr/>
          <p:nvPr/>
        </p:nvSpPr>
        <p:spPr>
          <a:xfrm>
            <a:off x="250920" y="609480"/>
            <a:ext cx="865080" cy="2376720"/>
          </a:xfrm>
          <a:custGeom>
            <a:avLst/>
            <a:gdLst>
              <a:gd name="textAreaLeft" fmla="*/ 115920 w 865080"/>
              <a:gd name="textAreaRight" fmla="*/ 749160 w 865080"/>
              <a:gd name="textAreaTop" fmla="*/ 513000 h 2376720"/>
              <a:gd name="textAreaBottom" fmla="*/ 175572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26" stAng="-5400000" swAng="-5400000"/>
                <a:lnTo>
                  <a:pt x="0" y="11292"/>
                </a:lnTo>
                <a:arcTo wR="21600" hR="9326" stAng="10800000" swAng="-3547113"/>
                <a:lnTo>
                  <a:pt x="16200" y="21304"/>
                </a:lnTo>
                <a:lnTo>
                  <a:pt x="21600" y="19634"/>
                </a:lnTo>
                <a:lnTo>
                  <a:pt x="16200" y="17372"/>
                </a:lnTo>
                <a:lnTo>
                  <a:pt x="16200" y="18355"/>
                </a:lnTo>
                <a:arcTo wR="21600" hR="9326" stAng="7252887" swAng="3389897"/>
                <a:lnTo>
                  <a:pt x="120" y="10308"/>
                </a:lnTo>
                <a:arcTo wR="21600" hR="9326" stAng="-10642784" swAng="5242784"/>
                <a:close/>
              </a:path>
              <a:path fill="darkenLess" w="21600" h="21600">
                <a:moveTo>
                  <a:pt x="21600" y="0"/>
                </a:moveTo>
                <a:arcTo wR="21600" hR="9326" stAng="-5400000" swAng="-5400000"/>
                <a:lnTo>
                  <a:pt x="0" y="9326"/>
                </a:lnTo>
                <a:arcTo wR="21600" hR="9326" stAng="10800000" swAng="-157216"/>
                <a:lnTo>
                  <a:pt x="120" y="10308"/>
                </a:lnTo>
                <a:arcTo wR="21600" hR="9326" stAng="-10642784" swAng="5242784"/>
                <a:close/>
              </a:path>
            </a:pathLst>
          </a:custGeom>
          <a:solidFill>
            <a:srgbClr val="59ffff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Выгнутая вправо стрелка 3"/>
          <p:cNvSpPr/>
          <p:nvPr/>
        </p:nvSpPr>
        <p:spPr>
          <a:xfrm>
            <a:off x="8028000" y="663480"/>
            <a:ext cx="919080" cy="2836800"/>
          </a:xfrm>
          <a:custGeom>
            <a:avLst/>
            <a:gdLst>
              <a:gd name="textAreaLeft" fmla="*/ 123120 w 919080"/>
              <a:gd name="textAreaRight" fmla="*/ 795960 w 919080"/>
              <a:gd name="textAreaTop" fmla="*/ 622800 h 2836800"/>
              <a:gd name="textAreaBottom" fmla="*/ 2098800 h 28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88" stAng="-5400000" swAng="5400000"/>
                <a:lnTo>
                  <a:pt x="21600" y="11237"/>
                </a:lnTo>
                <a:arcTo wR="21600" hR="9488" stAng="0" swAng="3573166"/>
                <a:lnTo>
                  <a:pt x="5400" y="21299"/>
                </a:lnTo>
                <a:lnTo>
                  <a:pt x="0" y="19851"/>
                </a:lnTo>
                <a:lnTo>
                  <a:pt x="5400" y="17800"/>
                </a:lnTo>
                <a:lnTo>
                  <a:pt x="5400" y="18675"/>
                </a:lnTo>
                <a:arcTo wR="21600" hR="9488" stAng="3573166" swAng="-3433467"/>
                <a:lnTo>
                  <a:pt x="21508" y="10363"/>
                </a:lnTo>
                <a:arcTo wR="21600" hR="9488" stAng="-139699" swAng="-5260301"/>
                <a:close/>
              </a:path>
              <a:path fill="darkenLess" w="21600" h="21600">
                <a:moveTo>
                  <a:pt x="0" y="0"/>
                </a:moveTo>
                <a:arcTo wR="21600" hR="9488" stAng="-5400000" swAng="5400000"/>
                <a:lnTo>
                  <a:pt x="21600" y="11237"/>
                </a:lnTo>
                <a:arcTo wR="21600" hR="9488" stAng="0" swAng="-139699"/>
                <a:lnTo>
                  <a:pt x="21508" y="10363"/>
                </a:lnTo>
                <a:arcTo wR="21600" hR="9488" stAng="-139699" swAng="-5260301"/>
                <a:close/>
              </a:path>
            </a:pathLst>
          </a:custGeom>
          <a:solidFill>
            <a:srgbClr val="59ffff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Багетная рамка 1"/>
          <p:cNvSpPr/>
          <p:nvPr/>
        </p:nvSpPr>
        <p:spPr>
          <a:xfrm>
            <a:off x="250920" y="404640"/>
            <a:ext cx="4173480" cy="4753080"/>
          </a:xfrm>
          <a:prstGeom prst="bevel">
            <a:avLst>
              <a:gd name="adj" fmla="val 12500"/>
            </a:avLst>
          </a:prstGeom>
          <a:solidFill>
            <a:srgbClr val="3399ff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блюдение за звёздным неб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блюдение за Лу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блюдение «Путь Солнца по небосводу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блюдение за частями суток «смена, длительность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Что необходимо для жизни на Земле (свет, тепло, вода, воздух, притяжение Земли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Багетная рамка 2"/>
          <p:cNvSpPr/>
          <p:nvPr/>
        </p:nvSpPr>
        <p:spPr>
          <a:xfrm>
            <a:off x="4692600" y="2997360"/>
            <a:ext cx="4200480" cy="3632040"/>
          </a:xfrm>
          <a:prstGeom prst="bevel">
            <a:avLst>
              <a:gd name="adj" fmla="val 12500"/>
            </a:avLst>
          </a:prstGeom>
          <a:solidFill>
            <a:srgbClr val="3399ff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здание с помощью всевозможных конструкторов композиций «Космодром», «Космические корабли», «Инопланетян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1"/>
          <a:stretch/>
        </p:blipFill>
        <p:spPr>
          <a:xfrm>
            <a:off x="817560" y="115920"/>
            <a:ext cx="8008920" cy="1560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"/>
          <p:cNvSpPr/>
          <p:nvPr/>
        </p:nvSpPr>
        <p:spPr>
          <a:xfrm>
            <a:off x="324000" y="1930320"/>
            <a:ext cx="8156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оставление творческих рассказ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бучение ролевому диалогу с диспетчер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бсуждение пословиц и поговорок, отгадывание загад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Чтение художественной литератур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Албанская сказка «Как Солнце и Луна друг к другу в гости ходил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Сказки народов Севера «Небесный олен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Л.Обухова «Как мальчик стал космонавто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05:35:22Z</dcterms:created>
  <dc:creator>SysAdmin</dc:creator>
  <dc:description/>
  <dc:language>en-US</dc:language>
  <cp:lastModifiedBy>Наталья</cp:lastModifiedBy>
  <dcterms:modified xsi:type="dcterms:W3CDTF">2018-01-14T19:36:24Z</dcterms:modified>
  <cp:revision>108</cp:revision>
  <dc:subject/>
  <dc:title>Слайд 1</dc:title>
</cp:coreProperties>
</file>