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2AB-AB67-49F9-9003-B014BDFD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172-93C5-4141-93EB-EE533DDD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C07-79BE-4007-8A7A-8D18EC41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16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16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A42-8D21-43DF-BBF1-B84DC8C6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729-8C8C-4D4A-8B4A-2468AF9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6737-5573-4DD8-91D1-8E8792DF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2DC2-8EF7-4C12-B701-473A3B63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DA90-996C-4DCA-8CCB-0088160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EBA3-7C06-4422-9CF0-C9253570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12B3-CF42-400F-B64E-3DF704E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6435-351D-4F73-A088-34AB124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F41-D8E5-4BA9-BE1F-509E9AF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4D1A-4952-48C9-87BD-416A24C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AA2A-DAC1-40CA-AC49-BE5E2121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A6B9-8C22-4E27-B989-0273D38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1BEC-5BD4-4CDB-8057-C8DC0FD8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3016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3016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A3F-C2EF-4A3D-9C61-E61E4E0C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A40-0BD1-4158-AFB5-7DA36A36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186-1C0A-4D55-A741-B0950058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8ED-5A6B-4B64-9853-B2EE018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E2D-8EAD-4DBB-BD5B-FED228E6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7A5-CB5E-4F15-A6D5-350D310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E90-B304-4522-B11F-A4795A1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DF4-C6FE-4446-944A-0D2A67B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28840" y="304920"/>
            <a:ext cx="10154520" cy="1106280"/>
            <a:chOff x="1428840" y="304920"/>
            <a:chExt cx="101545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6492600" y="30492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10111680" y="304920"/>
              <a:ext cx="14713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428840" y="306360"/>
              <a:ext cx="14709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8432640" y="304920"/>
              <a:ext cx="147132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3145320" y="304920"/>
              <a:ext cx="14688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7393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A273B8-7CA5-4365-AAAE-FF11E36DAB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212920" y="1600200"/>
            <a:ext cx="9116640" cy="3200400"/>
            <a:chOff x="2212920" y="1600200"/>
            <a:chExt cx="911664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9297720" y="160020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690912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4521240" y="160020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4521240" y="327672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2129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9297720" y="327672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7393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1E3260-522D-4559-A999-2D7888F0F7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лимпиады для младших школьник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42840" y="3505320"/>
            <a:ext cx="853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66e894215ad"/>
          <p:cNvPicPr/>
          <p:nvPr/>
        </p:nvPicPr>
        <p:blipFill>
          <a:blip r:embed="rId1"/>
          <a:stretch/>
        </p:blipFill>
        <p:spPr>
          <a:xfrm>
            <a:off x="1271520" y="2666880"/>
            <a:ext cx="54723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Tany</cp:lastModifiedBy>
  <dcterms:modified xsi:type="dcterms:W3CDTF">2023-01-25T21:01:53Z</dcterms:modified>
  <cp:revision>13</cp:revision>
  <dc:subject/>
  <dc:title>Презентация PowerPoint</dc:title>
</cp:coreProperties>
</file>