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19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5.jpeg" ContentType="image/jpeg"/>
  <Override PartName="/ppt/media/image10.jpeg" ContentType="image/jpeg"/>
  <Override PartName="/ppt/media/image4.png" ContentType="image/pn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51EEF-85EA-4B94-B837-0046DBDEE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74320"/>
            <a:ext cx="10974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10974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09120" y="3966480"/>
            <a:ext cx="10974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2BA80-9704-4082-A0A0-9D5BA679A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09120" y="274320"/>
            <a:ext cx="10974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5355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232680" y="1599840"/>
            <a:ext cx="5355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9120" y="3966480"/>
            <a:ext cx="5355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232680" y="3966480"/>
            <a:ext cx="5355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F2E8D-B84C-40C9-851B-B3ED4ED15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274320"/>
            <a:ext cx="10974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533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319640" y="1599840"/>
            <a:ext cx="3533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8030160" y="1599840"/>
            <a:ext cx="3533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09120" y="3966480"/>
            <a:ext cx="3533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4319640" y="3966480"/>
            <a:ext cx="3533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8030160" y="3966480"/>
            <a:ext cx="3533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26331-41FE-4D6F-AC8A-52322E8B0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38BC7-572D-40A6-B6FA-E5FFF1048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74320"/>
            <a:ext cx="10974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10974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18A35-518A-47C1-A704-44E3810E2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74320"/>
            <a:ext cx="10974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10974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E99C7-3F65-48B8-929F-32F5C04FA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274320"/>
            <a:ext cx="10974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53553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32680" y="1599840"/>
            <a:ext cx="53553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C9338-B187-4FF6-B576-0310FB6C8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274320"/>
            <a:ext cx="10974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CA1C0-29F6-4573-9477-3D1694593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609120" y="274320"/>
            <a:ext cx="10974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18E3E-2D50-4F07-997B-2BBC4DA7B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274320"/>
            <a:ext cx="10974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5355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232680" y="1599840"/>
            <a:ext cx="53553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9120" y="3966480"/>
            <a:ext cx="5355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5EFBE-9367-41E9-B8DA-CBA39DDB7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274320"/>
            <a:ext cx="10974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10974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56E59-6166-4B91-B7C8-A6D9DD740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274320"/>
            <a:ext cx="10974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53553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232680" y="1599840"/>
            <a:ext cx="5355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232680" y="3966480"/>
            <a:ext cx="5355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2BCCE-D179-4920-886B-3B481CC9B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74320"/>
            <a:ext cx="10974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5355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232680" y="1599840"/>
            <a:ext cx="5355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9120" y="3966480"/>
            <a:ext cx="10974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866A4-488F-4F0D-8200-D09F7EF9F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09120" y="274320"/>
            <a:ext cx="10974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10974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609120" y="3966480"/>
            <a:ext cx="10974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2F37C-96CD-4BA3-A164-963B6DDE4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120" y="274320"/>
            <a:ext cx="10974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5355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232680" y="1599840"/>
            <a:ext cx="5355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120" y="3966480"/>
            <a:ext cx="5355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232680" y="3966480"/>
            <a:ext cx="5355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15C18-1034-4C97-97BD-D2F915C6F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120" y="274320"/>
            <a:ext cx="10974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533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319640" y="1599840"/>
            <a:ext cx="3533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8030160" y="1599840"/>
            <a:ext cx="3533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609120" y="3966480"/>
            <a:ext cx="3533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4319640" y="3966480"/>
            <a:ext cx="3533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8030160" y="3966480"/>
            <a:ext cx="3533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5F0BC-5C53-4F50-9B91-F1DE1DDF2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120" y="274320"/>
            <a:ext cx="10974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10974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26136-A9C0-4CA2-8CF7-6E0800E5F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74320"/>
            <a:ext cx="10974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53553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32680" y="1599840"/>
            <a:ext cx="53553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9A939-A13E-4E53-8150-F5BB32D4D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274320"/>
            <a:ext cx="10974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EFBA3-5BEB-4CE6-A9C6-FE9628C7B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09120" y="274320"/>
            <a:ext cx="10974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D7DDD-D72D-43C0-95D8-4AEA41F7A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274320"/>
            <a:ext cx="10974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5355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232680" y="1599840"/>
            <a:ext cx="53553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09120" y="3966480"/>
            <a:ext cx="5355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B9A5B-734D-4B4D-B76C-83140985D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09120" y="274320"/>
            <a:ext cx="10974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53553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232680" y="1599840"/>
            <a:ext cx="5355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232680" y="3966480"/>
            <a:ext cx="5355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58765-F612-477F-96B9-50EEC13AA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09120" y="274320"/>
            <a:ext cx="10974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5355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232680" y="1599840"/>
            <a:ext cx="5355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09120" y="3966480"/>
            <a:ext cx="10974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3DEDB-6E96-42E6-B401-AE2D3A329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28840" y="304920"/>
            <a:ext cx="10154520" cy="1106280"/>
            <a:chOff x="1428840" y="304920"/>
            <a:chExt cx="10154520" cy="1106280"/>
          </a:xfrm>
        </p:grpSpPr>
        <p:sp>
          <p:nvSpPr>
            <p:cNvPr id="1" name="Oval 3"/>
            <p:cNvSpPr/>
            <p:nvPr/>
          </p:nvSpPr>
          <p:spPr>
            <a:xfrm flipH="1">
              <a:off x="6492600" y="304920"/>
              <a:ext cx="147312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Oval 4"/>
            <p:cNvSpPr/>
            <p:nvPr/>
          </p:nvSpPr>
          <p:spPr>
            <a:xfrm flipH="1">
              <a:off x="10111680" y="304920"/>
              <a:ext cx="147132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Oval 5"/>
            <p:cNvSpPr/>
            <p:nvPr/>
          </p:nvSpPr>
          <p:spPr>
            <a:xfrm flipH="1">
              <a:off x="1428840" y="306360"/>
              <a:ext cx="147096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Oval 6"/>
            <p:cNvSpPr/>
            <p:nvPr/>
          </p:nvSpPr>
          <p:spPr>
            <a:xfrm flipH="1">
              <a:off x="8432640" y="304920"/>
              <a:ext cx="147132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 flipH="1">
              <a:off x="3145320" y="304920"/>
              <a:ext cx="14688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609120" y="1599840"/>
            <a:ext cx="10974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609120" y="6248520"/>
            <a:ext cx="2845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4165200" y="6248520"/>
            <a:ext cx="3862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73936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634CCD2-6BB8-46B8-B2B0-BFE0F8DD49DD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609120" y="274320"/>
            <a:ext cx="10974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2212920" y="1600200"/>
            <a:ext cx="9116640" cy="3200400"/>
            <a:chOff x="2212920" y="1600200"/>
            <a:chExt cx="9116640" cy="3200400"/>
          </a:xfrm>
        </p:grpSpPr>
        <p:sp>
          <p:nvSpPr>
            <p:cNvPr id="48" name="Oval 3"/>
            <p:cNvSpPr/>
            <p:nvPr/>
          </p:nvSpPr>
          <p:spPr>
            <a:xfrm flipH="1">
              <a:off x="9297720" y="1600200"/>
              <a:ext cx="20318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Oval 4"/>
            <p:cNvSpPr/>
            <p:nvPr/>
          </p:nvSpPr>
          <p:spPr>
            <a:xfrm flipH="1">
              <a:off x="6909120" y="1600200"/>
              <a:ext cx="203220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Oval 5"/>
            <p:cNvSpPr/>
            <p:nvPr/>
          </p:nvSpPr>
          <p:spPr>
            <a:xfrm flipH="1">
              <a:off x="4521240" y="1600200"/>
              <a:ext cx="203220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6"/>
            <p:cNvSpPr/>
            <p:nvPr/>
          </p:nvSpPr>
          <p:spPr>
            <a:xfrm flipH="1">
              <a:off x="4521240" y="3276720"/>
              <a:ext cx="203220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Oval 7"/>
            <p:cNvSpPr/>
            <p:nvPr/>
          </p:nvSpPr>
          <p:spPr>
            <a:xfrm flipH="1">
              <a:off x="2212920" y="3276720"/>
              <a:ext cx="20318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Oval 8"/>
            <p:cNvSpPr/>
            <p:nvPr/>
          </p:nvSpPr>
          <p:spPr>
            <a:xfrm flipH="1">
              <a:off x="9297720" y="3276720"/>
              <a:ext cx="20318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body"/>
          </p:nvPr>
        </p:nvSpPr>
        <p:spPr>
          <a:xfrm>
            <a:off x="609120" y="1599840"/>
            <a:ext cx="10974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609120" y="274320"/>
            <a:ext cx="10974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609120" y="6248520"/>
            <a:ext cx="2845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4165200" y="6248520"/>
            <a:ext cx="3862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73936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A1EFBFD-1E81-439D-B676-CE71512495E6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ginger-cat.ru/" TargetMode="Externa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hyperlink" Target="http://www.olympiadonline.ru/" TargetMode="Externa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17080" y="691920"/>
            <a:ext cx="10161720" cy="216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</a:rPr>
              <a:t>Олимпиады для младших школьников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742840" y="3505320"/>
            <a:ext cx="85359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466e894215ad"/>
          <p:cNvPicPr/>
          <p:nvPr/>
        </p:nvPicPr>
        <p:blipFill>
          <a:blip r:embed="rId1"/>
          <a:stretch/>
        </p:blipFill>
        <p:spPr>
          <a:xfrm>
            <a:off x="1271520" y="2666880"/>
            <a:ext cx="5472360" cy="4191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1"/>
          <p:cNvSpPr/>
          <p:nvPr/>
        </p:nvSpPr>
        <p:spPr>
          <a:xfrm>
            <a:off x="523800" y="4473720"/>
            <a:ext cx="105156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96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cleve.r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2" descr=""/>
          <p:cNvPicPr/>
          <p:nvPr/>
        </p:nvPicPr>
        <p:blipFill>
          <a:blip r:embed="rId1"/>
          <a:stretch/>
        </p:blipFill>
        <p:spPr>
          <a:xfrm>
            <a:off x="1508040" y="474840"/>
            <a:ext cx="8548920" cy="2584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1"/>
          <p:cNvSpPr/>
          <p:nvPr/>
        </p:nvSpPr>
        <p:spPr>
          <a:xfrm>
            <a:off x="838080" y="4924440"/>
            <a:ext cx="105156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96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mega-talant.com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2" descr=""/>
          <p:cNvPicPr/>
          <p:nvPr/>
        </p:nvPicPr>
        <p:blipFill>
          <a:blip r:embed="rId1"/>
          <a:stretch/>
        </p:blipFill>
        <p:spPr>
          <a:xfrm>
            <a:off x="1893960" y="660240"/>
            <a:ext cx="7996320" cy="272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1"/>
          <p:cNvSpPr/>
          <p:nvPr/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2"/>
          <p:cNvSpPr/>
          <p:nvPr/>
        </p:nvSpPr>
        <p:spPr>
          <a:xfrm>
            <a:off x="660240" y="5114880"/>
            <a:ext cx="105156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96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rm.kirov.r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3" descr=""/>
          <p:cNvPicPr/>
          <p:nvPr/>
        </p:nvPicPr>
        <p:blipFill>
          <a:blip r:embed="rId1"/>
          <a:stretch/>
        </p:blipFill>
        <p:spPr>
          <a:xfrm>
            <a:off x="3965400" y="201600"/>
            <a:ext cx="3664080" cy="4397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1"/>
          <p:cNvSpPr/>
          <p:nvPr/>
        </p:nvSpPr>
        <p:spPr>
          <a:xfrm>
            <a:off x="698400" y="4378320"/>
            <a:ext cx="105156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tofeyy.r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2" descr=""/>
          <p:cNvPicPr/>
          <p:nvPr/>
        </p:nvPicPr>
        <p:blipFill>
          <a:blip r:embed="rId1"/>
          <a:stretch/>
        </p:blipFill>
        <p:spPr>
          <a:xfrm>
            <a:off x="1495440" y="450720"/>
            <a:ext cx="8923320" cy="313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1"/>
          <p:cNvSpPr/>
          <p:nvPr/>
        </p:nvSpPr>
        <p:spPr>
          <a:xfrm>
            <a:off x="660240" y="4869000"/>
            <a:ext cx="105156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ок.рф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4102200" y="417600"/>
            <a:ext cx="3732120" cy="373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1"/>
          <p:cNvSpPr/>
          <p:nvPr/>
        </p:nvSpPr>
        <p:spPr>
          <a:xfrm>
            <a:off x="838080" y="4349880"/>
            <a:ext cx="105156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vika.r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-69840" y="720720"/>
            <a:ext cx="11423520" cy="250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1"/>
          <p:cNvSpPr/>
          <p:nvPr/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2"/>
          <p:cNvSpPr/>
          <p:nvPr/>
        </p:nvSpPr>
        <p:spPr>
          <a:xfrm>
            <a:off x="838080" y="3941640"/>
            <a:ext cx="105156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ic-snail.r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3" descr=""/>
          <p:cNvPicPr/>
          <p:nvPr/>
        </p:nvPicPr>
        <p:blipFill>
          <a:blip r:embed="rId1"/>
          <a:stretch/>
        </p:blipFill>
        <p:spPr>
          <a:xfrm>
            <a:off x="1095480" y="912960"/>
            <a:ext cx="10001160" cy="208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1"/>
          <p:cNvSpPr/>
          <p:nvPr/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2"/>
          <p:cNvSpPr/>
          <p:nvPr/>
        </p:nvSpPr>
        <p:spPr>
          <a:xfrm>
            <a:off x="947880" y="4883040"/>
            <a:ext cx="105156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i-erudit.r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3" descr=""/>
          <p:cNvPicPr/>
          <p:nvPr/>
        </p:nvPicPr>
        <p:blipFill>
          <a:blip r:embed="rId1"/>
          <a:srcRect l="14371" t="11334" r="72943" b="79911"/>
          <a:stretch/>
        </p:blipFill>
        <p:spPr>
          <a:xfrm>
            <a:off x="3002040" y="846000"/>
            <a:ext cx="5973840" cy="2320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1"/>
          <p:cNvSpPr/>
          <p:nvPr/>
        </p:nvSpPr>
        <p:spPr>
          <a:xfrm>
            <a:off x="306360" y="4051440"/>
            <a:ext cx="115794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  <a:tab algn="l" pos="1123164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vuz.sfu-kras.ru/belchonok/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2" descr=""/>
          <p:cNvPicPr/>
          <p:nvPr/>
        </p:nvPicPr>
        <p:blipFill>
          <a:blip r:embed="rId1"/>
          <a:stretch/>
        </p:blipFill>
        <p:spPr>
          <a:xfrm>
            <a:off x="4038480" y="196920"/>
            <a:ext cx="4114800" cy="4127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1"/>
          <p:cNvSpPr/>
          <p:nvPr/>
        </p:nvSpPr>
        <p:spPr>
          <a:xfrm>
            <a:off x="660240" y="5059440"/>
            <a:ext cx="105156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tznanie.r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2" descr=""/>
          <p:cNvPicPr/>
          <p:nvPr/>
        </p:nvPicPr>
        <p:blipFill>
          <a:blip r:embed="rId1"/>
          <a:stretch/>
        </p:blipFill>
        <p:spPr>
          <a:xfrm>
            <a:off x="3379680" y="250920"/>
            <a:ext cx="4808520" cy="4808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2"/>
          <p:cNvSpPr/>
          <p:nvPr/>
        </p:nvSpPr>
        <p:spPr>
          <a:xfrm>
            <a:off x="947880" y="4896000"/>
            <a:ext cx="105156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ssian-kenguru.r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3" descr=""/>
          <p:cNvPicPr/>
          <p:nvPr/>
        </p:nvPicPr>
        <p:blipFill>
          <a:blip r:embed="rId1"/>
          <a:stretch/>
        </p:blipFill>
        <p:spPr>
          <a:xfrm>
            <a:off x="2765520" y="355680"/>
            <a:ext cx="5530680" cy="414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1"/>
          <p:cNvSpPr/>
          <p:nvPr/>
        </p:nvSpPr>
        <p:spPr>
          <a:xfrm>
            <a:off x="852480" y="4978440"/>
            <a:ext cx="105156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us.olimpiada.r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2" descr=""/>
          <p:cNvPicPr/>
          <p:nvPr/>
        </p:nvPicPr>
        <p:blipFill>
          <a:blip r:embed="rId1"/>
          <a:stretch/>
        </p:blipFill>
        <p:spPr>
          <a:xfrm>
            <a:off x="1017720" y="534960"/>
            <a:ext cx="9882000" cy="306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1"/>
          <p:cNvSpPr/>
          <p:nvPr/>
        </p:nvSpPr>
        <p:spPr>
          <a:xfrm>
            <a:off x="647640" y="4815000"/>
            <a:ext cx="105156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rfodu.r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2" descr=""/>
          <p:cNvPicPr/>
          <p:nvPr/>
        </p:nvPicPr>
        <p:blipFill>
          <a:blip r:embed="rId1"/>
          <a:stretch/>
        </p:blipFill>
        <p:spPr>
          <a:xfrm>
            <a:off x="1163520" y="887400"/>
            <a:ext cx="9483840" cy="2786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2"/>
          <p:cNvSpPr/>
          <p:nvPr/>
        </p:nvSpPr>
        <p:spPr>
          <a:xfrm>
            <a:off x="990720" y="4951440"/>
            <a:ext cx="105156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nkurskit.org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2660760" y="531720"/>
            <a:ext cx="6476760" cy="406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2"/>
          <p:cNvSpPr/>
          <p:nvPr/>
        </p:nvSpPr>
        <p:spPr>
          <a:xfrm>
            <a:off x="838080" y="4964040"/>
            <a:ext cx="105156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u.cerm.r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3" descr=""/>
          <p:cNvPicPr/>
          <p:nvPr/>
        </p:nvPicPr>
        <p:blipFill>
          <a:blip r:embed="rId1"/>
          <a:stretch/>
        </p:blipFill>
        <p:spPr>
          <a:xfrm>
            <a:off x="3916440" y="282600"/>
            <a:ext cx="4359240" cy="438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2"/>
          <p:cNvSpPr/>
          <p:nvPr/>
        </p:nvSpPr>
        <p:spPr>
          <a:xfrm>
            <a:off x="647640" y="4869000"/>
            <a:ext cx="105156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odog.r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3" descr=""/>
          <p:cNvPicPr/>
          <p:nvPr/>
        </p:nvPicPr>
        <p:blipFill>
          <a:blip r:embed="rId1"/>
          <a:stretch/>
        </p:blipFill>
        <p:spPr>
          <a:xfrm>
            <a:off x="2770200" y="306360"/>
            <a:ext cx="6026040" cy="4056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1" descr=""/>
          <p:cNvPicPr/>
          <p:nvPr/>
        </p:nvPicPr>
        <p:blipFill>
          <a:blip r:embed="rId1"/>
          <a:stretch/>
        </p:blipFill>
        <p:spPr>
          <a:xfrm>
            <a:off x="1231920" y="353880"/>
            <a:ext cx="9126360" cy="364500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2"/>
          <p:cNvSpPr/>
          <p:nvPr/>
        </p:nvSpPr>
        <p:spPr>
          <a:xfrm>
            <a:off x="2333520" y="4516560"/>
            <a:ext cx="7629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9600" spc="-1" strike="noStrike" u="sng">
                <a:solidFill>
                  <a:srgbClr val="6767ff"/>
                </a:solidFill>
                <a:uFillTx/>
                <a:latin typeface="Times New Roman"/>
                <a:ea typeface="Times New Roman"/>
                <a:hlinkClick r:id="rId2"/>
              </a:rPr>
              <a:t>ginger-cat.r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1" descr=""/>
          <p:cNvPicPr/>
          <p:nvPr/>
        </p:nvPicPr>
        <p:blipFill>
          <a:blip r:embed="rId1"/>
          <a:srcRect l="29370" t="25935" r="29301" b="33957"/>
          <a:stretch/>
        </p:blipFill>
        <p:spPr>
          <a:xfrm>
            <a:off x="2511360" y="136440"/>
            <a:ext cx="6796080" cy="370836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2"/>
          <p:cNvSpPr/>
          <p:nvPr/>
        </p:nvSpPr>
        <p:spPr>
          <a:xfrm>
            <a:off x="0" y="4227480"/>
            <a:ext cx="1219212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  <a:tab algn="l" pos="11231640"/>
                <a:tab algn="l" pos="11680920"/>
                <a:tab algn="l" pos="12130200"/>
              </a:tabLst>
            </a:pPr>
            <a:r>
              <a:rPr b="0" lang="ru-RU" sz="9600" spc="-1" strike="noStrike" u="sng">
                <a:solidFill>
                  <a:srgbClr val="6767ff"/>
                </a:solidFill>
                <a:uFillTx/>
                <a:latin typeface="Times New Roman"/>
                <a:ea typeface="Times New Roman"/>
                <a:hlinkClick r:id="rId2"/>
              </a:rPr>
              <a:t>olympiadonline.r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1" descr=""/>
          <p:cNvPicPr/>
          <p:nvPr/>
        </p:nvPicPr>
        <p:blipFill>
          <a:blip r:embed="rId1"/>
          <a:srcRect l="12274" t="8022" r="55841" b="76880"/>
          <a:stretch/>
        </p:blipFill>
        <p:spPr>
          <a:xfrm>
            <a:off x="1069920" y="490680"/>
            <a:ext cx="9885240" cy="263520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2"/>
          <p:cNvSpPr/>
          <p:nvPr/>
        </p:nvSpPr>
        <p:spPr>
          <a:xfrm>
            <a:off x="1069920" y="4681440"/>
            <a:ext cx="1051560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96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yndychok-znaniy.r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1"/>
          <p:cNvSpPr/>
          <p:nvPr/>
        </p:nvSpPr>
        <p:spPr>
          <a:xfrm>
            <a:off x="666720" y="4200480"/>
            <a:ext cx="105156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96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mir-olimpiad.r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2" descr=""/>
          <p:cNvPicPr/>
          <p:nvPr/>
        </p:nvPicPr>
        <p:blipFill>
          <a:blip r:embed="rId1"/>
          <a:stretch/>
        </p:blipFill>
        <p:spPr>
          <a:xfrm>
            <a:off x="1154160" y="608040"/>
            <a:ext cx="9924840" cy="24350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4-09T09:12:15Z</dcterms:created>
  <dc:creator>User</dc:creator>
  <dc:description/>
  <dc:language>en-US</dc:language>
  <cp:lastModifiedBy>Tany</cp:lastModifiedBy>
  <dcterms:modified xsi:type="dcterms:W3CDTF">2023-01-25T21:01:53Z</dcterms:modified>
  <cp:revision>13</cp:revision>
  <dc:subject/>
  <dc:title>Презентация PowerPoint</dc:title>
</cp:coreProperties>
</file>