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0E0-8786-4EB6-9E4B-00521577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398-EEC9-4470-88AC-416B1ED5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E2F-8423-4B18-9D71-CA2737F3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49A-6C77-480D-A431-68E513EB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292-7A1A-4E48-B2AA-7BAC5483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D62-BB21-489D-8778-EE819D45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EDD-416E-4EB7-B74C-BA047CA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ECF9-0674-493D-A8BB-C4F1281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94FC-B5BE-44FD-AB2A-BA88DFD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61D6-9DA4-468F-A5B3-823DE36F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AB5-3981-45D2-B0A5-C795A56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A64-E73F-45E7-9647-0BA0DD06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006-BF3A-4BFA-B38E-4E916D4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A4C5-972F-4CB1-84C5-0D888EE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31CA-D582-463E-A27D-30AC6EC2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F83D-A0F9-4F1E-8449-4584276C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A3E-4355-425A-9797-F35D582E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22E-F717-470C-ADE3-7B5B96D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DB4-E478-4AFD-B3BB-9B6BA40E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CFA-CE0D-434E-9119-3C883F03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AD3-5AA6-4F60-80D0-FDB7456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208-B510-444E-8A98-4543D98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024-F8CC-4857-86F4-15B6555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BD2-2112-4EC3-B513-D27E898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B2A-BC38-4FC4-9196-54AC4CDA2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247-83DD-492A-B211-4553D5DFA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Arial Black"/>
              </a:rPr>
              <a:t>Домашние опасности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Осторожно обращайся с электроприборами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5" b="14"/>
          <a:stretch/>
        </p:blipFill>
        <p:spPr>
          <a:xfrm>
            <a:off x="1143000" y="1752480"/>
            <a:ext cx="67816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Что означают эти знаки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6320" y="2244600"/>
            <a:ext cx="2921040" cy="3197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0" r="23" b="0"/>
          <a:stretch/>
        </p:blipFill>
        <p:spPr>
          <a:xfrm>
            <a:off x="5486400" y="2057400"/>
            <a:ext cx="2889360" cy="32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1981080"/>
            <a:ext cx="3581640" cy="3962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1981080"/>
            <a:ext cx="3581640" cy="3962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и  нашего урок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спомним, какие предметы домашнего обихода нам известны и выделим среди них опасны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ссмотрим последствия неосторожного обращения с ни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ставим правила безопасного использования  таких предме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Колющие и режущие предмет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42336" t="37579" r="2243" b="37456"/>
          <a:stretch/>
        </p:blipFill>
        <p:spPr>
          <a:xfrm>
            <a:off x="304920" y="2133720"/>
            <a:ext cx="3235320" cy="195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>
            <a:lum bright="12000"/>
          </a:blip>
          <a:srcRect l="0" t="0" r="20" b="0"/>
          <a:stretch/>
        </p:blipFill>
        <p:spPr>
          <a:xfrm rot="15365400">
            <a:off x="4576320" y="1518480"/>
            <a:ext cx="3441960" cy="4365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429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Электроприбо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1357" t="81735" r="21" b="617"/>
          <a:stretch/>
        </p:blipFill>
        <p:spPr>
          <a:xfrm>
            <a:off x="3276720" y="3505320"/>
            <a:ext cx="2214360" cy="2819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44118" t="82995" r="32184" b="1878"/>
          <a:stretch/>
        </p:blipFill>
        <p:spPr>
          <a:xfrm>
            <a:off x="4800600" y="1752480"/>
            <a:ext cx="2743200" cy="2351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4494" t="83626" r="66040" b="-11"/>
          <a:stretch/>
        </p:blipFill>
        <p:spPr>
          <a:xfrm>
            <a:off x="533520" y="1905120"/>
            <a:ext cx="2966760" cy="335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35053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гнеопасные предме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54320" b="77649"/>
          <a:stretch/>
        </p:blipFill>
        <p:spPr>
          <a:xfrm>
            <a:off x="838080" y="3276720"/>
            <a:ext cx="403884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0" b="-53"/>
          <a:stretch/>
        </p:blipFill>
        <p:spPr>
          <a:xfrm>
            <a:off x="5867280" y="1752480"/>
            <a:ext cx="1698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Будь осторожен с  колющими  и режущими предметами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27" b="33"/>
          <a:stretch/>
        </p:blipFill>
        <p:spPr>
          <a:xfrm>
            <a:off x="1371600" y="1752480"/>
            <a:ext cx="6248520" cy="510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1447920"/>
            <a:ext cx="3429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е трогай и не глотай лекарств без ведома взросл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28" b="53"/>
          <a:stretch/>
        </p:blipFill>
        <p:spPr>
          <a:xfrm>
            <a:off x="1676520" y="1789200"/>
            <a:ext cx="5943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верь, устойчив ли стул на который хочешь влезть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99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0200" y="5791320"/>
            <a:ext cx="2666880" cy="838080"/>
          </a:xfrm>
          <a:prstGeom prst="rect">
            <a:avLst/>
          </a:prstGeom>
          <a:solidFill>
            <a:srgbClr val="3366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е пихай в розетку предметы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31" b="39"/>
          <a:stretch/>
        </p:blipFill>
        <p:spPr>
          <a:xfrm>
            <a:off x="1143000" y="1339920"/>
            <a:ext cx="65530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2-20T09:16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b0000000000010292010207f7000400038000</vt:lpwstr>
  </property>
  <property fmtid="{D5CDD505-2E9C-101B-9397-08002B2CF9AE}" pid="3" name="Version">
    <vt:r8>1</vt:r8>
  </property>
</Properties>
</file>