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93B-71A1-4CDD-9E9E-AE28B70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AED-B099-4F87-98C9-F596BB3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A1F-3AF9-48B5-B9D9-4198BF1C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847-F553-4A4C-911F-ABB30655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62D-16DC-401C-B764-BF27235B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A6D-1E96-48B0-BB7B-1DBEA4CE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FDB-BB13-40D3-B682-946B8E5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CB4-921A-4ADE-B131-35E0B3C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F33-91BB-4E77-8B23-D22EEE7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FCCB-F8B4-4454-B62A-2C7F686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F17-E62D-4724-8AF0-EF68C35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01D-B294-48DD-8548-84006C2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1B9-FFA1-48CE-837C-6D0D369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7646-F3C2-4D9D-AA4B-7B10A21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6928-D086-44DA-8E5A-D07DC55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0BAB-22E7-454B-9C08-FA346749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FE4-C5AE-49E4-84F7-A2ED2C9F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BE2-230B-4646-B74B-7082033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5AD-72B6-4A64-B3DA-271AFF9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5A8-BCB3-467B-9E43-53C30A6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D2B-CC4F-4C26-AF33-72FDD7FC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365-0600-460B-977A-54AB806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DE1-7960-41D5-89DE-85B3378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C78-2367-4A9F-AEFB-5369072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49F-7B66-4F47-8ECA-517DBA27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52F9-FAD4-47AF-9DDB-B43A075A4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Arial Black"/>
              </a:rPr>
              <a:t>Домашние опасности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Осторожно обращайся с электроприборами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35" b="14"/>
          <a:stretch/>
        </p:blipFill>
        <p:spPr>
          <a:xfrm>
            <a:off x="1143000" y="1752480"/>
            <a:ext cx="67816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Что означают эти знаки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6320" y="2244600"/>
            <a:ext cx="2921040" cy="3197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0" r="23" b="0"/>
          <a:stretch/>
        </p:blipFill>
        <p:spPr>
          <a:xfrm>
            <a:off x="5486400" y="2057400"/>
            <a:ext cx="2889360" cy="32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1981080"/>
            <a:ext cx="3581640" cy="3962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1981080"/>
            <a:ext cx="3581640" cy="3962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и  нашего урок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спомним, какие предметы домашнего обихода нам известны и выделим среди них опас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ссмотрим последствия неосторожного обращения с ни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ставим правила безопасного использования  таких предме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Колющие и режущие предмет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42336" t="37579" r="2243" b="37456"/>
          <a:stretch/>
        </p:blipFill>
        <p:spPr>
          <a:xfrm>
            <a:off x="304920" y="2133720"/>
            <a:ext cx="3235320" cy="1957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>
            <a:lum bright="12000"/>
          </a:blip>
          <a:srcRect l="0" t="0" r="20" b="0"/>
          <a:stretch/>
        </p:blipFill>
        <p:spPr>
          <a:xfrm rot="15365400">
            <a:off x="4576320" y="1518480"/>
            <a:ext cx="3441960" cy="436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Электроприбо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1357" t="81735" r="21" b="617"/>
          <a:stretch/>
        </p:blipFill>
        <p:spPr>
          <a:xfrm>
            <a:off x="3276720" y="3505320"/>
            <a:ext cx="2214360" cy="281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4118" t="82995" r="32184" b="1878"/>
          <a:stretch/>
        </p:blipFill>
        <p:spPr>
          <a:xfrm>
            <a:off x="4800600" y="1752480"/>
            <a:ext cx="2743200" cy="2351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4494" t="83626" r="66040" b="-11"/>
          <a:stretch/>
        </p:blipFill>
        <p:spPr>
          <a:xfrm>
            <a:off x="533520" y="1905120"/>
            <a:ext cx="2966760" cy="335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35053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гнеопасные предме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54320" b="77649"/>
          <a:stretch/>
        </p:blipFill>
        <p:spPr>
          <a:xfrm>
            <a:off x="838080" y="327672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0" b="-53"/>
          <a:stretch/>
        </p:blipFill>
        <p:spPr>
          <a:xfrm>
            <a:off x="5867280" y="1752480"/>
            <a:ext cx="1698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Будь осторожен с  колющими  и режущими предметами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27" b="33"/>
          <a:stretch/>
        </p:blipFill>
        <p:spPr>
          <a:xfrm>
            <a:off x="1371600" y="1752480"/>
            <a:ext cx="6248520" cy="510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1447920"/>
            <a:ext cx="3429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е трогай и не глотай лекарств без ведома взросл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28" b="53"/>
          <a:stretch/>
        </p:blipFill>
        <p:spPr>
          <a:xfrm>
            <a:off x="1676520" y="1789200"/>
            <a:ext cx="5943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верь, устойчив ли стул на который хочешь влезть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99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5791320"/>
            <a:ext cx="2666880" cy="838080"/>
          </a:xfrm>
          <a:prstGeom prst="rect">
            <a:avLst/>
          </a:prstGeom>
          <a:solidFill>
            <a:srgbClr val="3366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е пихай в розетку предметы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31" b="39"/>
          <a:stretch/>
        </p:blipFill>
        <p:spPr>
          <a:xfrm>
            <a:off x="1143000" y="1339920"/>
            <a:ext cx="6553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2-20T09:16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b0000000000010292010207f7000400038000</vt:lpwstr>
  </property>
  <property fmtid="{D5CDD505-2E9C-101B-9397-08002B2CF9AE}" pid="3" name="Version">
    <vt:r8>1</vt:r8>
  </property>
</Properties>
</file>