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887A-F805-4483-B3A7-11D855AE5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AEB-F9AF-46F1-9EF7-714CB41C3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808F-2F39-4024-A602-B11137964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9B8-C023-4DB2-BE5E-F0A53E15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D70-D5B0-4AB8-B866-354588BB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6E4-7625-41D0-9A69-735EB862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494-3363-4DE7-A390-AAC55FA0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B0C-DA39-4896-9605-4B8561B9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B46-EAF1-4B38-8C32-0C1B0D27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F66-A74D-4803-96AA-6BCEF2FE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0F0-FEF4-48BA-A4BC-17FCC19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55E-A39B-48BE-AD7E-1972188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310-C3C0-4AFD-916B-2BD1A614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AF3-EC44-4AF8-A6F9-419D7C5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1FC-C58E-4065-83E7-6DBEC6B4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7873-E6ED-47AC-9D2D-B739EB62418A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28680" y="5214600"/>
            <a:ext cx="4714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Иванова И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785880" y="1052640"/>
            <a:ext cx="72151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«Психологические  особенности дет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5-6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7" descr="http://static.wixstatic.com/media/deb06f_fabd3a61d06d49b68c5fd1c30b2ac3db.jpg_srz_961_724_85_22_0.50_1.20_0.00_jpg_srz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Заголовок 1" descr=""/>
          <p:cNvPicPr/>
          <p:nvPr/>
        </p:nvPicPr>
        <p:blipFill>
          <a:blip r:embed="rId2"/>
          <a:stretch/>
        </p:blipFill>
        <p:spPr>
          <a:xfrm>
            <a:off x="476280" y="1908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71280" y="1184400"/>
            <a:ext cx="67784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Терп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бъясн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твлеч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Нетороплив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Наград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7" descr="http://static.wixstatic.com/media/deb06f_fabd3a61d06d49b68c5fd1c30b2ac3db.jpg_srz_961_724_85_22_0.50_1.20_0.00_jpg_srz"/>
          <p:cNvPicPr/>
          <p:nvPr/>
        </p:nvPicPr>
        <p:blipFill>
          <a:blip r:embed="rId1"/>
          <a:stretch/>
        </p:blipFill>
        <p:spPr>
          <a:xfrm>
            <a:off x="-34920" y="-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Молч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Говорить «Я тебя больше не любл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Упрекать и вспоминать былые грех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Физ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Кричать на реб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http://static.wixstatic.com/media/deb06f_fabd3a61d06d49b68c5fd1c30b2ac3db.jpg_srz_961_724_85_22_0.50_1.20_0.00_jpg_srz"/>
          <p:cNvPicPr/>
          <p:nvPr/>
        </p:nvPicPr>
        <p:blipFill>
          <a:blip r:embed="rId1"/>
          <a:stretch/>
        </p:blipFill>
        <p:spPr>
          <a:xfrm>
            <a:off x="1440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Рекомендации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907560"/>
            <a:ext cx="80280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1. Принимать ребенка так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2. Активно слушать его переживания, и потре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3. Читать, играть, заниматься вме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4. Не вмешиваться в его занятия, с которыми ребенок справля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5. Помогать , когда ребенок прос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6. Поддерживать его успе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7. Делиться своими чувст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8. Конструктивно разрешать конфлик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9. Хвалить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10. Обнимать не менее 4-х, а лучше 8  раз в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2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774"/>
                </a:solidFill>
                <a:latin typeface="Times New Roman"/>
              </a:rPr>
              <a:t>УДАЧИ ВАМ В ВОСПИТАНИИ ДЕТ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100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 5-6 лет- возраст активного развития физических и познавательных способностей ребенка, общения со сверстн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4100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ем не менее игра остается основным способом познания окружающего ми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41000" algn="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Это период благоприятный для развития всех познавательных процессов: внимания, восприятия, мышления,  воображения, памят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Ведущая деятельность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игра со сверстни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Условия успешност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собственный широкий кругозор, хорошо развитая реч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Отношения со сверстникам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партнер по играм, предпочтения в общ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Отношения со взрослым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источник информации, собесед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Способ познания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общение со взрослым,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сверстником, самостоятельная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деятельность, эксперимент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Эмоции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- настроение ровное,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оптимистическ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785880" y="1649520"/>
            <a:ext cx="7900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Признаки познавательно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71680" y="1268280"/>
            <a:ext cx="8115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Ребенок сам занимается умственной деятель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Предпочитает сам найти ответ на вопр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Просит почитать книги, дослушивает до ко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Положительно относится к занятиям, связанным с умственным напряж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Часто задает вопро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Дожидается ответа на заданный вопр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Склонен к принятию собственных 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решений, опираясь на свои знания, 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умения в различных видах 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80"/>
                </a:solidFill>
                <a:latin typeface="Cambria"/>
              </a:rPr>
              <a:t>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1880" y="410760"/>
            <a:ext cx="82584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</a:rPr>
              <a:t>Если до 5 лет ребенка интересовал окружающий мир, то после присоединяется интерес к  взаимоотношениям люд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</a:rPr>
              <a:t>Дети чувствуют любую неискренность и перестают доверять человеку, который обманул. Старшие дошкольники способны различать весь спектр человеческих эмоций, у них появляются устойчивые чувства и отно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Формируются  высшие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4240" y="1125000"/>
            <a:ext cx="7972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774"/>
                </a:solidFill>
                <a:latin typeface="Cambria"/>
              </a:rPr>
              <a:t>Мораль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горд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сты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друж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774"/>
                </a:solidFill>
                <a:latin typeface="Cambria"/>
              </a:rPr>
              <a:t>Интеллектуальные</a:t>
            </a:r>
            <a:r>
              <a:rPr b="0" i="1" lang="ru-RU" sz="2400" spc="-1" strike="noStrike">
                <a:solidFill>
                  <a:srgbClr val="002774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любозн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интер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уди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774"/>
                </a:solidFill>
                <a:latin typeface="Cambria"/>
              </a:rPr>
              <a:t>Эстетические</a:t>
            </a: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прекрас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Cambria"/>
              </a:rPr>
              <a:t>- чувство героическ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785880" y="981000"/>
            <a:ext cx="72151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Часто в этом возрасте появляется такая черта, как лживость, т. е. целенаправленное искажение ист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Формируются основные черты характера ребе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Уже можно понять, каким будет ребенок в будущ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714240" y="928440"/>
            <a:ext cx="79725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Но родители продолжают оставаться примером для де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mbria"/>
              </a:rPr>
              <a:t>Если родители несут позитивную информацию, если у ребенка на душе хорошо, нет страха, обиды, тревоги, то любую информацию (личностную и интеллектуальную) можно заложить в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" descr="http://static.wixstatic.com/media/deb06f_fabd3a61d06d49b68c5fd1c30b2ac3db.jpg_srz_961_724_85_22_0.50_1.20_0.00_jpg_sr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774"/>
                </a:solidFill>
                <a:latin typeface="Times New Roman"/>
              </a:rPr>
              <a:t>Причины серьезных </a:t>
            </a:r>
            <a:br>
              <a:rPr sz="3200"/>
            </a:br>
            <a:r>
              <a:rPr b="1" lang="ru-RU" sz="3200" spc="-1" strike="noStrike">
                <a:solidFill>
                  <a:srgbClr val="002774"/>
                </a:solidFill>
                <a:latin typeface="Times New Roman"/>
              </a:rPr>
              <a:t>нарушений поведения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9680" y="1499760"/>
            <a:ext cx="818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Борьба за внимание: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 ребенку не хватает внимания, которое ему так необходимо для нормального развития и эмоционального благополучия. Дети часто обижены на родителей. Причины могут быть разн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Борьба за самоутверждение: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борьба против чрезмерной родительской опеки и в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Потеря веры в собственный успех: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ребенок переживает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свое неблагополучие в какой-то одной области жизни, а неудачи у него возникают совсем в другой. Он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приходит к выводу: «Нечего стараться, 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все равно ничего не выйдет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4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2774"/>
                </a:solidFill>
                <a:latin typeface="Times New Roman"/>
              </a:rPr>
              <a:t>Результат неправильного воспитания   ребенка в сем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785880" y="1649520"/>
            <a:ext cx="72151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2:34:02Z</dcterms:created>
  <dc:creator>ela</dc:creator>
  <dc:description/>
  <dc:language>en-US</dc:language>
  <cp:lastModifiedBy>Учетная запись Майкрософт</cp:lastModifiedBy>
  <dcterms:modified xsi:type="dcterms:W3CDTF">2023-01-26T15:15:38Z</dcterms:modified>
  <cp:revision>47</cp:revision>
  <dc:subject/>
  <dc:title>Слайд 1</dc:title>
</cp:coreProperties>
</file>