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5D23-3D32-4120-AEF9-22DB29B8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7F82-AD55-4715-9F8D-9292AF16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7B56-379F-47FC-8566-813F52DD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1BE3-9C41-4598-A6BC-574C2370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1D5B-6B23-45AE-A16E-289A6F27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76E5-E863-43F9-A435-4C038D66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E445-D37E-440A-A21F-E900F257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A3AD-1B89-449F-AFBA-1F04F83E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DFC1-2228-40A1-B12D-15DD90A8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CC7E-A7DE-4861-B253-F4A0F252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BB58-0417-4447-A3BF-7E3F20C5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DDF-67A8-431B-95D1-DA2A8E38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A0CB-E42C-4E3F-B472-71C8418D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7CDB-CDC1-4950-83A6-F7929BAD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D09E-6718-4072-A98A-A97FB016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F6DB-A838-4738-9F84-3A4C2F76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2106-A888-49B9-9248-FFCCCD15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1C4-88DA-49C8-9C12-8902BEEA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4A67-9FBC-43D4-B7D8-09CC52C8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D9E-580A-486D-B5C6-1FAB6F16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518-D3B9-40A2-A3BF-7EF4F317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EB7-D515-4FC3-A680-CFC8E061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05CF-DBE1-4DA6-9D27-EA03098E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2CCC-4BA4-4854-AFAB-BF75DCD6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CD7D-7DD9-46F4-855F-9B077D83CFC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008E-D686-413F-B833-040607D8E65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00720" y="4653000"/>
            <a:ext cx="2232000" cy="19479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68706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Сочинение по картине Ф.П.Решетникова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«Опять двойка!»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69608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Описание внешности челове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Урок русского языка в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7 класс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15920"/>
            <a:ext cx="1879560" cy="190512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3794"/>
                </a:moveTo>
                <a:lnTo>
                  <a:pt x="20933" y="10800"/>
                </a:lnTo>
                <a:lnTo>
                  <a:pt x="6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766764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10800"/>
                </a:moveTo>
                <a:lnTo>
                  <a:pt x="19374" y="3794"/>
                </a:lnTo>
                <a:lnTo>
                  <a:pt x="1937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47280" y="380880"/>
            <a:ext cx="45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Comic Sans MS"/>
              </a:rPr>
              <a:t>Лексиче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2133720"/>
            <a:ext cx="7561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Эски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предварительный набросок карт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турщик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человек, который позирует художнику для написания портр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омпозиция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построение произведения, расположение предметов,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олорит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сочетание крас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1800000" cy="1655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опять двойка"/>
          <p:cNvPicPr/>
          <p:nvPr/>
        </p:nvPicPr>
        <p:blipFill>
          <a:blip r:embed="rId3"/>
          <a:stretch/>
        </p:blipFill>
        <p:spPr>
          <a:xfrm>
            <a:off x="2627280" y="404640"/>
            <a:ext cx="4600440" cy="604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503280" cy="433440"/>
          </a:xfrm>
          <a:custGeom>
            <a:avLst/>
            <a:gdLst>
              <a:gd name="textAreaLeft" fmla="*/ 28080 w 503280"/>
              <a:gd name="textAreaRight" fmla="*/ 475200 w 5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078" h="21600">
                <a:moveTo>
                  <a:pt x="0" y="0"/>
                </a:moveTo>
                <a:lnTo>
                  <a:pt x="25078" y="0"/>
                </a:lnTo>
                <a:lnTo>
                  <a:pt x="25078" y="21600"/>
                </a:lnTo>
                <a:lnTo>
                  <a:pt x="0" y="21600"/>
                </a:lnTo>
                <a:close/>
              </a:path>
              <a:path fill="lightenLess" w="25078" h="21600">
                <a:moveTo>
                  <a:pt x="0" y="0"/>
                </a:moveTo>
                <a:lnTo>
                  <a:pt x="25078" y="0"/>
                </a:lnTo>
                <a:lnTo>
                  <a:pt x="23678" y="1400"/>
                </a:lnTo>
                <a:lnTo>
                  <a:pt x="1400" y="1400"/>
                </a:lnTo>
                <a:close/>
              </a:path>
              <a:path fill="darken" w="25078" h="21600">
                <a:moveTo>
                  <a:pt x="25078" y="0"/>
                </a:moveTo>
                <a:lnTo>
                  <a:pt x="25078" y="21600"/>
                </a:lnTo>
                <a:lnTo>
                  <a:pt x="23678" y="20200"/>
                </a:lnTo>
                <a:lnTo>
                  <a:pt x="23678" y="1400"/>
                </a:lnTo>
                <a:close/>
              </a:path>
              <a:path fill="darkenLess" w="25078" h="21600">
                <a:moveTo>
                  <a:pt x="25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78" y="20200"/>
                </a:lnTo>
                <a:close/>
              </a:path>
              <a:path fill="lighten" w="25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78" h="21600">
                <a:moveTo>
                  <a:pt x="5532" y="3794"/>
                </a:moveTo>
                <a:lnTo>
                  <a:pt x="19545" y="10800"/>
                </a:lnTo>
                <a:lnTo>
                  <a:pt x="553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8101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1800000" cy="1655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124000" y="907920"/>
            <a:ext cx="540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ртина Ф.П.Решетникова «Опять двойка!» выставлена в Москве в Государственной Третьяковской гале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рители, особенно школьники, подолгу останавливаются перед ней и с большим интересом рассматривают это полотно. Взрослых трогает отчаяние матери, а школьников, конечно, интересует герой кар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дни зрители улыбаются, глядя на неудачника, другие смотрят с сочувствием, даже с тревогой, быть может, вспоминают и свои злополучные двой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ждый по-своему читает полотно художника, и никто не остаётся равнодуш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08000" y="333360"/>
            <a:ext cx="687096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абота по вопроса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Где происходит действие картины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Кто находится в комнат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Почему он отвернулся от мамы и от младшего братик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Узнали вы геро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Как художник показал, что малыш – главное действующее лиц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Где находятся остальные герои? Куда они смотрят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774072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800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47640" y="-3877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опросы-помощн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Ученик – главный герой карти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ой возраст школьник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 чем говорят его внешний вид, одежда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за, выражение лиц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он держит в рук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 чем говорит эта вещ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800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6328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опросы-помощн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Мама получившего двойку учени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она выгляди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 чем говорят ее поза, выражение лиц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вы сочувствуете этой женщин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800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опросы-помощн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99640" y="2276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Сестра  «виновника событий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изображена сестр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выражает ее взгля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800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опросы-помощн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Младший брат мальчи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встречает брата шестилетний мальчишк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чем он сиди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800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764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опросы-помощн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Бело-рыжий пе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художник изобразил собак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 чем говорит поза собак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800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341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Комната – отражение быта 60-х годов прошлого ве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иний цвет стен, на стене висят часы с маятником, календар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вер на пол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ерез дверь в другую комнату видны фикус на подоконнике и картина на стен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74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дготовиться к написанию сочинения по картин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знакомиться с художником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знать, что такое колорит картин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алитра картин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он картин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лутон картин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ередний, средний, задний план картин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учиться правильно и последовательно описывать картин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081080" cy="100980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3794"/>
                </a:moveTo>
                <a:lnTo>
                  <a:pt x="19338" y="10800"/>
                </a:lnTo>
                <a:lnTo>
                  <a:pt x="5325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7812000" y="6237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10800"/>
                </a:moveTo>
                <a:lnTo>
                  <a:pt x="19338" y="3794"/>
                </a:lnTo>
                <a:lnTo>
                  <a:pt x="19338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кромный, неяркий. Ведь художник рассказывает не о праздничном событии, а  об обычном, будничном дне. Используются приглушённые тона (голубовато-серые стены, коричневый пол). Скромный, неяркий. Ведь художник рассказывает не о праздничном событии, а  об обычном, будничном дне. Используются приглушённые тона (голубовато-серые стены, коричневый пол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e04"/>
                </a:solidFill>
                <a:latin typeface="Comic Sans MS"/>
              </a:rPr>
              <a:t>Колори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74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e04"/>
                </a:solidFill>
                <a:latin typeface="Comic Sans MS"/>
              </a:rPr>
              <a:t>Синоним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Главный герой картины –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Художник –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Рисовать –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мотреть с укором –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74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0e04"/>
                </a:solidFill>
                <a:latin typeface="Times New Roman"/>
              </a:rPr>
              <a:t>Орфографическая работ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отёртый п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ртфель, поноше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нн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ое пальто, дли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нн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ая беч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ё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вка, дет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ск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ий 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лос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ед, любимая с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бачка, голубоват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о-с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ерые стены, простен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кий коврик, х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лок на макушке, тёмная к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ыночка, смотрит с ук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ризной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474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чало сочи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Ф.П.Решетников – известный живописец. Ему принадлежат многие произведения. Среди них и картина «Опять двойка!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Ф.П. Решетников – известный художник. Его произведения «Прибыл на каникулы», «За мир», «Переэкзаменовка», «Опять двойка!» на всемирной выставке в Брюсселе были награждены бронзовой медаль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74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Ф.П.Решетников – известный художни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Описание картины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)Основная мысль картины «Опять двойка!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)Главный герой произведения – девятилетний мальчи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)Ма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)Сестр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)Шестилетний братиш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)Четвероногий дру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)Композиц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)Колори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)Отношение художника к изображённом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Какое впечатление картина произвела на мен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474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152360" cy="123984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7667640" y="623736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835280" y="333360"/>
            <a:ext cx="49593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Федор Павлович Решетников (1906-1986)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«Опять двойка!» (холст, масло, 1952)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опять двойка"/>
          <p:cNvPicPr/>
          <p:nvPr/>
        </p:nvPicPr>
        <p:blipFill>
          <a:blip r:embed="rId2"/>
          <a:stretch/>
        </p:blipFill>
        <p:spPr>
          <a:xfrm>
            <a:off x="1979640" y="1125360"/>
            <a:ext cx="547380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8137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Фёдор Павлович Решетников – замечательный художник, родился в 1906 году. С юных лет он увлекался рисованием. Ещё студентом Московского художественного института он плавал на легендарном корабле «Челюскин» и сделал там множество зарисовок. Вместе с другими героями-челюскинцами он был снят  с дрейфующей льд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озвратившись на Большую Землю, написал несколько картин, посвящённых Арктик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годы Великой Отечественной войны он был на фронте, защищал Севастополь. По окончании войны он вернулся к своей профессии. Любимыми героями его полотен стали дети. Широко известны его картины «Прибыл на каникулы», «За мир», «Переэкзаменовка», «Опять двойка!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1655640" cy="160020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7740720" y="623736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10800"/>
                </a:moveTo>
                <a:lnTo>
                  <a:pt x="20893" y="3794"/>
                </a:lnTo>
                <a:lnTo>
                  <a:pt x="2089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3794"/>
                </a:moveTo>
                <a:lnTo>
                  <a:pt x="19338" y="10800"/>
                </a:lnTo>
                <a:lnTo>
                  <a:pt x="5325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476280"/>
            <a:ext cx="53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Comic Sans MS"/>
              </a:rPr>
              <a:t>Слово о художн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69608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91628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491184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759636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10800"/>
                </a:moveTo>
                <a:lnTo>
                  <a:pt x="20933" y="3794"/>
                </a:lnTo>
                <a:lnTo>
                  <a:pt x="2093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3794"/>
                </a:moveTo>
                <a:lnTo>
                  <a:pt x="20933" y="10800"/>
                </a:lnTo>
                <a:lnTo>
                  <a:pt x="6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8862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471168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7956720" y="623736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10800"/>
                </a:moveTo>
                <a:lnTo>
                  <a:pt x="19331" y="3794"/>
                </a:lnTo>
                <a:lnTo>
                  <a:pt x="1933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8532720" y="623736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3824"/>
                </a:moveTo>
                <a:lnTo>
                  <a:pt x="17806" y="10831"/>
                </a:lnTo>
                <a:lnTo>
                  <a:pt x="3794" y="1783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опять двойка"/>
          <p:cNvPicPr/>
          <p:nvPr/>
        </p:nvPicPr>
        <p:blipFill>
          <a:blip r:embed="rId1"/>
          <a:stretch/>
        </p:blipFill>
        <p:spPr>
          <a:xfrm>
            <a:off x="1835280" y="260280"/>
            <a:ext cx="5761080" cy="58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0"/>
            <a:ext cx="147456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573920" y="333360"/>
            <a:ext cx="63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Comic Sans MS"/>
              </a:rPr>
              <a:t>История создания карт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42920" y="148428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Художник вспомин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Мысль написать картину родилась у меня в школе, когда я сидел на уроке, наблюдая за учеником, который не мог решить у доски задачу. Я живо представил себе, как дома встретят мальчика, если он получит двойку, и решил написать об этом картин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7:16:18Z</dcterms:created>
  <dc:creator>ИННА</dc:creator>
  <dc:description/>
  <dc:language>en-US</dc:language>
  <cp:lastModifiedBy>User</cp:lastModifiedBy>
  <dcterms:modified xsi:type="dcterms:W3CDTF">2023-01-26T15:39:13Z</dcterms:modified>
  <cp:revision>6</cp:revision>
  <dc:subject/>
  <dc:title>МКОУ Бирюченская СОШ</dc:title>
</cp:coreProperties>
</file>