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67B-C9FA-4652-8FD9-2D225AA0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67D-136A-48FC-B398-380FE21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790-1954-4ACA-8C30-3B363A2A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757-2EB7-42A0-A9CD-470513F8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4FB-B279-4A64-ACFB-8DB8762C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C7A-F666-41B3-9AFE-4FC1DEBF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433A-F88D-4415-8D80-D30ACC7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90B7-FB16-4492-B18D-B1985DF8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870-5979-4DA6-AE5D-B2ECC4D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0034-3105-42EC-B5AE-E611B492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AF85-F232-402D-8007-BF0C27B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F71-7383-4BD8-8F75-AA73DA1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2588-B5B6-4FA8-9FC9-3562F7D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F1E-0B86-4E06-93B2-651CF07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5BE3-EECA-4010-AA13-FE9E390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E8A2-583A-4CFC-837A-9C86B410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06ED-BDBA-4018-AF89-3C273240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F6E-E149-4EC4-81D0-903AD5C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E01-3884-41BC-9D2C-470EEB14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FB8-81E1-4E72-B9E0-33277207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229-55CD-4C35-9045-99382D4F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80F-22F0-4CF6-9152-0EB5BEE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CFB-D089-4636-8584-C7A1711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521-F415-4354-BEC0-667BECB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62EA-7DC8-4E02-929F-62D6ADFDE6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8935-DD93-4424-8B72-9941A9322C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232000" cy="1947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6870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чинение по картине Ф.П.Решетников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«Опять двойка!»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Описание внешност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Урок русского языка 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7 класс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87956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47280" y="38088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Comic Sans MS"/>
              </a:rPr>
              <a:t>Лекс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13372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Эски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предварительный набросок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турщ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человек, который позирует художнику для написания порт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омпозиц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построение произведения, расположение предметов,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олори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сочетание кра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опять двойка"/>
          <p:cNvPicPr/>
          <p:nvPr/>
        </p:nvPicPr>
        <p:blipFill>
          <a:blip r:embed="rId3"/>
          <a:stretch/>
        </p:blipFill>
        <p:spPr>
          <a:xfrm>
            <a:off x="2627280" y="404640"/>
            <a:ext cx="460044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503280" cy="433440"/>
          </a:xfrm>
          <a:custGeom>
            <a:avLst/>
            <a:gdLst>
              <a:gd name="textAreaLeft" fmla="*/ 28080 w 503280"/>
              <a:gd name="textAreaRight" fmla="*/ 475200 w 5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078" h="21600">
                <a:moveTo>
                  <a:pt x="0" y="0"/>
                </a:moveTo>
                <a:lnTo>
                  <a:pt x="25078" y="0"/>
                </a:lnTo>
                <a:lnTo>
                  <a:pt x="25078" y="21600"/>
                </a:lnTo>
                <a:lnTo>
                  <a:pt x="0" y="21600"/>
                </a:lnTo>
                <a:close/>
              </a:path>
              <a:path fill="lightenLess" w="25078" h="21600">
                <a:moveTo>
                  <a:pt x="0" y="0"/>
                </a:moveTo>
                <a:lnTo>
                  <a:pt x="25078" y="0"/>
                </a:lnTo>
                <a:lnTo>
                  <a:pt x="23678" y="1400"/>
                </a:lnTo>
                <a:lnTo>
                  <a:pt x="1400" y="1400"/>
                </a:lnTo>
                <a:close/>
              </a:path>
              <a:path fill="darken" w="25078" h="21600">
                <a:moveTo>
                  <a:pt x="25078" y="0"/>
                </a:moveTo>
                <a:lnTo>
                  <a:pt x="25078" y="21600"/>
                </a:lnTo>
                <a:lnTo>
                  <a:pt x="23678" y="20200"/>
                </a:lnTo>
                <a:lnTo>
                  <a:pt x="23678" y="1400"/>
                </a:lnTo>
                <a:close/>
              </a:path>
              <a:path fill="darkenLess" w="25078" h="21600">
                <a:moveTo>
                  <a:pt x="25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8" y="20200"/>
                </a:lnTo>
                <a:close/>
              </a:path>
              <a:path fill="lighten" w="25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8" h="21600">
                <a:moveTo>
                  <a:pt x="5532" y="3794"/>
                </a:moveTo>
                <a:lnTo>
                  <a:pt x="19545" y="10800"/>
                </a:lnTo>
                <a:lnTo>
                  <a:pt x="553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24000" y="907920"/>
            <a:ext cx="54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тина Ф.П.Решетникова «Опять двойка!» выставлена в Москве в Государственной Третьяковской гале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рители, особенно школьники, подолгу останавливаются перед ней и с большим интересом рассматривают это полотно. Взрослых трогает отчаяние матери, а школьников, конечно, интересует герой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и зрители улыбаются, глядя на неудачника, другие смотрят с сочувствием, даже с тревогой, быть может, вспоминают и свои злополучные дво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ый по-своему читает полотно художника, и никто не остаётся равнод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68709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бота по вопрос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де происходит действие картин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то находится в комнат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чему он отвернулся от мамы и от младшего брати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знали вы геро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ак художник показал, что малыш – главное действующее лиц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де находятся остальные герои? Куда они смотря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-387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Ученик – главный герой карт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й возраст школьни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чем говорят его внешний вид, одежд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а, выражение л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держит в ру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чем говорит эта вещ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Мама получившего двойку учен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на выгляди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чем говорят ее поза, выражение лиц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вы сочувствуете этой женщин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Сестра  «виновника событий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изображена сест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ражает ее взгля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Младший брат мальч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стречает брата шестилетний мальчишк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чем он сид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просы-помощ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Бело-рыжий пе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художник изобразил собак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чем говорит поза соба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0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Комната – отражение быта 60-х годов прошлого 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иний цвет стен, на стене висят часы с маятником, календар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вер на пол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ез дверь в другую комнату видны фикус на подоконнике и картина на сте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готовиться к написанию сочинения по карти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знакомиться с художнико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знать, что такое колорит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алитра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он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утон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едний, средний, задний план карти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учиться правильно и последовательно описывать картин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81080" cy="10098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10800"/>
                </a:moveTo>
                <a:lnTo>
                  <a:pt x="19338" y="3794"/>
                </a:lnTo>
                <a:lnTo>
                  <a:pt x="1933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кромный, неяркий. Ведь художник рассказывает не о праздничном событии, а  об обычном, будничном дне. Используются приглушённые тона (голубовато-серые стены, коричневый пол). Скромный, неяркий. Ведь художник рассказывает не о праздничном событии, а  об обычном, будничном дне. Используются приглушённые тона (голубовато-серые стены, коричневый пол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e04"/>
                </a:solidFill>
                <a:latin typeface="Comic Sans MS"/>
              </a:rPr>
              <a:t>Колори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e04"/>
                </a:solidFill>
                <a:latin typeface="Comic Sans MS"/>
              </a:rPr>
              <a:t>Синони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лавный герой картины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удожник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исовать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мотреть с укором 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e04"/>
                </a:solidFill>
                <a:latin typeface="Times New Roman"/>
              </a:rPr>
              <a:t>Орфографическая рабо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тёртый 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тфель, понош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е пальто, дли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ая беч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ка, де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й 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о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ед, любимая 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бачка, голубова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-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ерые стены, простен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ий коврик, х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ок на макушке, тёмная 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ыночка, смотрит с у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изной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чало сочи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Ф.П.Решетников – известный живописец. Ему принадлежат многие произведения. Среди них и картина «Опять двойка!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Ф.П. Решетников – известный художник. Его произведения «Прибыл на каникулы», «За мир», «Переэкзаменовка», «Опять двойка!» на всемирной выставке в Брюсселе были награждены бронзовой медал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Ф.П.Решетников – известный художн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Описание картин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)Основная мысль картины «Опять двойка!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Главный герой произведения – девятилетний мальч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Ма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)Сестр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)Шестилетний братиш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)Четвероногий дру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)Композиц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)Колори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)Отношение художника к изображённом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Какое впечатление картина произвела на мен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152360" cy="1239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835280" y="333360"/>
            <a:ext cx="49593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Федор Павлович Решетников (1906-1986)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«Опять двойка!» (холст, масло, 1952)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опять двойка"/>
          <p:cNvPicPr/>
          <p:nvPr/>
        </p:nvPicPr>
        <p:blipFill>
          <a:blip r:embed="rId2"/>
          <a:stretch/>
        </p:blipFill>
        <p:spPr>
          <a:xfrm>
            <a:off x="1979640" y="1125360"/>
            <a:ext cx="54738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13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ёдор Павлович Решетников – замечательный художник, родился в 1906 году. С юных лет он увлекался рисованием. Ещё студентом Московского художественного института он плавал на легендарном корабле «Челюскин» и сделал там множество зарисовок. Вместе с другими героями-челюскинцами он был снят  с дрейфующей ль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звратившись на Большую Землю, написал несколько картин, посвящённых Аркти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годы Великой Отечественной войны он был на фронте, защищал Севастополь. По окончании войны он вернулся к своей профессии. Любимыми героями его полотен стали дети. Широко известны его картины «Прибыл на каникулы», «За мир», «Переэкзаменовка», «Опять двойка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165564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762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Comic Sans MS"/>
              </a:rPr>
              <a:t>Слово о худож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91628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9118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59636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20933" y="10800"/>
                </a:lnTo>
                <a:lnTo>
                  <a:pt x="6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886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7116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7956720" y="623736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10800"/>
                </a:moveTo>
                <a:lnTo>
                  <a:pt x="19331" y="3794"/>
                </a:lnTo>
                <a:lnTo>
                  <a:pt x="1933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532720" y="623736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3824"/>
                </a:moveTo>
                <a:lnTo>
                  <a:pt x="17806" y="10831"/>
                </a:lnTo>
                <a:lnTo>
                  <a:pt x="3794" y="178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опять двойка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14745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73920" y="33336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Comic Sans MS"/>
              </a:rPr>
              <a:t>История создания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14842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Художник вспомин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Мысль написать картину родилась у меня в школе, когда я сидел на уроке, наблюдая за учеником, который не мог решить у доски задачу. Я живо представил себе, как дома встретят мальчика, если он получит двойку, и решил написать об этом картин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7:16:18Z</dcterms:created>
  <dc:creator>ИННА</dc:creator>
  <dc:description/>
  <dc:language>en-US</dc:language>
  <cp:lastModifiedBy>User</cp:lastModifiedBy>
  <dcterms:modified xsi:type="dcterms:W3CDTF">2023-01-26T15:39:13Z</dcterms:modified>
  <cp:revision>6</cp:revision>
  <dc:subject/>
  <dc:title>МКОУ Бирюченская СОШ</dc:title>
</cp:coreProperties>
</file>