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png" ContentType="image/png"/>
  <Override PartName="/ppt/media/image13.png" ContentType="image/png"/>
  <Override PartName="/ppt/media/image12.jpeg" ContentType="image/jpeg"/>
  <Override PartName="/ppt/media/image17.jpeg" ContentType="image/jpe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5140-8F75-428D-8349-A199B36B1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1DA3-6198-4F79-920E-FF8A6E9E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C66F-9ED9-4D7B-B75B-24C9B953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1EBF-0187-4981-A0D1-A61AF6DA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91A8-86F4-4D1B-B6D3-55CF1A245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C7AF-360F-4DD2-BBF9-D164BE8E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8955-C60F-4B2A-BF8E-1FCD5D78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7A09-B962-42ED-913F-638F3FF8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D586-B801-435B-82B3-5FA088FE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7453-F1ED-401F-B764-348D9F57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C896-5139-433F-B45D-799247D8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2A30-0684-40F8-9CA7-6AE833F6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0104-D776-469C-A87A-FFD26FE9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7864-4880-4CCA-91B5-C332DFD4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F99C-2ACD-420F-B3A7-E6648FAB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B4CA-9330-48A0-9BA1-6EC1E2E6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D3F6-BA17-4952-997A-0826080CA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E0102-5E47-4DA5-978E-0AEC6811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D9D6B-24C7-4214-845B-A4A92E46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7DEF9-4BA6-4AA6-9189-5A8B2BFD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3EEB2-6635-427F-9689-DFB0D116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641BC-43DC-41D4-A786-E69524B4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5B5E-B4D0-40C8-954D-6C917A2C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87335-DF32-425F-AF7C-95BCAB30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1673D-72DC-46FE-A208-79DF4D93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67207-270A-45A8-AB87-C224A2B8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22A98-C85D-4F92-8F09-BEBD8777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C2452-8210-47E9-9AD3-8E56FADE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D9A90-13C3-46C4-A58B-03E054156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48777-D270-4EA2-A30D-4424251AF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FE443-5B17-4875-87D7-59A08C11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63146-988D-4BC6-9EB7-4CE23CF5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9E145-C71B-4758-BFEF-C9245619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1FAC-0565-4C21-96B2-E8D76413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2E129-FDFE-437B-92C4-BBA79C5C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5B065-9832-4E6A-936F-072BA04C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C70E6-4DF0-4318-9AF0-862E46A7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231C6-7BFF-4B7E-9EC2-02ABDB7C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FC3BA-805E-4CF6-AD83-345D247F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7B33E-849B-481B-8A09-C11ECCAC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7DFD0-8BD3-4D2A-8F55-87A0821A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33D7E-2183-4D58-B8FB-CF0FE8112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3CBDF-32BE-44C2-8FCD-4C4350528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72573-F484-4CD2-BAA1-04FD5142D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7881-664C-4925-A35E-8030E371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658D7-FAE9-4B84-A226-CDF0E793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9AAD0-670E-4C72-88B9-4B45BB02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AEECF-83AF-4F18-85C5-F0D74638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9222D-A7E2-40BF-8C25-208B9F61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7DC27-8BA0-46EC-BE16-1DD348E1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5E6AD-E045-4043-9E35-473BC934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3AEEF-B9F8-44DF-930F-C1DA3F94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0D585-2464-4886-82DC-ADCE6626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D2E63-C75E-4491-8E92-EDF08CB8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5B3E5-D25A-4AF8-A786-5032CCFE1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D06C-3A37-4611-A768-A8E79E43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112F3-0F4D-4BC3-93B1-57F7A62B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3D8C2-2123-46FE-8937-13307545F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D546C-1067-4709-B99E-83C2FE9C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13D06-F98B-468D-9667-AD8CDB54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CA616-7C9E-4EB3-A203-AD6D8F89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0ABD9-6F1C-41A5-8BD4-F405EA78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E4712-9DD2-425A-AD50-624F3C0C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182B9-05B2-48B5-AF6D-22C6BBFD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A31A4-7CB0-4C8A-B61A-6365503A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F92F8-7308-4069-AF55-BC0D63DD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05C7-8758-4E26-A3F6-3112A793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D14AB-31B1-4ADD-8D37-05EC05FC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5B6B5-AAD8-4E7B-81CD-B963D830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EF8BE-4545-4544-993D-271DBD070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94ED5-E4D9-4B3A-8084-AFB8AC28F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3CF44-C0AA-4752-87BE-2EEF615C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3FA9F-DF16-4D70-AF7B-587A9CB5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26798-D6FE-436E-AAB1-3B38282C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891ED-7FB4-40F4-AA05-DD4D002E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C6E25-9C55-4439-865C-BC18AC9C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B82AF-A843-4D5C-BC0A-366A687E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C058-1651-4E67-AFAC-0A6FA5DF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D75B8-7768-4EB5-8855-57C5A05F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E44DE-14C1-42B5-8B39-5CDE4033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FD95B-60AB-4A5A-9338-E3AC31E0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74D85-12AC-4B58-A714-2AFFE9E86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81C01-8FD4-48D1-8C2F-33116E602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CC72-483E-46CD-9104-32C8ECB7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0DDA-8E8B-40D8-BDBB-8E8D46808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668A-57A1-4721-B856-B5494A98D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ый треугольник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Равнобедренный треугольник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D7E3-B5F7-4567-9B7C-DA3F8BBE22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E1FF-3476-4F65-828B-42724C0B0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C6FE-5E20-42FA-9EA5-D7C16F63B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BFF8-E867-4A05-8635-7F0A269827ED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3D9B-3875-4C06-8732-74EEC57E6947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Заголовок 1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521920" cy="34624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57200" y="4286160"/>
            <a:ext cx="8229600" cy="21686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" descr="http://im4-tub-ru.yandex.net/i?id=13342109-71-72"/>
          <p:cNvPicPr/>
          <p:nvPr/>
        </p:nvPicPr>
        <p:blipFill>
          <a:blip r:embed="rId3"/>
          <a:stretch/>
        </p:blipFill>
        <p:spPr>
          <a:xfrm>
            <a:off x="5595840" y="3071880"/>
            <a:ext cx="28717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450720" y="-92160"/>
            <a:ext cx="8242560" cy="17622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Появление самостоятельного пульса на сонной артерии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Появление нормального дыхания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Сужение зрачков, их реакция на свет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8007f"/>
                </a:solidFill>
                <a:latin typeface="Century Gothic"/>
              </a:rPr>
              <a:t>Сердечно – лёгочная реанимация прекращается!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31035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457200" y="3643200"/>
            <a:ext cx="8229600" cy="2811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http://im4-tub-ru.yandex.net/i?id=172363773-11-72"/>
          <p:cNvPicPr/>
          <p:nvPr/>
        </p:nvPicPr>
        <p:blipFill>
          <a:blip r:embed="rId3"/>
          <a:stretch/>
        </p:blipFill>
        <p:spPr>
          <a:xfrm>
            <a:off x="1928880" y="2857680"/>
            <a:ext cx="500040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-6480" y="-115920"/>
            <a:ext cx="7040520" cy="24811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285840" y="2474640"/>
            <a:ext cx="885816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Характеризуется полным прекращением всех внешних проявлений жизни. Однако  в  течении 5-7 минут возможны обратимые процессы, восстановление функций центральной нервной системы, оживление – реанимация. Значит, необходимо приступить к оживлению немедленно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5" name="Picture 2" descr="http://im4-tub-ru.yandex.net/i?id=177938910-49-72"/>
          <p:cNvPicPr/>
          <p:nvPr/>
        </p:nvPicPr>
        <p:blipFill>
          <a:blip r:embed="rId2"/>
          <a:stretch/>
        </p:blipFill>
        <p:spPr>
          <a:xfrm>
            <a:off x="7072200" y="357120"/>
            <a:ext cx="176688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321760" cy="11030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Инфаркт миокарда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Инсульт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Действие электрического тока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Острое отравление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Удушение, утопление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Общее переохлаждение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Механические травмы жизненно важных органов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00000"/>
                </a:solidFill>
                <a:latin typeface="Century Gothic"/>
              </a:rPr>
              <a:t>Необходим немедленный массаж сердца и ИВЛ</a:t>
            </a:r>
            <a:endParaRPr b="0" lang="en-US" sz="3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285840" y="1882800"/>
            <a:ext cx="8400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Отсутствие пульса на сонной артери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Расширение зрачков, не реагирующих на свет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Отсутствие дыхания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0731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0" y="785520"/>
            <a:ext cx="86868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ФИЗИОЛОГИЯ:    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У пострадавших, находящихся в состоянии клинической смерти, в результате резкого снижения мышечного тонуса грудная клетка приобретает повышенную подвижность. Поскольку сердце располагается в грудной клетке, то при нажатии на её передние отделы оно может быть сдавлено настолько, что кровь из полости сердца будет поступать в кровеносные сосуды. При прекращении сжатия сердце расправляется и в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его полость насасывается новая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порция крови. Неоднократно повторяя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такую манипуляцию можно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искусственно поддерживать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кровообращение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2" name="Picture 2" descr="http://im8-tub-ru.yandex.net/i?id=351488409-28-72"/>
          <p:cNvPicPr/>
          <p:nvPr/>
        </p:nvPicPr>
        <p:blipFill>
          <a:blip r:embed="rId2"/>
          <a:stretch/>
        </p:blipFill>
        <p:spPr>
          <a:xfrm>
            <a:off x="5715000" y="3693960"/>
            <a:ext cx="311940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450720" y="19080"/>
            <a:ext cx="8242560" cy="114444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142560" y="1142640"/>
            <a:ext cx="8543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Пострадавший  укладываетс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на твёрдую поверхность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Оказывающий помощь, встаёт справа, основание ладони кладёт на нижнюю часть грудины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Кисть другой руки ложится на тыльную поверхность первой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Энергичный толчок прямых рук с использованием массы тела в сторону позвоночника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Отнимать руки после надавливания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        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интервал – 60 раз в минуту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5" name="Picture 2" descr="http://im7-tub-ru.yandex.net/i?id=297406683-21-72"/>
          <p:cNvPicPr/>
          <p:nvPr/>
        </p:nvPicPr>
        <p:blipFill>
          <a:blip r:embed="rId2"/>
          <a:stretch/>
        </p:blipFill>
        <p:spPr>
          <a:xfrm>
            <a:off x="6500880" y="285840"/>
            <a:ext cx="2432160" cy="16430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" descr="http://im3-tub-ru.yandex.net/i?id=376218856-62-72"/>
          <p:cNvPicPr/>
          <p:nvPr/>
        </p:nvPicPr>
        <p:blipFill>
          <a:blip r:embed="rId3"/>
          <a:stretch/>
        </p:blipFill>
        <p:spPr>
          <a:xfrm>
            <a:off x="285840" y="5000760"/>
            <a:ext cx="14288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142560" y="1428480"/>
            <a:ext cx="8543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ключает освобождение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дыхательных путей и поддержание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их свободными. Чтобы дыхательные пути оставались свободными, рекомендуется пользоваться переразгибанием головы: одна рука оказывающего помощь находится на уровне границы волос на лбу больного, другая — плоско под подбородком. Затем голову больного запрокидывают назад, что практически всегда обеспечивает свободу дыхательных путей, которая может быть нарушена западением язык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9" name="Picture 2" descr="http://im0-tub-ru.yandex.net/i?id=81536375-34-72"/>
          <p:cNvPicPr/>
          <p:nvPr/>
        </p:nvPicPr>
        <p:blipFill>
          <a:blip r:embed="rId2"/>
          <a:stretch/>
        </p:blipFill>
        <p:spPr>
          <a:xfrm>
            <a:off x="6572160" y="214200"/>
            <a:ext cx="211320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75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13840" y="356760"/>
            <a:ext cx="8472600" cy="62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entury Gothic"/>
              </a:rPr>
              <a:t>Искусственное дыхание</a:t>
            </a: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 по способу изо рта  в рот или изо рта в нос как начальный этап не требует вспомогательных приспособлений, поэтому применимо всегда. 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Запрокинув голову больного, оказывающий помощь делает глубокий вдох и использует выдыхаемый воздух для «донорства». Производят 10—15 вдуваний. Эффект виден по амплитуде движений грудной клетки. У взрослых продолжают дыхание с частотой от 10 до 15 раз в минуту. 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При дыхании по способу изо рта в рот производят вдох и прижимают свой рот ко рту находящегося без сознания; нос закрывают щекой оказывающего помощь, рот приоткрывают на ширину поперечника пальца. </a:t>
            </a: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Century Gothic"/>
              </a:rPr>
              <a:t>Дыхание</a:t>
            </a: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 проводят с указанной выше частотой. 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В отделении реанимации для осуществления ИВЛ используют мешки с маской.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Оказывающий помощь в одиночку после 2—5 вдуваний производит 10—15 раз массаж, а затем перемежает 2 вдувания с 10 массажными толчками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Если оказывающих помощь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 двое, то первый начинает с 5 вдуваний, после этого второй осуществляет массаж сердца с частотой 70—90 раз в минуту. После каждого 5-го надавливания на грудину производят быстрое, но основательное вдувание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3-01-27T13:00:59Z</dcterms:modified>
  <cp:revision>25</cp:revision>
  <dc:subject/>
  <dc:title>«Экстренная реанимационная помощь. Непрямой массаж сердца и ИВЛ». </dc:title>
</cp:coreProperties>
</file>