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9FB-C478-4D6C-81CF-2BB9EBEB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8E5-65B6-46B3-8847-44F5FDBB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459-AE73-439C-81AD-2059A1FA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A05-CA47-48A9-BD61-EF2C7389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DC09-0BE3-4DAB-9300-439ED2C4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F9B7-9D4F-47B4-B24C-5AFD5A5F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3CBE-401C-44B7-B64C-75466139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51E2-0089-4B9A-B7AA-CB6774A1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6EC0-8BE0-4CEF-911E-B50708BA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105A-8ACC-4112-8F17-34791FED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C264-ACCA-4FBD-8477-3F61A21C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406-5EA9-42EE-A253-917E86EC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97DE-F1F2-4B15-AC3C-CAEF2122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85EF-CF6B-4515-AA30-C49F8D9F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07B2-802C-47DA-935A-BD69AF5A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DBBC-988A-4750-BA32-2307A6FD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E2E1-7966-46A7-A29F-2A1E715D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F70F6-013B-42A5-BFF4-5D380EEF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F235-654A-4080-AA7E-7502F432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EC11-1292-4519-8613-0350EC2B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F4C2B-8B9C-42EA-BB68-5A9ED41C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1AD3B-3542-4BEB-BC92-BFFE0350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41C-7E63-4955-AE61-BF2CBCD4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5B03-9FFB-4159-B9C8-0FFEFB7D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C3192-D364-4ED5-8A98-DFCCC341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1A3DD-A5B1-4D68-BE52-244F1D86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B71A-557F-4C6A-BC40-B390E64C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E727-B21F-485D-BC04-FA2DAB08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24644-C9DE-414B-9C9A-4D5A0B3B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9F5D1-6514-48E8-B613-9F72D94D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1B9E6-4D96-42FA-9B50-E9DE1F12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5F6D3-999F-4AAC-9372-5FE21FB0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C70CD-EC9D-4EAC-854C-2C65628A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A6D-C7B6-477D-B9DB-2E1A2A1C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1CB9-FBC7-4DE8-B629-CA34E465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1D75C-D245-4845-9158-449EA3F1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7AC3B-2836-4127-BC2F-D15A2A59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177D0-2518-49D0-BECD-775287A6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8420B-6A61-4D37-9B79-081256C0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E56D1-8F3F-46A2-B33F-922C86F9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BC768-7070-4D04-B6C8-1925D451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96488-BB5C-4158-845C-9FBC9ECF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96686-8488-492B-B1D8-415701DB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D050E-6009-4FD3-9366-8783E012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2F1-F102-4AFD-A487-5110D027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252AD-ED5E-43B0-A2E9-EFDD2DAA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A1A7B-D3D6-422D-A240-7A50A65E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BC828-4240-4318-AA1E-F5ABDD4D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F8F8D-FFB7-421C-8FA8-06D1C306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B1A9A-6250-4605-B5ED-4B77CD5F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FE874-5DED-4A9D-AD25-906BD475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A1DA3-1346-4A55-AE5F-9B46223A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0F7BB-1E7A-464E-8A6D-F70E45F5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44758-9592-4F60-8E1F-0C89E0CF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C69CC-AE66-4D26-8E24-9DA80692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4FB-F845-462F-8B8D-18B9EACB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55EA3-50CC-4B85-94E9-EB62DA0A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D69D6-1D20-47F1-A0FA-32BC4280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AFCE4-8550-453E-9262-CE3D55AA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D8E1E-C679-487E-A3CF-9427AEA5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C9B73-E54D-4B67-9AFE-1A16D825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D44C2-DFB8-4E81-9B5A-FE0C80A3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1CD30-961A-4E99-A10F-1C2D622C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58870-7A0B-42F4-B0EC-EAAFACFD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44EC2-6A9A-4234-99D6-4A38025B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A6D75-7C3A-4F65-BB1C-659AEEB5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2A7-C879-4DC9-B8C2-A7C143ED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B7359-FFFA-4F57-9560-043DE686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7BD0B-7793-4927-8BEF-0D34E497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5FA5F-CB92-419B-A6CD-27F24B07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24E41-5DBA-4DFD-9403-D6C11FEB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E964F-F520-4981-BD9B-85749E6A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C1EE2-1B45-4388-B3A6-E8F348DC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37990-64D8-4C2A-8E4A-C638598D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22801-446C-458C-9C61-A886D147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7FBD6-EDCA-44F0-9559-C98274C9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5A2A3-485D-4CB8-B023-1E4AFAA0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2FC-1F90-4D86-AE51-38FC09CD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1EC94-DFFC-4373-B15A-207DC776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9DC23-1BA3-48DD-9486-DF333E1E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4C836-EF7D-42E2-87BB-39589DA3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CC075-C175-48FD-9D33-96FBB56B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F512E-16E3-4FF6-8E32-7B5B7D3C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325-C8E1-42CD-9FB1-177B36FB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0DBF-7386-4DD0-8ECF-E4DB3C0AD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45F2-21AC-41D3-B732-CF0A4BB5D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70CE-9AFC-4E0A-95DB-BDCD2BAB12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351A-81AF-4664-99CE-ECD013AC1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26EC-A886-4E84-8355-0C5A192F0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1182-F40D-4833-AB5E-611F9D1B81C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966F-288D-4C1C-8EC7-33EDB7B2EE7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521920" cy="34624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57200" y="4286160"/>
            <a:ext cx="8229600" cy="2168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http://im4-tub-ru.yandex.net/i?id=13342109-71-72"/>
          <p:cNvPicPr/>
          <p:nvPr/>
        </p:nvPicPr>
        <p:blipFill>
          <a:blip r:embed="rId3"/>
          <a:stretch/>
        </p:blipFill>
        <p:spPr>
          <a:xfrm>
            <a:off x="5595840" y="3071880"/>
            <a:ext cx="2871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42560" cy="1762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Появление самостоятельного пульса на сонной артери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Появление нормального дыхани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Сужение зрачков, их реакция на свет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Сердечно – лёгочная реанимация прекращается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31035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" y="3643200"/>
            <a:ext cx="8229600" cy="2811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http://im4-tub-ru.yandex.net/i?id=172363773-11-72"/>
          <p:cNvPicPr/>
          <p:nvPr/>
        </p:nvPicPr>
        <p:blipFill>
          <a:blip r:embed="rId3"/>
          <a:stretch/>
        </p:blipFill>
        <p:spPr>
          <a:xfrm>
            <a:off x="1928880" y="2857680"/>
            <a:ext cx="50004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-6480" y="-115920"/>
            <a:ext cx="7040520" cy="24811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285840" y="2474640"/>
            <a:ext cx="88581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Характеризуется полным прекращением всех внешних проявлений жизни. Однако  в  течении 5-7 минут возможны обратимые процессы, восстановление функций центральной нервной системы, оживление – реанимация. Значит, необходимо приступить к оживлению немедленн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Picture 2" descr="http://im4-tub-ru.yandex.net/i?id=177938910-49-72"/>
          <p:cNvPicPr/>
          <p:nvPr/>
        </p:nvPicPr>
        <p:blipFill>
          <a:blip r:embed="rId2"/>
          <a:stretch/>
        </p:blipFill>
        <p:spPr>
          <a:xfrm>
            <a:off x="7072200" y="357120"/>
            <a:ext cx="17668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21760" cy="11030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Инфаркт миокард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Инсульт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Действие электрического ток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Острое отравлен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Удушение, утоплен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Общее переохлажден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Механические травмы жизненно важных органов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Century Gothic"/>
              </a:rPr>
              <a:t>Необходим немедленный массаж сердца и ИВЛ</a:t>
            </a: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285840" y="1882800"/>
            <a:ext cx="8400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Отсутствие пульса на сонной артери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Расширение зрачков, не реагирующих на свет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Отсутствие дыхани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73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0" y="78552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ФИЗИОЛОГИЯ:   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У пострадавших, находящихся в состоянии клинической смерти, в результате резкого снижения мышечного тонуса грудная клетка приобретает повышенную подвижность. Поскольку сердце располагается в грудной клетке, то при нажатии на её передние отделы оно может быть сдавлено настолько, что кровь из полости сердца будет поступать в кровеносные сосуды. При прекращении сжатия сердце расправляется и в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его полость насасывается нова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порция крови. Неоднократно повторя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такую манипуляцию можно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искусственно поддерживат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кровообращени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2" descr="http://im8-tub-ru.yandex.net/i?id=351488409-28-72"/>
          <p:cNvPicPr/>
          <p:nvPr/>
        </p:nvPicPr>
        <p:blipFill>
          <a:blip r:embed="rId2"/>
          <a:stretch/>
        </p:blipFill>
        <p:spPr>
          <a:xfrm>
            <a:off x="5715000" y="3693960"/>
            <a:ext cx="31194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0720" y="19080"/>
            <a:ext cx="8242560" cy="11444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142560" y="1142640"/>
            <a:ext cx="8543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Пострадавший  укладываетс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на твёрдую поверхность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Оказывающий помощь, встаёт справа, основание ладони кладёт на нижнюю часть грудины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Кисть другой руки ложится на тыльную поверхность первой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Энергичный толчок прямых рук с использованием массы тела в сторону позвоночника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Отнимать руки после надавливания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интервал – 60 раз в минут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2" descr="http://im7-tub-ru.yandex.net/i?id=297406683-21-72"/>
          <p:cNvPicPr/>
          <p:nvPr/>
        </p:nvPicPr>
        <p:blipFill>
          <a:blip r:embed="rId2"/>
          <a:stretch/>
        </p:blipFill>
        <p:spPr>
          <a:xfrm>
            <a:off x="6500880" y="285840"/>
            <a:ext cx="2432160" cy="1643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http://im3-tub-ru.yandex.net/i?id=376218856-62-72"/>
          <p:cNvPicPr/>
          <p:nvPr/>
        </p:nvPicPr>
        <p:blipFill>
          <a:blip r:embed="rId3"/>
          <a:stretch/>
        </p:blipFill>
        <p:spPr>
          <a:xfrm>
            <a:off x="285840" y="5000760"/>
            <a:ext cx="14288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42560" y="1428480"/>
            <a:ext cx="8543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ключает освобождение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дыхательных путей и поддержани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х свободными. Чтобы дыхательные пути оставались свободными, рекомендуется пользоваться переразгибанием головы: одна рука оказывающего помощь находится на уровне границы волос на лбу больного, другая — плоско под подбородком. Затем голову больного запрокидывают назад, что практически всегда обеспечивает свободу дыхательных путей, которая может быть нарушена западением язы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Picture 2" descr="http://im0-tub-ru.yandex.net/i?id=81536375-34-72"/>
          <p:cNvPicPr/>
          <p:nvPr/>
        </p:nvPicPr>
        <p:blipFill>
          <a:blip r:embed="rId2"/>
          <a:stretch/>
        </p:blipFill>
        <p:spPr>
          <a:xfrm>
            <a:off x="6572160" y="214200"/>
            <a:ext cx="21132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75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13840" y="356760"/>
            <a:ext cx="84726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entury Gothic"/>
              </a:rPr>
              <a:t>Искусственное дыхание</a:t>
            </a: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 по способу изо рта  в рот или изо рта в нос как начальный этап не требует вспомогательных приспособлений, поэтому применимо всегда.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Запрокинув голову больного, оказывающий помощь делает глубокий вдох и использует выдыхаемый воздух для «донорства». Производят 10—15 вдуваний. Эффект виден по амплитуде движений грудной клетки. У взрослых продолжают дыхание с частотой от 10 до 15 раз в минуту.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При дыхании по способу изо рта в рот производят вдох и прижимают свой рот ко рту находящегося без сознания; нос закрывают щекой оказывающего помощь, рот приоткрывают на ширину поперечника пальца. 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Century Gothic"/>
              </a:rPr>
              <a:t>Дыхание</a:t>
            </a: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 проводят с указанной выше частотой.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В отделении реанимации для осуществления ИВЛ используют мешки с маской.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Оказывающий помощь в одиночку после 2—5 вдуваний производит 10—15 раз массаж, а затем перемежает 2 вдувания с 10 массажными толчка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Если оказывающих помощь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 двое, то первый начинает с 5 вдуваний, после этого второй осуществляет массаж сердца с частотой 70—90 раз в минуту. После каждого 5-го надавливания на грудину производят быстрое, но основательное вдувание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1-27T13:00:59Z</dcterms:modified>
  <cp:revision>25</cp:revision>
  <dc:subject/>
  <dc:title>«Экстренная реанимационная помощь. Непрямой массаж сердца и ИВЛ». </dc:title>
</cp:coreProperties>
</file>