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C90-D7E9-4FF9-A932-93FDE77E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525-82EF-459B-953E-72434C8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AD0-4D0B-47AF-A2C6-F95224CC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066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908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224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066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8908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5DF-164A-41F2-9933-6F4932F7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4E60-0D35-40F5-82C6-5E1E23A9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0818-F219-4372-928B-5CB04360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9BFE-0138-4F79-ABF1-1FAE0CB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031F-9E82-421C-B8CC-AD8C7C3E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403A-D2FC-46B1-9F50-7235A11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80800" y="307440"/>
            <a:ext cx="40323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CD19-CB24-479A-904B-35CBBB01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886A-C6EF-4DF5-9ED3-D30C330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E12-DA6E-4933-A3D6-84BE2EBC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F225-0EB2-4EF8-A8DB-547CD5D7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BFF0-6B02-4945-AAF5-66078E0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A924-38BC-404A-AE7E-4C5D8D7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C497-53F4-46B1-AD5F-A098A55E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5066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908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224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5066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8908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C6D0-5323-4DC7-B9A4-78C330EC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849-34DD-4552-89FD-EB0BE295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312-2D3C-4FD4-92C1-FC82142B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93D-E78A-43DA-AB85-273BBFE6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80800" y="307440"/>
            <a:ext cx="40323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7DC-187B-4BF6-AA91-46559AD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A89-48E3-4BB1-9A5D-2930DE53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64D-9953-4A0D-9287-795823E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71D-7D8C-457F-9E91-88E30F2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8238744" y="0"/>
                </a:moveTo>
                <a:lnTo>
                  <a:pt x="0" y="0"/>
                </a:lnTo>
                <a:lnTo>
                  <a:pt x="0" y="6333744"/>
                </a:lnTo>
                <a:lnTo>
                  <a:pt x="8238744" y="6333744"/>
                </a:lnTo>
                <a:lnTo>
                  <a:pt x="8238744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0" y="6333744"/>
                </a:moveTo>
                <a:lnTo>
                  <a:pt x="8238744" y="6333744"/>
                </a:lnTo>
                <a:lnTo>
                  <a:pt x="8238744" y="0"/>
                </a:lnTo>
                <a:lnTo>
                  <a:pt x="0" y="0"/>
                </a:lnTo>
                <a:lnTo>
                  <a:pt x="0" y="6333744"/>
                </a:lnTo>
                <a:close/>
              </a:path>
            </a:pathLst>
          </a:custGeom>
          <a:noFill/>
          <a:ln w="25920">
            <a:solidFill>
              <a:srgbClr val="f1f1f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7307280" y="212760"/>
            <a:ext cx="1657440" cy="1579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720" y="6659640"/>
            <a:ext cx="90972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rPr>
              <a:t>© Фокина Лидия Петров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203680" y="6407280"/>
            <a:ext cx="427320" cy="2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7FA8-EDB8-48FD-B4EA-25F67408392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bg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g object 17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8238744" y="0"/>
                </a:moveTo>
                <a:lnTo>
                  <a:pt x="0" y="0"/>
                </a:lnTo>
                <a:lnTo>
                  <a:pt x="0" y="6333744"/>
                </a:lnTo>
                <a:lnTo>
                  <a:pt x="8238744" y="6333744"/>
                </a:lnTo>
                <a:lnTo>
                  <a:pt x="8238744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bg object 18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0" y="6333744"/>
                </a:moveTo>
                <a:lnTo>
                  <a:pt x="8238744" y="6333744"/>
                </a:lnTo>
                <a:lnTo>
                  <a:pt x="8238744" y="0"/>
                </a:lnTo>
                <a:lnTo>
                  <a:pt x="0" y="0"/>
                </a:lnTo>
                <a:lnTo>
                  <a:pt x="0" y="6333744"/>
                </a:lnTo>
                <a:close/>
              </a:path>
            </a:pathLst>
          </a:custGeom>
          <a:noFill/>
          <a:ln w="25920">
            <a:solidFill>
              <a:srgbClr val="f1f1f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bg object 19"/>
          <p:cNvSpPr/>
          <p:nvPr/>
        </p:nvSpPr>
        <p:spPr>
          <a:xfrm>
            <a:off x="7307280" y="212760"/>
            <a:ext cx="1657440" cy="1579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bg object 20"/>
          <p:cNvSpPr/>
          <p:nvPr/>
        </p:nvSpPr>
        <p:spPr>
          <a:xfrm>
            <a:off x="0" y="1360440"/>
            <a:ext cx="1117440" cy="4137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99720" y="6659640"/>
            <a:ext cx="90972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rPr>
              <a:t>© Фокина Лидия Петров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5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03680" y="6407280"/>
            <a:ext cx="427320" cy="2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DBE-F559-445B-8832-9E798DE29EB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2286000"/>
            <a:ext cx="7018560" cy="306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851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2f9f"/>
                </a:solidFill>
                <a:latin typeface="Monotype Corsiva"/>
                <a:ea typeface="Monotype Corsiva"/>
              </a:rPr>
              <a:t>Организация метеорологической площадки своими руками на территории детского сада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object 19"/>
          <p:cNvSpPr/>
          <p:nvPr/>
        </p:nvSpPr>
        <p:spPr>
          <a:xfrm>
            <a:off x="1695600" y="4221000"/>
            <a:ext cx="6556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f2f9f"/>
                </a:solidFill>
                <a:latin typeface="Monotype Corsiva"/>
                <a:ea typeface="Arial"/>
              </a:rPr>
              <a:t>Воспитатель: Жданова Валентина Степ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20"/>
          <p:cNvSpPr/>
          <p:nvPr/>
        </p:nvSpPr>
        <p:spPr>
          <a:xfrm>
            <a:off x="100080" y="6659640"/>
            <a:ext cx="9097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" bIns="0" anchor="t">
            <a:spAutoFit/>
          </a:bodyPr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rPr>
              <a:t>© Фокина Лидия Петров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1447920" y="30492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 образовательное  учреждение «Радьковская СО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ое подразделение «Детский са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хоровского  района 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2"/>
          <p:cNvSpPr/>
          <p:nvPr/>
        </p:nvSpPr>
        <p:spPr>
          <a:xfrm>
            <a:off x="0" y="1360440"/>
            <a:ext cx="1295280" cy="413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040" y="304920"/>
            <a:ext cx="8791920" cy="655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acer\Desktop\20200805_094403.jpg"/>
          <p:cNvPicPr/>
          <p:nvPr/>
        </p:nvPicPr>
        <p:blipFill>
          <a:blip r:embed="rId2"/>
          <a:stretch/>
        </p:blipFill>
        <p:spPr>
          <a:xfrm>
            <a:off x="2835360" y="933480"/>
            <a:ext cx="4168800" cy="26938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3300480" y="320760"/>
            <a:ext cx="35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f2f9f"/>
                </a:solidFill>
                <a:latin typeface="Monotype Corsiva"/>
                <a:ea typeface="Arial"/>
              </a:rPr>
              <a:t>Наша  метеоплощ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2286000" y="36576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Метеорологическое оборудование на площад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701720" y="4595760"/>
            <a:ext cx="63248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адиционное оборудование: Термометр, баро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боры, изготовленные своими руками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рометрическая будка, ф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люгер, ветряной рукав, снегомер, дождемер, солнечные часы, кормушка для птиц, гигрометр, информационный стенд, столик для экспери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6040" y="152280"/>
            <a:ext cx="8791920" cy="65534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-228600" y="313524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Users\acer\Desktop\благоустройство 2020\20200716_105140.jpg"/>
          <p:cNvPicPr/>
          <p:nvPr/>
        </p:nvPicPr>
        <p:blipFill>
          <a:blip r:embed="rId2"/>
          <a:stretch/>
        </p:blipFill>
        <p:spPr>
          <a:xfrm>
            <a:off x="255600" y="255600"/>
            <a:ext cx="2000160" cy="300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acer\Desktop\благоустройство 2020\20200716_142658.jpg"/>
          <p:cNvPicPr/>
          <p:nvPr/>
        </p:nvPicPr>
        <p:blipFill>
          <a:blip r:embed="rId3"/>
          <a:stretch/>
        </p:blipFill>
        <p:spPr>
          <a:xfrm>
            <a:off x="4973760" y="298440"/>
            <a:ext cx="2006640" cy="2994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4562640" y="3173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рометрическая б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етеобуд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7626240" y="3533760"/>
            <a:ext cx="1258920" cy="28353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7519320" y="61786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лю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1278000" cy="24526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380880" y="5870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тряной рук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6"/>
          <a:stretch/>
        </p:blipFill>
        <p:spPr>
          <a:xfrm>
            <a:off x="3432240" y="4191120"/>
            <a:ext cx="2816280" cy="1800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"/>
          <p:cNvSpPr/>
          <p:nvPr/>
        </p:nvSpPr>
        <p:spPr>
          <a:xfrm>
            <a:off x="3238200" y="5840280"/>
            <a:ext cx="32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м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толовая для птиц»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76040" y="152280"/>
            <a:ext cx="8791920" cy="6553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-152280" y="-32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не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acer\Desktop\благоустройство 2020\20200716_105229.jpg"/>
          <p:cNvPicPr/>
          <p:nvPr/>
        </p:nvPicPr>
        <p:blipFill>
          <a:blip r:embed="rId2"/>
          <a:stretch/>
        </p:blipFill>
        <p:spPr>
          <a:xfrm>
            <a:off x="420840" y="628560"/>
            <a:ext cx="1749240" cy="271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3252960" y="633240"/>
            <a:ext cx="160020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2765160" y="5256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Солнеч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4"/>
          <a:stretch/>
        </p:blipFill>
        <p:spPr>
          <a:xfrm>
            <a:off x="6400800" y="636480"/>
            <a:ext cx="1735200" cy="2538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5677200" y="52560"/>
            <a:ext cx="32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ждемер (осадк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5"/>
          <a:stretch/>
        </p:blipFill>
        <p:spPr>
          <a:xfrm>
            <a:off x="1862280" y="3529080"/>
            <a:ext cx="1495440" cy="25239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1594440" y="60958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Гигром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6"/>
          <a:stretch/>
        </p:blipFill>
        <p:spPr>
          <a:xfrm>
            <a:off x="6316560" y="3500280"/>
            <a:ext cx="185760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6090480" y="579924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овец обл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2T17:59:36Z</dcterms:created>
  <dc:creator>acer</dc:creator>
  <dc:description/>
  <dc:language>en-US</dc:language>
  <cp:lastModifiedBy>user</cp:lastModifiedBy>
  <dcterms:modified xsi:type="dcterms:W3CDTF">2023-01-27T10:37:59Z</dcterms:modified>
  <cp:revision>166</cp:revision>
  <dc:subject/>
  <dc:title>Детская метеорологическая станция  как средство формирования познавательных действий у де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Saved">
    <vt:filetime>2020-10-12T00:00:00Z</vt:filetime>
  </property>
</Properties>
</file>