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582F-30AD-4806-9517-400B9A59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22480" y="1380960"/>
            <a:ext cx="409392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22480" y="3702960"/>
            <a:ext cx="409392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B6C8-5358-4BA3-B01B-61D53E29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22480" y="1380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0560" y="1380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22480" y="3702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20560" y="3702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EF3E-8AFD-495E-9678-5A5F1212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22480" y="1380960"/>
            <a:ext cx="131796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506680" y="1380960"/>
            <a:ext cx="131796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90880" y="1380960"/>
            <a:ext cx="131796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22480" y="3702960"/>
            <a:ext cx="131796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506680" y="3702960"/>
            <a:ext cx="131796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3890880" y="3702960"/>
            <a:ext cx="131796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79EF-2E57-41FF-A4B7-8A6DE051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83B5-E5B7-4001-8CF3-999783BF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22480" y="1380960"/>
            <a:ext cx="40939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3EE0-DD80-4282-B233-A61AB8F9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22480" y="1380960"/>
            <a:ext cx="40939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8ADC-475D-4B00-B1BE-E2EC4BEF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22480" y="1380960"/>
            <a:ext cx="199764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20560" y="1380960"/>
            <a:ext cx="199764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8A9D-6EAF-4AFB-887A-62DC6242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3144-4234-432D-AE95-C9881938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80800" y="307440"/>
            <a:ext cx="40323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AA0F-2F66-45AA-8DC4-6C14E6F9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22480" y="1380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20560" y="1380960"/>
            <a:ext cx="199764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22480" y="3702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26FA-3A44-48A6-9288-A1360D42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22480" y="1380960"/>
            <a:ext cx="40939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6725-555F-4418-BB3A-4C1F1A29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22480" y="1380960"/>
            <a:ext cx="199764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20560" y="1380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20560" y="3702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4130-9692-47D5-809D-9C68CBC1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22480" y="1380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20560" y="1380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22480" y="3702960"/>
            <a:ext cx="409392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A81B-8F16-4EA7-8608-CFE50FCE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22480" y="1380960"/>
            <a:ext cx="409392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22480" y="3702960"/>
            <a:ext cx="409392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E274-D329-4F5D-A4EE-6A3DABBB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22480" y="1380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0560" y="1380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22480" y="3702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220560" y="3702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8284-EF2E-4E7A-B299-25470938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22480" y="1380960"/>
            <a:ext cx="131796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506680" y="1380960"/>
            <a:ext cx="131796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90880" y="1380960"/>
            <a:ext cx="131796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22480" y="3702960"/>
            <a:ext cx="131796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506680" y="3702960"/>
            <a:ext cx="131796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3890880" y="3702960"/>
            <a:ext cx="131796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2EF6-42CB-4E97-8290-1B615F27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22480" y="1380960"/>
            <a:ext cx="40939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0B8F-DC90-4DCB-94B7-450AED37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22480" y="1380960"/>
            <a:ext cx="199764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220560" y="1380960"/>
            <a:ext cx="199764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F688-3EA5-421F-B9E1-992D585A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7883-6CE4-4734-BCD9-5CDA85D8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80800" y="307440"/>
            <a:ext cx="40323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590D-AA29-4097-878E-B2BF7A83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22480" y="1380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220560" y="1380960"/>
            <a:ext cx="199764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2480" y="3702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DFE-EFC3-4CB4-B823-07C12927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22480" y="1380960"/>
            <a:ext cx="199764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220560" y="1380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20560" y="3702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F7B2-5256-4997-8AEC-90988A85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22480" y="1380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20560" y="1380960"/>
            <a:ext cx="199764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22480" y="3702960"/>
            <a:ext cx="409392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CA84-8002-48FC-985A-48A89620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g object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bg object 17"/>
          <p:cNvSpPr/>
          <p:nvPr/>
        </p:nvSpPr>
        <p:spPr>
          <a:xfrm>
            <a:off x="654120" y="263520"/>
            <a:ext cx="8238960" cy="6334200"/>
          </a:xfrm>
          <a:custGeom>
            <a:avLst/>
            <a:gdLst/>
            <a:ahLst/>
            <a:rect l="l" t="t" r="r" b="b"/>
            <a:pathLst>
              <a:path w="8239125" h="6334125">
                <a:moveTo>
                  <a:pt x="8238744" y="0"/>
                </a:moveTo>
                <a:lnTo>
                  <a:pt x="0" y="0"/>
                </a:lnTo>
                <a:lnTo>
                  <a:pt x="0" y="6333744"/>
                </a:lnTo>
                <a:lnTo>
                  <a:pt x="8238744" y="6333744"/>
                </a:lnTo>
                <a:lnTo>
                  <a:pt x="8238744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bg object 18"/>
          <p:cNvSpPr/>
          <p:nvPr/>
        </p:nvSpPr>
        <p:spPr>
          <a:xfrm>
            <a:off x="654120" y="263520"/>
            <a:ext cx="8238960" cy="6334200"/>
          </a:xfrm>
          <a:custGeom>
            <a:avLst/>
            <a:gdLst/>
            <a:ahLst/>
            <a:rect l="l" t="t" r="r" b="b"/>
            <a:pathLst>
              <a:path w="8239125" h="6334125">
                <a:moveTo>
                  <a:pt x="0" y="6333744"/>
                </a:moveTo>
                <a:lnTo>
                  <a:pt x="8238744" y="6333744"/>
                </a:lnTo>
                <a:lnTo>
                  <a:pt x="8238744" y="0"/>
                </a:lnTo>
                <a:lnTo>
                  <a:pt x="0" y="0"/>
                </a:lnTo>
                <a:lnTo>
                  <a:pt x="0" y="6333744"/>
                </a:lnTo>
                <a:close/>
              </a:path>
            </a:pathLst>
          </a:custGeom>
          <a:noFill/>
          <a:ln w="25920">
            <a:solidFill>
              <a:srgbClr val="f1f1f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g object 19"/>
          <p:cNvSpPr/>
          <p:nvPr/>
        </p:nvSpPr>
        <p:spPr>
          <a:xfrm>
            <a:off x="7307280" y="212760"/>
            <a:ext cx="1657440" cy="1579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22480" y="1380960"/>
            <a:ext cx="40939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99720" y="6659640"/>
            <a:ext cx="90972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063a1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063a1"/>
                </a:solidFill>
                <a:latin typeface="Times New Roman"/>
                <a:ea typeface="Times New Roman"/>
              </a:rPr>
              <a:t>© Фокина Лидия Петровн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203680" y="6407280"/>
            <a:ext cx="427320" cy="28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208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208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F24A-69F3-4497-999C-A273A4F16B4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bg object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bg object 17"/>
          <p:cNvSpPr/>
          <p:nvPr/>
        </p:nvSpPr>
        <p:spPr>
          <a:xfrm>
            <a:off x="654120" y="263520"/>
            <a:ext cx="8238960" cy="6334200"/>
          </a:xfrm>
          <a:custGeom>
            <a:avLst/>
            <a:gdLst/>
            <a:ahLst/>
            <a:rect l="l" t="t" r="r" b="b"/>
            <a:pathLst>
              <a:path w="8239125" h="6334125">
                <a:moveTo>
                  <a:pt x="8238744" y="0"/>
                </a:moveTo>
                <a:lnTo>
                  <a:pt x="0" y="0"/>
                </a:lnTo>
                <a:lnTo>
                  <a:pt x="0" y="6333744"/>
                </a:lnTo>
                <a:lnTo>
                  <a:pt x="8238744" y="6333744"/>
                </a:lnTo>
                <a:lnTo>
                  <a:pt x="8238744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bg object 18"/>
          <p:cNvSpPr/>
          <p:nvPr/>
        </p:nvSpPr>
        <p:spPr>
          <a:xfrm>
            <a:off x="654120" y="263520"/>
            <a:ext cx="8238960" cy="6334200"/>
          </a:xfrm>
          <a:custGeom>
            <a:avLst/>
            <a:gdLst/>
            <a:ahLst/>
            <a:rect l="l" t="t" r="r" b="b"/>
            <a:pathLst>
              <a:path w="8239125" h="6334125">
                <a:moveTo>
                  <a:pt x="0" y="6333744"/>
                </a:moveTo>
                <a:lnTo>
                  <a:pt x="8238744" y="6333744"/>
                </a:lnTo>
                <a:lnTo>
                  <a:pt x="8238744" y="0"/>
                </a:lnTo>
                <a:lnTo>
                  <a:pt x="0" y="0"/>
                </a:lnTo>
                <a:lnTo>
                  <a:pt x="0" y="6333744"/>
                </a:lnTo>
                <a:close/>
              </a:path>
            </a:pathLst>
          </a:custGeom>
          <a:noFill/>
          <a:ln w="25920">
            <a:solidFill>
              <a:srgbClr val="f1f1f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bg object 19"/>
          <p:cNvSpPr/>
          <p:nvPr/>
        </p:nvSpPr>
        <p:spPr>
          <a:xfrm>
            <a:off x="7307280" y="212760"/>
            <a:ext cx="1657440" cy="1579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bg object 20"/>
          <p:cNvSpPr/>
          <p:nvPr/>
        </p:nvSpPr>
        <p:spPr>
          <a:xfrm>
            <a:off x="0" y="1360440"/>
            <a:ext cx="1117440" cy="41371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307440"/>
            <a:ext cx="40323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122480" y="1380960"/>
            <a:ext cx="40939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4"/>
          </p:nvPr>
        </p:nvSpPr>
        <p:spPr>
          <a:xfrm>
            <a:off x="99720" y="6659640"/>
            <a:ext cx="90972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600" spc="-1" strike="noStrike">
                <a:solidFill>
                  <a:srgbClr val="8063a1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063a1"/>
                </a:solidFill>
                <a:latin typeface="Times New Roman"/>
                <a:ea typeface="Times New Roman"/>
              </a:rPr>
              <a:t>© Фокина Лидия Петровн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5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203680" y="6407280"/>
            <a:ext cx="427320" cy="28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208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208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863C-6C25-4352-80C8-DFE5D8EA157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2286000"/>
            <a:ext cx="7018560" cy="3060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marL="851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f2f9f"/>
                </a:solidFill>
                <a:latin typeface="Monotype Corsiva"/>
                <a:ea typeface="Monotype Corsiva"/>
              </a:rPr>
              <a:t>Организация метеорологической площадки своими руками на территории детского сада.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object 19"/>
          <p:cNvSpPr/>
          <p:nvPr/>
        </p:nvSpPr>
        <p:spPr>
          <a:xfrm>
            <a:off x="1695600" y="4221000"/>
            <a:ext cx="6556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f2f9f"/>
                </a:solidFill>
                <a:latin typeface="Monotype Corsiva"/>
                <a:ea typeface="Arial"/>
              </a:rPr>
              <a:t>Воспитатель: Жданова Валентина Степа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bject 20"/>
          <p:cNvSpPr/>
          <p:nvPr/>
        </p:nvSpPr>
        <p:spPr>
          <a:xfrm>
            <a:off x="100080" y="6659640"/>
            <a:ext cx="90972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320" bIns="0" anchor="t">
            <a:spAutoFit/>
          </a:bodyPr>
          <a:p>
            <a:pPr marL="12600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8063a1"/>
                </a:solidFill>
                <a:latin typeface="Times New Roman"/>
                <a:ea typeface="Times New Roman"/>
              </a:rPr>
              <a:t>© Фокина Лидия Петровн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5"/>
          <p:cNvSpPr/>
          <p:nvPr/>
        </p:nvSpPr>
        <p:spPr>
          <a:xfrm>
            <a:off x="1447920" y="30492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е бюджетное образовательное  учреждение «Радьковская СОШ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ное подразделение «Детский сад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хоровского  района Бел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ject 2"/>
          <p:cNvSpPr/>
          <p:nvPr/>
        </p:nvSpPr>
        <p:spPr>
          <a:xfrm>
            <a:off x="0" y="1360440"/>
            <a:ext cx="1295280" cy="4137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76040" y="304920"/>
            <a:ext cx="8791920" cy="6553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C:\Users\acer\Desktop\20200805_094403.jpg"/>
          <p:cNvPicPr/>
          <p:nvPr/>
        </p:nvPicPr>
        <p:blipFill>
          <a:blip r:embed="rId2"/>
          <a:stretch/>
        </p:blipFill>
        <p:spPr>
          <a:xfrm>
            <a:off x="2835360" y="933480"/>
            <a:ext cx="4168800" cy="269388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1"/>
          <p:cNvSpPr/>
          <p:nvPr/>
        </p:nvSpPr>
        <p:spPr>
          <a:xfrm>
            <a:off x="3300480" y="320760"/>
            <a:ext cx="355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f2f9f"/>
                </a:solidFill>
                <a:latin typeface="Monotype Corsiva"/>
                <a:ea typeface="Arial"/>
              </a:rPr>
              <a:t>Наша  метеоплощ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"/>
          <p:cNvSpPr/>
          <p:nvPr/>
        </p:nvSpPr>
        <p:spPr>
          <a:xfrm>
            <a:off x="2286000" y="36576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Метеорологическое оборудование на площад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1701720" y="4595760"/>
            <a:ext cx="632484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радиционное оборудование: Термометр, баромет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боры, изготовленные своими руками: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сихрометрическая будка, ф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люгер, ветряной рукав, снегомер, дождемер, солнечные часы, кормушка для птиц, гигрометр, информационный стенд, столик для экспери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76040" y="152280"/>
            <a:ext cx="8791920" cy="65534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5"/>
          <p:cNvSpPr/>
          <p:nvPr/>
        </p:nvSpPr>
        <p:spPr>
          <a:xfrm>
            <a:off x="-228600" y="3135240"/>
            <a:ext cx="22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рмо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C:\Users\acer\Desktop\благоустройство 2020\20200716_105140.jpg"/>
          <p:cNvPicPr/>
          <p:nvPr/>
        </p:nvPicPr>
        <p:blipFill>
          <a:blip r:embed="rId2"/>
          <a:stretch/>
        </p:blipFill>
        <p:spPr>
          <a:xfrm>
            <a:off x="255600" y="255600"/>
            <a:ext cx="2000160" cy="3000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Users\acer\Desktop\благоустройство 2020\20200716_142658.jpg"/>
          <p:cNvPicPr/>
          <p:nvPr/>
        </p:nvPicPr>
        <p:blipFill>
          <a:blip r:embed="rId3"/>
          <a:stretch/>
        </p:blipFill>
        <p:spPr>
          <a:xfrm>
            <a:off x="4973760" y="298440"/>
            <a:ext cx="2006640" cy="29941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1"/>
          <p:cNvSpPr/>
          <p:nvPr/>
        </p:nvSpPr>
        <p:spPr>
          <a:xfrm>
            <a:off x="4562640" y="317340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сихрометрическая бу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метеобуд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4"/>
          <a:stretch/>
        </p:blipFill>
        <p:spPr>
          <a:xfrm>
            <a:off x="7626240" y="3533760"/>
            <a:ext cx="1258920" cy="28353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3"/>
          <p:cNvSpPr/>
          <p:nvPr/>
        </p:nvSpPr>
        <p:spPr>
          <a:xfrm>
            <a:off x="7519320" y="6178680"/>
            <a:ext cx="14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люг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5"/>
          <a:stretch/>
        </p:blipFill>
        <p:spPr>
          <a:xfrm>
            <a:off x="457200" y="3733920"/>
            <a:ext cx="1278000" cy="245268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4"/>
          <p:cNvSpPr/>
          <p:nvPr/>
        </p:nvSpPr>
        <p:spPr>
          <a:xfrm>
            <a:off x="380880" y="587052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тряной рук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6"/>
          <a:stretch/>
        </p:blipFill>
        <p:spPr>
          <a:xfrm>
            <a:off x="3432240" y="4191120"/>
            <a:ext cx="2816280" cy="18000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6"/>
          <p:cNvSpPr/>
          <p:nvPr/>
        </p:nvSpPr>
        <p:spPr>
          <a:xfrm>
            <a:off x="3238200" y="5840280"/>
            <a:ext cx="32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рмуш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Столовая для птиц»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76040" y="152280"/>
            <a:ext cx="8791920" cy="655344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1"/>
          <p:cNvSpPr/>
          <p:nvPr/>
        </p:nvSpPr>
        <p:spPr>
          <a:xfrm>
            <a:off x="-152280" y="-32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него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C:\Users\acer\Desktop\благоустройство 2020\20200716_105229.jpg"/>
          <p:cNvPicPr/>
          <p:nvPr/>
        </p:nvPicPr>
        <p:blipFill>
          <a:blip r:embed="rId2"/>
          <a:stretch/>
        </p:blipFill>
        <p:spPr>
          <a:xfrm>
            <a:off x="420840" y="628560"/>
            <a:ext cx="1749240" cy="271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3252960" y="633240"/>
            <a:ext cx="1600200" cy="269892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1"/>
          <p:cNvSpPr/>
          <p:nvPr/>
        </p:nvSpPr>
        <p:spPr>
          <a:xfrm>
            <a:off x="2765160" y="5256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Солнечные ч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4"/>
          <a:stretch/>
        </p:blipFill>
        <p:spPr>
          <a:xfrm>
            <a:off x="6400800" y="636480"/>
            <a:ext cx="1735200" cy="25383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2"/>
          <p:cNvSpPr/>
          <p:nvPr/>
        </p:nvSpPr>
        <p:spPr>
          <a:xfrm>
            <a:off x="5677200" y="52560"/>
            <a:ext cx="328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ждемер (осадком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"/>
          <p:cNvPicPr/>
          <p:nvPr/>
        </p:nvPicPr>
        <p:blipFill>
          <a:blip r:embed="rId5"/>
          <a:stretch/>
        </p:blipFill>
        <p:spPr>
          <a:xfrm>
            <a:off x="1862280" y="3529080"/>
            <a:ext cx="1495440" cy="25239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4"/>
          <p:cNvSpPr/>
          <p:nvPr/>
        </p:nvSpPr>
        <p:spPr>
          <a:xfrm>
            <a:off x="1594440" y="609588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Гигромет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"/>
          <p:cNvPicPr/>
          <p:nvPr/>
        </p:nvPicPr>
        <p:blipFill>
          <a:blip r:embed="rId6"/>
          <a:stretch/>
        </p:blipFill>
        <p:spPr>
          <a:xfrm>
            <a:off x="6316560" y="3500280"/>
            <a:ext cx="1857600" cy="192888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5"/>
          <p:cNvSpPr/>
          <p:nvPr/>
        </p:nvSpPr>
        <p:spPr>
          <a:xfrm>
            <a:off x="6090480" y="579924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овец обла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12T17:59:36Z</dcterms:created>
  <dc:creator>acer</dc:creator>
  <dc:description/>
  <dc:language>en-US</dc:language>
  <cp:lastModifiedBy>user</cp:lastModifiedBy>
  <dcterms:modified xsi:type="dcterms:W3CDTF">2023-01-27T10:37:59Z</dcterms:modified>
  <cp:revision>166</cp:revision>
  <dc:subject/>
  <dc:title>Детская метеорологическая станция  как средство формирования познавательных действий у дет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astSaved">
    <vt:filetime>2020-10-12T00:00:00Z</vt:filetime>
  </property>
</Properties>
</file>