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532-AE1B-4292-A2E2-7545F641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07F-10B0-493E-9208-69547A54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D8F-10ED-4DA1-B13D-62A4415D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60E-DD96-44C8-AB6C-22B0AB96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4377-CF1B-4107-B52C-E5B27A9A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ACD8-D20E-498B-93D2-AD5CA567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8C46-B5DD-41B4-8B5D-ACB08C3A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A7C2-5BDA-48B5-9936-12E7E8BB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DFF5-F754-4330-8CC7-57627326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B5A1-805E-4C93-99AA-891A0753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4655-A41D-4B23-BC3E-293D2CA1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327-9789-43B4-9EDE-BB1230F1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0574-06DD-4642-A8DC-23748DB5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2478-0487-4EDE-A050-FA826C37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80B4-00D6-4997-B7B9-78A49734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FA9C-F4AF-4683-9CE3-846BA4B8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A842-61A2-4545-8B86-C827BEF3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BBC-5BF6-4BF6-8F6C-515F12F2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DFF-CF34-4AF3-99F1-753DED49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1A2-399A-4BD1-BDA2-22E5D00F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9DF-7E9F-4103-828C-6DFF58F2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231-6923-4597-A46B-8B4328D8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2E19-91BD-4160-9BCA-6290B070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C8C-5A04-4111-A99A-3769F3CE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128D-B755-4E8F-9463-973BC96B9D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824C-5A49-49BA-9334-D369D7FC3D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auka.relis.ru/26/0201/26201012.htm" TargetMode="External"/><Relationship Id="rId2" Type="http://schemas.openxmlformats.org/officeDocument/2006/relationships/hyperlink" Target="http://www.physchem.chimfak.rsu.ru/.../Chevreul.html" TargetMode="External"/><Relationship Id="rId3" Type="http://schemas.openxmlformats.org/officeDocument/2006/relationships/hyperlink" Target="http://ido.tsu.ru/schools/chem/data/res/neorg/uchpos/text/sheele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600" spc="-1" strike="noStrike">
                <a:solidFill>
                  <a:srgbClr val="000000"/>
                </a:solidFill>
                <a:latin typeface="Arial"/>
              </a:rPr>
              <a:t>Многоатомные</a:t>
            </a:r>
            <a:br>
              <a:rPr sz="7600"/>
            </a:br>
            <a:r>
              <a:rPr b="0" i="1" lang="en-US" sz="7600" spc="-1" strike="noStrike">
                <a:solidFill>
                  <a:srgbClr val="000000"/>
                </a:solidFill>
                <a:latin typeface="Arial"/>
              </a:rPr>
              <a:t>       спирты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Знаете ли вы, чт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практического применения нитроглицерина его переводят в динамит.          Автором динамита является шведский инженер – химик         Альфред Ноб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7371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Домашнее задание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154 упражнение 11,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ить сообщение в виде  презентации о шестиатомном спирте – сорб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Тест для самопроверки знани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Н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                             а) этандиол -1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         ОН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б) пропантриол -1,2,3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опандиол -1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Агрегатное состояние этиленгликоля:         а) г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жидк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твёрд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лицерин реагирует с:                                              а) натр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люми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мед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ногоатомные спирты в водном растворе                      а) гидроксида натрия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распознать с помощью:                                         б) гидроксида мед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сульфата мед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и:   1-в;    2-б;   3-а;   4-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Используемые источн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nauka.relis.ru/26/0201/26201012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physchem.chimfak.rsu.ru/.../Chevreul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ttp://ido.tsu.ru/schools/chem/data/res/neorg/uchpos/text/sheel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Многоатомными спиртами</a:t>
            </a:r>
            <a:r>
              <a:rPr b="0" lang="en-US" sz="3800" spc="-1" strike="noStrike">
                <a:solidFill>
                  <a:srgbClr val="6600cc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6600cc"/>
                </a:solidFill>
                <a:latin typeface="Arial"/>
              </a:rPr>
              <a:t>называются органические вещества, молекулы которых содержат несколько гидроксильных групп, соединённых с углеводородным радикалом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Многоатомные спирт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600200"/>
          <a:ext cx="8229600" cy="485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тичес-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виа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 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диол-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глик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Н-С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 ОН 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антриол-1,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ицер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(СН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 (ОН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иатом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рт гексао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85680" y="34862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70120" y="45957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35200" y="34862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45957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54320" y="4610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848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4772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3160" y="57484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Физические свойст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иленгликоль и глицерин - бесцветные сиропообразные жидкости сладковатого вк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и хорошо растворяются в воде и в этан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иленгликоль кипит при температуре      197,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, а глицерин – при 29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иленгликоль очень ядовитое веще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Получе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ленгликоль и глицерин можно получить из галогенпроизводных соответствующих углеводородов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Cl       NaOH         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               +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                  + 2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Cl       NaOH         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35280" y="3573360"/>
            <a:ext cx="2520720" cy="30974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1484280"/>
            <a:ext cx="2158920" cy="26654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Знаете ли вы, чт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4475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ицерин впервые получил К . В . Шееле (1779 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1557360"/>
            <a:ext cx="1913040" cy="2449440"/>
          </a:xfrm>
          <a:prstGeom prst="rect">
            <a:avLst/>
          </a:prstGeom>
          <a:ln w="15840">
            <a:solidFill>
              <a:srgbClr val="ccccff"/>
            </a:solidFill>
            <a:miter/>
          </a:ln>
        </p:spPr>
      </p:pic>
      <p:pic>
        <p:nvPicPr>
          <p:cNvPr id="115" name="" descr="Мишель Эжен Шеврёль"/>
          <p:cNvPicPr/>
          <p:nvPr/>
        </p:nvPicPr>
        <p:blipFill>
          <a:blip r:embed="rId2"/>
          <a:stretch/>
        </p:blipFill>
        <p:spPr>
          <a:xfrm>
            <a:off x="1979640" y="3659040"/>
            <a:ext cx="2243160" cy="2913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4869000"/>
            <a:ext cx="327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но –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 . Э . Шеврель              (1813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Химические свойст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атомные спирты реагируют с активными металл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гируют с азотной кисло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чественная реакция на многоатомные спирты (реагируют со свежеприготовленным гидроксидом меди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Биологическое значе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агревании жиров с водой ( в щелочной среде) французский ученый Э. Шеврель установил, что жиры расщепляются с образованием глицерина и карбоновых кислот: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 – O – C –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               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 – O – C –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                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 – O – C – R             ( 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 от 3 до 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омов углерода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211640" y="3573360"/>
            <a:ext cx="142560" cy="215640"/>
            <a:chOff x="4211640" y="3573360"/>
            <a:chExt cx="142560" cy="215640"/>
          </a:xfrm>
        </p:grpSpPr>
        <p:sp>
          <p:nvSpPr>
            <p:cNvPr id="122" name=""/>
            <p:cNvSpPr/>
            <p:nvPr/>
          </p:nvSpPr>
          <p:spPr>
            <a:xfrm flipH="1">
              <a:off x="4211640" y="3573360"/>
              <a:ext cx="712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282560" y="3573360"/>
              <a:ext cx="71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067280" y="4797360"/>
            <a:ext cx="142560" cy="215640"/>
            <a:chOff x="4067280" y="4797360"/>
            <a:chExt cx="142560" cy="215640"/>
          </a:xfrm>
        </p:grpSpPr>
        <p:sp>
          <p:nvSpPr>
            <p:cNvPr id="125" name=""/>
            <p:cNvSpPr/>
            <p:nvPr/>
          </p:nvSpPr>
          <p:spPr>
            <a:xfrm flipH="1">
              <a:off x="4067280" y="4797360"/>
              <a:ext cx="712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138200" y="4797360"/>
              <a:ext cx="71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213080" y="5805360"/>
            <a:ext cx="142560" cy="215640"/>
            <a:chOff x="4213080" y="5805360"/>
            <a:chExt cx="142560" cy="215640"/>
          </a:xfrm>
        </p:grpSpPr>
        <p:sp>
          <p:nvSpPr>
            <p:cNvPr id="128" name=""/>
            <p:cNvSpPr/>
            <p:nvPr/>
          </p:nvSpPr>
          <p:spPr>
            <a:xfrm flipH="1">
              <a:off x="4213080" y="5805360"/>
              <a:ext cx="712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284000" y="5805360"/>
              <a:ext cx="71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Применение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25520" y="1585800"/>
            <a:ext cx="4032000" cy="4463280"/>
            <a:chOff x="425520" y="1585800"/>
            <a:chExt cx="4032000" cy="4463280"/>
          </a:xfrm>
        </p:grpSpPr>
        <p:cxnSp>
          <p:nvCxnSpPr>
            <p:cNvPr id="132" name="_s66601"/>
            <p:cNvCxnSpPr>
              <a:stCxn id="133" idx="1"/>
              <a:endCxn id="134" idx="2"/>
            </p:cNvCxnSpPr>
            <p:nvPr/>
          </p:nvCxnSpPr>
          <p:spPr>
            <a:xfrm rot="10800000">
              <a:off x="1634400" y="2396520"/>
              <a:ext cx="403920" cy="324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66600"/>
            <p:cNvCxnSpPr>
              <a:stCxn id="136" idx="1"/>
              <a:endCxn id="134" idx="2"/>
            </p:cNvCxnSpPr>
            <p:nvPr/>
          </p:nvCxnSpPr>
          <p:spPr>
            <a:xfrm rot="10800000">
              <a:off x="1634400" y="2396520"/>
              <a:ext cx="403920" cy="202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66599"/>
            <p:cNvCxnSpPr>
              <a:stCxn id="138" idx="1"/>
              <a:endCxn id="134" idx="2"/>
            </p:cNvCxnSpPr>
            <p:nvPr/>
          </p:nvCxnSpPr>
          <p:spPr>
            <a:xfrm rot="10800000">
              <a:off x="1634400" y="2396520"/>
              <a:ext cx="40392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66595"/>
            <p:cNvSpPr/>
            <p:nvPr/>
          </p:nvSpPr>
          <p:spPr>
            <a:xfrm>
              <a:off x="425520" y="1585800"/>
              <a:ext cx="2419200" cy="811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Garamond"/>
                </a:rPr>
                <a:t>Этиленглико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66596"/>
            <p:cNvSpPr/>
            <p:nvPr/>
          </p:nvSpPr>
          <p:spPr>
            <a:xfrm>
              <a:off x="2038320" y="2802960"/>
              <a:ext cx="2419200" cy="811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Антифриз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66597"/>
            <p:cNvSpPr/>
            <p:nvPr/>
          </p:nvSpPr>
          <p:spPr>
            <a:xfrm>
              <a:off x="2038320" y="4020480"/>
              <a:ext cx="2419200" cy="811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Синтетическ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волокно - ЛАВСАН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66598"/>
            <p:cNvSpPr/>
            <p:nvPr/>
          </p:nvSpPr>
          <p:spPr>
            <a:xfrm>
              <a:off x="2038320" y="5237640"/>
              <a:ext cx="2419200" cy="811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Взрывчат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веществ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16280" y="1585800"/>
            <a:ext cx="4032000" cy="4463280"/>
            <a:chOff x="4616280" y="1585800"/>
            <a:chExt cx="4032000" cy="4463280"/>
          </a:xfrm>
        </p:grpSpPr>
        <p:cxnSp>
          <p:nvCxnSpPr>
            <p:cNvPr id="140" name="_s66610"/>
            <p:cNvCxnSpPr>
              <a:stCxn id="141" idx="3"/>
              <a:endCxn id="142" idx="2"/>
            </p:cNvCxnSpPr>
            <p:nvPr/>
          </p:nvCxnSpPr>
          <p:spPr>
            <a:xfrm flipV="1">
              <a:off x="7035480" y="2396520"/>
              <a:ext cx="403920" cy="324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66609"/>
            <p:cNvCxnSpPr>
              <a:stCxn id="144" idx="3"/>
              <a:endCxn id="142" idx="2"/>
            </p:cNvCxnSpPr>
            <p:nvPr/>
          </p:nvCxnSpPr>
          <p:spPr>
            <a:xfrm flipV="1">
              <a:off x="7035480" y="2396880"/>
              <a:ext cx="403920" cy="202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66608"/>
            <p:cNvCxnSpPr>
              <a:stCxn id="146" idx="3"/>
              <a:endCxn id="142" idx="2"/>
            </p:cNvCxnSpPr>
            <p:nvPr/>
          </p:nvCxnSpPr>
          <p:spPr>
            <a:xfrm flipV="1">
              <a:off x="7035480" y="2396880"/>
              <a:ext cx="40392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2" name="_s66604"/>
            <p:cNvSpPr/>
            <p:nvPr/>
          </p:nvSpPr>
          <p:spPr>
            <a:xfrm>
              <a:off x="6229080" y="1585800"/>
              <a:ext cx="2419200" cy="811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Garamond"/>
                </a:rPr>
                <a:t>Глицер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66605"/>
            <p:cNvSpPr/>
            <p:nvPr/>
          </p:nvSpPr>
          <p:spPr>
            <a:xfrm>
              <a:off x="4616280" y="2802960"/>
              <a:ext cx="2419200" cy="811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Парфюмер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66606"/>
            <p:cNvSpPr/>
            <p:nvPr/>
          </p:nvSpPr>
          <p:spPr>
            <a:xfrm>
              <a:off x="4616280" y="4020480"/>
              <a:ext cx="2419200" cy="811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Медици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66607"/>
            <p:cNvSpPr/>
            <p:nvPr/>
          </p:nvSpPr>
          <p:spPr>
            <a:xfrm>
              <a:off x="4616280" y="5237640"/>
              <a:ext cx="2419200" cy="811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Нитроглицерин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динами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6:09:30Z</dcterms:created>
  <dc:creator>Home</dc:creator>
  <dc:description/>
  <dc:language>en-US</dc:language>
  <cp:lastModifiedBy>Home</cp:lastModifiedBy>
  <dcterms:modified xsi:type="dcterms:W3CDTF">2009-01-25T17:04:16Z</dcterms:modified>
  <cp:revision>19</cp:revision>
  <dc:subject/>
  <dc:title>Многоатомные спирты</dc:title>
</cp:coreProperties>
</file>