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5CF-3B69-475C-808E-5799E487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C09-8EEC-428E-9741-34952C9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45D-AAF8-40D3-9ADD-BC1106D7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2F6-0F77-4058-80D9-4E7EA319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387-4E0F-4288-A20D-2E94018E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F6B-4F90-487A-A3E8-4FFD9AB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C3C-1EF3-4F23-A689-806F0F39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177B-168B-4296-AE65-B6B2712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7BB-4B0C-40F9-8C8D-C094AB9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02B-904C-477B-92E3-D1A90B6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BB47-2515-4B36-8747-1D7ED5A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0C8-183C-4B26-AD9D-03AD6072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12CE-1FF4-4D15-990B-EE48B0B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B866-03EE-4717-BED1-5EA4197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A4EF-5988-421A-AAA2-CC11E486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0742-C041-485F-BB56-8C85EB65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9E77-857A-4D99-A8AC-07E92DEF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530-5DEC-420E-9668-90360B77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7A4-C920-46AD-AB10-17ED17A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FEB-22AA-458D-8BE9-B0629534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24C-3EA9-4B14-94EC-6DF7E711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A0E-B065-45E9-AF9E-5BF2310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81D-B6F2-4993-A87B-EBB83B6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8E2-2B35-49C0-A63A-5EB5E4E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ACC-C9A0-4D1B-B720-EB792C942F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84D-73DA-4C77-8134-9E51EE8F6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uka.relis.ru/26/0201/26201012.htm" TargetMode="External"/><Relationship Id="rId2" Type="http://schemas.openxmlformats.org/officeDocument/2006/relationships/hyperlink" Target="http://www.physchem.chimfak.rsu.ru/.../Chevreul.html" TargetMode="External"/><Relationship Id="rId3" Type="http://schemas.openxmlformats.org/officeDocument/2006/relationships/hyperlink" Target="http://ido.tsu.ru/schools/chem/data/res/neorg/uchpos/text/sheel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600" spc="-1" strike="noStrike">
                <a:solidFill>
                  <a:srgbClr val="000000"/>
                </a:solidFill>
                <a:latin typeface="Arial"/>
              </a:rPr>
              <a:t>Многоатомные</a:t>
            </a:r>
            <a:br>
              <a:rPr sz="7600"/>
            </a:br>
            <a:r>
              <a:rPr b="0" i="1" lang="en-US" sz="7600" spc="-1" strike="noStrike">
                <a:solidFill>
                  <a:srgbClr val="000000"/>
                </a:solidFill>
                <a:latin typeface="Arial"/>
              </a:rPr>
              <a:t>       спирты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Знаете ли вы, ч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актического применения нитроглицерина его переводят в динамит.          Автором динамита является шведский инженер – химик         Альфред Ноб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37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Домашнее задани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154 упражнение 11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ть сообщение в виде  презентации о шестиатомном спирте – сорб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Тест для самопроверки зна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                             а) этандиол -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         ОН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б) пропантриол -1,2,3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опандиол -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грегатное состояние этиленгликоля:         а) г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вёрд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лицерин реагирует с:                                              а) натр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юми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мед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ногоатомные спирты в водном растворе                      а) гидроксида натрия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распознать с помощью:                                         б) гидроксида мед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ульфата мед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и:   1-в;    2-б;   3-а;   4-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Используемые источн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nauka.relis.ru/26/0201/2620101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physchem.chimfak.rsu.ru/.../Chevreu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ido.tsu.ru/schools/chem/data/res/neorg/uchpos/text/shee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Многоатомными спиртами</a:t>
            </a:r>
            <a:r>
              <a:rPr b="0" lang="en-US" sz="38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6600cc"/>
                </a:solidFill>
                <a:latin typeface="Arial"/>
              </a:rPr>
              <a:t>называются органические вещества, молекулы которых содержат несколько гидроксильных групп, соединённых с углеводородным радикало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Многоатомные спир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чес-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виа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диол-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глик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ОН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триол-1,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це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(СН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 (ОН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иатом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т гексао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85680" y="3486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0120" y="4595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35200" y="3486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4595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54320" y="46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848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772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3160" y="57484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Физические свой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и глицерин - бесцветные сиропообразные жидкости сладковатого вк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хорошо растворяются в воде и в этан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кипит при температуре      197,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, а глицерин – при 2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ленгликоль очень ядовитое веще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Получ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ленгликоль и глицерин можно получить из галогенпроизводных соответствующих углеводород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l       NaOH        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+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   + 2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Cl       NaOH        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35280" y="3573360"/>
            <a:ext cx="2520720" cy="3097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484280"/>
            <a:ext cx="2158920" cy="26654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Знаете ли вы, ч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447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церин впервые получил К . В . Шееле (1779 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1913040" cy="2449440"/>
          </a:xfrm>
          <a:prstGeom prst="rect">
            <a:avLst/>
          </a:prstGeom>
          <a:ln w="15840">
            <a:solidFill>
              <a:srgbClr val="ccccff"/>
            </a:solidFill>
            <a:miter/>
          </a:ln>
        </p:spPr>
      </p:pic>
      <p:pic>
        <p:nvPicPr>
          <p:cNvPr id="115" name="" descr="Мишель Эжен Шеврёль"/>
          <p:cNvPicPr/>
          <p:nvPr/>
        </p:nvPicPr>
        <p:blipFill>
          <a:blip r:embed="rId2"/>
          <a:stretch/>
        </p:blipFill>
        <p:spPr>
          <a:xfrm>
            <a:off x="1979640" y="3659040"/>
            <a:ext cx="2243160" cy="291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4869000"/>
            <a:ext cx="32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но –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 . Э . Шеврель              (181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Химические свой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атомные спирты реагируют с активными метал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гируют с азотной кисло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енная реакция на многоатомные спирты (реагируют со свежеприготовленным гидроксидом меди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Биологическое знач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гревании жиров с водой ( в щелочной среде) французский ученый Э. Шеврель установил, что жиры расщепляются с образованием глицерина и карбоновых кислот: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 – O – C –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    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– O – C –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               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 – O – C – R             ( 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от 3 до 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ов углерода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211640" y="3573360"/>
            <a:ext cx="142560" cy="215640"/>
            <a:chOff x="4211640" y="3573360"/>
            <a:chExt cx="142560" cy="215640"/>
          </a:xfrm>
        </p:grpSpPr>
        <p:sp>
          <p:nvSpPr>
            <p:cNvPr id="122" name=""/>
            <p:cNvSpPr/>
            <p:nvPr/>
          </p:nvSpPr>
          <p:spPr>
            <a:xfrm flipH="1">
              <a:off x="4211640" y="3573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282560" y="3573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67280" y="4797360"/>
            <a:ext cx="142560" cy="215640"/>
            <a:chOff x="4067280" y="4797360"/>
            <a:chExt cx="142560" cy="215640"/>
          </a:xfrm>
        </p:grpSpPr>
        <p:sp>
          <p:nvSpPr>
            <p:cNvPr id="125" name=""/>
            <p:cNvSpPr/>
            <p:nvPr/>
          </p:nvSpPr>
          <p:spPr>
            <a:xfrm flipH="1">
              <a:off x="4067280" y="4797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138200" y="4797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213080" y="5805360"/>
            <a:ext cx="142560" cy="215640"/>
            <a:chOff x="4213080" y="5805360"/>
            <a:chExt cx="142560" cy="215640"/>
          </a:xfrm>
        </p:grpSpPr>
        <p:sp>
          <p:nvSpPr>
            <p:cNvPr id="128" name=""/>
            <p:cNvSpPr/>
            <p:nvPr/>
          </p:nvSpPr>
          <p:spPr>
            <a:xfrm flipH="1">
              <a:off x="4213080" y="5805360"/>
              <a:ext cx="71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284000" y="5805360"/>
              <a:ext cx="7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6600cc"/>
                </a:solidFill>
                <a:uFillTx/>
                <a:latin typeface="Arial"/>
              </a:rPr>
              <a:t>Применение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585800"/>
            <a:ext cx="4032000" cy="4463280"/>
            <a:chOff x="425520" y="1585800"/>
            <a:chExt cx="4032000" cy="4463280"/>
          </a:xfrm>
        </p:grpSpPr>
        <p:cxnSp>
          <p:nvCxnSpPr>
            <p:cNvPr id="132" name="_s66601"/>
            <p:cNvCxnSpPr>
              <a:stCxn id="133" idx="1"/>
              <a:endCxn id="134" idx="2"/>
            </p:cNvCxnSpPr>
            <p:nvPr/>
          </p:nvCxnSpPr>
          <p:spPr>
            <a:xfrm rot="10800000">
              <a:off x="1634400" y="2396520"/>
              <a:ext cx="4039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66600"/>
            <p:cNvCxnSpPr>
              <a:stCxn id="136" idx="1"/>
              <a:endCxn id="134" idx="2"/>
            </p:cNvCxnSpPr>
            <p:nvPr/>
          </p:nvCxnSpPr>
          <p:spPr>
            <a:xfrm rot="10800000">
              <a:off x="1634400" y="2396520"/>
              <a:ext cx="4039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6599"/>
            <p:cNvCxnSpPr>
              <a:stCxn id="138" idx="1"/>
              <a:endCxn id="134" idx="2"/>
            </p:cNvCxnSpPr>
            <p:nvPr/>
          </p:nvCxnSpPr>
          <p:spPr>
            <a:xfrm rot="10800000">
              <a:off x="1634400" y="2396520"/>
              <a:ext cx="4039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66595"/>
            <p:cNvSpPr/>
            <p:nvPr/>
          </p:nvSpPr>
          <p:spPr>
            <a:xfrm>
              <a:off x="425520" y="158580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aramond"/>
                </a:rPr>
                <a:t>Этиленглик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66596"/>
            <p:cNvSpPr/>
            <p:nvPr/>
          </p:nvSpPr>
          <p:spPr>
            <a:xfrm>
              <a:off x="2038320" y="280296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Антифриз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6597"/>
            <p:cNvSpPr/>
            <p:nvPr/>
          </p:nvSpPr>
          <p:spPr>
            <a:xfrm>
              <a:off x="2038320" y="402048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Синтетическ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олокно - ЛАВСАН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6598"/>
            <p:cNvSpPr/>
            <p:nvPr/>
          </p:nvSpPr>
          <p:spPr>
            <a:xfrm>
              <a:off x="2038320" y="523764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зрывчат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веществ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16280" y="1585800"/>
            <a:ext cx="4032000" cy="4463280"/>
            <a:chOff x="4616280" y="1585800"/>
            <a:chExt cx="4032000" cy="4463280"/>
          </a:xfrm>
        </p:grpSpPr>
        <p:cxnSp>
          <p:nvCxnSpPr>
            <p:cNvPr id="140" name="_s66610"/>
            <p:cNvCxnSpPr>
              <a:stCxn id="141" idx="3"/>
              <a:endCxn id="142" idx="2"/>
            </p:cNvCxnSpPr>
            <p:nvPr/>
          </p:nvCxnSpPr>
          <p:spPr>
            <a:xfrm flipV="1">
              <a:off x="7035480" y="2396520"/>
              <a:ext cx="4039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66609"/>
            <p:cNvCxnSpPr>
              <a:stCxn id="144" idx="3"/>
              <a:endCxn id="142" idx="2"/>
            </p:cNvCxnSpPr>
            <p:nvPr/>
          </p:nvCxnSpPr>
          <p:spPr>
            <a:xfrm flipV="1">
              <a:off x="7035480" y="2396880"/>
              <a:ext cx="4039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66608"/>
            <p:cNvCxnSpPr>
              <a:stCxn id="146" idx="3"/>
              <a:endCxn id="142" idx="2"/>
            </p:cNvCxnSpPr>
            <p:nvPr/>
          </p:nvCxnSpPr>
          <p:spPr>
            <a:xfrm flipV="1">
              <a:off x="7035480" y="2396880"/>
              <a:ext cx="4039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66604"/>
            <p:cNvSpPr/>
            <p:nvPr/>
          </p:nvSpPr>
          <p:spPr>
            <a:xfrm>
              <a:off x="6229080" y="158580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Garamond"/>
                </a:rPr>
                <a:t>Глицер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6605"/>
            <p:cNvSpPr/>
            <p:nvPr/>
          </p:nvSpPr>
          <p:spPr>
            <a:xfrm>
              <a:off x="4616280" y="280296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Парфюмер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66606"/>
            <p:cNvSpPr/>
            <p:nvPr/>
          </p:nvSpPr>
          <p:spPr>
            <a:xfrm>
              <a:off x="4616280" y="402048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Медици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66607"/>
            <p:cNvSpPr/>
            <p:nvPr/>
          </p:nvSpPr>
          <p:spPr>
            <a:xfrm>
              <a:off x="4616280" y="5237640"/>
              <a:ext cx="2419200" cy="8114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Нитроглицери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Garamond"/>
                </a:rPr>
                <a:t>динами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09:30Z</dcterms:created>
  <dc:creator>Home</dc:creator>
  <dc:description/>
  <dc:language>en-US</dc:language>
  <cp:lastModifiedBy>Home</cp:lastModifiedBy>
  <dcterms:modified xsi:type="dcterms:W3CDTF">2009-01-25T17:04:16Z</dcterms:modified>
  <cp:revision>19</cp:revision>
  <dc:subject/>
  <dc:title>Многоатомные спирты</dc:title>
</cp:coreProperties>
</file>