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CDA-6B30-4960-BDD6-0725371A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252-DFBC-4580-B963-878E6F2E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8D2-6C5D-4F6E-A840-F3E27323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8EB-50E6-4E16-BCDD-9334EF5B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46C-BC70-41E3-AAA4-0AF42936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A35-23D3-4615-B384-1CBB938B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F28-86C4-4243-8315-6555D6E5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686-4C89-40BD-9902-EBC7DB8A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56F-F707-44E9-B8E7-6CF94C61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274-6E8A-4227-8554-D3447785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36E-3013-4B4E-834A-03549051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CC6-2804-4488-8948-E91B0CF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2BBB-FE03-4775-853A-E860869D25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s://ru.wikipedia.org/wiki/&#1052;&#1086;&#1089;&#1082;&#1074;&#1072;" TargetMode="External"/><Relationship Id="rId3" Type="http://schemas.openxmlformats.org/officeDocument/2006/relationships/hyperlink" Target="https://ru.wikipedia.org/wiki/&#1052;&#1091;&#1079;&#1077;&#1081;-&#1079;&#1072;&#1087;&#1086;&#1074;&#1077;&#1076;&#1085;&#1080;&#1082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2676600" y="596880"/>
            <a:ext cx="4125960" cy="257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line_2.jpg"/>
          <p:cNvPicPr/>
          <p:nvPr/>
        </p:nvPicPr>
        <p:blipFill>
          <a:blip r:embed="rId1"/>
          <a:stretch/>
        </p:blipFill>
        <p:spPr>
          <a:xfrm>
            <a:off x="0" y="1844640"/>
            <a:ext cx="8893080" cy="3102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357120" y="214200"/>
            <a:ext cx="846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:\line_2.jpg"/>
          <p:cNvPicPr/>
          <p:nvPr/>
        </p:nvPicPr>
        <p:blipFill>
          <a:blip r:embed="rId2"/>
          <a:srcRect l="0" t="0" r="0" b="69288"/>
          <a:stretch/>
        </p:blipFill>
        <p:spPr>
          <a:xfrm>
            <a:off x="0" y="4941720"/>
            <a:ext cx="8893080" cy="908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 flipH="1">
            <a:off x="657360" y="119700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и  девицы  под  ок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 flipH="1">
            <a:off x="179280" y="314172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яли  поздно  вечер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 flipH="1">
            <a:off x="179280" y="429264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Кабы  я  была  царица»,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 flipH="1">
            <a:off x="611280" y="587700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ворит  одна  сестриц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10" descr="images (1).jpg"/>
          <p:cNvPicPr/>
          <p:nvPr/>
        </p:nvPicPr>
        <p:blipFill>
          <a:blip r:embed="rId3"/>
          <a:stretch/>
        </p:blipFill>
        <p:spPr>
          <a:xfrm>
            <a:off x="6750000" y="1000080"/>
            <a:ext cx="239400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900000" y="2492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сейчас, нам сейч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жно всех назвать на ра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альчик самый си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альчик самый сме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альчик самый сред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альчик безымя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альчик с ного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чился кулач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2" descr=""/>
          <p:cNvPicPr/>
          <p:nvPr/>
        </p:nvPicPr>
        <p:blipFill>
          <a:blip r:embed="rId1"/>
          <a:stretch/>
        </p:blipFill>
        <p:spPr>
          <a:xfrm>
            <a:off x="1158840" y="60480"/>
            <a:ext cx="6467400" cy="115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ttp://www.clipartbest.com/cliparts/yio/Krq/yioKrqBiE.png"/>
          <p:cNvPicPr/>
          <p:nvPr/>
        </p:nvPicPr>
        <p:blipFill>
          <a:blip r:embed="rId2"/>
          <a:stretch/>
        </p:blipFill>
        <p:spPr>
          <a:xfrm>
            <a:off x="6659640" y="1500120"/>
            <a:ext cx="2189160" cy="504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042920" y="1341360"/>
          <a:ext cx="7489800" cy="2390760"/>
        </p:xfrm>
        <a:graphic>
          <a:graphicData uri="http://schemas.openxmlformats.org/drawingml/2006/table">
            <a:tbl>
              <a:tblPr/>
              <a:tblGrid>
                <a:gridCol w="3745080"/>
                <a:gridCol w="3744720"/>
              </a:tblGrid>
              <a:tr h="239076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 апля</a:t>
                      </a:r>
                      <a:br>
                        <a:rPr sz="6600"/>
                      </a:b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6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зая _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 апнул</a:t>
                      </a:r>
                      <a:br>
                        <a:rPr sz="6600"/>
                      </a:b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6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оне _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042920" y="3789360"/>
          <a:ext cx="7850160" cy="2390760"/>
        </p:xfrm>
        <a:graphic>
          <a:graphicData uri="http://schemas.openxmlformats.org/drawingml/2006/table">
            <a:tbl>
              <a:tblPr/>
              <a:tblGrid>
                <a:gridCol w="3924360"/>
                <a:gridCol w="3925800"/>
              </a:tblGrid>
              <a:tr h="30736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зне _</a:t>
                      </a:r>
                      <a:br>
                        <a:rPr sz="6600"/>
                      </a:br>
                      <a:r>
                        <a:rPr b="1" lang="ru-RU" sz="6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_ ыган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 иркач</a:t>
                      </a:r>
                      <a:br>
                        <a:rPr sz="6600"/>
                      </a:b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де</a:t>
                      </a:r>
                      <a:r>
                        <a:rPr b="1" lang="ru-RU" sz="6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_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Прямоугольник 3"/>
          <p:cNvSpPr/>
          <p:nvPr/>
        </p:nvSpPr>
        <p:spPr>
          <a:xfrm>
            <a:off x="611280" y="189000"/>
            <a:ext cx="6037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ква Ц потерялась. Прочитай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писанный звук" descr=""/>
          <p:cNvPicPr/>
          <p:nvPr/>
        </p:nvPicPr>
        <p:blipFill>
          <a:blip r:embed="rId1"/>
          <a:stretch/>
        </p:blipFill>
        <p:spPr>
          <a:xfrm>
            <a:off x="795672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tvov.ru/tw_files2/urls_1/26/d-25981/25981_html_m67e66007.jpg"/>
          <p:cNvPicPr/>
          <p:nvPr/>
        </p:nvPicPr>
        <p:blipFill>
          <a:blip r:embed="rId1"/>
          <a:stretch/>
        </p:blipFill>
        <p:spPr>
          <a:xfrm>
            <a:off x="684360" y="1413000"/>
            <a:ext cx="8099280" cy="51530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5" name="TextBox 2"/>
          <p:cNvSpPr/>
          <p:nvPr/>
        </p:nvSpPr>
        <p:spPr>
          <a:xfrm>
            <a:off x="611280" y="260280"/>
            <a:ext cx="4897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рассказ по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Записанный звук" descr=""/>
          <p:cNvPicPr/>
          <p:nvPr/>
        </p:nvPicPr>
        <p:blipFill>
          <a:blip r:embed="rId2"/>
          <a:stretch/>
        </p:blipFill>
        <p:spPr>
          <a:xfrm>
            <a:off x="781200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611280" y="2565360"/>
            <a:ext cx="58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написанием какой буквы познакоми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Что вы о ней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думайте слова с этой бу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акие затруднения вызвала бук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ого всё получилось красиво и акку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йдите самую красивую букву 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4588200" y="765000"/>
            <a:ext cx="419940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 всё поня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 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4366800" y="4076640"/>
            <a:ext cx="419328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надо ещ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абот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 этой тем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http://www.dreamlog.ru/img/218/874_7de6d9.jpg"/>
          <p:cNvPicPr/>
          <p:nvPr/>
        </p:nvPicPr>
        <p:blipFill>
          <a:blip r:embed="rId1"/>
          <a:stretch/>
        </p:blipFill>
        <p:spPr>
          <a:xfrm>
            <a:off x="1258920" y="3716280"/>
            <a:ext cx="2560680" cy="269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://www.nachalka.com/sites/default/files/img/smile.gif"/>
          <p:cNvPicPr/>
          <p:nvPr/>
        </p:nvPicPr>
        <p:blipFill>
          <a:blip r:embed="rId2"/>
          <a:stretch/>
        </p:blipFill>
        <p:spPr>
          <a:xfrm>
            <a:off x="611280" y="404640"/>
            <a:ext cx="3889440" cy="221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http://festival.1september.ru/articles/603157/img1.gif"/>
          <p:cNvPicPr/>
          <p:nvPr/>
        </p:nvPicPr>
        <p:blipFill>
          <a:blip r:embed="rId1"/>
          <a:stretch/>
        </p:blipFill>
        <p:spPr>
          <a:xfrm>
            <a:off x="179280" y="428760"/>
            <a:ext cx="8828280" cy="564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68360" y="357120"/>
            <a:ext cx="835164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ь на вопросы. Приведи 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существительные отвечают на вопросы КТО? и 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исная (заглавная) буква в начале имён, кличках животных,  названий городов и сёл - это орфограм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ственные слова имеют одинаковый смысл и кор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187280" y="692280"/>
            <a:ext cx="69850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тетрадочку откр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с наклоном полож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, друзья, от вас не скрою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чку правильно держ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яду прямо, не согнус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работу я возьму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img1.liveinternet.ru/images/attach/c/2/69/490/69490770_07.png"/>
          <p:cNvPicPr/>
          <p:nvPr/>
        </p:nvPicPr>
        <p:blipFill>
          <a:blip r:embed="rId1"/>
          <a:stretch/>
        </p:blipFill>
        <p:spPr>
          <a:xfrm>
            <a:off x="2916360" y="4005360"/>
            <a:ext cx="3306600" cy="2708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Helen\Desktop\ель\2011-12-09_065452.jpg"/>
          <p:cNvPicPr/>
          <p:nvPr/>
        </p:nvPicPr>
        <p:blipFill>
          <a:blip r:embed="rId1"/>
          <a:stretch/>
        </p:blipFill>
        <p:spPr>
          <a:xfrm>
            <a:off x="268200" y="165240"/>
            <a:ext cx="8753400" cy="6673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1 класс\02. Уроки письма 2015\91-92. Строчная и заглавная буквы Ц ц\00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karanda16"/>
          <p:cNvPicPr/>
          <p:nvPr/>
        </p:nvPicPr>
        <p:blipFill>
          <a:blip r:embed="rId2"/>
          <a:stretch/>
        </p:blipFill>
        <p:spPr>
          <a:xfrm flipH="1" rot="6381600">
            <a:off x="6572520" y="3076920"/>
            <a:ext cx="2603520" cy="21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58" dur="8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скачанные файлы.jpg"/>
          <p:cNvPicPr/>
          <p:nvPr/>
        </p:nvPicPr>
        <p:blipFill>
          <a:blip r:embed="rId1"/>
          <a:stretch/>
        </p:blipFill>
        <p:spPr>
          <a:xfrm>
            <a:off x="539640" y="404640"/>
            <a:ext cx="6303960" cy="4104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042920" y="4508640"/>
            <a:ext cx="7850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Царицы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́рственный исто́рико-архитекту́р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удо́жественный и ландша́фтный музе́й-запове́д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 из самых больших музейно-выставочных учреж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ода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в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и крупнейший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узей-заповедн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в городе. Он включает в себя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ицынский дворцово-парковый ансамбль с комплексом дворцовых построе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ицынскими прудами и пейзажным пар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 родственные слов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6" descr="images (3).jpg"/>
          <p:cNvPicPr/>
          <p:nvPr/>
        </p:nvPicPr>
        <p:blipFill>
          <a:blip r:embed="rId1"/>
          <a:stretch/>
        </p:blipFill>
        <p:spPr>
          <a:xfrm>
            <a:off x="6156360" y="1916280"/>
            <a:ext cx="2027160" cy="144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D:\line_2.jpg"/>
          <p:cNvPicPr/>
          <p:nvPr/>
        </p:nvPicPr>
        <p:blipFill>
          <a:blip r:embed="rId2"/>
          <a:srcRect l="0" t="0" r="0" b="30349"/>
          <a:stretch/>
        </p:blipFill>
        <p:spPr>
          <a:xfrm>
            <a:off x="0" y="3357720"/>
            <a:ext cx="8893080" cy="2160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468360" y="1125360"/>
            <a:ext cx="7991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арица    царь    царапина   цар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24000" y="4653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7" descr="images (4).jpg"/>
          <p:cNvPicPr/>
          <p:nvPr/>
        </p:nvPicPr>
        <p:blipFill>
          <a:blip r:embed="rId3"/>
          <a:stretch/>
        </p:blipFill>
        <p:spPr>
          <a:xfrm>
            <a:off x="7164360" y="189000"/>
            <a:ext cx="1612800" cy="1209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скачанные файлы (1).jpg"/>
          <p:cNvPicPr/>
          <p:nvPr/>
        </p:nvPicPr>
        <p:blipFill>
          <a:blip r:embed="rId4"/>
          <a:stretch/>
        </p:blipFill>
        <p:spPr>
          <a:xfrm>
            <a:off x="611280" y="1773360"/>
            <a:ext cx="1303200" cy="18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13:46:45Z</dcterms:created>
  <dc:creator>Еленга Берюхова</dc:creator>
  <dc:description/>
  <dc:language>en-US</dc:language>
  <cp:lastModifiedBy>пользователь</cp:lastModifiedBy>
  <dcterms:modified xsi:type="dcterms:W3CDTF">2023-01-27T12:57:28Z</dcterms:modified>
  <cp:revision>17</cp:revision>
  <dc:subject/>
  <dc:title>Слайд 1</dc:title>
</cp:coreProperties>
</file>