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9FBA-09A5-46D1-B073-890D9673FB59}" type="slidenum">
              <a:rPr b="1" lang="ru-RU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E5B0-BAA9-4053-AC7D-30473F387D95}" type="slidenum">
              <a:rPr b="1" lang="ru-RU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474-41A9-4397-811B-127B0067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CF8-1219-48E6-BEB1-3B1CBC46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07F-9999-454E-8D70-FF025FD7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776-6694-4933-B7A5-26648871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E54-38D7-4D10-AF6A-DCDE3783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C72-C5C8-400C-838A-308BB9FA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324-563B-4D1F-AA94-C57D0024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B75-327D-4994-99F7-8867166A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CEF-128D-48C0-AB43-3FED0C99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7E9-A3A7-46EF-8F90-401B91C3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400-866F-4EF1-A234-BDF3619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023-063B-4325-B5DF-2FFC329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89B6-A0E8-4C47-9323-D2119F16A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500120" y="285840"/>
            <a:ext cx="47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урнир по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усскому языку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10" descr="J0234069"/>
          <p:cNvPicPr/>
          <p:nvPr/>
        </p:nvPicPr>
        <p:blipFill>
          <a:blip r:embed="rId1"/>
          <a:stretch/>
        </p:blipFill>
        <p:spPr>
          <a:xfrm>
            <a:off x="6715080" y="285840"/>
            <a:ext cx="2232000" cy="169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babytoy.ru/products_pictures/simba9190485_b.jpg"/>
          <p:cNvPicPr/>
          <p:nvPr/>
        </p:nvPicPr>
        <p:blipFill>
          <a:blip r:embed="rId2"/>
          <a:stretch/>
        </p:blipFill>
        <p:spPr>
          <a:xfrm>
            <a:off x="1706400" y="2779560"/>
            <a:ext cx="58708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1857240" y="0"/>
            <a:ext cx="5226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Фонет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Picture 10" descr="J0234069"/>
          <p:cNvPicPr/>
          <p:nvPr/>
        </p:nvPicPr>
        <p:blipFill>
          <a:blip r:embed="rId2"/>
          <a:stretch/>
        </p:blipFill>
        <p:spPr>
          <a:xfrm>
            <a:off x="6429240" y="4500720"/>
            <a:ext cx="1663920" cy="1260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857160" y="1672200"/>
            <a:ext cx="82868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Один прыжок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Вам надо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изменить  одну подчёркнутую букву в слове, чтобы получилось название животного (зверя, птицы, рыбы, насекомого)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 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к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орж - …               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 л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ук - 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      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м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айка - …             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а - …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          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п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алка -…               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м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аки - …    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  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кры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ш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а - …      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Calibri"/>
              </a:rPr>
              <a:t>    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к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лон - …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         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б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у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лка - …               м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у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шка - 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 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               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   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143080" y="0"/>
            <a:ext cx="4940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Фонет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Picture 10" descr="J0234069"/>
          <p:cNvPicPr/>
          <p:nvPr/>
        </p:nvPicPr>
        <p:blipFill>
          <a:blip r:embed="rId2"/>
          <a:stretch/>
        </p:blipFill>
        <p:spPr>
          <a:xfrm>
            <a:off x="3357720" y="4643280"/>
            <a:ext cx="1663560" cy="12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857160" y="1584360"/>
            <a:ext cx="7643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Один прыжок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»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к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орж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(морж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м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йк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зайк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п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лка -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галк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  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ры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ш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крыс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б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у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лка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белк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л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ук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жук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с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коз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м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ки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раки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      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к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лон 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слон)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   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 м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у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шка 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мышк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2143080" y="142920"/>
            <a:ext cx="47149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Морфолог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0" descr="J0234069"/>
          <p:cNvPicPr/>
          <p:nvPr/>
        </p:nvPicPr>
        <p:blipFill>
          <a:blip r:embed="rId2"/>
          <a:stretch/>
        </p:blipFill>
        <p:spPr>
          <a:xfrm>
            <a:off x="7480440" y="4857840"/>
            <a:ext cx="1663560" cy="1260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857160" y="2511000"/>
            <a:ext cx="7572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1 команда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1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Рой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чёл кружится над липой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Рой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яму поглубже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2. На полке лежит кусок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мыла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Лен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мыл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осуду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2 команда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1. В доме топится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чь. Мы будем пироги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чь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2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шк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ил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молоко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ил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хорошо наточена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1714680" y="357120"/>
            <a:ext cx="5572080" cy="18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Грамматическая арифметика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Picture 10" descr="J0234069"/>
          <p:cNvPicPr/>
          <p:nvPr/>
        </p:nvPicPr>
        <p:blipFill>
          <a:blip r:embed="rId2"/>
          <a:stretch/>
        </p:blipFill>
        <p:spPr>
          <a:xfrm>
            <a:off x="7072200" y="4714920"/>
            <a:ext cx="1663920" cy="126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1071720" y="2365200"/>
            <a:ext cx="764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Нота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до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+ зарытые в земле ценности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До + рожки у улитки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удеса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а + ный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асть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ь + ушко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о +а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абан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ан + лук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1643040" y="0"/>
            <a:ext cx="557208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Грамматическая арифметика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Picture 10" descr="J0234069"/>
          <p:cNvPicPr/>
          <p:nvPr/>
        </p:nvPicPr>
        <p:blipFill>
          <a:blip r:embed="rId2"/>
          <a:stretch/>
        </p:blipFill>
        <p:spPr>
          <a:xfrm>
            <a:off x="7072200" y="4714920"/>
            <a:ext cx="1663920" cy="1260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1071720" y="236520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Нота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до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+ зарытые в земле ценности = докла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До + рожки у улитки = дорожк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удеса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а + ный = чудесный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асть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ь + ушко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о +а = частушк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абан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ан + лук = каблук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835280" y="1484280"/>
            <a:ext cx="626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1352520" y="549360"/>
            <a:ext cx="674676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те и изучайте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!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Учитесь  говорить выразительно, правильно, грамотно, ясно  и точно  выражать свои мысли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1" name="Picture 8" descr="J0232988"/>
          <p:cNvPicPr/>
          <p:nvPr/>
        </p:nvPicPr>
        <p:blipFill>
          <a:blip r:embed="rId2"/>
          <a:stretch/>
        </p:blipFill>
        <p:spPr>
          <a:xfrm>
            <a:off x="1389240" y="4527720"/>
            <a:ext cx="137628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34069"/>
          <p:cNvPicPr/>
          <p:nvPr/>
        </p:nvPicPr>
        <p:blipFill>
          <a:blip r:embed="rId3"/>
          <a:stretch/>
        </p:blipFill>
        <p:spPr>
          <a:xfrm>
            <a:off x="7500960" y="1214280"/>
            <a:ext cx="14461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2916360" y="1844640"/>
            <a:ext cx="431964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ветствие команд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1901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2357280" y="0"/>
            <a:ext cx="421488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иночный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0" descr="J0234069"/>
          <p:cNvPicPr/>
          <p:nvPr/>
        </p:nvPicPr>
        <p:blipFill>
          <a:blip r:embed="rId2"/>
          <a:stretch/>
        </p:blipFill>
        <p:spPr>
          <a:xfrm>
            <a:off x="7000920" y="4786200"/>
            <a:ext cx="1663560" cy="1260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071720" y="165816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1.Как называются звуки, состоящие только из голоса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2.Сколько гласных букв в русском алфавите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3.Что ставится перед союзом А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4.Как 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аплю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ревратить в 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цаплю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5.Сколько букв в русском алфавите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6.Назовите главные члены предложени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7. Сколько гласных звуков в русском языке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8. Назовите пятую букву в алфавите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7"/>
          <p:cNvSpPr/>
          <p:nvPr/>
        </p:nvSpPr>
        <p:spPr>
          <a:xfrm>
            <a:off x="0" y="-142920"/>
            <a:ext cx="9144000" cy="7000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1928880" y="0"/>
            <a:ext cx="52498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Орфограф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10" descr="J0234069"/>
          <p:cNvPicPr/>
          <p:nvPr/>
        </p:nvPicPr>
        <p:blipFill>
          <a:blip r:embed="rId2"/>
          <a:stretch/>
        </p:blipFill>
        <p:spPr>
          <a:xfrm>
            <a:off x="6912000" y="5167440"/>
            <a:ext cx="2017800" cy="15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928880" y="1714680"/>
          <a:ext cx="4357800" cy="3925800"/>
        </p:xfrm>
        <a:graphic>
          <a:graphicData uri="http://schemas.openxmlformats.org/drawingml/2006/table">
            <a:tbl>
              <a:tblPr/>
              <a:tblGrid>
                <a:gridCol w="2074680"/>
                <a:gridCol w="2283120"/>
              </a:tblGrid>
              <a:tr h="3925800">
                <a:tc>
                  <a:txBody>
                    <a:bodyPr lIns="7308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_роз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_рош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_ртин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_пуст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_лок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_ник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_рковь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_ньки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_рог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_льт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_на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_рон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_дведь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_сиб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_журный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_пат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7"/>
          <p:cNvSpPr/>
          <p:nvPr/>
        </p:nvSpPr>
        <p:spPr>
          <a:xfrm>
            <a:off x="0" y="-142920"/>
            <a:ext cx="9144000" cy="7000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1928880" y="0"/>
            <a:ext cx="52498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Орфограф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Picture 10" descr="J0234069"/>
          <p:cNvPicPr/>
          <p:nvPr/>
        </p:nvPicPr>
        <p:blipFill>
          <a:blip r:embed="rId2"/>
          <a:stretch/>
        </p:blipFill>
        <p:spPr>
          <a:xfrm>
            <a:off x="6912000" y="5167440"/>
            <a:ext cx="2017800" cy="15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928880" y="1714680"/>
          <a:ext cx="4357800" cy="3925800"/>
        </p:xfrm>
        <a:graphic>
          <a:graphicData uri="http://schemas.openxmlformats.org/drawingml/2006/table">
            <a:tbl>
              <a:tblPr/>
              <a:tblGrid>
                <a:gridCol w="2074680"/>
                <a:gridCol w="2283120"/>
              </a:tblGrid>
              <a:tr h="3925800">
                <a:tc>
                  <a:txBody>
                    <a:bodyPr lIns="7308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ш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тин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ст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к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ковь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ьки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г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ьт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н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едь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б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урный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т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1000080" y="1214280"/>
            <a:ext cx="3309840" cy="458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Picture 10" descr="J0234069"/>
          <p:cNvPicPr/>
          <p:nvPr/>
        </p:nvPicPr>
        <p:blipFill>
          <a:blip r:embed="rId2"/>
          <a:stretch/>
        </p:blipFill>
        <p:spPr>
          <a:xfrm>
            <a:off x="7351560" y="928800"/>
            <a:ext cx="1792440" cy="1357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642960" y="214200"/>
            <a:ext cx="82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Заколдованные слова»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214280" y="1377720"/>
            <a:ext cx="30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Сапоха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рачень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Сугрохар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Грукрыш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ранфеты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Оребрих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Пинорожок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Балиранк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000760" y="1306440"/>
            <a:ext cx="307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Саха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чень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Сухар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Груш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нфеты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Орех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Пирожок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Баранк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1643040" y="0"/>
            <a:ext cx="53578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Лекс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Picture 10" descr="J0234069"/>
          <p:cNvPicPr/>
          <p:nvPr/>
        </p:nvPicPr>
        <p:blipFill>
          <a:blip r:embed="rId2"/>
          <a:stretch/>
        </p:blipFill>
        <p:spPr>
          <a:xfrm>
            <a:off x="6429240" y="4429080"/>
            <a:ext cx="1928880" cy="1460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785880" y="1730520"/>
            <a:ext cx="7929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зовите одним слов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левать носом    -        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Зарубить на носу -                           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есать языки    -    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Надуть губы    -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рикусить язык   -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Водить за нос   -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 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785880" y="171684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C:\Users\Я\Desktop\17-1.jpeg"/>
          <p:cNvPicPr/>
          <p:nvPr/>
        </p:nvPicPr>
        <p:blipFill>
          <a:blip r:embed="rId2"/>
          <a:srcRect l="20315" t="23958" r="51563" b="53129"/>
          <a:stretch/>
        </p:blipFill>
        <p:spPr>
          <a:xfrm>
            <a:off x="928800" y="1143000"/>
            <a:ext cx="2922480" cy="1785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Я\Desktop\17-1.jpeg"/>
          <p:cNvPicPr/>
          <p:nvPr/>
        </p:nvPicPr>
        <p:blipFill>
          <a:blip r:embed="rId3"/>
          <a:srcRect l="67189" t="23958" r="7811" b="53129"/>
          <a:stretch/>
        </p:blipFill>
        <p:spPr>
          <a:xfrm>
            <a:off x="6572160" y="1071720"/>
            <a:ext cx="228600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Я\Desktop\17-1.jpeg"/>
          <p:cNvPicPr/>
          <p:nvPr/>
        </p:nvPicPr>
        <p:blipFill>
          <a:blip r:embed="rId4"/>
          <a:srcRect l="21094" t="59381" r="52346" b="18751"/>
          <a:stretch/>
        </p:blipFill>
        <p:spPr>
          <a:xfrm>
            <a:off x="3786120" y="4143240"/>
            <a:ext cx="2428920" cy="171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Я\Desktop\17-1.jpeg"/>
          <p:cNvPicPr/>
          <p:nvPr/>
        </p:nvPicPr>
        <p:blipFill>
          <a:blip r:embed="rId5"/>
          <a:srcRect l="66409" t="60420" r="8594" b="17711"/>
          <a:stretch/>
        </p:blipFill>
        <p:spPr>
          <a:xfrm>
            <a:off x="928800" y="3357720"/>
            <a:ext cx="2286000" cy="1928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bipbap.ru/wp-content/uploads/2021/07/hYf19Ck6z6U.jpg"/>
          <p:cNvPicPr/>
          <p:nvPr/>
        </p:nvPicPr>
        <p:blipFill>
          <a:blip r:embed="rId6"/>
          <a:srcRect l="12501" t="60413" r="52502" b="12638"/>
          <a:stretch/>
        </p:blipFill>
        <p:spPr>
          <a:xfrm>
            <a:off x="6858000" y="321480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s://bipbap.ru/wp-content/uploads/2021/07/img30.jpg"/>
          <p:cNvPicPr/>
          <p:nvPr/>
        </p:nvPicPr>
        <p:blipFill>
          <a:blip r:embed="rId7"/>
          <a:srcRect l="38024" t="34378" r="39327" b="22919"/>
          <a:stretch/>
        </p:blipFill>
        <p:spPr>
          <a:xfrm>
            <a:off x="3786120" y="928800"/>
            <a:ext cx="2071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1643040" y="0"/>
            <a:ext cx="53578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Лекс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0" descr="J0234069"/>
          <p:cNvPicPr/>
          <p:nvPr/>
        </p:nvPicPr>
        <p:blipFill>
          <a:blip r:embed="rId2"/>
          <a:stretch/>
        </p:blipFill>
        <p:spPr>
          <a:xfrm>
            <a:off x="6429240" y="4429080"/>
            <a:ext cx="1928880" cy="1460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785880" y="1730520"/>
            <a:ext cx="7929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зовите одним слов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левать носом    -        дремать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Зарубить на носу -       запомнить                       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есать языки    -          сплетничать 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Надуть губы    -            обидеться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рикусить язык   -      замолчат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Водить за нос     -          обманыват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 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1:58:31Z</dcterms:created>
  <dc:creator>Валентина</dc:creator>
  <dc:description/>
  <dc:language>en-US</dc:language>
  <cp:lastModifiedBy>Я</cp:lastModifiedBy>
  <dcterms:modified xsi:type="dcterms:W3CDTF">2023-01-13T16:20:41Z</dcterms:modified>
  <cp:revision>94</cp:revision>
  <dc:subject/>
  <dc:title>Слайд 1</dc:title>
</cp:coreProperties>
</file>