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5A02-2F2B-4B61-8338-E9AE2F2F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BBF8-4E82-4F79-992D-26693435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A350-5560-4E0B-82D9-EBEF8F67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EAFA-7B6B-4924-B0BC-7EC4BFF6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6BA47-B830-4074-BDF7-CF24B2B2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40E6-0995-4F02-A5DE-ACECEC90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CB90-15FE-4791-AB71-1D479FA4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7EA7C-0DDC-4876-90BC-81E59979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03DE-BEC3-488E-9952-97122392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7014-E486-410F-9EA1-A6BEFDC0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3B02-5403-4DCC-98F9-44A5072A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3E3C-E4FE-4EE3-B911-0A294BDB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8A93-9B0F-468C-8086-D8AAB8E5A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10533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54061"/>
                </a:solidFill>
                <a:latin typeface="FK Arbat"/>
              </a:rPr>
              <a:t>Сила ветра</a:t>
            </a:r>
            <a:endParaRPr b="0" lang="en-US" sz="8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f6228"/>
                </a:solidFill>
                <a:latin typeface="Calibri"/>
              </a:rPr>
              <a:t>Ветряная мельниц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105332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00040"/>
            <a:ext cx="5237280" cy="349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57880" y="500040"/>
            <a:ext cx="4714920" cy="3535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86080" y="4214880"/>
            <a:ext cx="2786040" cy="24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105332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14280" y="128592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7200" y="214200"/>
            <a:ext cx="9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Calibri"/>
                <a:ea typeface="DejaVu Sans"/>
              </a:rPr>
              <a:t>Устройство ветряной мельницы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1053324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85960" y="1428840"/>
            <a:ext cx="5783400" cy="3903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43040" y="285840"/>
            <a:ext cx="74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f6228"/>
                </a:solidFill>
                <a:latin typeface="Calibri"/>
                <a:ea typeface="DejaVu Sans"/>
              </a:rPr>
              <a:t>Ветряная вертушк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105332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554280" y="1054080"/>
            <a:ext cx="6388200" cy="4389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8760" y="226440"/>
            <a:ext cx="126442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изготовления вертушки понадобится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жницы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ветная бумаг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рандаш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нопка с головкой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105332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67120" y="407880"/>
            <a:ext cx="3816360" cy="2530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94400" y="3481560"/>
            <a:ext cx="3962160" cy="2693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-19080" y="341280"/>
            <a:ext cx="4243320" cy="2670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-19080" y="3481560"/>
            <a:ext cx="4176720" cy="269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14840" y="221472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"/>
          <p:cNvSpPr/>
          <p:nvPr/>
        </p:nvSpPr>
        <p:spPr>
          <a:xfrm>
            <a:off x="3714840" y="5357880"/>
            <a:ext cx="8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"/>
          <p:cNvSpPr/>
          <p:nvPr/>
        </p:nvSpPr>
        <p:spPr>
          <a:xfrm>
            <a:off x="7858080" y="2214720"/>
            <a:ext cx="16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"/>
          <p:cNvSpPr/>
          <p:nvPr/>
        </p:nvSpPr>
        <p:spPr>
          <a:xfrm>
            <a:off x="7929720" y="5500800"/>
            <a:ext cx="18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вертушки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772400" y="-4800600"/>
            <a:ext cx="5400720" cy="360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-7772400" y="-4800600"/>
            <a:ext cx="2549520" cy="1698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57160" y="1214280"/>
            <a:ext cx="742968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105332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578560" y="1920960"/>
            <a:ext cx="4572000" cy="4986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19980000">
            <a:off x="712080" y="1503360"/>
            <a:ext cx="732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f6228"/>
                </a:solidFill>
                <a:latin typeface="Calibri"/>
                <a:ea typeface="DejaVu Sans"/>
              </a:rPr>
              <a:t>Наша вертушка готова !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8T13:09:03Z</dcterms:created>
  <dc:creator>Admin</dc:creator>
  <dc:description/>
  <dc:language>en-US</dc:language>
  <cp:lastModifiedBy>Admin</cp:lastModifiedBy>
  <dcterms:modified xsi:type="dcterms:W3CDTF">2023-01-27T11:03:17Z</dcterms:modified>
  <cp:revision>18</cp:revision>
  <dc:subject/>
  <dc:title>Сила вет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