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8AA6-CDF4-41C1-9745-8677C27E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F5A0-27AA-417B-B3C2-9693F76D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3BE8-2393-41E7-BFAF-28F4891D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DD90-04F0-4807-87D2-659CBC33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0B53-6B54-4639-8D20-9B11D8B4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5F20-8330-489C-8E90-9F744339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7923-705A-4A6E-89BC-44CCB18B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1F88-E272-4FB1-8E89-F21B6C09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458E-A44F-43F9-BA3D-365FED68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CECD-65D0-4874-9974-F2E8C1C0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3370-4752-476F-AD2F-A6226612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1201-B7A1-40FF-9C92-FC5A3CE7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168C-CDB9-4251-A584-AF4CB0087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54061"/>
                </a:solidFill>
                <a:latin typeface="FK Arbat"/>
              </a:rPr>
              <a:t>Сила ветра</a:t>
            </a:r>
            <a:endParaRPr b="0" lang="en-US" sz="8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f6228"/>
                </a:solidFill>
                <a:latin typeface="Calibri"/>
              </a:rPr>
              <a:t>Ветряная мельниц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00040"/>
            <a:ext cx="5237280" cy="349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57880" y="500040"/>
            <a:ext cx="4714920" cy="353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86080" y="4214880"/>
            <a:ext cx="2786040" cy="24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7200" y="214200"/>
            <a:ext cx="9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Calibri"/>
                <a:ea typeface="DejaVu Sans"/>
              </a:rPr>
              <a:t>Устройство ветряной мельницы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85960" y="1428840"/>
            <a:ext cx="5783400" cy="390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43040" y="28584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f6228"/>
                </a:solidFill>
                <a:latin typeface="Calibri"/>
                <a:ea typeface="DejaVu Sans"/>
              </a:rPr>
              <a:t>Ветряная вертушк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54280" y="1054080"/>
            <a:ext cx="6388200" cy="4389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8760" y="226440"/>
            <a:ext cx="126442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изготовления вертушки понадобится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етная бумага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андаш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нопка с головкой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67120" y="407880"/>
            <a:ext cx="3816360" cy="2530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94400" y="3481560"/>
            <a:ext cx="3962160" cy="2693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-19080" y="341280"/>
            <a:ext cx="4243320" cy="267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-19080" y="3481560"/>
            <a:ext cx="4176720" cy="269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14840" y="221472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/>
          <p:cNvSpPr/>
          <p:nvPr/>
        </p:nvSpPr>
        <p:spPr>
          <a:xfrm>
            <a:off x="3714840" y="5357880"/>
            <a:ext cx="8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"/>
          <p:cNvSpPr/>
          <p:nvPr/>
        </p:nvSpPr>
        <p:spPr>
          <a:xfrm>
            <a:off x="7858080" y="2214720"/>
            <a:ext cx="16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"/>
          <p:cNvSpPr/>
          <p:nvPr/>
        </p:nvSpPr>
        <p:spPr>
          <a:xfrm>
            <a:off x="7929720" y="5500800"/>
            <a:ext cx="18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вертушки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772400" y="-4800600"/>
            <a:ext cx="5400720" cy="360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7772400" y="-4800600"/>
            <a:ext cx="2549520" cy="1698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57160" y="1214280"/>
            <a:ext cx="742968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10533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78560" y="1920960"/>
            <a:ext cx="4572000" cy="4986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9980000">
            <a:off x="712080" y="1503360"/>
            <a:ext cx="732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f6228"/>
                </a:solidFill>
                <a:latin typeface="Calibri"/>
                <a:ea typeface="DejaVu Sans"/>
              </a:rPr>
              <a:t>Наша вертушка готова !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13:09:03Z</dcterms:created>
  <dc:creator>Admin</dc:creator>
  <dc:description/>
  <dc:language>en-US</dc:language>
  <cp:lastModifiedBy>Admin</cp:lastModifiedBy>
  <dcterms:modified xsi:type="dcterms:W3CDTF">2023-01-27T11:03:17Z</dcterms:modified>
  <cp:revision>18</cp:revision>
  <dc:subject/>
  <dc:title>Сила вет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