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png" ContentType="image/png"/>
  <Override PartName="/ppt/media/image4.jpeg" ContentType="image/jpeg"/>
  <Override PartName="/ppt/media/image15.png" ContentType="image/png"/>
  <Override PartName="/ppt/media/image14.jpeg" ContentType="image/jpeg"/>
  <Override PartName="/ppt/media/image2.jpeg" ContentType="image/jpeg"/>
  <Override PartName="/ppt/media/image23.gif" ContentType="image/gi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3AA8-A19C-4B12-A793-B1FEB273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936C-9823-4F6A-8397-49AE164B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CBB6-3614-4CB4-AA12-218566A24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6442-318C-4674-9CD2-77DB0B7E8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713E-1DC1-405F-A6B3-34C62BD7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D5F3-7A88-4AAC-A880-84147F05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8C95-7925-415A-A6A2-36F0D2DC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4211-9AC8-4B34-AE57-13E5D061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5AB8-2408-4293-8452-D50B895E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04A1-F054-4128-9D5B-97BCA057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E221-5C83-4CFE-BD1A-10638A78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7B6B-52AA-435C-80A4-C69C6BB2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60" cy="6858000"/>
            <a:chOff x="8763120" y="0"/>
            <a:chExt cx="360" cy="6858000"/>
          </a:xfrm>
        </p:grpSpPr>
        <p:sp>
          <p:nvSpPr>
            <p:cNvPr id="1" name="Прямая соединительная линия 15"/>
            <p:cNvSpPr/>
            <p:nvPr/>
          </p:nvSpPr>
          <p:spPr>
            <a:xfrm>
              <a:off x="8763120" y="0"/>
              <a:ext cx="0" cy="6858000"/>
            </a:xfrm>
            <a:prstGeom prst="line">
              <a:avLst/>
            </a:prstGeom>
            <a:ln w="38160">
              <a:solidFill>
                <a:srgbClr val="fec2ad">
                  <a:alpha val="92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 txBox="1"/>
            <p:nvPr/>
          </p:nvSpPr>
          <p:spPr>
            <a:xfrm>
              <a:off x="87631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7530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9080" indent="-182520">
              <a:spcBef>
                <a:spcPts val="601"/>
              </a:spcBef>
              <a:buClr>
                <a:srgbClr val="fec2ad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760" indent="-182520">
              <a:spcBef>
                <a:spcPts val="601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37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37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8AB4-BE8C-44F6-B45C-60710D3DF93B}" type="datetime">
              <a:rPr b="0" lang="ru-RU" sz="1200" spc="-1" strike="noStrike">
                <a:solidFill>
                  <a:srgbClr val="575f6d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6320" y="0"/>
            <a:ext cx="360" cy="6858000"/>
            <a:chOff x="76320" y="0"/>
            <a:chExt cx="360" cy="6858000"/>
          </a:xfrm>
        </p:grpSpPr>
        <p:sp>
          <p:nvSpPr>
            <p:cNvPr id="8" name="Прямая соединительная линия 6"/>
            <p:cNvSpPr/>
            <p:nvPr/>
          </p:nvSpPr>
          <p:spPr>
            <a:xfrm>
              <a:off x="76320" y="0"/>
              <a:ext cx="0" cy="6858000"/>
            </a:xfrm>
            <a:prstGeom prst="line">
              <a:avLst/>
            </a:prstGeom>
            <a:ln w="57240">
              <a:solidFill>
                <a:srgbClr val="fec2a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 txBox="1"/>
            <p:nvPr/>
          </p:nvSpPr>
          <p:spPr>
            <a:xfrm>
              <a:off x="763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8991720" y="0"/>
            <a:ext cx="360" cy="6858000"/>
            <a:chOff x="8991720" y="0"/>
            <a:chExt cx="360" cy="6858000"/>
          </a:xfrm>
        </p:grpSpPr>
        <p:sp>
          <p:nvSpPr>
            <p:cNvPr id="11" name="Прямая соединительная линия 8"/>
            <p:cNvSpPr/>
            <p:nvPr/>
          </p:nvSpPr>
          <p:spPr>
            <a:xfrm>
              <a:off x="8991720" y="0"/>
              <a:ext cx="0" cy="6858000"/>
            </a:xfrm>
            <a:prstGeom prst="line">
              <a:avLst/>
            </a:prstGeom>
            <a:ln w="19080">
              <a:solidFill>
                <a:srgbClr val="fe863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 txBox="1"/>
            <p:nvPr/>
          </p:nvSpPr>
          <p:spPr>
            <a:xfrm>
              <a:off x="89917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2a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8915400" y="0"/>
            <a:ext cx="360" cy="6858000"/>
            <a:chOff x="8915400" y="0"/>
            <a:chExt cx="360" cy="6858000"/>
          </a:xfrm>
        </p:grpSpPr>
        <p:sp>
          <p:nvSpPr>
            <p:cNvPr id="15" name="Прямая соединительная линия 10"/>
            <p:cNvSpPr/>
            <p:nvPr/>
          </p:nvSpPr>
          <p:spPr>
            <a:xfrm>
              <a:off x="8915400" y="0"/>
              <a:ext cx="0" cy="6858000"/>
            </a:xfrm>
            <a:prstGeom prst="line">
              <a:avLst/>
            </a:prstGeom>
            <a:ln w="9360">
              <a:solidFill>
                <a:srgbClr val="fe863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 txBox="1"/>
            <p:nvPr/>
          </p:nvSpPr>
          <p:spPr>
            <a:xfrm>
              <a:off x="891540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AA6D-B128-4014-BA6B-7FD2EA6B0F28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2ad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d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3"/>
          <p:cNvSpPr/>
          <p:nvPr/>
        </p:nvSpPr>
        <p:spPr>
          <a:xfrm>
            <a:off x="990720" y="0"/>
            <a:ext cx="180720" cy="6858000"/>
          </a:xfrm>
          <a:prstGeom prst="rect">
            <a:avLst/>
          </a:prstGeom>
          <a:solidFill>
            <a:srgbClr val="ffd9cd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7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06200" y="0"/>
            <a:ext cx="360" cy="6858000"/>
            <a:chOff x="106200" y="0"/>
            <a:chExt cx="360" cy="6858000"/>
          </a:xfrm>
        </p:grpSpPr>
        <p:sp>
          <p:nvSpPr>
            <p:cNvPr id="60" name="Прямая соединительная линия 10"/>
            <p:cNvSpPr/>
            <p:nvPr/>
          </p:nvSpPr>
          <p:spPr>
            <a:xfrm>
              <a:off x="106200" y="0"/>
              <a:ext cx="0" cy="6858000"/>
            </a:xfrm>
            <a:prstGeom prst="line">
              <a:avLst/>
            </a:prstGeom>
            <a:ln w="57240">
              <a:solidFill>
                <a:srgbClr val="fec2ad">
                  <a:alpha val="72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10620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914400" y="0"/>
            <a:ext cx="360" cy="6858000"/>
            <a:chOff x="914400" y="0"/>
            <a:chExt cx="360" cy="6858000"/>
          </a:xfrm>
        </p:grpSpPr>
        <p:sp>
          <p:nvSpPr>
            <p:cNvPr id="63" name="Прямая соединительная линия 17"/>
            <p:cNvSpPr/>
            <p:nvPr/>
          </p:nvSpPr>
          <p:spPr>
            <a:xfrm>
              <a:off x="914400" y="0"/>
              <a:ext cx="0" cy="6858000"/>
            </a:xfrm>
            <a:prstGeom prst="line">
              <a:avLst/>
            </a:prstGeom>
            <a:ln w="57240">
              <a:solidFill>
                <a:srgbClr val="ffede7">
                  <a:alpha val="83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 txBox="1"/>
            <p:nvPr/>
          </p:nvSpPr>
          <p:spPr>
            <a:xfrm>
              <a:off x="91440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853920" y="0"/>
            <a:ext cx="360" cy="6858000"/>
            <a:chOff x="853920" y="0"/>
            <a:chExt cx="360" cy="6858000"/>
          </a:xfrm>
        </p:grpSpPr>
        <p:sp>
          <p:nvSpPr>
            <p:cNvPr id="66" name="Прямая соединительная линия 19"/>
            <p:cNvSpPr/>
            <p:nvPr/>
          </p:nvSpPr>
          <p:spPr>
            <a:xfrm>
              <a:off x="853920" y="0"/>
              <a:ext cx="0" cy="6858000"/>
            </a:xfrm>
            <a:prstGeom prst="line">
              <a:avLst/>
            </a:prstGeom>
            <a:ln w="57240">
              <a:solidFill>
                <a:srgbClr val="fec2a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 txBox="1"/>
            <p:nvPr/>
          </p:nvSpPr>
          <p:spPr>
            <a:xfrm>
              <a:off x="8539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727280" y="0"/>
            <a:ext cx="360" cy="6858000"/>
            <a:chOff x="1727280" y="0"/>
            <a:chExt cx="360" cy="6858000"/>
          </a:xfrm>
        </p:grpSpPr>
        <p:sp>
          <p:nvSpPr>
            <p:cNvPr id="69" name="Прямая соединительная линия 15"/>
            <p:cNvSpPr/>
            <p:nvPr/>
          </p:nvSpPr>
          <p:spPr>
            <a:xfrm>
              <a:off x="1727280" y="0"/>
              <a:ext cx="0" cy="6858000"/>
            </a:xfrm>
            <a:prstGeom prst="line">
              <a:avLst/>
            </a:prstGeom>
            <a:ln w="28440">
              <a:solidFill>
                <a:srgbClr val="fec2ad">
                  <a:alpha val="81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172728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066680" y="0"/>
            <a:ext cx="360" cy="6858000"/>
            <a:chOff x="1066680" y="0"/>
            <a:chExt cx="360" cy="6858000"/>
          </a:xfrm>
        </p:grpSpPr>
        <p:sp>
          <p:nvSpPr>
            <p:cNvPr id="72" name="Прямая соединительная линия 14"/>
            <p:cNvSpPr/>
            <p:nvPr/>
          </p:nvSpPr>
          <p:spPr>
            <a:xfrm>
              <a:off x="1066680" y="0"/>
              <a:ext cx="0" cy="6858000"/>
            </a:xfrm>
            <a:prstGeom prst="line">
              <a:avLst/>
            </a:prstGeom>
            <a:ln w="9360">
              <a:solidFill>
                <a:srgbClr val="fec2a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106668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9113760" y="0"/>
            <a:ext cx="1800" cy="6858000"/>
            <a:chOff x="9113760" y="0"/>
            <a:chExt cx="1800" cy="6858000"/>
          </a:xfrm>
        </p:grpSpPr>
        <p:sp>
          <p:nvSpPr>
            <p:cNvPr id="75" name="Прямая соединительная линия 21"/>
            <p:cNvSpPr/>
            <p:nvPr/>
          </p:nvSpPr>
          <p:spPr>
            <a:xfrm>
              <a:off x="9113760" y="0"/>
              <a:ext cx="1800" cy="6858000"/>
            </a:xfrm>
            <a:prstGeom prst="line">
              <a:avLst/>
            </a:prstGeom>
            <a:ln w="57240">
              <a:solidFill>
                <a:srgbClr val="fec2a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9113760" y="0"/>
              <a:ext cx="180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2a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87280" y="404280"/>
            <a:ext cx="597708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65c01"/>
                </a:solidFill>
                <a:latin typeface="Century Schoolbook"/>
              </a:rPr>
              <a:t>День Матери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348000" y="2276640"/>
            <a:ext cx="4608720" cy="3456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Users\Владелец\Desktop\Коллекция картинок (Microsoft)\lori-0000222158-ynd.jpg"/>
          <p:cNvPicPr/>
          <p:nvPr/>
        </p:nvPicPr>
        <p:blipFill>
          <a:blip r:embed="rId2"/>
          <a:stretch/>
        </p:blipFill>
        <p:spPr>
          <a:xfrm rot="592200">
            <a:off x="406440" y="415440"/>
            <a:ext cx="2141640" cy="2476800"/>
          </a:xfrm>
          <a:prstGeom prst="rect">
            <a:avLst/>
          </a:prstGeom>
          <a:ln w="0">
            <a:noFill/>
          </a:ln>
        </p:spPr>
      </p:pic>
      <p:pic>
        <p:nvPicPr>
          <p:cNvPr id="86" name="16-valjs_iz_kf_moi_laskovyi_i_nezhnyi_zverj.mp3" descr=""/>
          <p:cNvPicPr/>
          <p:nvPr/>
        </p:nvPicPr>
        <p:blipFill>
          <a:blip r:embed="rId3"/>
          <a:stretch/>
        </p:blipFill>
        <p:spPr>
          <a:xfrm>
            <a:off x="2556000" y="6165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4643280" y="6165720"/>
            <a:ext cx="410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99"/>
                </a:solidFill>
                <a:latin typeface="Century Schoolbook"/>
              </a:rPr>
              <a:t>Выполни</a:t>
            </a:r>
            <a:r>
              <a:rPr b="1" lang="en-US" sz="1400" spc="-1" strike="noStrike">
                <a:solidFill>
                  <a:srgbClr val="990099"/>
                </a:solidFill>
                <a:latin typeface="Century Schoolbook"/>
              </a:rPr>
              <a:t>л</a:t>
            </a:r>
            <a:r>
              <a:rPr b="1" lang="ru-RU" sz="1400" spc="-1" strike="noStrike">
                <a:solidFill>
                  <a:srgbClr val="990099"/>
                </a:solidFill>
                <a:latin typeface="Century Schoolbook"/>
              </a:rPr>
              <a:t>и ученики 7 класса 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99"/>
                </a:solidFill>
                <a:latin typeface="Century Schoolbook"/>
              </a:rPr>
              <a:t>Пермяков Игорь и Мурзабеков Азам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Владелец\Desktop\Коллекция картинок (Microsoft)\j0422400.jpg"/>
          <p:cNvPicPr/>
          <p:nvPr/>
        </p:nvPicPr>
        <p:blipFill>
          <a:blip r:embed="rId1">
            <a:lum bright="10000"/>
          </a:blip>
          <a:stretch/>
        </p:blipFill>
        <p:spPr>
          <a:xfrm rot="255600">
            <a:off x="539280" y="333000"/>
            <a:ext cx="7499520" cy="597528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"/>
          <p:cNvSpPr/>
          <p:nvPr/>
        </p:nvSpPr>
        <p:spPr>
          <a:xfrm>
            <a:off x="179280" y="0"/>
            <a:ext cx="8785440" cy="73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Женский день в Тунисе  почитается особ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13 августа прекрасная половина этой небольшой страны на севере Африки отмечает свой праздник — Женский д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В этот день празднуется независимость женщин и признание их вклада в развитие нации. 13 августа 1956 года был принят Манифест, признающий женщин субъектами права. В преддверии женского праздника все мужчины усаживаются у телевизора и внимательно слушают президента — какие же дополнительные права женщины получат еще в качестве подарка. Так, к примеру, правительство в один из последних праздников запретило местной ГАИ штрафовать женщин-водителей после 20 часов вечера, если они нарушили правила дорожного движения. Женщинам в Тунисе уделяется очень много внимания. И не зря — ведь женщина и хранительница очага, и мать, и супруга, и весь порядок в доме держится на ее хрупких плечах. Поэтому большое внимание уделяется нравственному воспитанию женщины, практически с самого ее рождения. Даже в школе у девочек есть определенная форма одежды, у мальчиков — нет. Мужчина же существо полигамное, здесь это хорошо понимают; а женщина — основа всех основ. Сегодняшний праздник в стране — общенациональный выходной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Users\Владелец\Desktop\Коллекция картинок (Microsoft)\День Матери\i2.jpe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3538440" y="3213000"/>
            <a:ext cx="5335560" cy="3384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:\Users\Владелец\Desktop\Коллекция картинок (Microsoft)\День Матери\5432.jpe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250920" y="189000"/>
            <a:ext cx="4819680" cy="3213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 rot="333600">
            <a:off x="5076720" y="497160"/>
            <a:ext cx="3816360" cy="228852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f5cd2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Уважаемые МАМ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Пусть вас любят ваши дети,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Пусть без вас они скучают,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Никогда и ни за что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Вас одних не оставляю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C:\Users\Владелец\Desktop\Коллекция картинок (Microsoft)\1.gif"/>
          <p:cNvPicPr/>
          <p:nvPr/>
        </p:nvPicPr>
        <p:blipFill>
          <a:blip r:embed="rId4">
            <a:lum bright="10000"/>
          </a:blip>
          <a:stretch/>
        </p:blipFill>
        <p:spPr>
          <a:xfrm rot="20523600">
            <a:off x="-75960" y="3669840"/>
            <a:ext cx="3799080" cy="2667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C:\Users\Владелец\Desktop\Коллекция картинок (Microsoft)\7550.jpg"/>
          <p:cNvPicPr/>
          <p:nvPr/>
        </p:nvPicPr>
        <p:blipFill>
          <a:blip r:embed="rId1"/>
          <a:stretch/>
        </p:blipFill>
        <p:spPr>
          <a:xfrm rot="19990200">
            <a:off x="1273320" y="232920"/>
            <a:ext cx="6022800" cy="60231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"/>
          <p:cNvSpPr/>
          <p:nvPr/>
        </p:nvSpPr>
        <p:spPr>
          <a:xfrm>
            <a:off x="179280" y="0"/>
            <a:ext cx="85694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В России День матери стали отмечать сравнительно недавно. Установленный Указом Президента РФ «О Дне матери» от 30 января 1998 года, он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Century Schoolbook"/>
              </a:rPr>
              <a:t>празднуется в последнее воскресенье ноября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, воздавая должное материнскому труду и их бескорыстной жертве ради блага своих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С инициативой учреждения Дня матери выступил Комитет Государственной Думы по делам женщин, семьи и молодеж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«В целях повышения социальной значимости материнства постановля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1. Установить праздник — День матери и отмечать его в последнее воскресенье ноябр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2. Настоящий Указ вступает в силу со дня его официального опубликования», но благодаря ему российские матери получили свой официальный празд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Невозможно поспорить с тем, что этот праздник — праздник вечности. Из поколения в поколение для каждого человека мама — самый главный человек в жизни. </a:t>
            </a:r>
            <a:r>
              <a:rPr b="1" i="1" lang="ru-RU" sz="2000" spc="-1" strike="noStrike">
                <a:solidFill>
                  <a:srgbClr val="ff0000"/>
                </a:solidFill>
                <a:latin typeface="Century Schoolbook"/>
              </a:rPr>
              <a:t>Становясь матерью, женщина открывает в себе лучшие качества: доброту, любовь, заботу, терпение и самопожертвование. Спасибо вам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 rot="1068000">
            <a:off x="6768720" y="5607000"/>
            <a:ext cx="1755720" cy="1463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 rot="20929800">
            <a:off x="244080" y="387000"/>
            <a:ext cx="4287960" cy="2952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>
            <a:lum bright="20000"/>
          </a:blip>
          <a:stretch/>
        </p:blipFill>
        <p:spPr>
          <a:xfrm rot="777000">
            <a:off x="5017680" y="538200"/>
            <a:ext cx="3624480" cy="2744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3381480" y="3357720"/>
            <a:ext cx="4881600" cy="3240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Users\Владелец\Desktop\Коллекция картинок (Microsoft)\zachem_slova.jpg"/>
          <p:cNvPicPr/>
          <p:nvPr/>
        </p:nvPicPr>
        <p:blipFill>
          <a:blip r:embed="rId4"/>
          <a:stretch/>
        </p:blipFill>
        <p:spPr>
          <a:xfrm rot="1255200">
            <a:off x="661680" y="3755880"/>
            <a:ext cx="2925720" cy="2924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564000" y="279360"/>
            <a:ext cx="4824360" cy="63896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2"/>
          <p:cNvSpPr/>
          <p:nvPr/>
        </p:nvSpPr>
        <p:spPr>
          <a:xfrm>
            <a:off x="250920" y="0"/>
            <a:ext cx="8426520" cy="73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ea6d59"/>
                </a:solidFill>
                <a:uFillTx/>
                <a:latin typeface="Century Schoolbook"/>
              </a:rPr>
              <a:t>День матери в разных странах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entury Schoolbook"/>
              </a:rPr>
              <a:t>День матери в Панаме — один из главных и важных праздников в декабре . По этому случаю многие люди находятся не на своих рабочих местах, а дома, в кругу семьи, и готовят мамам настоящий праздник. В этот день все вертится вокруг мам, и, тем не менее, традиции празднования этого дня очень сильно зависят от каждой конкретной семьи. Но одно остается неизменным — этот день несет лишь радостные эмоции, ведь главная его цель — отдать дань уважения маме — самому главному человеку на зем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Century Schoolbook"/>
              </a:rPr>
              <a:t>Многих в этот день волнует вопрос о том, как и благодаря кому появился этот праздник. Однако, по этому поводу нет однозначного мнения, есть множество версий, рассказывающих о том, как впервые был отмечен этот день. В разных культурах, в разных странах День матери празднуется в разное время. В зависимости от культуры и страны, День матери отмечается в соответствии с местными обычаями. Есть достаточно распространенное мнение о том, что традиции Дня матери восходят ко временам Древней Греции. Именно там был обычай поклоняться матери, как богине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2360" y="333720"/>
            <a:ext cx="3885480" cy="13644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Century Schoolbook"/>
              </a:rPr>
              <a:t>Я тебя люблю!!!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32880" y="425520"/>
            <a:ext cx="4567680" cy="171036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Century Schoolbook"/>
              </a:rPr>
              <a:t>Самые славные мои детки!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2349360"/>
            <a:ext cx="4282920" cy="3240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4282920" y="2924280"/>
            <a:ext cx="4321440" cy="3025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Владелец\Desktop\Коллекция картинок (Microsoft)\MUsummer.jpg"/>
          <p:cNvPicPr/>
          <p:nvPr/>
        </p:nvPicPr>
        <p:blipFill>
          <a:blip r:embed="rId1">
            <a:lum bright="30000"/>
          </a:blip>
          <a:stretch/>
        </p:blipFill>
        <p:spPr>
          <a:xfrm rot="781200">
            <a:off x="1163160" y="476280"/>
            <a:ext cx="6732720" cy="583236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2"/>
          <p:cNvSpPr/>
          <p:nvPr/>
        </p:nvSpPr>
        <p:spPr>
          <a:xfrm>
            <a:off x="0" y="0"/>
            <a:ext cx="9144000" cy="73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День матери в Коста-Р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entury Schoolbook"/>
              </a:rPr>
              <a:t>15 августа День матери в Коста-Рике празднуется ежегодно 15 августа и совпадает с празднованием Успения пресвятой Богородицы. В этот день всем матерям и бабушкам дарят очень дорогие подарки: очень часто даже холодильники, мебель или хорошую одеж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Century Schoolbook"/>
              </a:rPr>
              <a:t>Все большие семьи (иногда до 100 человек!) собираются в доме у бабушки. За стол всему семейству поместиться не удается, поэтому садятся, кто где может: кто на диване, кто на скамейке, а кто и на порожке. Обычная еда: плов с курицей, пюре из черной фасоли, хрустящий картофель, салат из свежей капусты с помидорами. Пьют в основном пиво или апельсиновый соком со льдом. Напитки разливают на кухне, а пьют из одноразовых стаканчиков. Тост произносят только один раз, кто-нибудь из членов семьи, самый красноречивый, благодарит Бога за то, что у него есть такая чудесная мать. После тоста следует моли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Century Schoolbook"/>
              </a:rPr>
              <a:t>Потом начинается демонстрация подарков, как всегда, с шутками, смехом и восклицаниями: «Ах! Как чудесно! Как мило!». Вскоре начинаются танцы, и бабушек тоже вытаскивают под веселые звуки сальсы или кумбии. В Коста-Рике танцуют все, от четырех до восьмидесяти лет. День матери — официальный общенародный выходной день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Users\Владелец\Desktop\Коллекция картинок (Microsoft)\День Матери\56.jpeg"/>
          <p:cNvPicPr/>
          <p:nvPr/>
        </p:nvPicPr>
        <p:blipFill>
          <a:blip r:embed="rId1"/>
          <a:stretch/>
        </p:blipFill>
        <p:spPr>
          <a:xfrm rot="5029800">
            <a:off x="-296640" y="1342800"/>
            <a:ext cx="5459400" cy="4093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Users\Владелец\Desktop\Коллекция картинок (Microsoft)\День Матери\7.jpeg"/>
          <p:cNvPicPr/>
          <p:nvPr/>
        </p:nvPicPr>
        <p:blipFill>
          <a:blip r:embed="rId2"/>
          <a:stretch/>
        </p:blipFill>
        <p:spPr>
          <a:xfrm>
            <a:off x="4511520" y="476280"/>
            <a:ext cx="4429440" cy="32418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4282920" y="3922560"/>
            <a:ext cx="4465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Calibri"/>
                <a:ea typeface="Times New Roman"/>
              </a:rPr>
              <a:t>Ты даришь нам любовь свою,</a:t>
            </a:r>
            <a:br>
              <a:rPr sz="2400"/>
            </a:br>
            <a:r>
              <a:rPr b="1" i="1" lang="ru-RU" sz="2400" spc="-1" strike="noStrike">
                <a:solidFill>
                  <a:srgbClr val="990099"/>
                </a:solidFill>
                <a:latin typeface="Calibri"/>
                <a:ea typeface="Times New Roman"/>
              </a:rPr>
              <a:t>И ты наш лучик в темном свете,</a:t>
            </a:r>
            <a:br>
              <a:rPr sz="2400"/>
            </a:br>
            <a:r>
              <a:rPr b="1" i="1" lang="ru-RU" sz="2400" spc="-1" strike="noStrike">
                <a:solidFill>
                  <a:srgbClr val="990099"/>
                </a:solidFill>
                <a:latin typeface="Calibri"/>
                <a:ea typeface="Times New Roman"/>
              </a:rPr>
              <a:t>Ты наш хранитель и уют,</a:t>
            </a:r>
            <a:br>
              <a:rPr sz="2400"/>
            </a:br>
            <a:r>
              <a:rPr b="1" i="1" lang="ru-RU" sz="2400" spc="-1" strike="noStrike">
                <a:solidFill>
                  <a:srgbClr val="990099"/>
                </a:solidFill>
                <a:latin typeface="Calibri"/>
                <a:ea typeface="Times New Roman"/>
              </a:rPr>
              <a:t>И  нет прекраснее на</a:t>
            </a:r>
            <a:br>
              <a:rPr sz="2400"/>
            </a:br>
            <a:r>
              <a:rPr b="1" i="1" lang="ru-RU" sz="2400" spc="-1" strike="noStrike">
                <a:solidFill>
                  <a:srgbClr val="990099"/>
                </a:solidFill>
                <a:latin typeface="Calibri"/>
                <a:ea typeface="Times New Roman"/>
              </a:rPr>
              <a:t>Свете человека, которого</a:t>
            </a:r>
            <a:br>
              <a:rPr sz="2400"/>
            </a:br>
            <a:r>
              <a:rPr b="1" i="1" lang="ru-RU" sz="2400" spc="-1" strike="noStrike">
                <a:solidFill>
                  <a:srgbClr val="990099"/>
                </a:solidFill>
                <a:latin typeface="Calibri"/>
                <a:ea typeface="Times New Roman"/>
              </a:rPr>
              <a:t>Все мамою зов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682560" y="18900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МАМОЧ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Users\Владелец\Desktop\Коллекция картинок (Microsoft)\7550.jpg"/>
          <p:cNvPicPr/>
          <p:nvPr/>
        </p:nvPicPr>
        <p:blipFill>
          <a:blip r:embed="rId1">
            <a:lum bright="10000"/>
          </a:blip>
          <a:stretch/>
        </p:blipFill>
        <p:spPr>
          <a:xfrm rot="21232200">
            <a:off x="1260360" y="549360"/>
            <a:ext cx="6336000" cy="59040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2"/>
          <p:cNvSpPr/>
          <p:nvPr/>
        </p:nvSpPr>
        <p:spPr>
          <a:xfrm>
            <a:off x="324000" y="189000"/>
            <a:ext cx="82803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Century Schoolbook"/>
              </a:rPr>
              <a:t>День матери в Грузии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установлен, чтобы особо отметить значение в нашей жизни главного человека — Мате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3 марта Праздник Дня матери был учрежден в Грузии по предложению первого Президента Грузии  Гамсахурдиа в 1991 г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В то время предполагалось, что День матери заменит в Грузии Международный женский день, по традиции отмечаемый 8 Марта. Однако, до сих пор в Грузии отмечают оба праздника. При этом, что примечательно, ни одного «мужского» дня в грузинском праздничном календаре пока н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Цель у Дня матери высокая и благая — поддержать традиции бережного отношения к женщине, закрепить семейные устои, особо отметить значение в нашей жизни главного человека — Матери. День матери в Грузии — это семейный праздник. Именно дети должны познать, кем является для них мама, что сделала она для них и какого почтения заслуживает. Ведь нет ничего прекраснее и бескорыстнее материнской любви. Как солнце посылает свои лучи, согревая все живое на земле, так и любовь матери всегда согревает ребенка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Users\Владелец\Desktop\Коллекция картинок (Microsoft)\preview11.jpg"/>
          <p:cNvPicPr/>
          <p:nvPr/>
        </p:nvPicPr>
        <p:blipFill>
          <a:blip r:embed="rId1"/>
          <a:stretch/>
        </p:blipFill>
        <p:spPr>
          <a:xfrm rot="580800">
            <a:off x="109440" y="158760"/>
            <a:ext cx="3452760" cy="2471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Users\Владелец\Desktop\Коллекция картинок (Microsoft)\День Матери\9.jpeg"/>
          <p:cNvPicPr/>
          <p:nvPr/>
        </p:nvPicPr>
        <p:blipFill>
          <a:blip r:embed="rId2"/>
          <a:stretch/>
        </p:blipFill>
        <p:spPr>
          <a:xfrm rot="1143600">
            <a:off x="323640" y="2491920"/>
            <a:ext cx="3958920" cy="3961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Users\Владелец\Desktop\Коллекция картинок (Microsoft)\День Матери\i.jpeg"/>
          <p:cNvPicPr/>
          <p:nvPr/>
        </p:nvPicPr>
        <p:blipFill>
          <a:blip r:embed="rId3"/>
          <a:stretch/>
        </p:blipFill>
        <p:spPr>
          <a:xfrm rot="405000">
            <a:off x="4179960" y="216000"/>
            <a:ext cx="4352760" cy="31417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/>
          <p:cNvSpPr/>
          <p:nvPr/>
        </p:nvSpPr>
        <p:spPr>
          <a:xfrm>
            <a:off x="4067280" y="3860640"/>
            <a:ext cx="432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66"/>
                </a:solidFill>
                <a:latin typeface="Century Schoolbook"/>
              </a:rPr>
              <a:t>Материнское тепло</a:t>
            </a:r>
            <a:br>
              <a:rPr sz="2400"/>
            </a:br>
            <a:r>
              <a:rPr b="1" i="1" lang="ru-RU" sz="2400" spc="-1" strike="noStrike">
                <a:solidFill>
                  <a:srgbClr val="cc0066"/>
                </a:solidFill>
                <a:latin typeface="Century Schoolbook"/>
              </a:rPr>
              <a:t>Нас по жизни согревает.</a:t>
            </a:r>
            <a:br>
              <a:rPr sz="2400"/>
            </a:br>
            <a:r>
              <a:rPr b="1" i="1" lang="ru-RU" sz="2400" spc="-1" strike="noStrike">
                <a:solidFill>
                  <a:srgbClr val="cc0066"/>
                </a:solidFill>
                <a:latin typeface="Century Schoolbook"/>
              </a:rPr>
              <a:t>И в мороз, и в летний зной</a:t>
            </a:r>
            <a:br>
              <a:rPr sz="2400"/>
            </a:br>
            <a:r>
              <a:rPr b="1" i="1" lang="ru-RU" sz="2400" spc="-1" strike="noStrike">
                <a:solidFill>
                  <a:srgbClr val="cc0066"/>
                </a:solidFill>
                <a:latin typeface="Century Schoolbook"/>
              </a:rPr>
              <a:t>Жить оно  нам помогает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20:45:00Z</dcterms:created>
  <dc:creator>Владелец</dc:creator>
  <dc:description/>
  <cp:keywords/>
  <dc:language>en-US</dc:language>
  <cp:lastModifiedBy>1</cp:lastModifiedBy>
  <dcterms:modified xsi:type="dcterms:W3CDTF">2005-01-13T19:26:24Z</dcterms:modified>
  <cp:revision>29</cp:revision>
  <dc:subject/>
  <dc:title>День Матер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550</vt:lpwstr>
  </property>
</Properties>
</file>