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28A-21DD-447C-A455-4F98C210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A38-6B0A-4142-BCD5-49A55825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3DF-4D80-4A8E-BDB0-242E0BF9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AAF-0B08-459C-87AE-B1C600D1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4BC-9941-4B68-BC7C-5F112A57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3D7-8B83-466F-9D54-CCC4D1FB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AA2-ECC6-40DB-AF42-7EC26C7A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6AA-D994-46D2-8F51-13A44C13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B3C-B528-453B-B975-2202F428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475-93F0-429B-9F4F-AAFB176F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6C9-C808-456D-939D-5209904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4D0-EF1E-4A31-8E78-DD5170AA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1" name="Прямая соединительная линия 15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2ad">
                  <a:alpha val="9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7530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fec2ad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2520">
              <a:spcBef>
                <a:spcPts val="601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3F43-5B98-41BE-9067-9FFEA0F8EBF0}" type="datetime">
              <a:rPr b="0" lang="ru-RU" sz="1200" spc="-1" strike="noStrike">
                <a:solidFill>
                  <a:srgbClr val="575f6d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6320" y="0"/>
            <a:ext cx="360" cy="6858000"/>
            <a:chOff x="76320" y="0"/>
            <a:chExt cx="360" cy="6858000"/>
          </a:xfrm>
        </p:grpSpPr>
        <p:sp>
          <p:nvSpPr>
            <p:cNvPr id="8" name="Прямая соединительная линия 6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7240">
              <a:solidFill>
                <a:srgbClr val="fec2a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763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11" name="Прямая соединительная линия 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fe863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2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15" name="Прямая соединительная линия 1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F69F-B0B1-4BD3-AB82-40B866310B7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2a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d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990720" y="0"/>
            <a:ext cx="180720" cy="6858000"/>
          </a:xfrm>
          <a:prstGeom prst="rect">
            <a:avLst/>
          </a:prstGeom>
          <a:solidFill>
            <a:srgbClr val="ffd9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6200" y="0"/>
            <a:ext cx="360" cy="6858000"/>
            <a:chOff x="106200" y="0"/>
            <a:chExt cx="360" cy="6858000"/>
          </a:xfrm>
        </p:grpSpPr>
        <p:sp>
          <p:nvSpPr>
            <p:cNvPr id="60" name="Прямая соединительная линия 10"/>
            <p:cNvSpPr/>
            <p:nvPr/>
          </p:nvSpPr>
          <p:spPr>
            <a:xfrm>
              <a:off x="106200" y="0"/>
              <a:ext cx="0" cy="6858000"/>
            </a:xfrm>
            <a:prstGeom prst="line">
              <a:avLst/>
            </a:prstGeom>
            <a:ln w="57240">
              <a:solidFill>
                <a:srgbClr val="fec2ad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1062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914400" y="0"/>
            <a:ext cx="360" cy="6858000"/>
            <a:chOff x="914400" y="0"/>
            <a:chExt cx="360" cy="6858000"/>
          </a:xfrm>
        </p:grpSpPr>
        <p:sp>
          <p:nvSpPr>
            <p:cNvPr id="63" name="Прямая соединительная линия 17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57240">
              <a:solidFill>
                <a:srgbClr val="ffede7">
                  <a:alpha val="8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914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53920" y="0"/>
            <a:ext cx="360" cy="6858000"/>
            <a:chOff x="853920" y="0"/>
            <a:chExt cx="360" cy="6858000"/>
          </a:xfrm>
        </p:grpSpPr>
        <p:sp>
          <p:nvSpPr>
            <p:cNvPr id="66" name="Прямая соединительная линия 19"/>
            <p:cNvSpPr/>
            <p:nvPr/>
          </p:nvSpPr>
          <p:spPr>
            <a:xfrm>
              <a:off x="853920" y="0"/>
              <a:ext cx="0" cy="6858000"/>
            </a:xfrm>
            <a:prstGeom prst="line">
              <a:avLst/>
            </a:prstGeom>
            <a:ln w="57240">
              <a:solidFill>
                <a:srgbClr val="fec2a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8539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727280" y="0"/>
            <a:ext cx="360" cy="6858000"/>
            <a:chOff x="1727280" y="0"/>
            <a:chExt cx="360" cy="6858000"/>
          </a:xfrm>
        </p:grpSpPr>
        <p:sp>
          <p:nvSpPr>
            <p:cNvPr id="69" name="Прямая соединительная линия 15"/>
            <p:cNvSpPr/>
            <p:nvPr/>
          </p:nvSpPr>
          <p:spPr>
            <a:xfrm>
              <a:off x="1727280" y="0"/>
              <a:ext cx="0" cy="6858000"/>
            </a:xfrm>
            <a:prstGeom prst="line">
              <a:avLst/>
            </a:prstGeom>
            <a:ln w="28440">
              <a:solidFill>
                <a:srgbClr val="fec2ad">
                  <a:alpha val="81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172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66680" y="0"/>
            <a:ext cx="360" cy="6858000"/>
            <a:chOff x="1066680" y="0"/>
            <a:chExt cx="360" cy="6858000"/>
          </a:xfrm>
        </p:grpSpPr>
        <p:sp>
          <p:nvSpPr>
            <p:cNvPr id="72" name="Прямая соединительная линия 14"/>
            <p:cNvSpPr/>
            <p:nvPr/>
          </p:nvSpPr>
          <p:spPr>
            <a:xfrm>
              <a:off x="1066680" y="0"/>
              <a:ext cx="0" cy="6858000"/>
            </a:xfrm>
            <a:prstGeom prst="line">
              <a:avLst/>
            </a:prstGeom>
            <a:ln w="9360">
              <a:solidFill>
                <a:srgbClr val="fec2a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10666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9113760" y="0"/>
            <a:ext cx="1800" cy="6858000"/>
            <a:chOff x="9113760" y="0"/>
            <a:chExt cx="1800" cy="6858000"/>
          </a:xfrm>
        </p:grpSpPr>
        <p:sp>
          <p:nvSpPr>
            <p:cNvPr id="75" name="Прямая соединительная линия 21"/>
            <p:cNvSpPr/>
            <p:nvPr/>
          </p:nvSpPr>
          <p:spPr>
            <a:xfrm>
              <a:off x="9113760" y="0"/>
              <a:ext cx="1800" cy="6858000"/>
            </a:xfrm>
            <a:prstGeom prst="line">
              <a:avLst/>
            </a:prstGeom>
            <a:ln w="57240">
              <a:solidFill>
                <a:srgbClr val="fec2a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9113760" y="0"/>
              <a:ext cx="18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2a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87280" y="404280"/>
            <a:ext cx="59770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65c01"/>
                </a:solidFill>
                <a:latin typeface="Century Schoolbook"/>
              </a:rPr>
              <a:t>День Матери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Владелец\Desktop\Коллекция картинок (Microsoft)\lori-0000222158-ynd.jpg"/>
          <p:cNvPicPr/>
          <p:nvPr/>
        </p:nvPicPr>
        <p:blipFill>
          <a:blip r:embed="rId2"/>
          <a:stretch/>
        </p:blipFill>
        <p:spPr>
          <a:xfrm rot="592200">
            <a:off x="406440" y="415440"/>
            <a:ext cx="2141640" cy="2476800"/>
          </a:xfrm>
          <a:prstGeom prst="rect">
            <a:avLst/>
          </a:prstGeom>
          <a:ln w="0">
            <a:noFill/>
          </a:ln>
        </p:spPr>
      </p:pic>
      <p:pic>
        <p:nvPicPr>
          <p:cNvPr id="86" name="16-valjs_iz_kf_moi_laskovyi_i_nezhnyi_zverj.mp3" descr=""/>
          <p:cNvPicPr/>
          <p:nvPr/>
        </p:nvPicPr>
        <p:blipFill>
          <a:blip r:embed="rId3"/>
          <a:stretch/>
        </p:blipFill>
        <p:spPr>
          <a:xfrm>
            <a:off x="255600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4643280" y="616572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Century Schoolbook"/>
              </a:rPr>
              <a:t>Выполни</a:t>
            </a:r>
            <a:r>
              <a:rPr b="1" lang="en-US" sz="1400" spc="-1" strike="noStrike">
                <a:solidFill>
                  <a:srgbClr val="990099"/>
                </a:solidFill>
                <a:latin typeface="Century Schoolbook"/>
              </a:rPr>
              <a:t>л</a:t>
            </a:r>
            <a:r>
              <a:rPr b="1" lang="ru-RU" sz="1400" spc="-1" strike="noStrike">
                <a:solidFill>
                  <a:srgbClr val="990099"/>
                </a:solidFill>
                <a:latin typeface="Century Schoolbook"/>
              </a:rPr>
              <a:t>и ученики 7 класса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Century Schoolbook"/>
              </a:rPr>
              <a:t>Пермяков Игорь и Мурзабеков Азам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Владелец\Desktop\Коллекция картинок (Microsoft)\j0422400.jpg"/>
          <p:cNvPicPr/>
          <p:nvPr/>
        </p:nvPicPr>
        <p:blipFill>
          <a:blip r:embed="rId1">
            <a:lum bright="10000"/>
          </a:blip>
          <a:stretch/>
        </p:blipFill>
        <p:spPr>
          <a:xfrm rot="255600">
            <a:off x="539280" y="333000"/>
            <a:ext cx="7499520" cy="59752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179280" y="0"/>
            <a:ext cx="878544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Женский день в Тунисе  почитается особ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3 августа прекрасная половина этой небольшой страны на севере Африки отмечает свой праздник — Женский 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 этот день празднуется независимость женщин и признание их вклада в развитие нации. 13 августа 1956 года был принят Манифест, признающий женщин субъектами права. В преддверии женского праздника все мужчины усаживаются у телевизора и внимательно слушают президента — какие же дополнительные права женщины получат еще в качестве подарка. Так, к примеру, правительство в один из последних праздников запретило местной ГАИ штрафовать женщин-водителей после 20 часов вечера, если они нарушили правила дорожного движения. Женщинам в Тунисе уделяется очень много внимания. И не зря — ведь женщина и хранительница очага, и мать, и супруга, и весь порядок в доме держится на ее хрупких плечах. Поэтому большое внимание уделяется нравственному воспитанию женщины, практически с самого ее рождения. Даже в школе у девочек есть определенная форма одежды, у мальчиков — нет. Мужчина же существо полигамное, здесь это хорошо понимают; а женщина — основа всех основ. Сегодняшний праздник в стране — общенациональный выходной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Владелец\Desktop\Коллекция картинок (Microsoft)\День Матери\i2.jpe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538440" y="3213000"/>
            <a:ext cx="5335560" cy="3384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Владелец\Desktop\Коллекция картинок (Microsoft)\День Матери\5432.jpe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50920" y="189000"/>
            <a:ext cx="4819680" cy="3213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 rot="333600">
            <a:off x="5076720" y="497160"/>
            <a:ext cx="3816360" cy="22885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5cd2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Уважаемые МАМ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Пусть вас любят ваши дети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Пусть без вас они скучают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Никогда и ни за что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ас одних не оставля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C:\Users\Владелец\Desktop\Коллекция картинок (Microsoft)\1.gif"/>
          <p:cNvPicPr/>
          <p:nvPr/>
        </p:nvPicPr>
        <p:blipFill>
          <a:blip r:embed="rId4">
            <a:lum bright="10000"/>
          </a:blip>
          <a:stretch/>
        </p:blipFill>
        <p:spPr>
          <a:xfrm rot="20523600">
            <a:off x="-75960" y="3669840"/>
            <a:ext cx="3799080" cy="266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Владелец\Desktop\Коллекция картинок (Microsoft)\7550.jpg"/>
          <p:cNvPicPr/>
          <p:nvPr/>
        </p:nvPicPr>
        <p:blipFill>
          <a:blip r:embed="rId1"/>
          <a:stretch/>
        </p:blipFill>
        <p:spPr>
          <a:xfrm rot="19990200">
            <a:off x="1273320" y="232920"/>
            <a:ext cx="6022800" cy="60231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179280" y="0"/>
            <a:ext cx="8569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В России День матери стали отмечать сравнительно недавно. Установленный Указом Президента РФ «О Дне матери» от 30 января 1998 года, он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празднуется в последнее воскресенье ноября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, воздавая должное материнскому труду и их бескорыстной жертве ради блага сво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 инициативой учреждения Дня матери выступил Комитет Государственной Думы по делам женщин, семьи и молоде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«В целях повышения социальной значимости материнства постановля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1. Установить праздник — День матери и отмечать его в последнее воскресенье нояб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2. Настоящий Указ вступает в силу со дня его официального опубликования», но благодаря ему российские матери получили свой официальный праз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Невозможно поспорить с тем, что этот праздник — праздник вечности. Из поколения в поколение для каждого человека мама — самый главный человек в жизни. </a:t>
            </a:r>
            <a:r>
              <a:rPr b="1" i="1" lang="ru-RU" sz="2000" spc="-1" strike="noStrike">
                <a:solidFill>
                  <a:srgbClr val="ff0000"/>
                </a:solidFill>
                <a:latin typeface="Century Schoolbook"/>
              </a:rPr>
              <a:t>Становясь матерью, женщина открывает в себе лучшие качества: доброту, любовь, заботу, терпение и самопожертвование. Спасибо ва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 rot="1068000">
            <a:off x="6768720" y="5607000"/>
            <a:ext cx="1755720" cy="1463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 rot="20929800">
            <a:off x="244080" y="387000"/>
            <a:ext cx="4287960" cy="295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>
            <a:lum bright="20000"/>
          </a:blip>
          <a:stretch/>
        </p:blipFill>
        <p:spPr>
          <a:xfrm rot="777000">
            <a:off x="5017680" y="538200"/>
            <a:ext cx="3624480" cy="274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3381480" y="3357720"/>
            <a:ext cx="4881600" cy="32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Владелец\Desktop\Коллекция картинок (Microsoft)\zachem_slova.jpg"/>
          <p:cNvPicPr/>
          <p:nvPr/>
        </p:nvPicPr>
        <p:blipFill>
          <a:blip r:embed="rId4"/>
          <a:stretch/>
        </p:blipFill>
        <p:spPr>
          <a:xfrm rot="1255200">
            <a:off x="661680" y="3755880"/>
            <a:ext cx="2925720" cy="2924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564000" y="279360"/>
            <a:ext cx="4824360" cy="63896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250920" y="0"/>
            <a:ext cx="842652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6d59"/>
                </a:solidFill>
                <a:uFillTx/>
                <a:latin typeface="Century Schoolbook"/>
              </a:rPr>
              <a:t>День матери в разных страна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День матери в Панаме — один из главных и важных праздников в декабре . По этому случаю многие люди находятся не на своих рабочих местах, а дома, в кругу семьи, и готовят мамам настоящий праздник. В этот день все вертится вокруг мам, и, тем не менее, традиции празднования этого дня очень сильно зависят от каждой конкретной семьи. Но одно остается неизменным — этот день несет лишь радостные эмоции, ведь главная его цель — отдать дань уважения маме — самому главному человеку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Многих в этот день волнует вопрос о том, как и благодаря кому появился этот праздник. Однако, по этому поводу нет однозначного мнения, есть множество версий, рассказывающих о том, как впервые был отмечен этот день. В разных культурах, в разных странах День матери празднуется в разное время. В зависимости от культуры и страны, День матери отмечается в соответствии с местными обычаями. Есть достаточно распространенное мнение о том, что традиции Дня матери восходят ко временам Древней Греции. Именно там был обычай поклоняться матери, как богине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2360" y="333720"/>
            <a:ext cx="3885480" cy="13644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entury Schoolbook"/>
              </a:rPr>
              <a:t>Я тебя люблю!!!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32880" y="425520"/>
            <a:ext cx="4567680" cy="17103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entury Schoolbook"/>
              </a:rPr>
              <a:t>Самые славные мои детки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2349360"/>
            <a:ext cx="4282920" cy="324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282920" y="2924280"/>
            <a:ext cx="4321440" cy="302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Владелец\Desktop\Коллекция картинок (Microsoft)\MUsummer.jpg"/>
          <p:cNvPicPr/>
          <p:nvPr/>
        </p:nvPicPr>
        <p:blipFill>
          <a:blip r:embed="rId1">
            <a:lum bright="30000"/>
          </a:blip>
          <a:stretch/>
        </p:blipFill>
        <p:spPr>
          <a:xfrm rot="781200">
            <a:off x="1163160" y="476280"/>
            <a:ext cx="6732720" cy="58323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0" y="0"/>
            <a:ext cx="914400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День матери в Коста-Р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15 августа День матери в Коста-Рике празднуется ежегодно 15 августа и совпадает с празднованием Успения пресвятой Богородицы. В этот день всем матерям и бабушкам дарят очень дорогие подарки: очень часто даже холодильники, мебель или хорошую одеж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Все большие семьи (иногда до 100 человек!) собираются в доме у бабушки. За стол всему семейству поместиться не удается, поэтому садятся, кто где может: кто на диване, кто на скамейке, а кто и на порожке. Обычная еда: плов с курицей, пюре из черной фасоли, хрустящий картофель, салат из свежей капусты с помидорами. Пьют в основном пиво или апельсиновый соком со льдом. Напитки разливают на кухне, а пьют из одноразовых стаканчиков. Тост произносят только один раз, кто-нибудь из членов семьи, самый красноречивый, благодарит Бога за то, что у него есть такая чудесная мать. После тоста следует моли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Потом начинается демонстрация подарков, как всегда, с шутками, смехом и восклицаниями: «Ах! Как чудесно! Как мило!». Вскоре начинаются танцы, и бабушек тоже вытаскивают под веселые звуки сальсы или кумбии. В Коста-Рике танцуют все, от четырех до восьмидесяти лет. День матери — официальный общенародный выходной день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Владелец\Desktop\Коллекция картинок (Microsoft)\День Матери\56.jpeg"/>
          <p:cNvPicPr/>
          <p:nvPr/>
        </p:nvPicPr>
        <p:blipFill>
          <a:blip r:embed="rId1"/>
          <a:stretch/>
        </p:blipFill>
        <p:spPr>
          <a:xfrm rot="5029800">
            <a:off x="-296640" y="1342800"/>
            <a:ext cx="5459400" cy="4093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Владелец\Desktop\Коллекция картинок (Microsoft)\День Матери\7.jpeg"/>
          <p:cNvPicPr/>
          <p:nvPr/>
        </p:nvPicPr>
        <p:blipFill>
          <a:blip r:embed="rId2"/>
          <a:stretch/>
        </p:blipFill>
        <p:spPr>
          <a:xfrm>
            <a:off x="4511520" y="476280"/>
            <a:ext cx="4429440" cy="3241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4282920" y="3922560"/>
            <a:ext cx="446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Ты даришь нам любовь свою,</a:t>
            </a:r>
            <a:br>
              <a:rPr sz="2400"/>
            </a:b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И ты наш лучик в темном свете,</a:t>
            </a:r>
            <a:br>
              <a:rPr sz="2400"/>
            </a:b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Ты наш хранитель и уют,</a:t>
            </a:r>
            <a:br>
              <a:rPr sz="2400"/>
            </a:b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И  нет прекраснее на</a:t>
            </a:r>
            <a:br>
              <a:rPr sz="2400"/>
            </a:b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Свете человека, которого</a:t>
            </a:r>
            <a:br>
              <a:rPr sz="2400"/>
            </a:br>
            <a:r>
              <a:rPr b="1" i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Все мамою зов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82560" y="18900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МАМОЧ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Владелец\Desktop\Коллекция картинок (Microsoft)\7550.jpg"/>
          <p:cNvPicPr/>
          <p:nvPr/>
        </p:nvPicPr>
        <p:blipFill>
          <a:blip r:embed="rId1">
            <a:lum bright="10000"/>
          </a:blip>
          <a:stretch/>
        </p:blipFill>
        <p:spPr>
          <a:xfrm rot="21232200">
            <a:off x="1260360" y="549360"/>
            <a:ext cx="6336000" cy="5904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324000" y="189000"/>
            <a:ext cx="828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День матери в Грузии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становлен, чтобы особо отметить значение в нашей жизни главного человека — Ма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 марта Праздник Дня матери был учрежден в Грузии по предложению первого Президента Грузии  Гамсахурдиа в 1991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 то время предполагалось, что День матери заменит в Грузии Международный женский день, по традиции отмечаемый 8 Марта. Однако, до сих пор в Грузии отмечают оба праздника. При этом, что примечательно, ни одного «мужского» дня в грузинском праздничном календаре пока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Цель у Дня матери высокая и благая — поддержать традиции бережного отношения к женщине, закрепить семейные устои, особо отметить значение в нашей жизни главного человека — Матери. День матери в Грузии — это семейный праздник. Именно дети должны познать, кем является для них мама, что сделала она для них и какого почтения заслуживает. Ведь нет ничего прекраснее и бескорыстнее материнской любви. Как солнце посылает свои лучи, согревая все живое на земле, так и любовь матери всегда согревает ребенк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Владелец\Desktop\Коллекция картинок (Microsoft)\preview11.jpg"/>
          <p:cNvPicPr/>
          <p:nvPr/>
        </p:nvPicPr>
        <p:blipFill>
          <a:blip r:embed="rId1"/>
          <a:stretch/>
        </p:blipFill>
        <p:spPr>
          <a:xfrm rot="580800">
            <a:off x="109440" y="158760"/>
            <a:ext cx="3452760" cy="247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Владелец\Desktop\Коллекция картинок (Microsoft)\День Матери\9.jpeg"/>
          <p:cNvPicPr/>
          <p:nvPr/>
        </p:nvPicPr>
        <p:blipFill>
          <a:blip r:embed="rId2"/>
          <a:stretch/>
        </p:blipFill>
        <p:spPr>
          <a:xfrm rot="1143600">
            <a:off x="323640" y="2491920"/>
            <a:ext cx="3958920" cy="396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Владелец\Desktop\Коллекция картинок (Microsoft)\День Матери\i.jpeg"/>
          <p:cNvPicPr/>
          <p:nvPr/>
        </p:nvPicPr>
        <p:blipFill>
          <a:blip r:embed="rId3"/>
          <a:stretch/>
        </p:blipFill>
        <p:spPr>
          <a:xfrm rot="405000">
            <a:off x="4179960" y="216000"/>
            <a:ext cx="4352760" cy="3141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4067280" y="386064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Century Schoolbook"/>
              </a:rPr>
              <a:t>Материнское тепло</a:t>
            </a:r>
            <a:br>
              <a:rPr sz="2400"/>
            </a:br>
            <a:r>
              <a:rPr b="1" i="1" lang="ru-RU" sz="2400" spc="-1" strike="noStrike">
                <a:solidFill>
                  <a:srgbClr val="cc0066"/>
                </a:solidFill>
                <a:latin typeface="Century Schoolbook"/>
              </a:rPr>
              <a:t>Нас по жизни согревает.</a:t>
            </a:r>
            <a:br>
              <a:rPr sz="2400"/>
            </a:br>
            <a:r>
              <a:rPr b="1" i="1" lang="ru-RU" sz="2400" spc="-1" strike="noStrike">
                <a:solidFill>
                  <a:srgbClr val="cc0066"/>
                </a:solidFill>
                <a:latin typeface="Century Schoolbook"/>
              </a:rPr>
              <a:t>И в мороз, и в летний зной</a:t>
            </a:r>
            <a:br>
              <a:rPr sz="2400"/>
            </a:br>
            <a:r>
              <a:rPr b="1" i="1" lang="ru-RU" sz="2400" spc="-1" strike="noStrike">
                <a:solidFill>
                  <a:srgbClr val="cc0066"/>
                </a:solidFill>
                <a:latin typeface="Century Schoolbook"/>
              </a:rPr>
              <a:t>Жить оно  нам помогае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20:45:00Z</dcterms:created>
  <dc:creator>Владелец</dc:creator>
  <dc:description/>
  <cp:keywords/>
  <dc:language>en-US</dc:language>
  <cp:lastModifiedBy>1</cp:lastModifiedBy>
  <dcterms:modified xsi:type="dcterms:W3CDTF">2005-01-13T19:26:24Z</dcterms:modified>
  <cp:revision>29</cp:revision>
  <dc:subject/>
  <dc:title>День Мате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