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B14-9948-47EE-B307-027D89ED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88C-F2F0-4A2E-8FA0-A9FD52B7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179-A7EF-4DB7-8577-A22E3CDE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372-2D98-43DD-86DA-F481F027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237D-A777-4221-8564-5C478186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D12A-A149-4A4A-B25D-C885050B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1095-19B7-4ED3-8173-2899A1B3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21E4-952E-49D0-B577-9A4D74F7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DCA8-2D44-4C7B-9E0E-67F7D024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7EB6-2E19-418E-AAD4-79225B36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020A-B03E-4482-ADF1-926EFFE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9BF-58FF-43A9-B9B1-B4ADC7B8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89E6-A6B1-4287-93A6-9371B3E7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2F33-E66F-4F2D-8AD9-AB73ADC9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C20B-806F-4DFD-8CAA-96526EF5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D51A-550B-4890-8247-9DEFFE0A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38ED-985A-4768-90BF-F73CA7BF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F17-D8EB-4563-A043-F4F251E6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22F-6CB7-45C7-A9B5-989E9549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BBC-0808-495D-8DE2-50FD93D4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6A6-CE6A-4EF8-A2E5-9804C839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2BE-9649-4060-AE30-E33C8CD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757-2129-43EC-A774-E65DD75C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AB5-B5E9-400A-B6D2-E5FF127F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56C7-1425-4357-ACA7-111C2F4C2D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4BF2-4FFA-44E3-A61E-2F486B1A61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cc"/>
                </a:solidFill>
                <a:latin typeface="Times New Roman"/>
              </a:rPr>
              <a:t>ПРОФЕССИОНАЛЬНО-ПРИКЛАДНАЯ ФИЗИЧЕСКАЯ ПОДГОТОВКА старшеклассников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WordArt 5" descr=""/>
          <p:cNvPicPr/>
          <p:nvPr/>
        </p:nvPicPr>
        <p:blipFill>
          <a:blip r:embed="rId1"/>
          <a:stretch/>
        </p:blipFill>
        <p:spPr>
          <a:xfrm>
            <a:off x="360360" y="738360"/>
            <a:ext cx="81072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9B36-754D-44C4-B011-C91D97C1A4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alibri"/>
              </a:rPr>
              <a:t>4. Методика подбора средств ППФП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Основные средства ППФП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– это физические упражн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В основе подбора средств ППФП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принцип адекватности психофизиологического воздействия упражнения, требованиям професси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54BF-886B-4B09-8D45-4F0EE9851C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alibri"/>
              </a:rPr>
              <a:t>4. Методика подбора средств ППФП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5800" y="1981080"/>
            <a:ext cx="8000640" cy="4571280"/>
            <a:chOff x="685800" y="1981080"/>
            <a:chExt cx="8000640" cy="4571280"/>
          </a:xfrm>
        </p:grpSpPr>
        <p:cxnSp>
          <p:nvCxnSpPr>
            <p:cNvPr id="129" name="_s42011"/>
            <p:cNvCxnSpPr>
              <a:stCxn id="130" idx="1"/>
              <a:endCxn id="131" idx="2"/>
            </p:cNvCxnSpPr>
            <p:nvPr/>
          </p:nvCxnSpPr>
          <p:spPr>
            <a:xfrm rot="10800000">
              <a:off x="6018840" y="4073760"/>
              <a:ext cx="372240" cy="81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42009"/>
            <p:cNvCxnSpPr>
              <a:stCxn id="133" idx="3"/>
              <a:endCxn id="134" idx="2"/>
            </p:cNvCxnSpPr>
            <p:nvPr/>
          </p:nvCxnSpPr>
          <p:spPr>
            <a:xfrm flipV="1">
              <a:off x="2980800" y="4073760"/>
              <a:ext cx="372240" cy="205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42007"/>
            <p:cNvCxnSpPr>
              <a:stCxn id="136" idx="3"/>
              <a:endCxn id="134" idx="2"/>
            </p:cNvCxnSpPr>
            <p:nvPr/>
          </p:nvCxnSpPr>
          <p:spPr>
            <a:xfrm flipV="1">
              <a:off x="2980800" y="4073760"/>
              <a:ext cx="372240" cy="81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7" name="_s41997"/>
            <p:cNvCxnSpPr>
              <a:stCxn id="131" idx="0"/>
              <a:endCxn id="138" idx="2"/>
            </p:cNvCxnSpPr>
            <p:nvPr/>
          </p:nvCxnSpPr>
          <p:spPr>
            <a:xfrm flipV="1" rot="16200000">
              <a:off x="5159520" y="2359800"/>
              <a:ext cx="386280" cy="1334160"/>
            </a:xfrm>
            <a:prstGeom prst="bentConnector3">
              <a:avLst>
                <a:gd name="adj1" fmla="val 295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41996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826080" y="2360160"/>
              <a:ext cx="386280" cy="1334160"/>
            </a:xfrm>
            <a:prstGeom prst="bentConnector3">
              <a:avLst>
                <a:gd name="adj1" fmla="val 295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8" name="_s41991"/>
            <p:cNvSpPr/>
            <p:nvPr/>
          </p:nvSpPr>
          <p:spPr>
            <a:xfrm>
              <a:off x="3538440" y="198108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РЕДСТВА ППФП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41993"/>
            <p:cNvSpPr/>
            <p:nvPr/>
          </p:nvSpPr>
          <p:spPr>
            <a:xfrm>
              <a:off x="2204640" y="322056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_s41994"/>
            <p:cNvSpPr/>
            <p:nvPr/>
          </p:nvSpPr>
          <p:spPr>
            <a:xfrm>
              <a:off x="4872240" y="322056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ДОПОЛНИТЕЛЬНЫЕ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_s42006"/>
            <p:cNvSpPr/>
            <p:nvPr/>
          </p:nvSpPr>
          <p:spPr>
            <a:xfrm>
              <a:off x="685800" y="445968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ПРИКЛАДНЫЕ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УПРАЖНЕНИЯ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_s42008"/>
            <p:cNvSpPr/>
            <p:nvPr/>
          </p:nvSpPr>
          <p:spPr>
            <a:xfrm>
              <a:off x="685800" y="569880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ВИДЫ СПОРТА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_s42010"/>
            <p:cNvSpPr/>
            <p:nvPr/>
          </p:nvSpPr>
          <p:spPr>
            <a:xfrm>
              <a:off x="6391440" y="445968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ОЗДОРОВИТЕЛЬ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ИРОД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ФАКТОР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431D-1A24-49B3-92A5-C1E6DF434E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Прикладные физические качеств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это те качества, которые имеют наибольшее значение для качественного и эффективного выполнения конкретной профессиональной деятель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Прикладные психические качества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те качества личности, которые способствуют эффективному выполнению профессиональных видов рабо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2C91-E5B5-4382-9C43-9E13C79237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Calibri"/>
              </a:rPr>
              <a:t>Основные понят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Под специальными прикладными качествами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подразумеваются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способности человека             противостоять специфическим воздействиям внешней среды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B81E-FE67-4F6C-AD8D-526121CCCE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1 блок </a:t>
            </a:r>
            <a:r>
              <a:rPr b="1" lang="en-US" sz="3600" spc="-1" strike="noStrike">
                <a:solidFill>
                  <a:srgbClr val="00e7b9"/>
                </a:solidFill>
                <a:latin typeface="Calibri"/>
              </a:rPr>
              <a:t>СТРУКТУРЫ ПСИХОФИЗИЧЕСКОЙ ПОДГОТОВЛЕННОСТИ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7b9"/>
                </a:solidFill>
                <a:latin typeface="Calibri"/>
              </a:rPr>
              <a:t>Физические качеств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ынослив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Быстр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Ловк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Гибк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68580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479A-E17F-413D-A764-564ED34F15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2 блок </a:t>
            </a:r>
            <a:r>
              <a:rPr b="1" lang="en-US" sz="3600" spc="-1" strike="noStrike">
                <a:solidFill>
                  <a:srgbClr val="00e7b9"/>
                </a:solidFill>
                <a:latin typeface="Calibri"/>
              </a:rPr>
              <a:t>СТРУКТУРЫ ПСИХОФИЗИЧЕСКОЙ ПОДГОТОВЛЕННОСТИ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e7b9"/>
                </a:solidFill>
                <a:uFillTx/>
                <a:latin typeface="Calibri"/>
              </a:rPr>
              <a:t>Психофизиологические резервы, состоящие из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Физиологических функций (зрение, слух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Сенсомоторных реакци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Физиологических качеств (устойчивость ССС и нервной систем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Познавательных функций мозга (память – вербальная, зрительная, слуховая, двигательная, объем памяти; внимание – концентрация, переключение и т.д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8088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F33D-73E6-4EF0-8162-4162B31FB7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3 блок </a:t>
            </a:r>
            <a:r>
              <a:rPr b="1" lang="en-US" sz="3600" spc="-1" strike="noStrike">
                <a:solidFill>
                  <a:srgbClr val="00e7b9"/>
                </a:solidFill>
                <a:latin typeface="Calibri"/>
              </a:rPr>
              <a:t>СТРУКТУРЫ ПСИХОФИЗИЧЕСКОЙ ПОДГОТОВЛЕННОСТИ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e7b9"/>
                </a:solidFill>
                <a:uFillTx/>
                <a:latin typeface="Calibri"/>
              </a:rPr>
              <a:t>Психические возможности, состоящие из интеллектуальных способностей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ловесно-логические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ычислительные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быстрота мышления и др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533520" y="60958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DA8-D990-4F35-961E-861702F729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ОСНОВНЫЕ ГРУППЫ ПРОФЕССИ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Первая групп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- профессии, связанные с умственным трудо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Вторая групп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- профессии, связанные с легкими однообразными движениями (на конвейере, автоматических линиях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1">
            <a:hlinkClick r:id="" action="ppaction://hlinkshowjump?jump=nextslide"/>
          </p:cNvPr>
          <p:cNvSpPr/>
          <p:nvPr/>
        </p:nvSpPr>
        <p:spPr>
          <a:xfrm>
            <a:off x="533520" y="6172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3" descr="http://kak.znate.ru/pars_docs/refs/17/16085/16085-53_1.jpg"/>
          <p:cNvPicPr/>
          <p:nvPr/>
        </p:nvPicPr>
        <p:blipFill>
          <a:blip r:embed="rId1"/>
          <a:stretch/>
        </p:blipFill>
        <p:spPr>
          <a:xfrm>
            <a:off x="5029200" y="1828800"/>
            <a:ext cx="358128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http://www.ridus.ru/_ah/img/2qBhtvyoB1Wnn-hQB7NqCA"/>
          <p:cNvPicPr/>
          <p:nvPr/>
        </p:nvPicPr>
        <p:blipFill>
          <a:blip r:embed="rId2"/>
          <a:stretch/>
        </p:blipFill>
        <p:spPr>
          <a:xfrm>
            <a:off x="5029200" y="4191120"/>
            <a:ext cx="3772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1242-E903-4900-9C23-F92553FF8A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ОСНОВНЫЕ ГРУППЫ ПРОФЕССИ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Третья групп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- профессии, связанные со всевозможными станками, механическими приспособлениями и инструментами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Четвертая группа - профессии, связанные с тяжелым физическим трудом, с большими энергетическими затратами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1">
            <a:hlinkClick r:id="" action="ppaction://hlinkshowjump?jump=nextslide"/>
          </p:cNvPr>
          <p:cNvSpPr/>
          <p:nvPr/>
        </p:nvSpPr>
        <p:spPr>
          <a:xfrm>
            <a:off x="5335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3" descr="http://www.klerk.ru/img/pb/thumb550x550/IMGi3960inoviyrazmer_3246.jpg"/>
          <p:cNvPicPr/>
          <p:nvPr/>
        </p:nvPicPr>
        <p:blipFill>
          <a:blip r:embed="rId1"/>
          <a:stretch/>
        </p:blipFill>
        <p:spPr>
          <a:xfrm>
            <a:off x="4800600" y="1752480"/>
            <a:ext cx="398448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http://geobases.ru/Data11/38/38700/1b.jpg"/>
          <p:cNvPicPr/>
          <p:nvPr/>
        </p:nvPicPr>
        <p:blipFill>
          <a:blip r:embed="rId2"/>
          <a:stretch/>
        </p:blipFill>
        <p:spPr>
          <a:xfrm>
            <a:off x="4800600" y="4038480"/>
            <a:ext cx="4092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4CFE-8B8A-4152-9A1A-28FE7E3D6B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1</a:t>
            </a:r>
            <a:r>
              <a:rPr b="1" lang="ru-RU" sz="4000" spc="-1" strike="noStrike">
                <a:solidFill>
                  <a:srgbClr val="00e7b9"/>
                </a:solidFill>
                <a:latin typeface="Calibri"/>
              </a:rPr>
              <a:t>. Значение ППФП в современном обществе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Факторы, определяющие необходимость ППФП человека к труду в современных условиях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гативное воздействие на организм человека технизации труда и быт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меньшение доли простого физического труда, с одновременным увеличением ответственности человека за результаты труд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временное общество отличает мобильность в профессии (смена профессии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ысокий уровень интенсивности и индивидуальной производительности труда в современных условия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растают требования к «качеству подготовки специалистов», соответствия его критериям работодател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5C16-16EA-47ED-BB66-2AF02CB651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2. Определение понятия ППФП, ее цель и задачи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e7b9"/>
                </a:solidFill>
                <a:uFillTx/>
                <a:latin typeface="Calibri"/>
              </a:rPr>
              <a:t>ППФП </a:t>
            </a:r>
            <a:r>
              <a:rPr b="1" i="1" lang="en-US" sz="2800" spc="-1" strike="noStrike">
                <a:solidFill>
                  <a:srgbClr val="00e7b9"/>
                </a:solidFill>
                <a:latin typeface="Calibri"/>
              </a:rPr>
              <a:t>–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это составная часть физического воспитания, специально направленная на избирательное использование средств физической культуры и спорта для достижения объективной готовности человека к успешной профессиональной деятельности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1C4C-341A-4C0A-8DBE-53441C593F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Times New Roman"/>
              </a:rPr>
              <a:t>2. Определение понятия ППФП, ее цель и задачи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e7b9"/>
                </a:solidFill>
                <a:uFillTx/>
                <a:latin typeface="Calibri"/>
              </a:rPr>
              <a:t>Цель ППФП </a:t>
            </a:r>
            <a:r>
              <a:rPr b="1" lang="en-US" sz="3200" spc="-1" strike="noStrike">
                <a:solidFill>
                  <a:srgbClr val="00e7b9"/>
                </a:solidFill>
                <a:latin typeface="Calibri"/>
              </a:rPr>
              <a:t>–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достижение психофизической готовности человека к успешной профессиональной деятель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7B3C-BA19-4D8B-8C15-EA2CEA0BDD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Times New Roman"/>
              </a:rPr>
              <a:t>2. Определение понятия ППФП, ее цель и задачи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Задачи ППФП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Овладение прикладными знаниями в области физической культуры, необходимыми в профессиональной деятельност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Развитие ведущих для данной профессии психофизических качест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Формирование и совершенствование прикладных двигательных навыков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Повышение устойчивости организма к внешним воздействиям условий труд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Воспитание специфических для данной профессии психических качест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Содействие формированию физической культуры личност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3334-2198-4573-A559-EBA2C186CB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3. Факторы, определяющие ППФП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Picture 15" descr="http://femina-maskulina.ru/_mod_files/ce_images/articles/generated/gruzchiki1_262x280.jpg"/>
          <p:cNvPicPr/>
          <p:nvPr/>
        </p:nvPicPr>
        <p:blipFill>
          <a:blip r:embed="rId1"/>
          <a:stretch/>
        </p:blipFill>
        <p:spPr>
          <a:xfrm>
            <a:off x="5084640" y="2816280"/>
            <a:ext cx="3181320" cy="6742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5029200" y="20574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Физический тру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1. Виды труд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Умственный труд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7" descr="http://novostynauki.com/wp-content/uploads/2013/10/umtrud.jpg"/>
          <p:cNvPicPr/>
          <p:nvPr/>
        </p:nvPicPr>
        <p:blipFill>
          <a:blip r:embed="rId2"/>
          <a:stretch/>
        </p:blipFill>
        <p:spPr>
          <a:xfrm>
            <a:off x="533520" y="2895480"/>
            <a:ext cx="416556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0881-FB61-4AF6-B848-2C40ED0A89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3. Факторы, определяющие ППФП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2. УСЛОВИЯ ТРУ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3" descr="http://www.park.by/content/images/20101118-14.jpg"/>
          <p:cNvPicPr/>
          <p:nvPr/>
        </p:nvPicPr>
        <p:blipFill>
          <a:blip r:embed="rId1"/>
          <a:stretch/>
        </p:blipFill>
        <p:spPr>
          <a:xfrm>
            <a:off x="360360" y="3121200"/>
            <a:ext cx="4267080" cy="5522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http://img15.nnm.ru/a/0/7/c/5/4f42b846edd7f2d919e68ebd3c1.jpg"/>
          <p:cNvPicPr/>
          <p:nvPr/>
        </p:nvPicPr>
        <p:blipFill>
          <a:blip r:embed="rId2"/>
          <a:stretch/>
        </p:blipFill>
        <p:spPr>
          <a:xfrm>
            <a:off x="4876920" y="3124080"/>
            <a:ext cx="4060800" cy="27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5728-A402-40BF-A202-78E60EC20C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alibri"/>
              </a:rPr>
              <a:t>3. Факторы, определяющие ППФП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Calibri"/>
              </a:rPr>
              <a:t>3. ХАРАКТЕР ТРУД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Calibri"/>
              </a:rPr>
              <a:t>4. РЕЖИМ ТРУДА И ОТДЫХ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3" descr="http://www.stroyotd.ru/wp-content/uploads/2011/06/0101.jpeg"/>
          <p:cNvPicPr/>
          <p:nvPr/>
        </p:nvPicPr>
        <p:blipFill>
          <a:blip r:embed="rId1"/>
          <a:stretch/>
        </p:blipFill>
        <p:spPr>
          <a:xfrm>
            <a:off x="457200" y="3124080"/>
            <a:ext cx="366084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Picture 15" descr="http://www.pointjob.ru/images/news/106.jpg"/>
          <p:cNvPicPr/>
          <p:nvPr/>
        </p:nvPicPr>
        <p:blipFill>
          <a:blip r:embed="rId2"/>
          <a:stretch/>
        </p:blipFill>
        <p:spPr>
          <a:xfrm>
            <a:off x="4645080" y="3193920"/>
            <a:ext cx="38527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EE2C-50BB-46D5-889E-989D2F79DC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alibri"/>
              </a:rPr>
              <a:t>3. Факторы, определяющие ППФП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cc"/>
                </a:solidFill>
                <a:uFillTx/>
                <a:latin typeface="Calibri"/>
              </a:rPr>
              <a:t>ДОПОЛНИТЕЛЬНЫЕ ФАКТОРЫ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Индивидуальные (половые, возрастные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Географическ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Климатическ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4:52:20Z</dcterms:created>
  <dc:creator>Лилия</dc:creator>
  <dc:description/>
  <dc:language>en-US</dc:language>
  <cp:lastModifiedBy>User</cp:lastModifiedBy>
  <dcterms:modified xsi:type="dcterms:W3CDTF">2023-01-28T09:20:4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