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C15D-1F79-4E4D-A9CA-8E140B162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E320-E223-4543-9BDF-7F9C1C16A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D8E0-E793-456A-A1D9-81E005B58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94A9-A3EF-4441-8A61-1AE8825DB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62086-CB70-4B12-8A19-9EB9002D4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B80DB-7E8D-482B-81F1-838B4BEA2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5C96C-B608-48BA-8E87-79AE23795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2CE39-004C-46FD-94A2-461226DA5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00044-10D0-49DE-94C6-7324BE8CC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5739B-7D4D-4F8A-AA4F-FD151AD75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7F8EF-E06B-46F4-9AB4-2D0056417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FEB2-AC98-4B05-A0A5-8E96C4548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88205-D9F7-44C4-8B6A-D3DD76F4D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BE7BF-13FA-4C69-B5B5-CC411664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F4EF0-2EDF-462F-A3A1-0A55CD0E4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C7A9B-AD60-45DB-9A31-A5A15BF2D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0E42C-B264-4969-8734-439835345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D67A-AF26-4161-80F9-F1789DD81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1564-C4F7-4068-8FAC-73DDD77E0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CF68-18F8-4845-9623-DDD75B042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BC20-3CFD-4F72-9801-117229224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8B39-257B-4E0F-A6CA-59BD2954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C8D2-C09F-43F0-A9E5-10BEB9AD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23E3-409E-4BD2-BA09-D4E48D894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59B90-FBC7-49FC-839A-30D797C0F0C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55E2F-705B-4D26-9128-38B14844EB7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ffcc"/>
                </a:solidFill>
                <a:latin typeface="Times New Roman"/>
              </a:rPr>
              <a:t>ПРОФЕССИОНАЛЬНО-ПРИКЛАДНАЯ ФИЗИЧЕСКАЯ ПОДГОТОВКА старшеклассников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90" name="WordArt 5" descr=""/>
          <p:cNvPicPr/>
          <p:nvPr/>
        </p:nvPicPr>
        <p:blipFill>
          <a:blip r:embed="rId1"/>
          <a:stretch/>
        </p:blipFill>
        <p:spPr>
          <a:xfrm>
            <a:off x="360360" y="738360"/>
            <a:ext cx="810720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Номер слайда 5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C1E60-6BF8-4023-B281-C6E8C220351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cc"/>
                </a:solidFill>
                <a:latin typeface="Calibri"/>
              </a:rPr>
              <a:t>4. Методика подбора средств ППФП</a:t>
            </a:r>
            <a:br>
              <a:rPr sz="4000"/>
            </a:b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ffcc"/>
                </a:solidFill>
                <a:uFillTx/>
                <a:latin typeface="Calibri"/>
              </a:rPr>
              <a:t>Основные средства ППФП </a:t>
            </a: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– это физические упражнения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ffcc"/>
                </a:solidFill>
                <a:uFillTx/>
                <a:latin typeface="Calibri"/>
              </a:rPr>
              <a:t>В основе подбора средств ППФП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– </a:t>
            </a: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принцип адекватности психофизиологического воздействия упражнения, требованиям профессии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Номер слайда 5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118A0-B5F2-4604-86BA-E12766D3A8C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cc"/>
                </a:solidFill>
                <a:latin typeface="Calibri"/>
              </a:rPr>
              <a:t>4. Методика подбора средств ППФП</a:t>
            </a:r>
            <a:br>
              <a:rPr sz="4000"/>
            </a:b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685800" y="1981080"/>
            <a:ext cx="8000640" cy="4571280"/>
            <a:chOff x="685800" y="1981080"/>
            <a:chExt cx="8000640" cy="4571280"/>
          </a:xfrm>
        </p:grpSpPr>
        <p:cxnSp>
          <p:nvCxnSpPr>
            <p:cNvPr id="129" name="_s42011"/>
            <p:cNvCxnSpPr>
              <a:stCxn id="130" idx="1"/>
              <a:endCxn id="131" idx="2"/>
            </p:cNvCxnSpPr>
            <p:nvPr/>
          </p:nvCxnSpPr>
          <p:spPr>
            <a:xfrm rot="10800000">
              <a:off x="6018840" y="4073760"/>
              <a:ext cx="372240" cy="8125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2" name="_s42009"/>
            <p:cNvCxnSpPr>
              <a:stCxn id="133" idx="3"/>
              <a:endCxn id="134" idx="2"/>
            </p:cNvCxnSpPr>
            <p:nvPr/>
          </p:nvCxnSpPr>
          <p:spPr>
            <a:xfrm flipV="1">
              <a:off x="2980800" y="4073760"/>
              <a:ext cx="372240" cy="20516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5" name="_s42007"/>
            <p:cNvCxnSpPr>
              <a:stCxn id="136" idx="3"/>
              <a:endCxn id="134" idx="2"/>
            </p:cNvCxnSpPr>
            <p:nvPr/>
          </p:nvCxnSpPr>
          <p:spPr>
            <a:xfrm flipV="1">
              <a:off x="2980800" y="4073760"/>
              <a:ext cx="372240" cy="8125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7" name="_s41997"/>
            <p:cNvCxnSpPr>
              <a:stCxn id="131" idx="0"/>
              <a:endCxn id="138" idx="2"/>
            </p:cNvCxnSpPr>
            <p:nvPr/>
          </p:nvCxnSpPr>
          <p:spPr>
            <a:xfrm flipV="1" rot="16200000">
              <a:off x="5159520" y="2359800"/>
              <a:ext cx="386280" cy="1334160"/>
            </a:xfrm>
            <a:prstGeom prst="bentConnector3">
              <a:avLst>
                <a:gd name="adj1" fmla="val 2957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9" name="_s41996"/>
            <p:cNvCxnSpPr>
              <a:stCxn id="134" idx="0"/>
              <a:endCxn id="138" idx="2"/>
            </p:cNvCxnSpPr>
            <p:nvPr/>
          </p:nvCxnSpPr>
          <p:spPr>
            <a:xfrm flipH="1" flipV="1" rot="5400000">
              <a:off x="3826080" y="2360160"/>
              <a:ext cx="386280" cy="1334160"/>
            </a:xfrm>
            <a:prstGeom prst="bentConnector3">
              <a:avLst>
                <a:gd name="adj1" fmla="val 2957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38" name="_s41991"/>
            <p:cNvSpPr/>
            <p:nvPr/>
          </p:nvSpPr>
          <p:spPr>
            <a:xfrm>
              <a:off x="3538440" y="1981080"/>
              <a:ext cx="2295000" cy="85356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СРЕДСТВА ППФП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_s41993"/>
            <p:cNvSpPr/>
            <p:nvPr/>
          </p:nvSpPr>
          <p:spPr>
            <a:xfrm>
              <a:off x="2204640" y="3220560"/>
              <a:ext cx="2295000" cy="85356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ОСНОВНЫЕ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_s41994"/>
            <p:cNvSpPr/>
            <p:nvPr/>
          </p:nvSpPr>
          <p:spPr>
            <a:xfrm>
              <a:off x="4872240" y="3220560"/>
              <a:ext cx="2295000" cy="85356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ДОПОЛНИТЕЛЬНЫЕ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_s42006"/>
            <p:cNvSpPr/>
            <p:nvPr/>
          </p:nvSpPr>
          <p:spPr>
            <a:xfrm>
              <a:off x="685800" y="4459680"/>
              <a:ext cx="2295000" cy="85356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ПРИКЛАДНЫЕ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УПРАЖНЕНИЯ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_s42008"/>
            <p:cNvSpPr/>
            <p:nvPr/>
          </p:nvSpPr>
          <p:spPr>
            <a:xfrm>
              <a:off x="685800" y="5698800"/>
              <a:ext cx="2295000" cy="85356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ВИДЫ СПОРТА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_s42010"/>
            <p:cNvSpPr/>
            <p:nvPr/>
          </p:nvSpPr>
          <p:spPr>
            <a:xfrm>
              <a:off x="6391440" y="4459680"/>
              <a:ext cx="2295000" cy="85356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ОЗДОРОВИТЕЛЬНЫЕ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ПРИРОДНЫЕ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ФАКТОРЫ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6000"/>
                            </p:stCondLst>
                            <p:childTnLst>
                              <p:par>
                                <p:cTn id="2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8000"/>
                            </p:stCondLst>
                            <p:childTnLst>
                              <p:par>
                                <p:cTn id="2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Номер слайда 5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1AF0D-4745-4539-B6B8-8D5C070BF2D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cc"/>
                </a:solidFill>
                <a:latin typeface="Times New Roman"/>
              </a:rPr>
              <a:t>Основные понятия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ffcc"/>
                </a:solidFill>
                <a:uFillTx/>
                <a:latin typeface="Calibri"/>
              </a:rPr>
              <a:t>Прикладные физические качества </a:t>
            </a:r>
            <a:r>
              <a:rPr b="1" i="1" lang="en-US" sz="2800" spc="-1" strike="noStrike">
                <a:solidFill>
                  <a:srgbClr val="ffffff"/>
                </a:solidFill>
                <a:latin typeface="Calibri"/>
              </a:rPr>
              <a:t>– </a:t>
            </a: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это те качества, которые имеют наибольшее значение для качественного и эффективного выполнения конкретной профессиональной деятельност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ffcc"/>
                </a:solidFill>
                <a:uFillTx/>
                <a:latin typeface="Calibri"/>
              </a:rPr>
              <a:t>Прикладные психические качества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– </a:t>
            </a: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те качества личности, которые способствуют эффективному выполнению профессиональных видов рабо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Номер слайда 5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4F9A4-743E-4BE5-A698-9986CF896BF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cc"/>
                </a:solidFill>
                <a:latin typeface="Calibri"/>
              </a:rPr>
              <a:t>Основные понятия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ffcc"/>
                </a:solidFill>
                <a:uFillTx/>
                <a:latin typeface="Calibri"/>
              </a:rPr>
              <a:t>Под специальными прикладными качествами 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подразумеваются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способности человека             противостоять специфическим воздействиям внешней среды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Номер слайда 5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1B602-E373-4990-A0D6-A374CF91BC0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e7b9"/>
                </a:solidFill>
                <a:latin typeface="Calibri"/>
              </a:rPr>
              <a:t>1 блок </a:t>
            </a:r>
            <a:r>
              <a:rPr b="1" lang="en-US" sz="3600" spc="-1" strike="noStrike">
                <a:solidFill>
                  <a:srgbClr val="00e7b9"/>
                </a:solidFill>
                <a:latin typeface="Calibri"/>
              </a:rPr>
              <a:t>СТРУКТУРЫ ПСИХОФИЗИЧЕСКОЙ ПОДГОТОВЛЕННОСТИ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e7b9"/>
                </a:solidFill>
                <a:latin typeface="Calibri"/>
              </a:rPr>
              <a:t>Физические качества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ыносливость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Сил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Быстрот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Ловкость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Гибкость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685800" y="60958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Номер слайда 5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22EA0-2056-4F8A-9E2C-3AD19EAB715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e7b9"/>
                </a:solidFill>
                <a:latin typeface="Calibri"/>
              </a:rPr>
              <a:t>2 блок </a:t>
            </a:r>
            <a:r>
              <a:rPr b="1" lang="en-US" sz="3600" spc="-1" strike="noStrike">
                <a:solidFill>
                  <a:srgbClr val="00e7b9"/>
                </a:solidFill>
                <a:latin typeface="Calibri"/>
              </a:rPr>
              <a:t>СТРУКТУРЫ ПСИХОФИЗИЧЕСКОЙ ПОДГОТОВЛЕННОСТИ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e7b9"/>
                </a:solidFill>
                <a:uFillTx/>
                <a:latin typeface="Calibri"/>
              </a:rPr>
              <a:t>Психофизиологические резервы, состоящие из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Физиологических функций (зрение, слух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Сенсомоторных реакций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Физиологических качеств (устойчивость ССС и нервной системы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Познавательных функций мозга (память – вербальная, зрительная, слуховая, двигательная, объем памяти; внимание – концентрация, переключение и т.д.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380880" y="61722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Номер слайда 5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FC19D-DE9D-4196-BCE1-0B7B32AF34C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e7b9"/>
                </a:solidFill>
                <a:latin typeface="Calibri"/>
              </a:rPr>
              <a:t>3 блок </a:t>
            </a:r>
            <a:r>
              <a:rPr b="1" lang="en-US" sz="3600" spc="-1" strike="noStrike">
                <a:solidFill>
                  <a:srgbClr val="00e7b9"/>
                </a:solidFill>
                <a:latin typeface="Calibri"/>
              </a:rPr>
              <a:t>СТРУКТУРЫ ПСИХОФИЗИЧЕСКОЙ ПОДГОТОВЛЕННОСТИ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2120" y="2514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e7b9"/>
                </a:solidFill>
                <a:uFillTx/>
                <a:latin typeface="Calibri"/>
              </a:rPr>
              <a:t>Психические возможности, состоящие из интеллектуальных способностей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словесно-логические,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ычислительные,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быстрота мышления и др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AutoShape 4"/>
          <p:cNvSpPr/>
          <p:nvPr/>
        </p:nvSpPr>
        <p:spPr>
          <a:xfrm>
            <a:off x="533520" y="60958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10800" y="3850"/>
                </a:moveTo>
                <a:lnTo>
                  <a:pt x="13376" y="6461"/>
                </a:lnTo>
                <a:lnTo>
                  <a:pt x="13376" y="4720"/>
                </a:lnTo>
                <a:lnTo>
                  <a:pt x="15152" y="4720"/>
                </a:lnTo>
                <a:lnTo>
                  <a:pt x="15152" y="8236"/>
                </a:lnTo>
                <a:lnTo>
                  <a:pt x="17763" y="10813"/>
                </a:lnTo>
                <a:lnTo>
                  <a:pt x="16109" y="10813"/>
                </a:lnTo>
                <a:lnTo>
                  <a:pt x="16109" y="18002"/>
                </a:lnTo>
                <a:lnTo>
                  <a:pt x="5491" y="18002"/>
                </a:lnTo>
                <a:lnTo>
                  <a:pt x="5491" y="10813"/>
                </a:lnTo>
                <a:lnTo>
                  <a:pt x="3837" y="10813"/>
                </a:lnTo>
                <a:close/>
              </a:path>
              <a:path fill="darkenLess" w="21600" h="21626">
                <a:moveTo>
                  <a:pt x="13376" y="6461"/>
                </a:moveTo>
                <a:lnTo>
                  <a:pt x="13376" y="4720"/>
                </a:lnTo>
                <a:lnTo>
                  <a:pt x="15152" y="4720"/>
                </a:lnTo>
                <a:lnTo>
                  <a:pt x="15152" y="8236"/>
                </a:lnTo>
                <a:close/>
              </a:path>
              <a:path fill="darkenLess" w="21600" h="21626">
                <a:moveTo>
                  <a:pt x="9877" y="14312"/>
                </a:moveTo>
                <a:lnTo>
                  <a:pt x="11723" y="14312"/>
                </a:lnTo>
                <a:lnTo>
                  <a:pt x="11723" y="18002"/>
                </a:lnTo>
                <a:lnTo>
                  <a:pt x="16109" y="18002"/>
                </a:lnTo>
                <a:lnTo>
                  <a:pt x="16109" y="10813"/>
                </a:lnTo>
                <a:lnTo>
                  <a:pt x="5491" y="10813"/>
                </a:lnTo>
                <a:lnTo>
                  <a:pt x="5491" y="18002"/>
                </a:lnTo>
                <a:lnTo>
                  <a:pt x="9877" y="18002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Номер слайда 7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B6FEB-5CBC-4A53-8F1C-B4088D24653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e7b9"/>
                </a:solidFill>
                <a:latin typeface="Calibri"/>
              </a:rPr>
              <a:t>ОСНОВНЫЕ ГРУППЫ ПРОФЕССИЙ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4197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alibri"/>
              </a:rPr>
              <a:t>Первая группа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- профессии, связанные с умственным трудом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alibri"/>
              </a:rPr>
              <a:t>Вторая группа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- профессии, связанные с легкими однообразными движениями (на конвейере, автоматических линиях)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AutoShape 11">
            <a:hlinkClick r:id="" action="ppaction://hlinkshowjump?jump=nextslide"/>
          </p:cNvPr>
          <p:cNvSpPr/>
          <p:nvPr/>
        </p:nvSpPr>
        <p:spPr>
          <a:xfrm>
            <a:off x="533520" y="617220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  <a:path fill="darken" w="21600" h="27006">
                <a:moveTo>
                  <a:pt x="3794" y="6497"/>
                </a:moveTo>
                <a:lnTo>
                  <a:pt x="17806" y="13503"/>
                </a:lnTo>
                <a:lnTo>
                  <a:pt x="3794" y="2051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13" descr="http://kak.znate.ru/pars_docs/refs/17/16085/16085-53_1.jpg"/>
          <p:cNvPicPr/>
          <p:nvPr/>
        </p:nvPicPr>
        <p:blipFill>
          <a:blip r:embed="rId1"/>
          <a:stretch/>
        </p:blipFill>
        <p:spPr>
          <a:xfrm>
            <a:off x="5029200" y="1828800"/>
            <a:ext cx="3581280" cy="22114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5" descr="http://www.ridus.ru/_ah/img/2qBhtvyoB1Wnn-hQB7NqCA"/>
          <p:cNvPicPr/>
          <p:nvPr/>
        </p:nvPicPr>
        <p:blipFill>
          <a:blip r:embed="rId2"/>
          <a:stretch/>
        </p:blipFill>
        <p:spPr>
          <a:xfrm>
            <a:off x="5029200" y="4191120"/>
            <a:ext cx="37720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Номер слайда 7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E8A3B-F1C1-4164-B973-819782C98F5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e7b9"/>
                </a:solidFill>
                <a:latin typeface="Calibri"/>
              </a:rPr>
              <a:t>ОСНОВНЫЕ ГРУППЫ ПРОФЕССИЙ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411480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alibri"/>
              </a:rPr>
              <a:t>Третья группа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- профессии, связанные со всевозможными станками, механическими приспособлениями и инструментами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Четвертая группа - профессии, связанные с тяжелым физическим трудом, с большими энергетическими затратами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11">
            <a:hlinkClick r:id="" action="ppaction://hlinkshowjump?jump=nextslide"/>
          </p:cNvPr>
          <p:cNvSpPr/>
          <p:nvPr/>
        </p:nvSpPr>
        <p:spPr>
          <a:xfrm>
            <a:off x="5335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Picture 13" descr="http://www.klerk.ru/img/pb/thumb550x550/IMGi3960inoviyrazmer_3246.jpg"/>
          <p:cNvPicPr/>
          <p:nvPr/>
        </p:nvPicPr>
        <p:blipFill>
          <a:blip r:embed="rId1"/>
          <a:stretch/>
        </p:blipFill>
        <p:spPr>
          <a:xfrm>
            <a:off x="4800600" y="1752480"/>
            <a:ext cx="3984480" cy="20574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5" descr="http://geobases.ru/Data11/38/38700/1b.jpg"/>
          <p:cNvPicPr/>
          <p:nvPr/>
        </p:nvPicPr>
        <p:blipFill>
          <a:blip r:embed="rId2"/>
          <a:stretch/>
        </p:blipFill>
        <p:spPr>
          <a:xfrm>
            <a:off x="4800600" y="4038480"/>
            <a:ext cx="40924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Номер слайда 5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42627-3F12-4DD2-89A4-8C70355BF77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e7b9"/>
                </a:solidFill>
                <a:latin typeface="Calibri"/>
              </a:rPr>
              <a:t>1</a:t>
            </a:r>
            <a:r>
              <a:rPr b="1" lang="ru-RU" sz="4000" spc="-1" strike="noStrike">
                <a:solidFill>
                  <a:srgbClr val="00e7b9"/>
                </a:solidFill>
                <a:latin typeface="Calibri"/>
              </a:rPr>
              <a:t>. Значение ППФП в современном обществе</a:t>
            </a:r>
            <a:br>
              <a:rPr sz="4000"/>
            </a:b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Calibri"/>
              </a:rPr>
              <a:t>Факторы, определяющие необходимость ППФП человека к труду в современных условиях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Негативное воздействие на организм человека технизации труда и быта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Уменьшение доли простого физического труда, с одновременным увеличением ответственности человека за результаты труда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Современное общество отличает мобильность в профессии (смена профессии)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Высокий уровень интенсивности и индивидуальной производительности труда в современных условиях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Возрастают требования к «качеству подготовки специалистов», соответствия его критериям работодателя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0"/>
                            </p:stCondLst>
                            <p:childTnLst>
                              <p:par>
                                <p:cTn id="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Номер слайда 5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CD154-C628-4FA5-BB37-EAFAC6374BA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e7b9"/>
                </a:solidFill>
                <a:latin typeface="Calibri"/>
              </a:rPr>
              <a:t>2. Определение понятия ППФП, ее цель и задачи</a:t>
            </a:r>
            <a:br>
              <a:rPr sz="4000"/>
            </a:b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i="1" lang="en-US" sz="2800" spc="-1" strike="noStrike" u="sng">
                <a:solidFill>
                  <a:srgbClr val="00e7b9"/>
                </a:solidFill>
                <a:uFillTx/>
                <a:latin typeface="Calibri"/>
              </a:rPr>
              <a:t>ППФП </a:t>
            </a:r>
            <a:r>
              <a:rPr b="1" i="1" lang="en-US" sz="2800" spc="-1" strike="noStrike">
                <a:solidFill>
                  <a:srgbClr val="00e7b9"/>
                </a:solidFill>
                <a:latin typeface="Calibri"/>
              </a:rPr>
              <a:t>– </a:t>
            </a:r>
            <a:r>
              <a:rPr b="1" i="1" lang="en-US" sz="2800" spc="-1" strike="noStrike">
                <a:solidFill>
                  <a:srgbClr val="ffffff"/>
                </a:solidFill>
                <a:latin typeface="Calibri"/>
              </a:rPr>
              <a:t>это составная часть физического воспитания, специально направленная на избирательное использование средств физической культуры и спорта для достижения объективной готовности человека к успешной профессиональной деятельности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Номер слайда 5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7BC99-F4C6-4741-A031-551D57F5CD9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e7b9"/>
                </a:solidFill>
                <a:latin typeface="Times New Roman"/>
              </a:rPr>
              <a:t>2. Определение понятия ППФП, ее цель и задачи</a:t>
            </a:r>
            <a:br>
              <a:rPr sz="4000"/>
            </a:b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e7b9"/>
                </a:solidFill>
                <a:uFillTx/>
                <a:latin typeface="Calibri"/>
              </a:rPr>
              <a:t>Цель ППФП </a:t>
            </a:r>
            <a:r>
              <a:rPr b="1" lang="en-US" sz="3200" spc="-1" strike="noStrike">
                <a:solidFill>
                  <a:srgbClr val="00e7b9"/>
                </a:solidFill>
                <a:latin typeface="Calibri"/>
              </a:rPr>
              <a:t>– </a:t>
            </a: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достижение психофизической готовности человека к успешной профессиональной деятельности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Номер слайда 5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80A81-BC81-47F1-9BFA-01F8E7BECF1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e7b9"/>
                </a:solidFill>
                <a:latin typeface="Times New Roman"/>
              </a:rPr>
              <a:t>2. Определение понятия ППФП, ее цель и задачи</a:t>
            </a:r>
            <a:br>
              <a:rPr sz="4000"/>
            </a:b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alibri"/>
              </a:rPr>
              <a:t>Задачи ППФП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Овладение прикладными знаниями в области физической культуры, необходимыми в профессиональной деятельности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Развитие ведущих для данной профессии психофизических качеств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Формирование и совершенствование прикладных двигательных навыков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Повышение устойчивости организма к внешним воздействиям условий труда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Воспитание специфических для данной профессии психических качеств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Содействие формированию физической культуры личности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8000"/>
                            </p:stCondLst>
                            <p:childTnLst>
                              <p:par>
                                <p:cTn id="1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Номер слайда 7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0010E-24E8-4F37-860C-FCDC595C2D9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e7b9"/>
                </a:solidFill>
                <a:latin typeface="Calibri"/>
              </a:rPr>
              <a:t>3. Факторы, определяющие ППФП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05" name="Picture 15" descr="http://femina-maskulina.ru/_mod_files/ce_images/articles/generated/gruzchiki1_262x280.jpg"/>
          <p:cNvPicPr/>
          <p:nvPr/>
        </p:nvPicPr>
        <p:blipFill>
          <a:blip r:embed="rId1"/>
          <a:stretch/>
        </p:blipFill>
        <p:spPr>
          <a:xfrm>
            <a:off x="5084640" y="2816280"/>
            <a:ext cx="3181320" cy="6742080"/>
          </a:xfrm>
          <a:prstGeom prst="rect">
            <a:avLst/>
          </a:prstGeom>
          <a:ln w="0">
            <a:noFill/>
          </a:ln>
        </p:spPr>
      </p:pic>
      <p:sp>
        <p:nvSpPr>
          <p:cNvPr id="106" name="TextBox 8"/>
          <p:cNvSpPr/>
          <p:nvPr/>
        </p:nvSpPr>
        <p:spPr>
          <a:xfrm>
            <a:off x="5029200" y="2057400"/>
            <a:ext cx="373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Физический тру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40384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ffcc"/>
                </a:solidFill>
                <a:uFillTx/>
                <a:latin typeface="Calibri"/>
              </a:rPr>
              <a:t>1. Виды труда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Умственный труд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17" descr="http://novostynauki.com/wp-content/uploads/2013/10/umtrud.jpg"/>
          <p:cNvPicPr/>
          <p:nvPr/>
        </p:nvPicPr>
        <p:blipFill>
          <a:blip r:embed="rId2"/>
          <a:stretch/>
        </p:blipFill>
        <p:spPr>
          <a:xfrm>
            <a:off x="533520" y="2895480"/>
            <a:ext cx="4165560" cy="3124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Номер слайда 7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437A3-63D2-4641-816B-44057873822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cc"/>
                </a:solidFill>
                <a:latin typeface="Times New Roman"/>
              </a:rPr>
              <a:t>3. Факторы, определяющие ППФП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911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ffcc"/>
                </a:solidFill>
                <a:uFillTx/>
                <a:latin typeface="Arial"/>
              </a:rPr>
              <a:t>2. УСЛОВИЯ ТРУД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13" descr="http://www.park.by/content/images/20101118-14.jpg"/>
          <p:cNvPicPr/>
          <p:nvPr/>
        </p:nvPicPr>
        <p:blipFill>
          <a:blip r:embed="rId1"/>
          <a:stretch/>
        </p:blipFill>
        <p:spPr>
          <a:xfrm>
            <a:off x="360360" y="3121200"/>
            <a:ext cx="4267080" cy="55227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5" descr="http://img15.nnm.ru/a/0/7/c/5/4f42b846edd7f2d919e68ebd3c1.jpg"/>
          <p:cNvPicPr/>
          <p:nvPr/>
        </p:nvPicPr>
        <p:blipFill>
          <a:blip r:embed="rId2"/>
          <a:stretch/>
        </p:blipFill>
        <p:spPr>
          <a:xfrm>
            <a:off x="4876920" y="3124080"/>
            <a:ext cx="4060800" cy="2772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Номер слайда 7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CB795-F1F8-4609-83CE-9760D710407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cc"/>
                </a:solidFill>
                <a:latin typeface="Calibri"/>
              </a:rPr>
              <a:t>3. Факторы, определяющие ППФП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33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Calibri"/>
              </a:rPr>
              <a:t>3. ХАРАКТЕР ТРУДА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647960" y="198108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Calibri"/>
              </a:rPr>
              <a:t>4. РЕЖИМ ТРУДА И ОТДЫХА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13" descr="http://www.stroyotd.ru/wp-content/uploads/2011/06/0101.jpeg"/>
          <p:cNvPicPr/>
          <p:nvPr/>
        </p:nvPicPr>
        <p:blipFill>
          <a:blip r:embed="rId1"/>
          <a:stretch/>
        </p:blipFill>
        <p:spPr>
          <a:xfrm>
            <a:off x="457200" y="3124080"/>
            <a:ext cx="3660840" cy="2590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9" name="Picture 15" descr="http://www.pointjob.ru/images/news/106.jpg"/>
          <p:cNvPicPr/>
          <p:nvPr/>
        </p:nvPicPr>
        <p:blipFill>
          <a:blip r:embed="rId2"/>
          <a:stretch/>
        </p:blipFill>
        <p:spPr>
          <a:xfrm>
            <a:off x="4645080" y="3193920"/>
            <a:ext cx="385272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Номер слайда 5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7B1FF-548A-434B-A1B4-4EB6B5F8D15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0010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cc"/>
                </a:solidFill>
                <a:latin typeface="Calibri"/>
              </a:rPr>
              <a:t>3. Факторы, определяющие ППФП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ffcc"/>
                </a:solidFill>
                <a:uFillTx/>
                <a:latin typeface="Calibri"/>
              </a:rPr>
              <a:t>ДОПОЛНИТЕЛЬНЫЕ ФАКТОРЫ</a:t>
            </a:r>
            <a:r>
              <a:rPr b="1" lang="en-US" sz="3200" spc="-1" strike="noStrike" u="sng">
                <a:solidFill>
                  <a:srgbClr val="00ffcc"/>
                </a:solidFill>
                <a:uFillTx/>
                <a:latin typeface="Calibri"/>
              </a:rPr>
              <a:t>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Индивидуальные (половые, возрастные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Географические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Климатические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9T14:52:20Z</dcterms:created>
  <dc:creator>Лилия</dc:creator>
  <dc:description/>
  <dc:language>en-US</dc:language>
  <cp:lastModifiedBy>User</cp:lastModifiedBy>
  <dcterms:modified xsi:type="dcterms:W3CDTF">2023-01-28T09:20:43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