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4A9E-7167-4457-B714-A30A4D9A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0F4C-B5E1-416B-92A3-E05BEE92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8AAEF-686E-4EF6-ABC9-D71E5D33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6738B-232D-4BE7-AD1C-EA8FEF4E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F6225-E625-41F0-8029-E107CDFA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328AB-FAD1-4E25-BD18-A14AB502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26BE4-36F1-4D17-9FB2-66C7B78B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6B265-4F94-426A-B597-C6CC6D5B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0B873-1BF6-4B52-A74C-50623663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E01BB-0FB3-41FC-8723-D302312F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17F9F-9483-47FC-84DD-1A90D76A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0772A-99AF-4D52-989B-451F6723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3A21-EA3D-48AA-A67B-F42784DE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DCA28-3EE2-45AD-9377-7D9F4DB8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F1269-F791-4B4D-BEA3-D35487D6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812E1-FCFE-4C32-9E94-59EAB718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4DACD-D21B-437B-897C-F86305B1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6CAF2-18B3-4AE8-A9FC-0FDFF709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A5B21-A748-4E32-B784-F3D8333C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7A952-8ADC-44E0-BC8E-013E6A03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F8E1B-3269-43D3-948F-67522AC5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1AC96-6603-4D30-B795-74345C61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1BF1D-2B30-44D3-9709-6E24ED7B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CB26-5C31-44BA-8E47-81DBC697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D79E1-9D64-44A4-B82D-F97B2EB9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99F28-9B22-4C5D-8952-F8AD5747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EB428-C4E5-4B9B-BE5D-80E7B3C5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8B935-C416-415E-B209-4B066C33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A9927-35F6-4C15-9531-39D3AFC7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450A4-0895-419A-A6A7-7A3D2DD6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6428C-9638-4EAC-ACE3-D81E0B0F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5B326-AEA0-47E6-88CE-D1BB543A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14787-4DD7-45AD-9BF1-ECCE388F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7CEC7-E0BD-48C2-A566-FD51804E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32D6-601B-47D6-BB24-B59EF8AC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77E46-B8BF-4D26-8445-B6C8857C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5027C-375B-452A-9C43-3587C659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17E78-E0D6-4991-B589-D499E541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DB47F-E901-4BD0-B440-60DD9B08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37A23-C078-44FA-BCE8-0EB72121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54DC6-28C4-4D96-A78B-68B837A5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2312E-169F-475D-A20D-5E54F1C1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BD2C7-2CC1-4F12-8F6B-8257B14F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1A420-A344-408D-8AA2-00713464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854BE-5A5C-48E1-94D8-818EA6A7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4D4F-0E70-4E34-BA1C-3AF60C53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2DA44-F1FE-41B9-BA3D-E0272387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5E754-36B7-4BA4-A0EA-8C930A6B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BEF67-6F86-400E-88F1-204CB114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6CFD5-2295-40E2-8650-CF5ABA2A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384D3-147B-48CB-A474-874C882F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6CDEC-33E3-4C0E-8A4F-C30B45CF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828596-AC0E-449A-99BC-9F324FA5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98CC4F-E9E8-4ED3-97F5-E3ABC294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EB2427-1663-4DD8-8002-AACCC6B9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9FED51-762A-41DE-AFF4-A941868B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66F9-7C3A-4CBF-A721-DF9C43AE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12746-FD84-4C8F-87B4-1A2D4B80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B3EFFB-9402-4367-BD41-9E16E794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65B5A2-E1FD-45BC-9C03-5031695B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B40CD8-C4B6-4131-851E-493061F3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482B37-5945-40DF-9886-C6588890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D379DE-D19C-40FE-BC5A-0E810E4B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0C35DA-6208-4CC1-99CF-46CE55A8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277104-43E0-44BC-A09F-CF2E30C3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4FE9C0-635B-417D-81B0-FC32F039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BC7166-3EAD-4B5B-9424-BB0B25D4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1C1E-1DF5-4749-BB94-C4DC18FA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7EABE7-225F-4780-BFE8-44F9D326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A8ED19-D973-455D-93DF-4392F251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454450-D936-4ECF-B13E-EDB7E177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D81B08-6801-4569-A5A9-C854B050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71741B-2F6D-4951-9D30-F66B5ED4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7E67C0-748C-452A-9C94-52F8B8E1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E6FB00-D05A-4E0F-8CCB-88FEEE41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C11B78-CE46-4273-A783-9CFC6A94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E7778D-847C-4CD2-AC2A-7782B84B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E0C18C-4683-40C0-87EF-3121D068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387A-B363-4A76-85B3-DCDF8554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DE2887-B1D5-44CE-8314-E2C4739C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9F8663-53B3-433C-9C58-29FB3830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F6423B-8920-416D-B9C8-33212CC1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7585A1-DC24-4FC3-97A6-00714D5D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AA5866-9AFB-4822-84F3-5302E0DC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B7C9AC-DAFC-4272-AC47-FA1E1B14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9C29C6-D4F0-48CF-BFCE-4F97D2CD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6454F9-B09C-4A9D-8725-113AE7D1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92EA9F-36BA-4FD1-83FE-180BA06B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6C5E0A-72C0-450E-AD20-D0AA2375F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A23A-2E61-44B5-8357-735D7948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F87B2E-C707-443A-AE3E-9C0FAE6D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DB0E8E-CB14-45CC-8D3C-9C3BFDF3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F2D137-9F1C-4F30-8452-92FCECC0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3D87F8-21AF-4812-AB26-C861F206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FA26E2-BBBE-428E-B9A2-CBED5A48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D898CD-0946-4925-8378-277CCE0D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3281C-9ED0-4F56-94BB-46A004DC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E1FA69-F66F-4E74-A5BF-744322EB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454BF8-40CA-4A14-8284-6EF9D3BF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FA6450-3A27-4133-9900-5A75FDA9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4EF1-D503-4078-864A-4C6AA5C9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9A7E2B-2861-443E-B514-075C9FA3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069218-7CFF-4438-92FA-5E30BD0B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23CE3C-A992-4A35-8242-676E9F09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A8EAD7-0B8E-4195-9CA8-C3898DF7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07B00D-9B5F-4916-9739-3AA544AF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EBF1F6-E126-413A-942D-30FC34D8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7F51E9-A0F7-4081-98A4-315DC3BE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E697F4-E58F-467D-BA32-86FF83B5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7F9EE1-AB72-4493-8233-937BF26C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4AC5D2-FF7E-4162-867B-22DF68AE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3B65-D3B3-4339-8957-300DBF30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06E9-18C7-4853-8C65-2134BEEF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D1D4C9-9F74-4880-9681-FC9D2332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BF0CF9-8078-46B1-8C08-FD5E8794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AFF473-188F-485A-BE5D-F2D26590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DC0146-8FEB-494D-8579-1FBF6265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681AF3-F1B7-4489-BB53-9FE96A0C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E56B56-1934-4459-9A3C-DDA103F1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DF7CDB-B5C8-4084-ACE0-AD1DB79B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AB0B96-3745-4317-A087-6BF9F3BC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0BDF36-A2DF-4DF8-9310-F01000D5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35699E-8A97-482D-BDAA-186FBDF6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15F4-8AC3-465C-9141-5D8CCA45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29BCCE-4BD2-4037-9E6A-637D6373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3EB794-F666-4B3B-8FDA-9744C144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6ED1C4-A63B-4A78-845B-0887002D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962C8B-C19D-46BC-B48D-C8DC7062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0D77FD-E50E-41A3-88AF-B67A9F7D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E673F5-D64A-4FAE-8370-1B262CFD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89B5B7-5A9B-446E-83BF-BFAD5116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329D6C-03B2-4587-9B8E-6C84493F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C99C09-9D90-4C3F-8F92-785762B8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E049E2-C771-40A4-85AA-0E24AC8D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9D97-DDFA-4FE1-AF61-F0498FAB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AB8093-8989-4C08-8A3D-71E8A31E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FE6E90-8C25-46C6-9112-DF00E846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27AEBB-5657-4E48-AA2A-8DBCE1C2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1D6C60-D40E-4049-9176-43C00FB2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0C569C-6045-49CE-ABFD-943DD9F0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944BBF-1E05-49BB-8564-40F94689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0163CC-CE4D-4D0E-8A81-487CC32C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5B972F-1D08-4EFD-847F-A9C186BA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1EA6C8-D715-4103-8BC8-682BFD45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B099A5-F504-4C34-9E2E-3F39A0785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82DA-76FE-49A2-AEF7-D444368C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2DCF06-1C56-4ABC-8210-35F2EA1D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245012-2356-4840-B2A4-140E99A7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0CB96C-DF82-40DE-ADF7-DA5C1994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F64D13-5277-4665-A06A-E2371AA5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076034-88E8-4189-9C68-BB0B5593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49565C-C0B7-48D9-9BEA-815840E8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409CB9-3D46-47E9-93AE-22FFA9FF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10CC1B-5F36-41FA-99D4-879F1627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6D023C-8C2A-4FD3-A93F-317DCDA3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83075A-ABB4-4644-95A5-E752A93D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64B8-9154-4F02-9566-20633BE8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69A21C-C66A-4832-8F14-83483664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3D164A-8EC4-4D22-A483-8E106010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7CBADC-5ECE-4519-A80A-FFE7F82D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F5F3B5-805D-4BAF-B23B-31988315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10A6A5-8003-4423-94B9-A9C84839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83C24A-1A22-4C9E-B747-FBCC00E3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DA96A2-82FE-401A-9674-2E15A727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245D20-FEC3-4826-BB1E-6BA4F857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B8EB51-932C-447E-A2BB-8DBD7F69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7DE47B-D99F-47BA-9DC0-EFB4E1F6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6FC53-0A71-4048-92C3-2190E807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5A3A82-DDA0-4A7A-9DA2-30C1C3BF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89A24E-12C5-42A2-B482-F2C5BF33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2D3D3F-41E4-49AE-BE8D-644F6DB9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85DA5E-0EB2-423C-BC60-6C6DF6B3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1C318C-D4B0-4680-AC7E-FA8E5DE5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BFB63F-6043-44D0-AF07-7B6E4207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3E976D-7C83-4DFC-A55A-7AAA9F56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7D1BF5-9C50-4551-8CA4-7EC1A076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A56852-B21A-4469-9048-6629CEC6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A5DB46-E737-4971-81A6-94957627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E367C-3EE1-42B4-A7BD-431DD0E7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2BB04F-D55C-41FD-9233-F366B907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10AFA0-170B-4AFA-9D28-DC69B796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AC15AD-0DE6-4407-88C3-F015C6B3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7C9C69-13CD-4B14-961B-C4A0B5FE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825E21-A948-44EE-9230-C1893AF0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23489AA-EA18-4723-AE38-12EA30E2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3A853FB-CF0E-4BFC-A880-A179D0E9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16941AB-C2C8-423B-B1F0-C5971ADF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6EFEE03-2CE2-4BEC-AB18-05D6423A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4578986-2D7F-4888-BC05-DB8F0134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5EF8F-8E43-4D58-ADC2-98839A9B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BE965CF-0193-4EB7-8372-2C6F34C2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6A9F0E4-5ECC-4EF7-BB51-59FA761C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AA5B62E-D6B6-44EB-8BA3-074D35AF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08AE17E-BB77-4DEC-BE5F-9F43CB21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DEEF6E1-B530-444D-B22A-D4333875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36F03BC-3234-48F0-B213-C2218F77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A36CEC8-ECCB-4F68-B575-355AD959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94B805-BDD2-4677-AED8-A0D88700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3B8265-CE99-4996-A72F-6C99CE3E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143465-CAF1-45DB-AAA2-AEEE1891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1DC79-C82A-43C0-9DA4-E70ED26A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B901AE-2D4D-486B-8F2C-DEA90E50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D5688E-D550-449D-BD35-BEAA444F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DFAB79-6EEA-4662-9C50-AB748C0A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4A23F9-5DC7-4DD3-BC78-83CCA6C7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5255CA-42D8-479B-B26B-9E280743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0011B2-7FA2-4DBD-9E4C-C9DA956F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C9561F-01AD-4860-B506-4C10E1C7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ACAE33-124A-43C0-9265-27DC9A5B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B676F9-13C6-4A52-A51D-EBC1DA11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2F19D3-5F55-4784-9031-C0635561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27C78-B9BB-4363-B580-EBCAF381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F12780-762C-4733-9A14-F62A332D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1416E1-AEBA-4F4D-94E9-F61EA2F3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222C34-50EB-4AD6-A083-DD2D86FC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1B64A0-4F6A-4F83-8A0F-7431F05D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3715D1-0270-4531-8B1A-9696EA91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CA6A70-A8FA-47A7-956F-A5A71A21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55874F-8ADB-4495-A214-54BA3D0E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00A275-52DA-4C72-914A-C3216BD7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9F15EC-17EC-43A2-98DD-4DDA1D1D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19C67A-3574-4FF9-9AA4-F8F95AD0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8654-CA6F-4A38-8704-E415C2AC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B7EFE-B478-4AEF-9CA0-24C73801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60C4CE-2CBC-4616-B548-5554E314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6AFFA8-62ED-42E3-B9A0-A37BBEC8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09B04A-8F54-48B7-9B74-4CDD0DF1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008AD5-7203-4A37-9B9B-463DAA21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BC9E41-0511-4E2C-B028-38D1BD0F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E4CD74-88EB-4FEF-865D-C2CBFE32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3E4F36-A9EB-4B19-99AD-141C57F3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5078F1-A887-46A0-8990-E5861959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7817F2-BFBC-45F9-A573-EF1AB191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E98BB7-ACF6-4355-A71B-AD013563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A4807-98E8-4BC1-B09E-43BB43FF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88BD61-5DDC-431E-92FE-6D302D1E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8CC716-8076-48CA-BE91-9506F63D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B51E14-86C8-484F-82CE-0D6BC359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86FBE3-8C31-4168-B373-2066954A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2282E5-6CE0-4D60-9DD0-79FEC0AA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1D654A-0191-4F03-B9A0-01B43DBE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69E235-25F6-49DD-AF09-263C2BBF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6A72F8-0BE6-4FFE-BCE9-94AFA4EB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641E67-3F10-4A66-BDB5-2BC24EDF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68FDC2-88C4-482F-98EE-3FE458A9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3383D-DDE3-4ECB-9009-9D763315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C6A331-978C-47B6-8097-A0506E85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FA3255-8FED-4BDD-8BD3-EACCE54C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D817DD-19A3-479F-8A72-38E3C196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4DE90B-A11E-41C1-8D10-874A1398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713513-5BF1-473D-9C48-DBA3B48A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A0ADFB-EEB7-4D65-97FE-9F92087E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B4C31E-7923-4A7F-BCC4-B3809E00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726F9A-6007-4463-A13C-975CFBB6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4435DD-F80A-4F14-ABFB-8B629F80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7F8082-298E-4A5E-A49B-ADBCCE66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05ACE-292D-4469-91DC-01E83DDF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8C26CE-52FE-4597-9C8F-6441DB14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2D5242-70B6-460C-BC95-9D9732F7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D82B03-872E-46F5-B3E3-6EE949B8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399638-D4C2-4B5A-A030-86BA479D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4CE26C-EA5F-450A-8921-A92A2F6E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150ED9-AC00-4B8F-A95F-A3617C03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DD1439-F2BB-4E86-A4D9-B757087E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BA8F53-3271-436E-A2C7-6F94851F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23A02B-051B-47B7-86DF-CD455450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7C2F61-4A90-4297-A2C7-EF56A53C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CD43F-9484-4537-9064-9290F629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11DA46-3900-44B4-96AF-E16602C5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AE1E18-7ADB-4BDA-9187-07461628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FDEAD7-2A5C-444C-9BAD-DC04ADDA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227882-C777-4570-8A09-6DD9ABFA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4D23B36-DFA2-4B6F-BE6B-531D5D0F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B1B73AE-D310-4BB5-94BE-CB4A6E83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51A18F-38F0-4867-AB9F-B34A7B4E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C4BE65-C8FB-495F-85E6-0093709D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C47E7A-0BB2-4DA7-83CF-C5FD6D1A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FED5B71-1141-4679-B8BF-398F0E7D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5E896-2413-4EFB-B6B2-5A92810B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85C97A5-86E2-4476-86DA-B5FFA0DD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F6FF9C2-68F2-4123-87B7-DA703F61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B2B6057-28E0-43ED-B1D2-AA1A7F7E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91F443D-5E71-490A-BD59-37823C70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041E20B-1DAB-4C1E-9C93-0DD17881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56EE14B-08B7-4DA2-A450-9A76A307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C68D192-09E3-48D7-957E-98402D84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78C1D9A-1715-4F94-9B22-BF657F6F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C16ECA5-60DB-4B86-88A5-55F8E2D0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CDD33D8-5470-4B98-A339-C9704F2D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FDFF2-0AD8-4BD2-BE2E-75BC64D8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ADD7146-E68A-43EB-A195-8490A673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0219BF7-9933-4BDE-9882-4F2DFAD9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B487195-8E50-414B-ABF1-21413D17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477BE67-8908-4A41-BE89-1E6FF633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5C64854-E0E7-4056-9A70-35CE4A22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BF645AE-A5DE-4454-A784-974EEC5B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D5F4493-68AC-4816-9E3B-DB288596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898E778-D7F7-4A72-AAFA-E34D42EB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5AD0FE8-4149-45DC-8958-5706FF1B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DF73483-4F88-4158-B1B5-36810787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AC302-42AA-4D44-8D22-376A9C19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0FE91F0-A765-427C-923E-BEEE6000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C7280F8-F9D4-4B4F-B1FA-AFC39E43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5E0AFDA-8D9B-4E2F-8D41-4B9D7FF9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9272751-C847-4793-B80A-A438990D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89F9F2F-58C6-4BA6-83BF-35610455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3DB3D9-98B3-4DE9-A0AC-62E7577E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733FDD3-B020-45AA-BC5F-5CE5373F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14A1FB4-4291-4467-8D0F-3EEB914F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A3DC0B9-8228-48F2-BAB4-C5B7C9FA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0FD9CA5-B502-42CB-8137-6320DF5D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211B0-5EFE-4F5A-9F04-70D78306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1F51D4-7C3A-400A-B32E-F4C30398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04E0C8-FD34-4EDC-971A-644B732A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1467265-8942-463F-B3FD-BFD9A4C8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1C3AB33-9A58-4F86-B87A-F1B32C93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039847-1E24-4A4C-8E50-C362AE44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6705E-0D14-4414-9E35-15804032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516D-1D59-4775-85F8-F32931C9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FA93A-76AC-42CE-A44B-C2CF8A3E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6D4E8-4F5A-4D36-89C8-20225138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1C9F8-7A88-4672-A216-AA085299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F6E33-9BDE-416F-ABDB-B313FD5D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15156-84B3-4EC9-9661-D193DD52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92009-9510-4F48-B05A-10293BC0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BB367-423E-48E9-BF33-3779D4C2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3AA9F-5DDE-4D0A-B9D8-169C1C0C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44771-0CDC-4423-9B00-7FE453F6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D1313-AC22-4A99-AF02-7D6B8EC0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29E3-2FD2-4C1F-921D-D1459BAA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6E990-9BC5-42AA-9F17-035C7777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45D31-9FA6-42D0-A900-84C02D1E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84B60-8551-409C-93D8-BF74C3C8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A3CC4-1C26-47CC-AC8E-8346DDC3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B09DC-4B0E-49D2-A5D0-F0704265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890C1-1DDA-4FAE-A3F8-A8F50EF3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8D0C1-D902-4CB9-8EEB-287CA419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C31C9-37B8-4D17-A6D9-E972A9EA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12EF0-FCE3-465C-94C1-386AA6CA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C77CB-D88D-469D-A97B-895AF97E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695D-7C1E-4C69-9E71-6418F92A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2BCB5-8F0A-4CAD-9D45-5ADBA422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CBADD-FC72-4A37-AAFD-E9A8420F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0364F-15BB-4CAF-A3EB-1BCB8CB0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87CDE-2D8A-4CD6-B11C-AC672987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B4DFF-31A0-4447-A7DE-5C78CC1A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C9FFC-FFCF-4472-ABB9-E51DEF60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820A4-E6F8-4B9E-BCDE-0C01D5A6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CAD2D-07B9-4BD1-B2E6-39B4D8FF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E9EE3-7212-4110-B280-63DEF61C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355E9-2574-4A68-97AF-BB66A8B4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948-8E8D-412E-922C-84014A0F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6E7C6-6228-47D9-932C-073E9AF0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62962-8658-42C5-B522-A98092BB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8DD28-86B9-49DA-8251-A60B30F0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F6279-5441-4A55-BE72-16BD6144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0020F-2886-433F-881E-34575887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5E313-1A9B-441B-9A86-407EFE64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A47B1-051F-45E8-8C2D-63EB1BC9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7C903-F3BF-4002-9CD0-DDD852DC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CA31B-8D48-4EAD-9CDF-CAD10AAD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0B253-5C18-418E-B08D-F0A325E7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F1C6-A7F1-4E6F-B75E-60AA2FB5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88776-F58A-4D20-AC95-7F5B6FA1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76047-AF0A-4B3C-A37E-4A39A0F5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323CB-3DDD-458B-9804-DCAF4613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A4F18-9D7D-4A4F-8D42-50D0C616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262B7-EE7F-45A6-8DBC-4CD1DBE3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666FA-9EC4-4EA9-AD89-8C443A18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F196A-1326-418E-A655-A3D0DD3E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6ACDE-9C96-4013-A60B-4C67DEE5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21DB3-D080-4499-8345-7DC0FBEB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05FA1-06C9-4B8C-B7F6-C00985EC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EEE6-1B4B-47B0-A6D6-80E82E85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C4E7E-4A61-44C0-9BFF-12E75386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EAD36-9949-4811-B0C4-8D108141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64FA7-3FB0-4A9C-A205-DA6A73CA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BAB32-6151-405B-9DA2-4EE73EB1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0C632-C968-4103-8FF9-240FE8CC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0A883-B0D7-4C45-AE67-5F39B7F8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BD327-9946-46AE-8BF8-52C782F6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BC893-DD14-4CAA-A130-57E037C1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7C0F3-BBB3-4368-A9F6-ADDAB6F7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0FC83-CD20-4275-8A8B-95E239A8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27c36"/>
                </a:gs>
                <a:gs pos="50000">
                  <a:srgbClr val="c19341"/>
                </a:gs>
                <a:gs pos="100000">
                  <a:srgbClr val="a27c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c4a2e"/>
                </a:gs>
                <a:gs pos="50000">
                  <a:srgbClr val="60a265"/>
                </a:gs>
                <a:gs pos="100000">
                  <a:srgbClr val="2c4a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D701-20B4-4D55-9569-D10CD1996E6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7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0ABC-EE41-4385-907F-C5546C3304B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2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1F72-DCCC-45D6-8D4E-83AA3E4B247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7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8612-0258-4C87-9EF9-B504151C32E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735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DB9B-E4CD-4127-88BD-F2F78AFB55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782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8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D5B4-03AF-4B21-9459-A02EA540EAE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29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C629-A709-4ADA-9CC8-D4EF07B0087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73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5" name="PlaceHolder 1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E672-A480-4A15-9DCB-52C8776C0F9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91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1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2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2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3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3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93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94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94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94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95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95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96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6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6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7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97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97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98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98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99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9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99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99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00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00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01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01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2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2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02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2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A66D-4A13-45A7-80E8-096A0331E410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09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09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09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09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10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10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10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10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11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11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11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12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12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12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12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13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13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13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14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14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14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15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15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15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15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16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6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16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17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17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17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17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18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18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18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19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19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19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9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20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20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21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138F-9B5B-4939-9E83-5340308975E5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E4DE-81F0-4C50-8BCC-BBE3695344E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73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2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83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84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7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90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91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99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00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03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04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5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06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4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27c36"/>
                </a:gs>
                <a:gs pos="50000">
                  <a:srgbClr val="c19341"/>
                </a:gs>
                <a:gs pos="100000">
                  <a:srgbClr val="a27c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c4a2e"/>
                </a:gs>
                <a:gs pos="50000">
                  <a:srgbClr val="60a265"/>
                </a:gs>
                <a:gs pos="100000">
                  <a:srgbClr val="2c4a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CCA4-92ED-407A-AC11-559D02DDF09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A4FE-B7AA-4C1B-8909-C0321606329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7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0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61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66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367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371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76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4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415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5e1b1"/>
                </a:gs>
                <a:gs pos="50000">
                  <a:srgbClr val="f5f0bd"/>
                </a:gs>
                <a:gs pos="100000">
                  <a:srgbClr val="e5e1b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5ACD-A33C-4904-A9F9-1ACDCCB921B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d9d6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64b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1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472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5e1b1"/>
                </a:gs>
                <a:gs pos="50000">
                  <a:srgbClr val="f5f0bd"/>
                </a:gs>
                <a:gs pos="100000">
                  <a:srgbClr val="e5e1b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d9d69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7F1C-07F5-4FEC-A2AB-5EEE6F41E99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52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ftr" idx="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sldNum" idx="6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15AE-0024-4744-815B-6EF6166F6E3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dt" idx="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59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08EE-E7F6-47E5-BC42-E6D43715910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65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65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6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68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70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1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71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2449-1957-4FC2-B13B-7FF0D4C421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75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6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76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7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79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81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1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81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EB4D-8ABB-4E90-9CB4-D8DA79032C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2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863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576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64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865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76f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76f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 type="dt" idx="7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 type="ftr" idx="8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5"/>
          <p:cNvSpPr>
            <a:spLocks noGrp="1"/>
          </p:cNvSpPr>
          <p:nvPr>
            <p:ph type="sldNum" idx="8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5D56-4690-401F-BC3C-455E330C058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9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10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576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11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12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5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16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 type="dt" idx="8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 type="ftr" idx="8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 type="sldNum" idx="8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5B65-70B9-4965-B317-30606F97C40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FDC1-1957-432C-B45D-3B862FEDF3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0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4626-E28D-49FE-AE71-6BF1FC0E563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 type="ftr" idx="8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 type="sldNum" idx="8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A8C0-DD47-4621-9A88-CB554E920B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 type="dt" idx="9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 type="ftr" idx="9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 type="sldNum" idx="9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906F-A545-47D5-9315-D28DDDAB66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204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0" name="PlaceHolder 5"/>
          <p:cNvSpPr>
            <a:spLocks noGrp="1"/>
          </p:cNvSpPr>
          <p:nvPr>
            <p:ph type="dt" idx="9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 type="dt" idx="9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 type="sldNum" idx="9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F1C0-7FD5-40CB-AE49-8D1262E504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210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0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31F9-82B1-4CD8-A2B2-D51A8AF388D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7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2E41-580E-4066-A4C8-2585E6658A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2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3AB9-0E78-4A3C-BF9A-3F471CFC93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74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34A2-A74C-4329-870E-8673E6D2957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50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EB0F-C7F9-4245-9A19-114D0111487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25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652C-E53D-4046-AC03-10D1E6EEF15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8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Фёдор Михайлович Достоевский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54" name="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44211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тербург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м на Малой Мещанской, в котором располагалась редакция журналов "Время" и "Эпоха"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5" name="" descr=""/>
          <p:cNvPicPr/>
          <p:nvPr/>
        </p:nvPicPr>
        <p:blipFill>
          <a:blip r:embed="rId2"/>
          <a:stretch/>
        </p:blipFill>
        <p:spPr>
          <a:xfrm>
            <a:off x="1332000" y="1808280"/>
            <a:ext cx="5976720" cy="4701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поллинария Сусло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77" name="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807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/>
          </p:nvPr>
        </p:nvSpPr>
        <p:spPr>
          <a:xfrm>
            <a:off x="684000" y="141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15 февраля 1867 года Анна Григорьевна Сниткина становится женой Достоевского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79" name="" descr=""/>
          <p:cNvPicPr/>
          <p:nvPr/>
        </p:nvPicPr>
        <p:blipFill>
          <a:blip r:embed="rId1"/>
          <a:stretch/>
        </p:blipFill>
        <p:spPr>
          <a:xfrm>
            <a:off x="5018040" y="1413000"/>
            <a:ext cx="3494160" cy="46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«Преступление и наказание»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Анна Григорьевна вспоминала: "Фёдор Михайлович в первые недели нашей брачной жизни, гуляя со мной, завёл меня во двор одного дома и показал камень, под который его Раскольников спрятал украденные у старухи вещи"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82" name="" descr=""/>
          <p:cNvPicPr/>
          <p:nvPr/>
        </p:nvPicPr>
        <p:blipFill>
          <a:blip r:embed="rId2"/>
          <a:stretch/>
        </p:blipFill>
        <p:spPr>
          <a:xfrm>
            <a:off x="5145120" y="1600200"/>
            <a:ext cx="3044880" cy="4495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«Идиот»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«Главная мысль романа - изобразить положительно прекрасного человека. Труднее этого нет ничего на свете, а особенно теперь. Все писатели, не только наши, но даже все европейские, кто только не брался за изображение положительно прекрасного, - всегда пасовал. Потому что это задача безмерная. Прекрасное есть идеал, а идеал - ни наш, ни цивилизованной Европы - еще далеко не выработался», - писал Федор Михайлович Достоевский своей племяннице Софье Александровне Ивановой о романе «Идиот»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85" name="" descr=""/>
          <p:cNvPicPr/>
          <p:nvPr/>
        </p:nvPicPr>
        <p:blipFill>
          <a:blip r:embed="rId1"/>
          <a:stretch/>
        </p:blipFill>
        <p:spPr>
          <a:xfrm>
            <a:off x="5364000" y="1844640"/>
            <a:ext cx="2881440" cy="459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тром 28  января 1881 года Достоевский сказал жене: "...Я знаю, я должен сегодня умереть!". В 20 часов 38 минут того же дня Фёдор Михайлович Достоевский скончал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7" name="" descr=""/>
          <p:cNvPicPr/>
          <p:nvPr/>
        </p:nvPicPr>
        <p:blipFill>
          <a:blip r:embed="rId1"/>
          <a:stretch/>
        </p:blipFill>
        <p:spPr>
          <a:xfrm>
            <a:off x="4707000" y="1197000"/>
            <a:ext cx="390996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"/>
          <p:cNvSpPr txBox="1"/>
          <p:nvPr/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 txBox="1"/>
          <p:nvPr/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Похороны Достоевского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2191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531120" cy="4191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Тот, кто желает увидеть живого Бога, пусть ищет его не на пустом небосводе собственного разума, но в человеческой любви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.М.Достоев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 Black"/>
              </a:rPr>
              <a:t>Правый флигель Мариинской больницы для бедных, где родился Ф.М.Достоевский</a:t>
            </a: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2156" name="" descr=""/>
          <p:cNvPicPr/>
          <p:nvPr/>
        </p:nvPicPr>
        <p:blipFill>
          <a:blip r:embed="rId1"/>
          <a:stretch/>
        </p:blipFill>
        <p:spPr>
          <a:xfrm>
            <a:off x="1476360" y="1550880"/>
            <a:ext cx="6480360" cy="5097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одители Достоевског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58" name="" descr=""/>
          <p:cNvPicPr/>
          <p:nvPr/>
        </p:nvPicPr>
        <p:blipFill>
          <a:blip r:embed="rId1"/>
          <a:stretch/>
        </p:blipFill>
        <p:spPr>
          <a:xfrm>
            <a:off x="804960" y="1646280"/>
            <a:ext cx="3343320" cy="4438440"/>
          </a:xfrm>
          <a:prstGeom prst="rect">
            <a:avLst/>
          </a:prstGeom>
          <a:ln w="0">
            <a:noFill/>
          </a:ln>
        </p:spPr>
      </p:pic>
      <p:pic>
        <p:nvPicPr>
          <p:cNvPr id="2159" name="" descr=""/>
          <p:cNvPicPr/>
          <p:nvPr/>
        </p:nvPicPr>
        <p:blipFill>
          <a:blip r:embed="rId2"/>
          <a:stretch/>
        </p:blipFill>
        <p:spPr>
          <a:xfrm>
            <a:off x="5000760" y="1660680"/>
            <a:ext cx="3333600" cy="4410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...это был сериозный, задумчивый мальчик, белокурый, с бледным лицом. Его мало занимали игры: во время рекреаций он не оставлял почти книг, проводя остальную часть свободного времени в разговорах со старшими воспитанниками пансиона...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1" name="" descr=""/>
          <p:cNvPicPr/>
          <p:nvPr/>
        </p:nvPicPr>
        <p:blipFill>
          <a:blip r:embed="rId1"/>
          <a:stretch/>
        </p:blipFill>
        <p:spPr>
          <a:xfrm>
            <a:off x="5210280" y="404640"/>
            <a:ext cx="3257280" cy="6264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«Бедные люди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3" name="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2965320" cy="45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0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лексеевский равелин Петропавловской крепости, в котором содержался Достоевский.</a:t>
            </a: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65" name="" descr=""/>
          <p:cNvPicPr/>
          <p:nvPr/>
        </p:nvPicPr>
        <p:blipFill>
          <a:blip r:embed="rId1"/>
          <a:stretch/>
        </p:blipFill>
        <p:spPr>
          <a:xfrm>
            <a:off x="1042920" y="1533600"/>
            <a:ext cx="7416720" cy="44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 начале 1857 года Достоевский женится. Его женой становится вдова отставного чиновника Мария Дмитриевна Исаев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67" name="" descr=""/>
          <p:cNvPicPr/>
          <p:nvPr/>
        </p:nvPicPr>
        <p:blipFill>
          <a:blip r:embed="rId1"/>
          <a:stretch/>
        </p:blipFill>
        <p:spPr>
          <a:xfrm>
            <a:off x="4929120" y="1197000"/>
            <a:ext cx="3530520" cy="525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«Время»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возвращении из Сибири Достоевский фактически начинает руководить политическим журналом «Время»,который был основан братом Михаилом в 1861 году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0" name="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2639880" cy="44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«Эпоха»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Arial"/>
              </a:rPr>
              <a:t>в 1864 году Михаилу Михайловичу Достоевскому удалось получить лицензию на выпуск нового журнала, который стал называться "Эпоха", одним из сотрудников которого был опять Фёдор Михайлович </a:t>
            </a: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2173" name="" descr=""/>
          <p:cNvPicPr/>
          <p:nvPr/>
        </p:nvPicPr>
        <p:blipFill>
          <a:blip r:embed="rId1"/>
          <a:stretch/>
        </p:blipFill>
        <p:spPr>
          <a:xfrm>
            <a:off x="5676840" y="1628640"/>
            <a:ext cx="24814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09:08:02Z</dcterms:created>
  <dc:creator>FluffyCat</dc:creator>
  <dc:description/>
  <dc:language>en-US</dc:language>
  <cp:lastModifiedBy>Пользователь</cp:lastModifiedBy>
  <dcterms:modified xsi:type="dcterms:W3CDTF">2010-03-23T22:34:09Z</dcterms:modified>
  <cp:revision>7</cp:revision>
  <dc:subject/>
  <dc:title>Федор Михайлович Достоевский</dc:title>
</cp:coreProperties>
</file>