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6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1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theme/theme15.xml" ContentType="application/vnd.openxmlformats-officedocument.theme+xml"/>
  <Override PartName="/ppt/theme/theme16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12.jpeg" ContentType="image/jpeg"/>
  <Override PartName="/ppt/media/image7.jpeg" ContentType="image/jpeg"/>
  <Override PartName="/ppt/media/image6.png" ContentType="image/png"/>
  <Override PartName="/ppt/media/image13.jpeg" ContentType="image/jpeg"/>
  <Override PartName="/ppt/media/image4.png" ContentType="image/png"/>
  <Override PartName="/ppt/media/image23.jpeg" ContentType="image/jpeg"/>
  <Override PartName="/ppt/media/image18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4.jpeg" ContentType="image/jpeg"/>
  <Override PartName="/ppt/media/image1.wmf" ContentType="image/x-wmf"/>
  <Override PartName="/ppt/media/image2.png" ContentType="image/png"/>
  <Override PartName="/ppt/media/image17.jpeg" ContentType="image/jpeg"/>
  <Override PartName="/ppt/media/image3.png" ContentType="image/png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</p:sldMasterIdLst>
  <p:sldIdLst>
    <p:sldId id="256" r:id="rId34"/>
    <p:sldId id="257" r:id="rId35"/>
    <p:sldId id="258" r:id="rId36"/>
    <p:sldId id="259" r:id="rId37"/>
    <p:sldId id="260" r:id="rId38"/>
    <p:sldId id="261" r:id="rId39"/>
    <p:sldId id="262" r:id="rId40"/>
    <p:sldId id="263" r:id="rId41"/>
    <p:sldId id="264" r:id="rId42"/>
    <p:sldId id="265" r:id="rId43"/>
    <p:sldId id="266" r:id="rId44"/>
    <p:sldId id="267" r:id="rId45"/>
    <p:sldId id="268" r:id="rId46"/>
    <p:sldId id="269" r:id="rId47"/>
    <p:sldId id="270" r:id="rId48"/>
    <p:sldId id="271" r:id="rId49"/>
    <p:sldId id="27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" Target="slides/slide1.xml"/><Relationship Id="rId35" Type="http://schemas.openxmlformats.org/officeDocument/2006/relationships/slide" Target="slides/slide2.xml"/><Relationship Id="rId36" Type="http://schemas.openxmlformats.org/officeDocument/2006/relationships/slide" Target="slides/slide3.xml"/><Relationship Id="rId37" Type="http://schemas.openxmlformats.org/officeDocument/2006/relationships/slide" Target="slides/slide4.xml"/><Relationship Id="rId38" Type="http://schemas.openxmlformats.org/officeDocument/2006/relationships/slide" Target="slides/slide5.xml"/><Relationship Id="rId39" Type="http://schemas.openxmlformats.org/officeDocument/2006/relationships/slide" Target="slides/slide6.xml"/><Relationship Id="rId40" Type="http://schemas.openxmlformats.org/officeDocument/2006/relationships/slide" Target="slides/slide7.xml"/><Relationship Id="rId41" Type="http://schemas.openxmlformats.org/officeDocument/2006/relationships/slide" Target="slides/slide8.xml"/><Relationship Id="rId42" Type="http://schemas.openxmlformats.org/officeDocument/2006/relationships/slide" Target="slides/slide9.xml"/><Relationship Id="rId43" Type="http://schemas.openxmlformats.org/officeDocument/2006/relationships/slide" Target="slides/slide10.xml"/><Relationship Id="rId44" Type="http://schemas.openxmlformats.org/officeDocument/2006/relationships/slide" Target="slides/slide11.xml"/><Relationship Id="rId45" Type="http://schemas.openxmlformats.org/officeDocument/2006/relationships/slide" Target="slides/slide12.xml"/><Relationship Id="rId46" Type="http://schemas.openxmlformats.org/officeDocument/2006/relationships/slide" Target="slides/slide13.xml"/><Relationship Id="rId47" Type="http://schemas.openxmlformats.org/officeDocument/2006/relationships/slide" Target="slides/slide14.xml"/><Relationship Id="rId48" Type="http://schemas.openxmlformats.org/officeDocument/2006/relationships/slide" Target="slides/slide15.xml"/><Relationship Id="rId49" Type="http://schemas.openxmlformats.org/officeDocument/2006/relationships/slide" Target="slides/slide16.xml"/><Relationship Id="rId50" Type="http://schemas.openxmlformats.org/officeDocument/2006/relationships/slide" Target="slides/slide1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6C88F-FE4C-4BD4-BCCE-95B587D4F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9DA65-59B7-49F5-B3A7-BFF4BF879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5CBFC9-79E8-465B-837B-83179C982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5A7B67-3A92-467A-932E-4FC883DC5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9E9FB1-06C7-4057-BE40-C0941F635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446165-16C8-4379-B0A5-D18FBA56B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5B4108-8865-4D08-A536-FC22955CA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DA478B-8B63-43F4-B7E2-A47F875EC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8D1BAE-6B4D-4835-A8CF-B773C273B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071D72-6705-4935-A233-C8161AF0D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923FE9-0181-42C9-8F5A-FE34D5BA4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936936-F6B4-4B7B-A509-93F1DC2E6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D9360-9714-4ABE-A7FC-539B64037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5BECE0-1D40-41F5-B478-82F5F6EC9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670864-B557-41E7-B5B3-67CFF94E5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FCD95A-5735-439C-A948-A5D68B8B1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EC361B-7A98-4DD8-98B1-7500D203A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CE6927-B534-473E-84A0-61297C4E3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776474-ACCF-4B0A-A8B9-43721C474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6E6ED5-C509-4AC0-822F-E2751FD6D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577BFA-B6F4-4B67-A3CB-62AAD5DFA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85BCF5-78F3-4A6D-9D11-EE7A1CAF0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D300FA-107F-4FE9-8885-C72907502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FC77B-1543-42D3-959A-52DD5BDF8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EE2CDB-C477-4719-8E92-D52134A03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A5BBA4-10AE-432B-ACB0-FB691B66B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2F5190-9B3B-46AA-8D1E-754DA9416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E0C9A3-C8A8-47CD-8370-32876FF41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C55925-3914-467C-900E-0AD48B3D5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73A110-1926-4F82-A0A2-2BB6257B6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ED5F87-69B9-4626-8DF3-AD1A55D80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82E80B-6C89-4F09-83F4-15CE1D361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D17BE2-AE24-49E8-A39D-B1262BEBE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348A38-1A2C-413D-96DA-D2169FD9A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97C0C-7D75-430D-B366-855E172AD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4ED7BF-9B5A-485E-8EEB-A1D30B7A7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79A281-7441-4C38-8117-B1E035331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704CA7-8F5C-479D-931A-0ADBE0204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00DF33-113D-4549-A45A-5B360B858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9CD693-4341-40DC-8402-866CD9DE3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3AC5E3-6276-4B0E-97BB-A9C6279DE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14F94E-7BB6-4319-A181-9A620F54E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C142BA-E867-40A0-B306-B609966EF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EE841D-53C4-4CC8-95DE-1084B988E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9254FE-BBC3-4F4A-B22D-94D94169F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D2BB5-18AC-45AC-BFAD-73ED38A3F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8A1358-ED85-4461-A6B3-80738C9B0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EAB856-5EF3-4576-8639-26992461E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FEE868-D024-4AD8-9CDC-E8CC3F676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BC73A9-9244-4B78-92BB-62AAC7C2C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E11447-1273-4DF6-89E6-42B3C7DAB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CF63C56-F8E1-43CD-836D-4CF027F5B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701B4B2-A856-4BB6-997C-FAB0776EA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D355654-6CF5-4D8A-A497-BC5FC2F9A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A590539-F0EB-4E4D-8CC4-142656EC3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89CB82C-12A6-4FBE-B07B-C10E263CD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24B72-2F81-44F9-9570-AE780300E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C3918F7-CEFD-4508-B76B-0D4AC27AA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1C5BC66-EEDF-46C2-88CD-D5656A528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F93D940-9136-41DC-AE39-1E1C0E925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2862E68-51E4-4170-AD37-11341A393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B91DF7B-D7A6-4B4B-93F2-1CB78EF6C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01AD298-2F91-4281-A717-9915EDBC0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52B6BD5-9D7C-4139-9C01-FFD5297CA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BFA6AE6-A87F-4742-BAB8-24F74AD17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3E2D742-46B0-4111-8577-B4EDB14FC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6C2DBA7-26A1-4C75-A70A-EA854E6F6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757C2-1F3D-491E-ADE7-CF8E0F4D1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B3D7836-9188-4A75-A1DA-46A3DA765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1B2EA65-23E6-4715-A119-17131DECB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BA207D8-BF68-40C9-91AE-9B0851F68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E7857AC-F761-4E0F-B9CD-C4D88AD29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88AEBDC-5CD2-4E28-AACA-C334639FD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2374912-E1EF-4940-B449-06426662C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7339719-A461-4749-BDEC-0EF1134FA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B0A9890-978F-4DA5-B4CB-AA13E5FF1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47418B7-CA71-438C-B0E9-8BACDF0EE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66429D8-CB7B-42E6-B81F-A44DA908C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3CF49-4A22-43DF-A8E4-2C9BDE094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0EB2141-4897-4E43-9E93-A5FD88A3E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F69CE2B-1C5A-4E02-B0A8-78C2D4CFF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FCEC440-B76D-4461-826E-7F4D6B646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4D6C476-FE96-43CE-A565-3F70E7DFE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6A0BF33-5023-4953-B2BC-69A4BC625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1F221C6-A99C-4D8A-AFF7-446F9C37D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F26C358-02EF-4AEA-BCDB-B90678053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C6A3621-26E0-43BF-BB75-22281AE4F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F40765D-6270-4940-BAB7-B237173E3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2898B02-9C7D-4439-A3F7-95F9A32B6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78542-F8AE-4640-8B50-6C46FF058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9267043-1D3E-4A82-BACC-205EA1B52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6FBB84D-27EC-46FD-9429-502BCBB5B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4B9C51D-36EE-4DCE-81B0-0B13452D8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1AFE06A-CFBB-42F0-BF87-0A2C88F09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3229715-27F3-4639-BD1D-EC3E6BE18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73F8EF5-60B6-462E-9BDB-37AF07C42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1051DB2-6F73-4D68-94C1-A2E5B5F40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8CCAEC4-1403-44E9-A2CF-90D75BC1D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DD7550F-F6A7-4ADB-9452-A102A955D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2BC8FA8-FF10-439D-9C56-1C5C72A31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4936C-A364-44FC-90FE-50428CA97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9C3ECF6-A6A3-4072-ACCB-F92D00064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37AD952-82FF-43C5-94E0-9F1E1985F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EBD5122-32FF-4C54-B0C7-EEFAC05C5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1A6AA86-2342-4667-9107-52039E03F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8B46C39-E1FF-41E6-9F38-B496B4A4F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DA90A78-0270-48EA-9069-71FF66875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C2A61FF-4883-4AE6-AED2-5A3893E16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F27CBF3-5A54-476A-88AD-05C621A4D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DA9FAC2-4857-4A0B-A446-DB598DB01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A55B916-BF28-476C-8F12-6E7A8538B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4F4A7-DCE7-447B-B38F-486A861E3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478C7-6275-4E48-B6B1-4DD44B9E9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A00AC42-45C4-4916-A951-DA963AA66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9189FFE-6770-435C-AAB7-A62B4F7E4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DFE59DD-F8F6-4B1F-B147-D50A90B4B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78AF1B9-CCF8-4F3D-BD44-D0D4CF135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81DF168-45AF-4B22-800D-4EA3E9FD4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B3CA4EE-550E-4E40-9732-E67A85D15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581A98F-CD84-455B-9030-A66CF01B0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F5458C4-70AC-473F-A45F-E054D22D0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641142C-7CD5-43AF-B737-1D976BC3B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1C9D0D1-9801-4548-B805-BC22E818D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C9E9A-DE7A-48D8-AA03-1B1A05F08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853F25A-E0C3-43F2-BCB6-00016A47C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1D1D1ED-A1E1-49B3-8ECE-A3ACC0715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97CF311-1E1D-4934-9141-058817971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17644DB-7A03-4F18-B3C4-25DC0CC15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72238E0-2A5E-4C49-8359-70E065CB0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8876E69-5086-46B0-B499-C8AF6AC0B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0716B9E-38D4-4EC1-A8DD-69B9A3030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30D1677-354C-4C68-B6B7-937852558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1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B4C4048-3F43-414B-B89A-D55B23B43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D098960-A0FF-4C41-8DD3-B2239AA75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08F15-BD73-4945-879D-6B83F0B51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81CC3B5-1D17-48A3-B143-5332068DE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29E84A1-2933-46B5-9D90-3631F2454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1376A3C-E0AB-48F4-BD8F-C22ECC88F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07CE405-1BB2-454F-9481-B4C6E95CC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8FB0E44-19BC-44AB-80D1-94A2D42C8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AD376D6-0931-4960-87B4-862548787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ABFEEC4-CF8A-4911-B710-9DAEFB7B4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5163B93-3363-4FB9-A96D-4937B4F0D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9828D03-EC8B-4905-A29B-4F66B0448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A7A03D4-0510-4DB5-8B56-27F764982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CF347-CF40-4E21-85EC-4489EF8DD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00FFC1F-9912-4C39-AB33-6A03E70B4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0822415-74A9-49C5-8DFD-6313A146E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243B921-E239-424E-B414-9A1A629AE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C31A0A1-C136-419A-B660-947117F12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A6689C5-B756-4939-B678-54F5B16F7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9D8F736-4F53-46F6-873D-30D2A1BB7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B2D3159-1359-4374-83E1-FFDE95FB4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4E377B0-4D09-4F6E-B58C-94CB97051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9E7B466-57C7-4ED8-B6AC-1C33F48ED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BE5E527-A948-4227-9F2B-C33A1681C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3DC39-99E0-4BC6-B3C2-235964AC3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172881A-6A3A-41D0-8A0E-0DF222259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A51FB9B-2F86-4C56-A731-9D3C42F0D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3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4F27C32-8ED1-423A-80D3-F6C283140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591FF30-CA65-497D-B262-F562560FD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4CCBA06-59CA-4E2F-BC82-E6662E92A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80FC4DE-7E9E-480E-949C-F6AA2116A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59683AF-B1EE-42D6-ACFA-42DC837EE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E2C2541-354D-4EAD-A795-9A1220720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771B92D-6D52-43AA-90D6-28D691BA3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9A55E2B-FDBF-4016-BDA3-BAAD29FB9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D2A163-7B29-42F8-9E8A-A94CB8961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765F9FE-548B-41C9-AF36-F3A70188D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90AE8BD-9374-449A-A6D2-C5A5F7A40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315A3F8-4E13-4289-9F39-F5FF1EDE5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EFBDAD7-EA06-404F-96A6-B9A824786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9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4EF0C06-1A99-4F70-B69B-87F3EF712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557B8C6-335F-4A15-B1F6-310DF15E3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7CF2208-1E7D-4D05-83F4-9E672EE54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53CA19E-D181-4065-AF23-DC1782E56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6529B16-03D3-4131-8561-9E79281DE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B7BB5CB-D458-4D32-8A8D-20B3FCE64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D81E59-B1E3-4F93-8926-06395788A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9A5C124-0100-46F6-9E0D-7CFA1B70B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13FEAAF-2882-4BCC-B125-835511BB1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973F83F-4FCE-4AF7-831E-0DB27BFEC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3B7DEF0-D58D-4157-92D6-7A83FCD73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EBFBBF0-3096-43FA-8178-BFC896BFC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BCCA1139-14C8-45F7-B7C1-7FC20980E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11690E0F-488B-4C61-B9D1-7872A94AD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8F34548E-B931-4119-993B-1140B324B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E0938D04-BD18-44D4-BDF3-D84C0142F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93C23920-2DB8-4E10-A480-951905D57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C3DB73-5E68-4C79-94A0-D34E164B4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25E23175-CFCA-4DF9-982F-0EAFDA38B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658E8FDB-26EE-4CA5-AEC1-1A5D82723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8DC1D44A-709E-4525-8FF0-B5CBE4F6A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003F9D4B-A9A0-4F7B-A1C6-92F2AC460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D3446842-593F-4A7C-94AF-CF0B84C49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0099D04A-9F3F-4497-9C2C-33FB86A72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DEA7F094-14D4-4DC8-A8E1-C89072337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6DE0612-182C-449A-AC3F-6965C1665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1768CB1-20D7-40CA-ADA1-E90374A1F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A40CE84-BB26-4D18-95D7-28EE0AC38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D96C58-ECC3-4317-AB38-BC5F5727C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B87C34D-00A0-4F9A-B006-AD7584AE7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CA65219-E4E0-41EE-B8D0-91E5E653D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8D860EA-4200-40CF-A3E1-33DA16DF7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D7EC165-330C-48E7-85B3-BA0866141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976A81F-8BB7-4757-A74B-FF5F008F1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2A0C092-4045-42F7-9B3C-BE6D9248E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707041A-0EE0-4068-AA92-29AA3E446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6A142AC-B2A1-4F6B-AACB-DDAE21C93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A0B7A61-050C-4E9B-8BED-6657BA878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537B95C-C882-437B-A932-B92D5253B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61E7B5-D499-4F93-BC92-55A9AD129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2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B4B9453-E198-42F6-BBD5-DA99EDD61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3980B19-B6FB-486F-AC22-363A1E133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E177FCA-7B41-48D1-94C5-328D3AAD8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04A1831-4A4C-4B78-8C9D-A72DE75A1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1BB4E74-0082-4CBC-8744-5BFD7E707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2A414D2-44DE-4D1D-B2A4-B23BD742E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34FFD1A-324A-4159-A09D-06051AD88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547D8A8-4DDE-47E6-B389-4ACFA3C64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B35628E-B252-41ED-99D7-7791149F2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FAFFCA0-0D5D-48CA-8FE0-099AE629E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80B57-1337-41B7-9B5A-63D22ACDB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DA0E48-5A68-4780-9A3D-60C29E209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84E2B13-BC0C-4962-9E24-B82606FDF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1374D8E-4BCB-49FA-AE5E-639252D27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6900045-CF15-42F1-98F6-D0335DC4D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EF5B2D7-7883-4711-B82E-4A825420F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6EDE234-0E04-4B73-9229-D36D44C62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C6083D1-4EB4-4FD0-8478-E78561973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08132E0-91FF-4CAE-91FA-61F940CA8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5B5122A-1130-4147-8544-8478FDF03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EC18EB4-9A28-48D7-A10A-6EB0E508F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54BE8EF-4075-4F21-ACF8-48DDC5844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266F4F-5388-4AEF-BDAD-C0C63E0A7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46AC8D1-1A16-4047-85EE-BEE940456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29B2060-D72D-4451-92DE-CEEBC3353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1BF970F-AA9A-4E49-AAA8-C97237BEE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BC3CE69-5B68-499D-BFF6-2A6B0FE31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7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36D9F5A-9668-46C9-B3B7-7688D77BD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07FE893-4E86-4388-898F-D8DD6706D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CB530BA-FE14-4B76-AB03-F1A5C39BE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587C791-C8B8-4884-8B62-E5146761B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AD54F51-C6A3-4A82-AA13-FF39D7029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1638C12-A759-41C7-8D99-05D791751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14DAA5-DA2E-418D-B305-4B45C8AEB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9244426-6C6B-4E48-BE6D-5384B5F9F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19E4B8E-C079-467F-BA5F-ADEE1CD04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8426835-3474-4888-9D9C-BE3809F7C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F49A251-3204-48F3-9802-8162AD0AE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DB3D59A-62A3-4FFF-A636-8F0B59F35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46D1B43-F95D-49AB-BB54-B2645C499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2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7AC9E20-4B4C-4201-918C-CB2333B1B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766397A-AE7D-415A-B59A-F0D8016B6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2E660D5-BEFF-46A0-A6ED-39A5AE4F5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EC1E380-3322-4A81-B716-ADEA9EE2D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6ED453-2DA6-4819-ACCF-6D2298FEA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A72E453-28E7-4F2B-9254-3FCA26BD6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955CF6A-1E72-44CD-9E03-BC6E1BE29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9B5B113-1D9A-4E9F-83DA-FDF3BDDE9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2E752DA-013B-4E86-B4F5-761E631CE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37E1E5C-F4E8-402F-A9CF-664AF3C64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AE126B1-E8E8-4A6F-BA05-642D61B88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3BA1DA1-9CB8-444D-8454-D13440CA1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FA93791-8DAE-453C-BB44-A444BE064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6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21A0BC7-06A6-4BBF-9235-7D014A9F1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FDBB9C9-E74F-4A2C-8F04-EB518A1B7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2C71A2-F330-4D98-8468-377E1F255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4518E49-2DDB-46BC-889F-ABD59DEC6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10C9A7E-858E-43FC-B305-5E24D6170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DD5A928-6210-4F32-BFFE-91104C771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2F01759-CECD-4467-B44D-735BDED8B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5B86D0C-D9D8-4009-BD08-202EAACB5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4CE0DBD-B24D-49AF-8E74-9F2FC1017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99A4EA4-0854-41FB-AB2A-471D89405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854E20C-9F8A-407B-9C27-3858BFDE4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A2DE231-FF24-4770-83F0-7AFAEA678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CC9CD1CB-E0DA-4192-8FE2-EE239B39A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A7815A-9C58-440B-9324-5F4445857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0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FA963C2A-13F4-4104-A019-65BDFE47B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3E2D001E-F7D7-4167-9580-E119BE1BF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1C8FE139-A458-4AAB-B869-EDAFDCE38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3E805EDD-EEF2-4B65-B419-5B2B1BD1C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465B16FB-CFA8-4D28-A421-86B57A6F2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C8E733BE-0ED7-48E7-83CC-3E049BDC5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99AABFA1-1999-42E6-9B30-0EE302C06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161046A5-4BD1-4C65-883D-455C10B6F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808BBC0E-87C2-470B-9263-E2ACE278C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30C79697-A3DA-49E6-8688-7BC8DBEF2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965A74-AE2B-4611-BF37-D15BB3E6E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7325844E-F070-47B6-A14E-75245F5B5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FE3BC20E-EFD0-4A00-83C7-D241FF1AF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6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FE4B72FA-32BF-4569-B166-10B7C375F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73445AD0-2A22-4A46-9A4E-3385E2168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A0F3DE19-E2D4-400D-B754-B939EFE9E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90EA64C3-E9BC-42FC-8019-A89404FCD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FB83A2CC-67A2-4254-A966-614E21A57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64F2E9CE-6AE3-44E1-ABA5-D2291BC8A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2CAE3E35-786C-4070-8E79-4A1FF767F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91BCD92A-6B29-4298-A434-F5E74531B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C53669-E1F4-43DF-9AE8-78F836658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68EC51C3-6446-41ED-9CC2-805801074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55703B23-E834-4802-8552-2FCD999C1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550B1CEB-95CB-417A-A814-7C3224C0B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0F9B768A-1C9D-4C92-B724-21CB4B9E8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1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EED02652-E8A5-490D-A12A-FDF70C8C9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01437CC4-8001-4D2E-A972-25BCA415B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E70BB1CC-7B3F-4106-9FD9-5A772888A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266EDDC5-3483-43EB-870C-4584D2ABD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70FA00BA-EC12-4B4B-A51C-4F910D877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1F71792C-CB1F-4CF1-8BD9-8E3323D33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16C1C8-593C-4105-A7FE-93425960F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DD514BCC-44B7-4FE3-A7BF-C65E6FDD7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DC73A4BB-AE55-4D98-98F5-2ACDACB07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775853DD-DDAD-4964-87D0-5D36F8FC4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0635AF5B-7C2E-42E7-A144-8752371FF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2CF5701C-8735-4CA7-977A-F9575325D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2CC0ED-5B81-4E62-BBF6-22C9A4495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429A6-E119-482C-81DC-3342860C1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334980-3665-4F62-84AC-FD99498D6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2B9CC3-2C4D-4C90-9FEB-289DA3AE9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E6FD80-E89B-4AA5-9D62-57EC50638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60FC9D-37FC-4DBB-925A-7F4F37A50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672D26-0B7D-4C2A-9783-CC12F79F0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62E72A-6F49-47BA-8FF1-8D61D671D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7F6779-BBB2-4BE1-92F5-D778083EE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DE4A1D-234F-43A9-8875-23B754FE1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ACE7BF-D9F6-4B4A-9DB3-328DC0285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420981-BA92-4F09-BEE9-09AEC19BC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1E478-0E1A-47B0-9D87-D52F15937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8EE751-3E2D-46D8-9BA2-E63554192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9A8C7E-152C-4091-BE04-9F2662384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421EB0-BEC7-4DF1-AC8F-430F80A24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AABE5A-CFAC-4650-B708-888187934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733CA5-93AB-4FD1-BA55-981EE9F3F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A9EAC8-58CD-45F9-845D-B41D43106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164D57-B88A-4125-8137-882AC6B6F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605F31-8F4B-4D06-B0B3-84E2C97B1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61BC97-5A5A-4B2C-8343-D895E4520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759A98-9A2B-4CC8-9E73-8F33B582B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8715B-59CD-42B9-B916-943C1A0B2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D0E40A-9EBA-4E9D-A15E-11F2C9883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E38EF1-DD83-4B74-BE6C-F8FB4BD60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528646-1AAD-45F0-8856-22E6C7869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49F955-9D6A-40E4-891B-06BE1625C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247430-6550-4198-93B0-A5E9F02F4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599210-6233-4A9F-BE51-28E84A4B4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17AE88-BD9E-4664-B528-50156431C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BD11CE-D278-4076-ADC2-3E5D052F2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A56BA0-A85C-49AF-946B-ED8F96AFF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B1DA7D-38AA-40DC-872B-7486D5EBD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8AD9D-F931-4335-90C2-5CEFC49FB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78CE6C-657A-4FDE-BEDD-AE2F95B16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177590-9305-4E39-8F5C-116AF1E20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240ABC-E4CF-4557-BD46-6598A45CE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E5AAB4-9D65-4FB8-A5D2-CA6AD22A2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2BF1A0-3A0D-4072-839F-22C35846B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21C21B-9B66-42F0-972C-04C3D4638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FF6249-28B9-45FE-A29D-5BEA315F8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55F04D-231C-42E5-A13C-D28AB66DF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3DD356-5722-4915-9AA2-6BC86BD2E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C5DE94-0B93-41DB-AC91-72D2A5747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EA7D2-F936-4DD8-BE06-B16AEBEEF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877EDD-EFBD-43C3-A20B-74CEBC572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CD653F-DFF4-4BBE-A3E9-60533FB74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CA1783-CAFF-4D3B-9593-B726F07B1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499372-7A86-4BDC-A21A-830225033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C5320D-B06F-4776-96C6-823CDC20B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1ABBF3-3700-4A1E-B11E-B71EE6FC6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8D8CFB-64ED-4752-B525-729C8185A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45A774-6DB1-484C-B91B-A80C3327E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B7F866-668D-44AE-9626-E2566EE75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0614E8-31EB-4AE5-B5DD-A8706372F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2E64E-3AA3-4EC9-9F7D-872496CBE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E9BE23-8528-495C-BE5F-4A7D091BE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98E015-225F-4A04-B5F9-0FF684EF7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87FF2C-0412-477E-936F-519D231FA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55B85A-B652-42E5-96CF-1D1FD7012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80B23E-A937-40AF-BEA5-8C60B4504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059A87-FE0B-40F7-947D-272448054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2F0D49-9B3C-46D7-8709-4F1C1F1D6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722727-CAA2-4F1B-A955-DF9E06077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A5B4ED-3915-4908-9D2F-3CC4987CB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DA9AF7-B50D-49CE-8C36-8D1A07A25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37.xml"/><Relationship Id="rId4" Type="http://schemas.openxmlformats.org/officeDocument/2006/relationships/slideLayout" Target="../slideLayouts/slideLayout338.xml"/><Relationship Id="rId5" Type="http://schemas.openxmlformats.org/officeDocument/2006/relationships/slideLayout" Target="../slideLayouts/slideLayout339.xml"/><Relationship Id="rId6" Type="http://schemas.openxmlformats.org/officeDocument/2006/relationships/slideLayout" Target="../slideLayouts/slideLayout340.xml"/><Relationship Id="rId7" Type="http://schemas.openxmlformats.org/officeDocument/2006/relationships/slideLayout" Target="../slideLayouts/slideLayout341.xml"/><Relationship Id="rId8" Type="http://schemas.openxmlformats.org/officeDocument/2006/relationships/slideLayout" Target="../slideLayouts/slideLayout342.xml"/><Relationship Id="rId9" Type="http://schemas.openxmlformats.org/officeDocument/2006/relationships/slideLayout" Target="../slideLayouts/slideLayout343.xml"/><Relationship Id="rId10" Type="http://schemas.openxmlformats.org/officeDocument/2006/relationships/slideLayout" Target="../slideLayouts/slideLayout344.xml"/><Relationship Id="rId11" Type="http://schemas.openxmlformats.org/officeDocument/2006/relationships/slideLayout" Target="../slideLayouts/slideLayout345.xml"/><Relationship Id="rId12" Type="http://schemas.openxmlformats.org/officeDocument/2006/relationships/slideLayout" Target="../slideLayouts/slideLayout346.xml"/><Relationship Id="rId13" Type="http://schemas.openxmlformats.org/officeDocument/2006/relationships/slideLayout" Target="../slideLayouts/slideLayout347.xml"/><Relationship Id="rId14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49.xml"/><Relationship Id="rId4" Type="http://schemas.openxmlformats.org/officeDocument/2006/relationships/slideLayout" Target="../slideLayouts/slideLayout350.xml"/><Relationship Id="rId5" Type="http://schemas.openxmlformats.org/officeDocument/2006/relationships/slideLayout" Target="../slideLayouts/slideLayout351.xml"/><Relationship Id="rId6" Type="http://schemas.openxmlformats.org/officeDocument/2006/relationships/slideLayout" Target="../slideLayouts/slideLayout352.xml"/><Relationship Id="rId7" Type="http://schemas.openxmlformats.org/officeDocument/2006/relationships/slideLayout" Target="../slideLayouts/slideLayout353.xml"/><Relationship Id="rId8" Type="http://schemas.openxmlformats.org/officeDocument/2006/relationships/slideLayout" Target="../slideLayouts/slideLayout354.xml"/><Relationship Id="rId9" Type="http://schemas.openxmlformats.org/officeDocument/2006/relationships/slideLayout" Target="../slideLayouts/slideLayout355.xml"/><Relationship Id="rId10" Type="http://schemas.openxmlformats.org/officeDocument/2006/relationships/slideLayout" Target="../slideLayouts/slideLayout356.xml"/><Relationship Id="rId11" Type="http://schemas.openxmlformats.org/officeDocument/2006/relationships/slideLayout" Target="../slideLayouts/slideLayout357.xml"/><Relationship Id="rId12" Type="http://schemas.openxmlformats.org/officeDocument/2006/relationships/slideLayout" Target="../slideLayouts/slideLayout358.xml"/><Relationship Id="rId13" Type="http://schemas.openxmlformats.org/officeDocument/2006/relationships/slideLayout" Target="../slideLayouts/slideLayout359.xml"/><Relationship Id="rId14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slideLayout" Target="../slideLayouts/slideLayout373.xml"/><Relationship Id="rId3" Type="http://schemas.openxmlformats.org/officeDocument/2006/relationships/slideLayout" Target="../slideLayouts/slideLayout374.xml"/><Relationship Id="rId4" Type="http://schemas.openxmlformats.org/officeDocument/2006/relationships/slideLayout" Target="../slideLayouts/slideLayout375.xml"/><Relationship Id="rId5" Type="http://schemas.openxmlformats.org/officeDocument/2006/relationships/slideLayout" Target="../slideLayouts/slideLayout376.xml"/><Relationship Id="rId6" Type="http://schemas.openxmlformats.org/officeDocument/2006/relationships/slideLayout" Target="../slideLayouts/slideLayout377.xml"/><Relationship Id="rId7" Type="http://schemas.openxmlformats.org/officeDocument/2006/relationships/slideLayout" Target="../slideLayouts/slideLayout378.xml"/><Relationship Id="rId8" Type="http://schemas.openxmlformats.org/officeDocument/2006/relationships/slideLayout" Target="../slideLayouts/slideLayout379.xml"/><Relationship Id="rId9" Type="http://schemas.openxmlformats.org/officeDocument/2006/relationships/slideLayout" Target="../slideLayouts/slideLayout380.xml"/><Relationship Id="rId10" Type="http://schemas.openxmlformats.org/officeDocument/2006/relationships/slideLayout" Target="../slideLayouts/slideLayout381.xml"/><Relationship Id="rId11" Type="http://schemas.openxmlformats.org/officeDocument/2006/relationships/slideLayout" Target="../slideLayouts/slideLayout382.xml"/><Relationship Id="rId12" Type="http://schemas.openxmlformats.org/officeDocument/2006/relationships/slideLayout" Target="../slideLayouts/slideLayout383.xml"/><Relationship Id="rId13" Type="http://schemas.openxmlformats.org/officeDocument/2006/relationships/slideLayout" Target="../slideLayouts/slideLayout384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a27c36"/>
                </a:gs>
                <a:gs pos="50000">
                  <a:srgbClr val="c19341"/>
                </a:gs>
                <a:gs pos="100000">
                  <a:srgbClr val="a27c3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cf7625"/>
                </a:gs>
                <a:gs pos="50000">
                  <a:srgbClr val="eb9f17"/>
                </a:gs>
                <a:gs pos="100000">
                  <a:srgbClr val="cf762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2c4a2e"/>
                </a:gs>
                <a:gs pos="50000">
                  <a:srgbClr val="60a265"/>
                </a:gs>
                <a:gs pos="100000">
                  <a:srgbClr val="2c4a2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f7625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cf7625"/>
                </a:gs>
                <a:gs pos="50000">
                  <a:srgbClr val="eb9f17"/>
                </a:gs>
                <a:gs pos="100000">
                  <a:srgbClr val="cf762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cf7625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0FEA3-A8AF-4189-8FDD-3FA9F2FED58B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3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74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50000">
                  <a:srgbClr val="008000"/>
                </a:gs>
                <a:gs pos="100000">
                  <a:srgbClr val="00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50000">
                  <a:srgbClr val="003300"/>
                </a:gs>
                <a:gs pos="100000">
                  <a:srgbClr val="008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50000">
                  <a:srgbClr val="008000"/>
                </a:gs>
                <a:gs pos="100000">
                  <a:srgbClr val="00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50000">
                  <a:srgbClr val="008000"/>
                </a:gs>
                <a:gs pos="100000">
                  <a:srgbClr val="00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008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008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008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0c0c0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78CF6-DA91-4173-B3EF-3AC13B4969BD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1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622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97FD7-2F33-4145-AAB7-AE8ECB193ACB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8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679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E685D-C1C6-43BE-BCDB-0AF496795A8B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4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735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eff0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eff0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eff0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eff0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eff0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40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FEE05-5304-458F-91C2-C9720F58A056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666633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1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782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eff0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eff0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eff0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eff0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eff0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eff0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8" name="PlaceHolder 1"/>
          <p:cNvSpPr>
            <a:spLocks noGrp="1"/>
          </p:cNvSpPr>
          <p:nvPr>
            <p:ph type="dt" idx="4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 type="sldNum" idx="4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8BEB6-2979-4F97-89C0-401170877DB2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666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8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829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 type="dt" idx="4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PlaceHolder 4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23CAB-C52F-4F46-BB3B-8C43ADACE30D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2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873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75" name="PlaceHolder 1"/>
          <p:cNvSpPr>
            <a:spLocks noGrp="1"/>
          </p:cNvSpPr>
          <p:nvPr>
            <p:ph type="dt" idx="4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 type="ftr" idx="4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 type="sldNum" idx="4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DBD19-3631-4CAD-8DB3-A4F25A8C8D9C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5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916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917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9f237f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39a6dd"/>
                  </a:gs>
                  <a:gs pos="100000">
                    <a:srgbClr val="9f237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19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920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9f237f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39a6dd"/>
                  </a:gs>
                  <a:gs pos="100000">
                    <a:srgbClr val="9f237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22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923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9f237f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39a6dd"/>
                  </a:gs>
                  <a:gs pos="100000">
                    <a:srgbClr val="9f237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25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926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927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f237f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8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03e7"/>
                    </a:gs>
                    <a:gs pos="100000">
                      <a:srgbClr val="9f237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29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930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931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2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33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934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5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36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937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8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39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940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1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42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943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4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45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946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7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48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949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0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1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952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3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4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955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6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7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958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9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60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961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2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63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964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5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66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967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8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69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970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1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2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973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4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5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976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7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8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979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0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1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982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3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4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985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6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7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988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9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90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991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2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93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03e7"/>
                    </a:gs>
                    <a:gs pos="100000">
                      <a:srgbClr val="753bcb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94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53bcb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995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996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7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98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999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0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01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1002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3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04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1005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6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07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1008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9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0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1011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2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3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1014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5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6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17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8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9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20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1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22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23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4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25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026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7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028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753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39a6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39a6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753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753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39a6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753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39a6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03e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753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39a6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03e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03e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03e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753bcb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 type="dt" idx="4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 type="ftr" idx="5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PlaceHolder 5"/>
          <p:cNvSpPr>
            <a:spLocks noGrp="1"/>
          </p:cNvSpPr>
          <p:nvPr>
            <p:ph type="sldNum" idx="5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83247-B0F0-42F1-91A4-0B1BD0AD889C}" type="slidenum">
              <a:rPr b="0" lang="ru-RU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1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092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093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9f237f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39a6dd"/>
                  </a:gs>
                  <a:gs pos="100000">
                    <a:srgbClr val="9f237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95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096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097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098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9f237f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9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9f237f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0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101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102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03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04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105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06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07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108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09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10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111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12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13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114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15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16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1117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18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19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1120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21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22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1123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24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25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1126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27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28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1129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30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31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1132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33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34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1135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36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37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1138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39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40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1141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42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43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1144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45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46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1147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48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49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1150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51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52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1153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54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55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1156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57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58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1159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60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61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1162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63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64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5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166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1167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68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69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1170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1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72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1173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4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75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1176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7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78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1179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80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81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1182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83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84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1185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86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87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1188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89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90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1191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92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93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1194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95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96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1197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98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1199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1200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1201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39a6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2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753bc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3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39a6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4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753bc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5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39a6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6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03e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7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753bcb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08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03e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9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1210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753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39a6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753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39a6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753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03e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03e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24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25" name="PlaceHolder 2"/>
          <p:cNvSpPr>
            <a:spLocks noGrp="1"/>
          </p:cNvSpPr>
          <p:nvPr>
            <p:ph type="dt" idx="5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PlaceHolder 3"/>
          <p:cNvSpPr>
            <a:spLocks noGrp="1"/>
          </p:cNvSpPr>
          <p:nvPr>
            <p:ph type="ftr" idx="5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PlaceHolder 4"/>
          <p:cNvSpPr>
            <a:spLocks noGrp="1"/>
          </p:cNvSpPr>
          <p:nvPr>
            <p:ph type="sldNum" idx="5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4951C-B5EC-4F30-97FA-EADAA4461192}" type="slidenum">
              <a:rPr b="0" lang="ru-RU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66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67" name="PlaceHolder 3"/>
          <p:cNvSpPr>
            <a:spLocks noGrp="1"/>
          </p:cNvSpPr>
          <p:nvPr>
            <p:ph type="dt" idx="55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PlaceHolder 4"/>
          <p:cNvSpPr>
            <a:spLocks noGrp="1"/>
          </p:cNvSpPr>
          <p:nvPr>
            <p:ph type="ftr" idx="56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PlaceHolder 5"/>
          <p:cNvSpPr>
            <a:spLocks noGrp="1"/>
          </p:cNvSpPr>
          <p:nvPr>
            <p:ph type="sldNum" idx="57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52F52-FC81-4C16-814B-FD3D37EC37C8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1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72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273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82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283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284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85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86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87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8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9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290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291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92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93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94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95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96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97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98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299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300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1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02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303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304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305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306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07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08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09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10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11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12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13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14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a27c36"/>
                </a:gs>
                <a:gs pos="50000">
                  <a:srgbClr val="c19341"/>
                </a:gs>
                <a:gs pos="100000">
                  <a:srgbClr val="a27c3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cf7625"/>
                </a:gs>
                <a:gs pos="50000">
                  <a:srgbClr val="eb9f17"/>
                </a:gs>
                <a:gs pos="100000">
                  <a:srgbClr val="cf762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2c4a2e"/>
                </a:gs>
                <a:gs pos="50000">
                  <a:srgbClr val="60a265"/>
                </a:gs>
                <a:gs pos="100000">
                  <a:srgbClr val="2c4a2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f7625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cf7625"/>
                </a:gs>
                <a:gs pos="50000">
                  <a:srgbClr val="eb9f17"/>
                </a:gs>
                <a:gs pos="100000">
                  <a:srgbClr val="cf762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cf7625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40036-8241-4708-9D66-2850D0586028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1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2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808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53" name="PlaceHolder 2"/>
          <p:cNvSpPr>
            <a:spLocks noGrp="1"/>
          </p:cNvSpPr>
          <p:nvPr>
            <p:ph type="dt" idx="5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PlaceHolder 3"/>
          <p:cNvSpPr>
            <a:spLocks noGrp="1"/>
          </p:cNvSpPr>
          <p:nvPr>
            <p:ph type="ftr" idx="5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PlaceHolder 4"/>
          <p:cNvSpPr>
            <a:spLocks noGrp="1"/>
          </p:cNvSpPr>
          <p:nvPr>
            <p:ph type="sldNum" idx="6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E02B3-0B2B-4D7D-BF34-AD7655B27D5C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6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357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60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361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2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3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4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5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366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367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8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9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70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371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2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3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4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5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76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cc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7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4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415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e5e1b1"/>
                </a:gs>
                <a:gs pos="50000">
                  <a:srgbClr val="f5f0bd"/>
                </a:gs>
                <a:gs pos="100000">
                  <a:srgbClr val="e5e1b1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fed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f5f0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f5f0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f5f0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f5f0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f5f0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fec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fec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fec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fed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f5f0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d9d6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d9d69"/>
              </a:solidFill>
              <a:latin typeface="Garamond"/>
            </a:endParaRPr>
          </a:p>
        </p:txBody>
      </p:sp>
      <p:sp>
        <p:nvSpPr>
          <p:cNvPr id="1431" name="PlaceHolder 2"/>
          <p:cNvSpPr>
            <a:spLocks noGrp="1"/>
          </p:cNvSpPr>
          <p:nvPr>
            <p:ph type="dt" idx="6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PlaceHolder 3"/>
          <p:cNvSpPr>
            <a:spLocks noGrp="1"/>
          </p:cNvSpPr>
          <p:nvPr>
            <p:ph type="ftr" idx="6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PlaceHolder 4"/>
          <p:cNvSpPr>
            <a:spLocks noGrp="1"/>
          </p:cNvSpPr>
          <p:nvPr>
            <p:ph type="sldNum" idx="6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0CB18-7D8C-47D2-BA57-59DADA0D86FC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d9d6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64b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1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472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e5e1b1"/>
                </a:gs>
                <a:gs pos="50000">
                  <a:srgbClr val="f5f0bd"/>
                </a:gs>
                <a:gs pos="100000">
                  <a:srgbClr val="e5e1b1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fed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f5f0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f5f0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f5f0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f5f0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f5f0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fec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fec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fec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fed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f5f0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8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d9d69"/>
                </a:solidFill>
                <a:latin typeface="Garamond"/>
              </a:rPr>
              <a:t>Click to edit the title text format</a:t>
            </a:r>
            <a:endParaRPr b="1" lang="en-US" sz="5400" spc="-1" strike="noStrike">
              <a:solidFill>
                <a:srgbClr val="bd9d69"/>
              </a:solidFill>
              <a:latin typeface="Garamond"/>
            </a:endParaRPr>
          </a:p>
        </p:txBody>
      </p:sp>
      <p:sp>
        <p:nvSpPr>
          <p:cNvPr id="1488" name="PlaceHolder 2"/>
          <p:cNvSpPr>
            <a:spLocks noGrp="1"/>
          </p:cNvSpPr>
          <p:nvPr>
            <p:ph type="dt" idx="6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PlaceHolder 3"/>
          <p:cNvSpPr>
            <a:spLocks noGrp="1"/>
          </p:cNvSpPr>
          <p:nvPr>
            <p:ph type="ftr" idx="6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PlaceHolder 4"/>
          <p:cNvSpPr>
            <a:spLocks noGrp="1"/>
          </p:cNvSpPr>
          <p:nvPr>
            <p:ph type="sldNum" idx="6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DF6A7-1CD6-4CEC-B57A-07A9D17D3B54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7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528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1" name="PlaceHolder 3"/>
          <p:cNvSpPr>
            <a:spLocks noGrp="1"/>
          </p:cNvSpPr>
          <p:nvPr>
            <p:ph type="ftr" idx="6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PlaceHolder 4"/>
          <p:cNvSpPr>
            <a:spLocks noGrp="1"/>
          </p:cNvSpPr>
          <p:nvPr>
            <p:ph type="sldNum" idx="6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F8039-BAAC-4973-8C31-E5A33D72A160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PlaceHolder 5"/>
          <p:cNvSpPr>
            <a:spLocks noGrp="1"/>
          </p:cNvSpPr>
          <p:nvPr>
            <p:ph type="dt" idx="6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9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59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12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3" name="PlaceHolder 2"/>
          <p:cNvSpPr>
            <a:spLocks noGrp="1"/>
          </p:cNvSpPr>
          <p:nvPr>
            <p:ph type="dt" idx="7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4" name="PlaceHolder 3"/>
          <p:cNvSpPr>
            <a:spLocks noGrp="1"/>
          </p:cNvSpPr>
          <p:nvPr>
            <p:ph type="ftr" idx="7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PlaceHolder 4"/>
          <p:cNvSpPr>
            <a:spLocks noGrp="1"/>
          </p:cNvSpPr>
          <p:nvPr>
            <p:ph type="sldNum" idx="7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0E14B-12B5-4DC5-9967-5CCF5FB6DE03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2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c9c696"/>
              </a:gs>
              <a:gs pos="100000">
                <a:srgbClr val="e6e3a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53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654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d7d1b9"/>
                </a:gs>
                <a:gs pos="100000">
                  <a:srgbClr val="e6e3a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655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656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0cd9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7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8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9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dddba5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0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1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2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2bf91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3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4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5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6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667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68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9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0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0cd9b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1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2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3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4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5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6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7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2bf91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8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9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bbb9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0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1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2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3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4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5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686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687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8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9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b0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0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1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2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3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4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5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e5e2a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6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7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8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9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0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1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2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3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dddba5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04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705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6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7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8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9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0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1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712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713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14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15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16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9257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39257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6e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c98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9" name="PlaceHolder 3"/>
          <p:cNvSpPr>
            <a:spLocks noGrp="1"/>
          </p:cNvSpPr>
          <p:nvPr>
            <p:ph type="dt" idx="7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PlaceHolder 4"/>
          <p:cNvSpPr>
            <a:spLocks noGrp="1"/>
          </p:cNvSpPr>
          <p:nvPr>
            <p:ph type="ftr" idx="7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1" name="PlaceHolder 5"/>
          <p:cNvSpPr>
            <a:spLocks noGrp="1"/>
          </p:cNvSpPr>
          <p:nvPr>
            <p:ph type="sldNum" idx="7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864AB-AB7E-4FB5-8CE5-7A97577ADF6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8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759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d7d1b9"/>
                </a:gs>
                <a:gs pos="100000">
                  <a:srgbClr val="e6e3a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760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761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0cd9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2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3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4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dddba5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5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6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7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2bf91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8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9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0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1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72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773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4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5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0cd9b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6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7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8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9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0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1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2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2bf91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3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4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bbb9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5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6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7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8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9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0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91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792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3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4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b0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5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6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7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8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9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0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e5e2a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1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2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3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4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5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6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7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8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dddba5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809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810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1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2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3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4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5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6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817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818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19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20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21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2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39257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23" name="PlaceHolder 2"/>
          <p:cNvSpPr>
            <a:spLocks noGrp="1"/>
          </p:cNvSpPr>
          <p:nvPr>
            <p:ph type="dt" idx="7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4" name="PlaceHolder 3"/>
          <p:cNvSpPr>
            <a:spLocks noGrp="1"/>
          </p:cNvSpPr>
          <p:nvPr>
            <p:ph type="ftr" idx="7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5" name="PlaceHolder 4"/>
          <p:cNvSpPr>
            <a:spLocks noGrp="1"/>
          </p:cNvSpPr>
          <p:nvPr>
            <p:ph type="sldNum" idx="7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5746A-DBFC-4784-BBFC-A41558F727A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62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863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576f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864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1865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6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8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8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c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76f2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c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c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576f2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c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576f2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c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cccc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c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cccc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c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1869" name="PlaceHolder 3"/>
          <p:cNvSpPr>
            <a:spLocks noGrp="1"/>
          </p:cNvSpPr>
          <p:nvPr>
            <p:ph type="dt" idx="79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0" name="PlaceHolder 4"/>
          <p:cNvSpPr>
            <a:spLocks noGrp="1"/>
          </p:cNvSpPr>
          <p:nvPr>
            <p:ph type="ftr" idx="80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PlaceHolder 5"/>
          <p:cNvSpPr>
            <a:spLocks noGrp="1"/>
          </p:cNvSpPr>
          <p:nvPr>
            <p:ph type="sldNum" idx="81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7CF26-85A1-471C-8ACF-B0EF448BBF4D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2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09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1910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576f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911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1912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99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3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4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915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1916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7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9" name="PlaceHolder 2"/>
          <p:cNvSpPr>
            <a:spLocks noGrp="1"/>
          </p:cNvSpPr>
          <p:nvPr>
            <p:ph type="dt" idx="82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0" name="PlaceHolder 3"/>
          <p:cNvSpPr>
            <a:spLocks noGrp="1"/>
          </p:cNvSpPr>
          <p:nvPr>
            <p:ph type="ftr" idx="83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1" name="PlaceHolder 4"/>
          <p:cNvSpPr>
            <a:spLocks noGrp="1"/>
          </p:cNvSpPr>
          <p:nvPr>
            <p:ph type="sldNum" idx="84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239F8-5CB5-4B7D-B833-215F33134AB4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9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cc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cc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cccc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0" name="PlaceHolder 3"/>
          <p:cNvSpPr>
            <a:spLocks noGrp="1"/>
          </p:cNvSpPr>
          <p:nvPr>
            <p:ph type="dt" idx="8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1" name="PlaceHolder 4"/>
          <p:cNvSpPr>
            <a:spLocks noGrp="1"/>
          </p:cNvSpPr>
          <p:nvPr>
            <p:ph type="ftr" idx="8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PlaceHolder 5"/>
          <p:cNvSpPr>
            <a:spLocks noGrp="1"/>
          </p:cNvSpPr>
          <p:nvPr>
            <p:ph type="sldNum" idx="8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B6AD9-079E-4725-B59D-CC93217A110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3"/>
    <p:sldLayoutId id="2147484014" r:id="rId4"/>
    <p:sldLayoutId id="2147484015" r:id="rId5"/>
    <p:sldLayoutId id="2147484016" r:id="rId6"/>
    <p:sldLayoutId id="2147484017" r:id="rId7"/>
    <p:sldLayoutId id="2147484018" r:id="rId8"/>
    <p:sldLayoutId id="2147484019" r:id="rId9"/>
    <p:sldLayoutId id="2147484020" r:id="rId10"/>
    <p:sldLayoutId id="2147484021" r:id="rId11"/>
    <p:sldLayoutId id="2147484022" r:id="rId12"/>
    <p:sldLayoutId id="2147484023" r:id="rId13"/>
    <p:sldLayoutId id="2147484024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2101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cc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cc99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33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C0022-1741-4C35-AF84-69B474E6502F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0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1" name="PlaceHolder 2"/>
          <p:cNvSpPr>
            <a:spLocks noGrp="1"/>
          </p:cNvSpPr>
          <p:nvPr>
            <p:ph type="ftr" idx="8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2" name="PlaceHolder 3"/>
          <p:cNvSpPr>
            <a:spLocks noGrp="1"/>
          </p:cNvSpPr>
          <p:nvPr>
            <p:ph type="sldNum" idx="8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36EBE-5711-4623-A8DD-0805B3B6B4F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3" name="PlaceHolder 4"/>
          <p:cNvSpPr>
            <a:spLocks noGrp="1"/>
          </p:cNvSpPr>
          <p:nvPr>
            <p:ph type="dt" idx="9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3"/>
    <p:sldLayoutId id="2147484027" r:id="rId4"/>
    <p:sldLayoutId id="2147484028" r:id="rId5"/>
    <p:sldLayoutId id="2147484029" r:id="rId6"/>
    <p:sldLayoutId id="2147484030" r:id="rId7"/>
    <p:sldLayoutId id="2147484031" r:id="rId8"/>
    <p:sldLayoutId id="2147484032" r:id="rId9"/>
    <p:sldLayoutId id="2147484033" r:id="rId10"/>
    <p:sldLayoutId id="2147484034" r:id="rId11"/>
    <p:sldLayoutId id="2147484035" r:id="rId12"/>
    <p:sldLayoutId id="2147484036" r:id="rId13"/>
    <p:sldLayoutId id="2147484037" r:id="rId14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1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2" name="PlaceHolder 3"/>
          <p:cNvSpPr>
            <a:spLocks noGrp="1"/>
          </p:cNvSpPr>
          <p:nvPr>
            <p:ph type="ftr" idx="9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PlaceHolder 4"/>
          <p:cNvSpPr>
            <a:spLocks noGrp="1"/>
          </p:cNvSpPr>
          <p:nvPr>
            <p:ph type="sldNum" idx="9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FC7D2-3A0A-4BA1-94E7-8939F2B59BD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4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5" name="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46" name="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2047" name="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8" name="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9" name="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0" name="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1" name="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2" name="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3" name="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4" name="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5" name="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6" name="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7" name="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8" name="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9" name="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60" name="PlaceHolder 5"/>
          <p:cNvSpPr>
            <a:spLocks noGrp="1"/>
          </p:cNvSpPr>
          <p:nvPr>
            <p:ph type="dt" idx="9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7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8" name="PlaceHolder 2"/>
          <p:cNvSpPr>
            <a:spLocks noGrp="1"/>
          </p:cNvSpPr>
          <p:nvPr>
            <p:ph type="dt" idx="9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9" name="PlaceHolder 3"/>
          <p:cNvSpPr>
            <a:spLocks noGrp="1"/>
          </p:cNvSpPr>
          <p:nvPr>
            <p:ph type="ftr" idx="9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0" name="PlaceHolder 4"/>
          <p:cNvSpPr>
            <a:spLocks noGrp="1"/>
          </p:cNvSpPr>
          <p:nvPr>
            <p:ph type="sldNum" idx="9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5822F-EDB0-4596-8291-BE596B26B36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1" name="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02" name="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2103" name="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4" name="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5" name="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6" name="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7" name="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8" name="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9" name="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0" name="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1" name="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2" name="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3" name="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4" name="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5" name="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16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2"/>
    <p:sldLayoutId id="2147484053" r:id="rId3"/>
    <p:sldLayoutId id="2147484054" r:id="rId4"/>
    <p:sldLayoutId id="2147484055" r:id="rId5"/>
    <p:sldLayoutId id="2147484056" r:id="rId6"/>
    <p:sldLayoutId id="2147484057" r:id="rId7"/>
    <p:sldLayoutId id="2147484058" r:id="rId8"/>
    <p:sldLayoutId id="2147484059" r:id="rId9"/>
    <p:sldLayoutId id="2147484060" r:id="rId10"/>
    <p:sldLayoutId id="2147484061" r:id="rId11"/>
    <p:sldLayoutId id="2147484062" r:id="rId12"/>
    <p:sldLayoutId id="2147484063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2101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ftr" idx="11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41A0E-7994-455E-9122-A36551F9419A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6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277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ff99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07c00"/>
                </a:gs>
                <a:gs pos="100000">
                  <a:srgbClr val="ff99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ea41e"/>
                </a:gs>
                <a:gs pos="100000">
                  <a:srgbClr val="ff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fea41e"/>
                </a:gs>
                <a:gs pos="100000">
                  <a:srgbClr val="ff99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07c00"/>
                </a:gs>
                <a:gs pos="100000">
                  <a:srgbClr val="ff99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ea41e"/>
                </a:gs>
                <a:gs pos="100000">
                  <a:srgbClr val="ff99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5" name="PlaceHolder 1"/>
          <p:cNvSpPr>
            <a:spLocks noGrp="1"/>
          </p:cNvSpPr>
          <p:nvPr>
            <p:ph type="dt" idx="13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ftr" idx="14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 type="sldNum" idx="15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E6EC7-F38B-43CA-8B56-859AD77CDE6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8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b28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6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327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ff99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07c00"/>
                </a:gs>
                <a:gs pos="100000">
                  <a:srgbClr val="ff99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07c00"/>
                </a:gs>
                <a:gs pos="100000">
                  <a:srgbClr val="ff99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ea41e"/>
                </a:gs>
                <a:gs pos="100000">
                  <a:srgbClr val="ff99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ea41e"/>
                </a:gs>
                <a:gs pos="100000">
                  <a:srgbClr val="ff99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6600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dt" idx="16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 type="ftr" idx="17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 type="sldNum" idx="18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EBD6A-F7EE-442B-A1D2-CE6CABEE1DF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00"/>
            </a:gs>
            <a:gs pos="50000">
              <a:srgbClr val="800000"/>
            </a:gs>
            <a:gs pos="100000">
              <a:srgbClr val="66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3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374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12d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12d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12d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12d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12d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12d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12d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12d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12d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12d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12d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2d2d"/>
                </a:gs>
                <a:gs pos="100000">
                  <a:srgbClr val="66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12d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12d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12d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12d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12d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12d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12d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12d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12d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12d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12d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12d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12d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12d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2d2d"/>
                </a:gs>
                <a:gs pos="100000">
                  <a:srgbClr val="66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12d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12d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12d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12d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0000"/>
                </a:gs>
                <a:gs pos="100000">
                  <a:srgbClr val="812d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12d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12d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be796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e5b32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dt" idx="19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ftr" idx="20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 type="sldNum" idx="21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315AA-51A8-4C7C-9831-E6322679F601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00"/>
            </a:gs>
            <a:gs pos="50000">
              <a:srgbClr val="800000"/>
            </a:gs>
            <a:gs pos="100000">
              <a:srgbClr val="66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9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450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12d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12d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12d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12d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12d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12d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12d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12d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12d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12d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12d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2d2d"/>
                </a:gs>
                <a:gs pos="100000">
                  <a:srgbClr val="66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12d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12d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12d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12d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12d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12d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12d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12d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12d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12d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12d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12d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12d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12d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2d2d"/>
                </a:gs>
                <a:gs pos="100000">
                  <a:srgbClr val="66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12d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12d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12d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12d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0000"/>
                </a:gs>
                <a:gs pos="100000">
                  <a:srgbClr val="812d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12d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12d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84" name="PlaceHolder 1"/>
          <p:cNvSpPr>
            <a:spLocks noGrp="1"/>
          </p:cNvSpPr>
          <p:nvPr>
            <p:ph type="dt" idx="22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ftr" idx="23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 type="sldNum" idx="24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B6D3E-DD2D-4167-A69A-7A990B89EE05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4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25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50000">
                  <a:srgbClr val="008000"/>
                </a:gs>
                <a:gs pos="100000">
                  <a:srgbClr val="00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50000">
                  <a:srgbClr val="003300"/>
                </a:gs>
                <a:gs pos="100000">
                  <a:srgbClr val="008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50000">
                  <a:srgbClr val="008000"/>
                </a:gs>
                <a:gs pos="100000">
                  <a:srgbClr val="00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50000">
                  <a:srgbClr val="008000"/>
                </a:gs>
                <a:gs pos="100000">
                  <a:srgbClr val="00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008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008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008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c0c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0c0c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27c3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1ff8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01B95-7243-4357-9C7E-A33BDAE2CCC7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6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9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24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1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28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2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4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7d47d"/>
                </a:solidFill>
                <a:latin typeface="Arial"/>
              </a:rPr>
              <a:t>Фёдор Михайлович Достоевский</a:t>
            </a:r>
            <a:endParaRPr b="0" lang="en-US" sz="32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154" name="" descr=""/>
          <p:cNvPicPr/>
          <p:nvPr/>
        </p:nvPicPr>
        <p:blipFill>
          <a:blip r:embed="rId1"/>
          <a:stretch/>
        </p:blipFill>
        <p:spPr>
          <a:xfrm>
            <a:off x="1692360" y="1197000"/>
            <a:ext cx="4421160" cy="54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етербург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Дом на Малой Мещанской, в котором располагалась редакция журналов "Время" и "Эпоха"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75" name="" descr=""/>
          <p:cNvPicPr/>
          <p:nvPr/>
        </p:nvPicPr>
        <p:blipFill>
          <a:blip r:embed="rId2"/>
          <a:stretch/>
        </p:blipFill>
        <p:spPr>
          <a:xfrm>
            <a:off x="1332000" y="1808280"/>
            <a:ext cx="5976720" cy="47019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2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2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2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2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Аполлинария Суслов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2177" name="" descr=""/>
          <p:cNvPicPr/>
          <p:nvPr/>
        </p:nvPicPr>
        <p:blipFill>
          <a:blip r:embed="rId1"/>
          <a:stretch/>
        </p:blipFill>
        <p:spPr>
          <a:xfrm>
            <a:off x="2627280" y="1268280"/>
            <a:ext cx="380700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8" name="PlaceHolder 1"/>
          <p:cNvSpPr>
            <a:spLocks noGrp="1"/>
          </p:cNvSpPr>
          <p:nvPr>
            <p:ph/>
          </p:nvPr>
        </p:nvSpPr>
        <p:spPr>
          <a:xfrm>
            <a:off x="684000" y="14130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15 февраля 1867 года Анна Григорьевна Сниткина становится женой Достоевского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2179" name="" descr=""/>
          <p:cNvPicPr/>
          <p:nvPr/>
        </p:nvPicPr>
        <p:blipFill>
          <a:blip r:embed="rId1"/>
          <a:stretch/>
        </p:blipFill>
        <p:spPr>
          <a:xfrm>
            <a:off x="5018040" y="1413000"/>
            <a:ext cx="3494160" cy="468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d9d69"/>
                </a:solidFill>
                <a:latin typeface="Garamond"/>
              </a:rPr>
              <a:t>«Преступление и наказание»</a:t>
            </a:r>
            <a:endParaRPr b="1" lang="en-US" sz="4400" spc="-1" strike="noStrike">
              <a:solidFill>
                <a:srgbClr val="bd9d69"/>
              </a:solidFill>
              <a:latin typeface="Garamond"/>
            </a:endParaRPr>
          </a:p>
        </p:txBody>
      </p:sp>
      <p:sp>
        <p:nvSpPr>
          <p:cNvPr id="2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Анна Григорьевна вспоминала: "Фёдор Михайлович в первые недели нашей брачной жизни, гуляя со мной, завёл меня во двор одного дома и показал камень, под который его Раскольников спрятал украденные у старухи вещи". 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182" name="" descr=""/>
          <p:cNvPicPr/>
          <p:nvPr/>
        </p:nvPicPr>
        <p:blipFill>
          <a:blip r:embed="rId2"/>
          <a:stretch/>
        </p:blipFill>
        <p:spPr>
          <a:xfrm>
            <a:off x="5145120" y="1600200"/>
            <a:ext cx="3044880" cy="449568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3" name="PlaceHolder 1"/>
          <p:cNvSpPr>
            <a:spLocks noGrp="1"/>
          </p:cNvSpPr>
          <p:nvPr>
            <p:ph type="title"/>
          </p:nvPr>
        </p:nvSpPr>
        <p:spPr>
          <a:xfrm>
            <a:off x="684000" y="333000"/>
            <a:ext cx="687060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«Идиот»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84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3776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«Главная мысль романа - изобразить положительно прекрасного человека. Труднее этого нет ничего на свете, а особенно теперь. Все писатели, не только наши, но даже все европейские, кто только не брался за изображение положительно прекрасного, - всегда пасовал. Потому что это задача безмерная. Прекрасное есть идеал, а идеал - ни наш, ни цивилизованной Европы - еще далеко не выработался», - писал Федор Михайлович Достоевский своей племяннице Софье Александровне Ивановой о романе «Идиот»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185" name="" descr=""/>
          <p:cNvPicPr/>
          <p:nvPr/>
        </p:nvPicPr>
        <p:blipFill>
          <a:blip r:embed="rId1"/>
          <a:stretch/>
        </p:blipFill>
        <p:spPr>
          <a:xfrm>
            <a:off x="5364000" y="1844640"/>
            <a:ext cx="2881440" cy="45910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6" name="PlaceHolder 1"/>
          <p:cNvSpPr>
            <a:spLocks noGrp="1"/>
          </p:cNvSpPr>
          <p:nvPr>
            <p:ph/>
          </p:nvPr>
        </p:nvSpPr>
        <p:spPr>
          <a:xfrm>
            <a:off x="468360" y="11970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тром 28  января 1881 года Достоевский сказал жене: "...Я знаю, я должен сегодня умереть!". В 20 часов 38 минут того же дня Фёдор Михайлович Достоевский скончалс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7" name="" descr=""/>
          <p:cNvPicPr/>
          <p:nvPr/>
        </p:nvPicPr>
        <p:blipFill>
          <a:blip r:embed="rId1"/>
          <a:stretch/>
        </p:blipFill>
        <p:spPr>
          <a:xfrm>
            <a:off x="4707000" y="1197000"/>
            <a:ext cx="3909960" cy="45259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2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2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2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99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8" name=""/>
          <p:cNvSpPr txBox="1"/>
          <p:nvPr/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9" name=""/>
          <p:cNvSpPr txBox="1"/>
          <p:nvPr/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9d9ff"/>
                </a:solidFill>
                <a:latin typeface="Arial Black"/>
              </a:rPr>
              <a:t>Похороны Достоевского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pic>
        <p:nvPicPr>
          <p:cNvPr id="2191" name="" descr=""/>
          <p:cNvPicPr/>
          <p:nvPr/>
        </p:nvPicPr>
        <p:blipFill>
          <a:blip r:embed="rId1"/>
          <a:stretch/>
        </p:blipFill>
        <p:spPr>
          <a:xfrm>
            <a:off x="1258920" y="1844640"/>
            <a:ext cx="6531120" cy="419112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2" name="PlaceHolder 1"/>
          <p:cNvSpPr>
            <a:spLocks noGrp="1"/>
          </p:cNvSpPr>
          <p:nvPr>
            <p:ph/>
          </p:nvPr>
        </p:nvSpPr>
        <p:spPr>
          <a:xfrm>
            <a:off x="539640" y="90792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«Тот, кто желает увидеть живого Бога, пусть ищет его не на пустом небосводе собственного разума, но в человеческой любви…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Ф.М.Достоевски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6600"/>
                </a:solidFill>
                <a:latin typeface="Arial Black"/>
              </a:rPr>
              <a:t>Правый флигель Мариинской больницы для бедных, где родился Ф.М.Достоевский</a:t>
            </a:r>
            <a:r>
              <a:rPr b="1" lang="en-US" sz="4400" spc="-1" strike="noStrike">
                <a:solidFill>
                  <a:srgbClr val="cc6600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pic>
        <p:nvPicPr>
          <p:cNvPr id="2156" name="" descr=""/>
          <p:cNvPicPr/>
          <p:nvPr/>
        </p:nvPicPr>
        <p:blipFill>
          <a:blip r:embed="rId1"/>
          <a:stretch/>
        </p:blipFill>
        <p:spPr>
          <a:xfrm>
            <a:off x="1476360" y="1550880"/>
            <a:ext cx="6480360" cy="50976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00"/>
            </a:gs>
            <a:gs pos="50000">
              <a:srgbClr val="800000"/>
            </a:gs>
            <a:gs pos="100000">
              <a:srgbClr val="66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Родители Достоевского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158" name="" descr=""/>
          <p:cNvPicPr/>
          <p:nvPr/>
        </p:nvPicPr>
        <p:blipFill>
          <a:blip r:embed="rId1"/>
          <a:stretch/>
        </p:blipFill>
        <p:spPr>
          <a:xfrm>
            <a:off x="804960" y="1646280"/>
            <a:ext cx="3343320" cy="4438440"/>
          </a:xfrm>
          <a:prstGeom prst="rect">
            <a:avLst/>
          </a:prstGeom>
          <a:ln w="0">
            <a:noFill/>
          </a:ln>
        </p:spPr>
      </p:pic>
      <p:pic>
        <p:nvPicPr>
          <p:cNvPr id="2159" name="" descr=""/>
          <p:cNvPicPr/>
          <p:nvPr/>
        </p:nvPicPr>
        <p:blipFill>
          <a:blip r:embed="rId2"/>
          <a:stretch/>
        </p:blipFill>
        <p:spPr>
          <a:xfrm>
            <a:off x="5000760" y="1660680"/>
            <a:ext cx="3333600" cy="441000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0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"...это был сериозный, задумчивый мальчик, белокурый, с бледным лицом. Его мало занимали игры: во время рекреаций он не оставлял почти книг, проводя остальную часть свободного времени в разговорах со старшими воспитанниками пансиона..."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61" name="" descr=""/>
          <p:cNvPicPr/>
          <p:nvPr/>
        </p:nvPicPr>
        <p:blipFill>
          <a:blip r:embed="rId1"/>
          <a:stretch/>
        </p:blipFill>
        <p:spPr>
          <a:xfrm>
            <a:off x="5210280" y="404640"/>
            <a:ext cx="3257280" cy="62643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«Бедные люди»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63" name="" descr=""/>
          <p:cNvPicPr/>
          <p:nvPr/>
        </p:nvPicPr>
        <p:blipFill>
          <a:blip r:embed="rId1"/>
          <a:stretch/>
        </p:blipFill>
        <p:spPr>
          <a:xfrm>
            <a:off x="3419640" y="1484280"/>
            <a:ext cx="2965320" cy="4570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2101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4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Алексеевский равелин Петропавловской крепости, в котором содержался Достоевский.</a:t>
            </a:r>
            <a:r>
              <a:rPr b="0" lang="en-US" sz="3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165" name="" descr=""/>
          <p:cNvPicPr/>
          <p:nvPr/>
        </p:nvPicPr>
        <p:blipFill>
          <a:blip r:embed="rId1"/>
          <a:stretch/>
        </p:blipFill>
        <p:spPr>
          <a:xfrm>
            <a:off x="1042920" y="1533600"/>
            <a:ext cx="7416720" cy="444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6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В начале 1857 года Достоевский женится. Его женой становится вдова отставного чиновника Мария Дмитриевна Исаева.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167" name="" descr=""/>
          <p:cNvPicPr/>
          <p:nvPr/>
        </p:nvPicPr>
        <p:blipFill>
          <a:blip r:embed="rId1"/>
          <a:stretch/>
        </p:blipFill>
        <p:spPr>
          <a:xfrm>
            <a:off x="4929120" y="1197000"/>
            <a:ext cx="3530520" cy="525636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666633"/>
                </a:solidFill>
                <a:latin typeface="Arial"/>
              </a:rPr>
              <a:t>«Время»</a:t>
            </a: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2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 возвращении из Сибири Достоевский фактически начинает руководить политическим журналом «Время»,который был основан братом Михаилом в 1861 году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0" name="" descr=""/>
          <p:cNvPicPr/>
          <p:nvPr/>
        </p:nvPicPr>
        <p:blipFill>
          <a:blip r:embed="rId1"/>
          <a:stretch/>
        </p:blipFill>
        <p:spPr>
          <a:xfrm>
            <a:off x="5796000" y="1628640"/>
            <a:ext cx="2639880" cy="441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imes New Roman"/>
              </a:rPr>
              <a:t>«Эпоха»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2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cc"/>
                </a:solidFill>
                <a:latin typeface="Arial"/>
              </a:rPr>
              <a:t>в 1864 году Михаилу Михайловичу Достоевскому удалось получить лицензию на выпуск нового журнала, который стал называться "Эпоха", одним из сотрудников которого был опять Фёдор Михайлович </a:t>
            </a:r>
            <a:endParaRPr b="0" lang="en-US" sz="2400" spc="-1" strike="noStrike">
              <a:solidFill>
                <a:srgbClr val="cccccc"/>
              </a:solidFill>
              <a:latin typeface="Arial"/>
            </a:endParaRPr>
          </a:p>
        </p:txBody>
      </p:sp>
      <p:pic>
        <p:nvPicPr>
          <p:cNvPr id="2173" name="" descr=""/>
          <p:cNvPicPr/>
          <p:nvPr/>
        </p:nvPicPr>
        <p:blipFill>
          <a:blip r:embed="rId1"/>
          <a:stretch/>
        </p:blipFill>
        <p:spPr>
          <a:xfrm>
            <a:off x="5676840" y="1628640"/>
            <a:ext cx="248148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4T09:08:02Z</dcterms:created>
  <dc:creator>FluffyCat</dc:creator>
  <dc:description/>
  <dc:language>en-US</dc:language>
  <cp:lastModifiedBy>Пользователь</cp:lastModifiedBy>
  <dcterms:modified xsi:type="dcterms:W3CDTF">2010-03-23T22:34:09Z</dcterms:modified>
  <cp:revision>7</cp:revision>
  <dc:subject/>
  <dc:title>Федор Михайлович Достоевский</dc:title>
</cp:coreProperties>
</file>