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3F4-E0F7-465C-A8C2-436470F2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B93-A1AD-4486-8AE7-1AEFD9D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918-B28F-42D0-B5DA-9FB5B397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8B5-E481-47D8-AA72-5F327E7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125-0AA4-4303-8994-5C14A7FA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C69-4804-481F-9937-9ED963D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496-2FD9-4411-B242-B6A9E20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2D9-D7A1-40C9-A1AA-F200AC5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844-6785-4DB2-8D99-1E2937CC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D5B-B8C2-4E2C-A632-FAEF5F6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D9D-8209-447C-AD21-9C85A53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876-E719-4330-8E81-82DCCD8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73F3-549E-4FFF-91FE-CB9E212C7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ventzima.ru/attachments/Image/1-we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i066.radikal.ru/1002/8a/d8a61bcd6b85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adyaspb.ru/files/images/maslenica/maslennitsa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s13.ucoz.ru/_nw/4/2391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rt.ru/news/uploads/posts/2009-01/1232362303_blin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ppt.3dn.ru/kartinki/solnyshki2/s4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adyaspb.ru/files/images/maslenica/maslennitsa_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ahooeu.ru/uploads/posts/10/02/01/10/yahooeu_ru_2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.interfax.by/files/2010-02/20100209-151737-498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jplus.ru/img4/s/h/shine_sun/vesna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tdelturizma.ru/wp-content/uploads/maslen-2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nmoiseev.ru/gork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118360" y="22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1052640"/>
            <a:ext cx="7964280" cy="77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ИРОКАЯ МАСЛЕНИЦ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i-main-pic" descr="Картинка 2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060640"/>
            <a:ext cx="324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ятница – «тёщины вечёр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молодожёны приезжали в гости  к родителям жены, тёщи устраивали для зятьёв настоящих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ЯТНИЦА настала - "ВЕЧЕРА у ТЁЩИ"..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ёща приглашает зятя на блины!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ть с икрой и сёмгой, можно чуть попроще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 сметаной, мёдом, с маслом ели 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i-main-pic" descr="Картинка 159 из 6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989000"/>
            <a:ext cx="4427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уббота – «золовкины посидел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ходили в гости к родственникам му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изится СУББОТА - "ЗОЛОВКИ УГОЩЕНИЕ"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я родня встречается, водит хоровод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аздник продолжается, общее весель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авно провожает Зимушку народ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-main-pic" descr="Картинка 4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70028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кресенье – «проводы», «прощеный д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просили прощения у родных, соломенную куклу торжественно сжигали, прощаясь с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КРЕСЕНЬЕ светлое быстро наступае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легчают душу все в "ПРОЩЁНЫЙ ДЕНЬ"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учело соломенное - Зимушку - сжигают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рядив в тулупчик, валенки, ремень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-main-pic" descr="Картинка 24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413000"/>
            <a:ext cx="35751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лины – основное угощение на Маслен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-main-pic" descr="Картинка 19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773360"/>
            <a:ext cx="5994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-main-pic" descr="Картинка 11 из 673"/>
          <p:cNvPicPr/>
          <p:nvPr/>
        </p:nvPicPr>
        <p:blipFill>
          <a:blip r:embed="rId1"/>
          <a:stretch/>
        </p:blipFill>
        <p:spPr>
          <a:xfrm>
            <a:off x="1952640" y="1957320"/>
            <a:ext cx="52387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835280" y="5877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чков.В. Катание с го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-main-pic" descr="Картинка 58 из 673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547640" y="6165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же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-main-pic" descr="Картинка 1 из 673"/>
          <p:cNvPicPr/>
          <p:nvPr/>
        </p:nvPicPr>
        <p:blipFill>
          <a:blip r:embed="rId1"/>
          <a:stretch/>
        </p:blipFill>
        <p:spPr>
          <a:xfrm>
            <a:off x="2050920" y="1268280"/>
            <a:ext cx="5230800" cy="4640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92360" y="59500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я потех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-main-pic" descr="Картинка 46 из 673"/>
          <p:cNvPicPr/>
          <p:nvPr/>
        </p:nvPicPr>
        <p:blipFill>
          <a:blip r:embed="rId1"/>
          <a:stretch/>
        </p:blipFill>
        <p:spPr>
          <a:xfrm>
            <a:off x="1595520" y="1628640"/>
            <a:ext cx="5952960" cy="4467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908000" y="6165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ждение на ходул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-main-pic" descr="Картинка 101 из 673"/>
          <p:cNvPicPr/>
          <p:nvPr/>
        </p:nvPicPr>
        <p:blipFill>
          <a:blip r:embed="rId1"/>
          <a:stretch/>
        </p:blipFill>
        <p:spPr>
          <a:xfrm>
            <a:off x="1835280" y="1125360"/>
            <a:ext cx="5688000" cy="261648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87 из 673"/>
          <p:cNvPicPr/>
          <p:nvPr/>
        </p:nvPicPr>
        <p:blipFill>
          <a:blip r:embed="rId2"/>
          <a:stretch/>
        </p:blipFill>
        <p:spPr>
          <a:xfrm>
            <a:off x="4500720" y="3860640"/>
            <a:ext cx="4165560" cy="2770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900000" y="393372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 Кустодиев. Маслениц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55640" y="51577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ние на лошадя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-main-pic" descr="Картинка 149 из 796"/>
          <p:cNvPicPr/>
          <p:nvPr/>
        </p:nvPicPr>
        <p:blipFill>
          <a:blip r:embed="rId1"/>
          <a:stretch/>
        </p:blipFill>
        <p:spPr>
          <a:xfrm>
            <a:off x="1763640" y="1557360"/>
            <a:ext cx="5230800" cy="3713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050920" y="5445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ганчи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асленица – один из русских календарных празд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еная неделя – неделя перед постом, когда разрешается молочная пища и пища на ма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асленой неделе «умасливают»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3 из 83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216 из 673"/>
          <p:cNvPicPr/>
          <p:nvPr/>
        </p:nvPicPr>
        <p:blipFill>
          <a:blip r:embed="rId1"/>
          <a:stretch/>
        </p:blipFill>
        <p:spPr>
          <a:xfrm>
            <a:off x="1619280" y="836640"/>
            <a:ext cx="64771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этот день празднуются проводы Зимы и встреча Вес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гая гостья, Маслени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ня белая, румян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а длинная, трёхарши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а алая, двуполти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пти частые, головас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зжай, Масленица, в гости на широкий дв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мя Масленицы носит и чучело из соломы, которое обряжают в женскую одежду, с блином или сковородко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-main-pic" descr="Картинка 3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33720"/>
            <a:ext cx="375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аждый день масленичной (сырной) недели носит своё наз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недельник – «встреч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ы Масленицу встре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орушке побы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ном гору выстил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ом гору наби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м гору поли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еницу вели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тро... ПОНЕДЕЛЬНИК... Наступает "ВСТРЕЧА"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ркие салазки с горочек скользят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ый день веселье. Наступает вечер..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катавшись вволю, все блины ед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7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4680" y="1600200"/>
            <a:ext cx="342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торник – «заигры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начинались развл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ЗАИГРЫШ" беспечный - ВТОРНИКА отрада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е гулять, резвиться вышли, как один!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гры и потехи, а за них - наград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добный и румяный масленичный блин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223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125360"/>
            <a:ext cx="4066920" cy="271656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205 из 6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976560"/>
            <a:ext cx="3840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реда – «лаком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й семье накрывали столы со вкусной едой, пили чай с блинами прямо под открытым н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ут СРЕДА подходит - "ЛАКОМКОЙ" зовётс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ждая хозяюшка колдует у печ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ебяки, сырники - всё им удаётс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ироги и блинчики - всё на стол меч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-main-pic" descr="Картинка 489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133720"/>
            <a:ext cx="41752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етверг – «разгуля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е развлечения в этот день – катания на санях «по солнышку», кулачные бои, взятие снежного горо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 в ЧЕТВЕРГ - раздольный "РАЗГУЛЯЙ" приходи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дяные крепости, снежные бои..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ойки с бубенцами на поля выходя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рни ищут девушек - суженых сво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Картинка 235 из 3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773360"/>
            <a:ext cx="4581360" cy="300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4932360" y="4941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Суриков. Взятие снежного город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26:12Z</dcterms:created>
  <dc:creator>Я</dc:creator>
  <dc:description/>
  <dc:language>en-US</dc:language>
  <cp:lastModifiedBy>Sony</cp:lastModifiedBy>
  <dcterms:modified xsi:type="dcterms:W3CDTF">2018-10-06T21:23:14Z</dcterms:modified>
  <cp:revision>2</cp:revision>
  <dc:subject/>
  <dc:title>Слайд 1</dc:title>
</cp:coreProperties>
</file>