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C8F-F7EC-4ED7-AC2B-3AD34E03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64E-EE58-452E-9106-193FEF6B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27F-94C0-4CBF-9117-39C5161F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3F2-26A1-4A9D-94C5-A88F20C3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F24-39C3-44AD-BFA0-813501AF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C8D-E21C-45E6-BB63-A80F55B5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4FF-DA64-4F03-A666-EC72FA78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E1B-03DF-4AA3-9E80-B52240CF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42E-3EF8-45B6-BFFA-8E5C6091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29E-6704-45B9-A863-4BD3BB5F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19D-3B66-43C8-BD1D-02C11741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BC4-2317-4BA7-8ECF-FEBDF067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A262-1D8C-47E7-9364-511F8F0394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ventzima.ru/attachments/Image/1-web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i066.radikal.ru/1002/8a/d8a61bcd6b85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adyaspb.ru/files/images/maslenica/maslennitsa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ews13.ucoz.ru/_nw/4/23918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yrt.ru/news/uploads/posts/2009-01/1232362303_blin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ppt.3dn.ru/kartinki/solnyshki2/s4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adyaspb.ru/files/images/maslenica/maslennitsa_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yahooeu.ru/uploads/posts/10/02/01/10/yahooeu_ru_2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.interfax.by/files/2010-02/20100209-151737-498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ljplus.ru/img4/s/h/shine_sun/vesna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otdelturizma.ru/wp-content/uploads/maslen-2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nmoiseev.ru/gorka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8118360" y="220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468360" y="1052640"/>
            <a:ext cx="7964280" cy="77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ШИРОКАЯ МАСЛЕНИЦ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4" name="i-main-pic" descr="Картинка 2 из 6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2060640"/>
            <a:ext cx="324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ятница – «тёщины вечёр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т день молодожёны приезжали в гости  к родителям жены, тёщи устраивали для зятьёв настоящих п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ЯТНИЦА настала - "ВЕЧЕРА у ТЁЩИ"..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ёща приглашает зятя на блины!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сть с икрой и сёмгой, можно чуть попроще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 сметаной, мёдом, с маслом ели 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5"/>
          <p:cNvGraphicFramePr/>
          <p:nvPr/>
        </p:nvGraphicFramePr>
        <p:xfrm>
          <a:off x="464832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i-main-pic" descr="Картинка 159 из 6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1989000"/>
            <a:ext cx="4427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уббота – «золовкины посидел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т день ходили в гости к родственникам му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лизится СУББОТА - "ЗОЛОВКИ УГОЩЕНИЕ"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ся родня встречается, водит хоровод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аздник продолжается, общее веселье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лавно провожает Зимушку народ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-main-pic" descr="Картинка 4 из 6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700280"/>
            <a:ext cx="37321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оскресенье – «проводы», «прощеный ден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т день просили прощения у родных, соломенную куклу торжественно сжигали, прощаясь с зи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СКРЕСЕНЬЕ светлое быстро наступает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легчают душу все в "ПРОЩЁНЫЙ ДЕНЬ"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учело соломенное - Зимушку - сжигают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рядив в тулупчик, валенки, ремень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-main-pic" descr="Картинка 24 из 6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1413000"/>
            <a:ext cx="357516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Блины – основное угощение на Маслениц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-main-pic" descr="Картинка 19 из 6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1773360"/>
            <a:ext cx="59943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сленичные заб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-main-pic" descr="Картинка 11 из 673"/>
          <p:cNvPicPr/>
          <p:nvPr/>
        </p:nvPicPr>
        <p:blipFill>
          <a:blip r:embed="rId1"/>
          <a:stretch/>
        </p:blipFill>
        <p:spPr>
          <a:xfrm>
            <a:off x="1952640" y="1957320"/>
            <a:ext cx="5238720" cy="3810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1835280" y="5877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ычков.В. Катание с гор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сленичные заб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-main-pic" descr="Картинка 58 из 673"/>
          <p:cNvPicPr/>
          <p:nvPr/>
        </p:nvPicPr>
        <p:blipFill>
          <a:blip r:embed="rId1"/>
          <a:stretch/>
        </p:blipFill>
        <p:spPr>
          <a:xfrm>
            <a:off x="1176480" y="1600200"/>
            <a:ext cx="678960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547640" y="61657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яжен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сленичные заб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-main-pic" descr="Картинка 1 из 673"/>
          <p:cNvPicPr/>
          <p:nvPr/>
        </p:nvPicPr>
        <p:blipFill>
          <a:blip r:embed="rId1"/>
          <a:stretch/>
        </p:blipFill>
        <p:spPr>
          <a:xfrm>
            <a:off x="2050920" y="1268280"/>
            <a:ext cx="5230800" cy="4640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1692360" y="595008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вежья потех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сленичные заб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-main-pic" descr="Картинка 46 из 673"/>
          <p:cNvPicPr/>
          <p:nvPr/>
        </p:nvPicPr>
        <p:blipFill>
          <a:blip r:embed="rId1"/>
          <a:stretch/>
        </p:blipFill>
        <p:spPr>
          <a:xfrm>
            <a:off x="1595520" y="1628640"/>
            <a:ext cx="5952960" cy="44672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1908000" y="616572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ждение на ходуля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сленичные заб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-main-pic" descr="Картинка 101 из 673"/>
          <p:cNvPicPr/>
          <p:nvPr/>
        </p:nvPicPr>
        <p:blipFill>
          <a:blip r:embed="rId1"/>
          <a:stretch/>
        </p:blipFill>
        <p:spPr>
          <a:xfrm>
            <a:off x="1835280" y="1125360"/>
            <a:ext cx="5688000" cy="2616480"/>
          </a:xfrm>
          <a:prstGeom prst="rect">
            <a:avLst/>
          </a:prstGeom>
          <a:ln w="0">
            <a:noFill/>
          </a:ln>
        </p:spPr>
      </p:pic>
      <p:pic>
        <p:nvPicPr>
          <p:cNvPr id="98" name="i-main-pic" descr="Картинка 87 из 673"/>
          <p:cNvPicPr/>
          <p:nvPr/>
        </p:nvPicPr>
        <p:blipFill>
          <a:blip r:embed="rId2"/>
          <a:stretch/>
        </p:blipFill>
        <p:spPr>
          <a:xfrm>
            <a:off x="4500720" y="3860640"/>
            <a:ext cx="4165560" cy="2770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2"/>
          <p:cNvSpPr/>
          <p:nvPr/>
        </p:nvSpPr>
        <p:spPr>
          <a:xfrm>
            <a:off x="900000" y="393372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 Кустодиев. Маслениц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755640" y="515772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ние на лошадя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сленичные заб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-main-pic" descr="Картинка 149 из 796"/>
          <p:cNvPicPr/>
          <p:nvPr/>
        </p:nvPicPr>
        <p:blipFill>
          <a:blip r:embed="rId1"/>
          <a:stretch/>
        </p:blipFill>
        <p:spPr>
          <a:xfrm>
            <a:off x="1763640" y="1557360"/>
            <a:ext cx="5230800" cy="3713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2050920" y="544500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лаганчик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асленица – один из русских календарных праздни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леная неделя – неделя перед постом, когда разрешается молочная пища и пища на мас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асленой неделе «умасливают» солныш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-main-pic" descr="Картинка 13 из 83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-main-pic" descr="Картинка 216 из 673"/>
          <p:cNvPicPr/>
          <p:nvPr/>
        </p:nvPicPr>
        <p:blipFill>
          <a:blip r:embed="rId1"/>
          <a:stretch/>
        </p:blipFill>
        <p:spPr>
          <a:xfrm>
            <a:off x="1619280" y="836640"/>
            <a:ext cx="647712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 этот день празднуются проводы Зимы и встреча Вес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рогая гостья, Маслени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ня белая, румяна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а длинная, трёхаршин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нта алая, двуполтин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пти частые, головаст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езжай, Масленица, в гости на широкий дво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мя Масленицы носит и чучело из соломы, которое обряжают в женскую одежду, с блином или сковородкой в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-main-pic" descr="Картинка 3 из 6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2133720"/>
            <a:ext cx="3755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Каждый день масленичной (сырной) недели носит своё наз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недельник – «встреч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мы Масленицу встреч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горушке побыв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ином гору выстил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ром гору набив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ом гору полив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еницу велич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тро... ПОНЕДЕЛЬНИК... Наступает "ВСТРЕЧА"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Яркие салазки с горочек скользят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ый день веселье. Наступает вечер..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катавшись вволю, все блины едя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-main-pic" descr="Картинка 2 из 7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4680" y="1600200"/>
            <a:ext cx="342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торник – «заигрыш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т день начинались развл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"ЗАИГРЫШ" беспечный - ВТОРНИКА отрада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се гулять, резвиться вышли, как один!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гры и потехи, а за них - награда: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добный и румяный масленичный блин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-main-pic" descr="Картинка 223 из 6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1125360"/>
            <a:ext cx="4066920" cy="2716560"/>
          </a:xfrm>
          <a:prstGeom prst="rect">
            <a:avLst/>
          </a:prstGeom>
          <a:ln w="0">
            <a:noFill/>
          </a:ln>
        </p:spPr>
      </p:pic>
      <p:pic>
        <p:nvPicPr>
          <p:cNvPr id="61" name="i-main-pic" descr="Картинка 205 из 6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3976560"/>
            <a:ext cx="3840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реда – «лаком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ждой семье накрывали столы со вкусной едой, пили чай с блинами прямо под открытым не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ут СРЕДА подходит - "ЛАКОМКОЙ" зовётся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ждая хозяюшка колдует у печи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улебяки, сырники - всё им удаётся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ироги и блинчики - всё на стол меч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-main-pic" descr="Картинка 489 из 6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133720"/>
            <a:ext cx="41752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етверг – «разгуля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е развлечения в этот день – катания на санях «по солнышку», кулачные бои, взятие снежного горо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 в ЧЕТВЕРГ - раздольный "РАЗГУЛЯЙ" приходит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едяные крепости, снежные бои..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ройки с бубенцами на поля выходят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арни ищут девушек - суженых сво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Картинка 235 из 3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773360"/>
            <a:ext cx="4581360" cy="3001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4932360" y="494172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Суриков. Взятие снежного городк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6:26:12Z</dcterms:created>
  <dc:creator>Я</dc:creator>
  <dc:description/>
  <dc:language>en-US</dc:language>
  <cp:lastModifiedBy>Sony</cp:lastModifiedBy>
  <dcterms:modified xsi:type="dcterms:W3CDTF">2018-10-06T21:23:14Z</dcterms:modified>
  <cp:revision>2</cp:revision>
  <dc:subject/>
  <dc:title>Слайд 1</dc:title>
</cp:coreProperties>
</file>