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B731-B47E-4DBB-AEBC-C922EC01BA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к следующему слайду нужно нажать на рак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23EE-3DCA-4B82-8EB4-59CE1F6FA2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я на тень – увидишь стрелочку. Проверь свою догад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571-93C6-4929-8C21-2F4935DE02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E71-841C-48B0-A3C9-A33A19D0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675-EC89-4840-9116-A49D743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1C6-2614-44B1-81D4-A32F4A76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2B3-47E3-4C94-BD4E-710AB3E8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213-131F-4A5D-BF9D-AA6E198B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571-1882-43D6-81D3-FE5F71C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8B6-B580-45B9-86B8-3FFBA15D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D52-F7B1-4E15-84BB-60C1DB3E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A63-B9E6-4F01-ABF4-A971BC0E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DA8-7B0A-4747-BD02-397A512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BDE-0E97-43D7-9817-60FD48A3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76B-8B16-4537-8382-67BB480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2DA2-36F7-434F-929D-234D061E6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22.png"/><Relationship Id="rId36" Type="http://schemas.openxmlformats.org/officeDocument/2006/relationships/image" Target="../media/image22.png"/><Relationship Id="rId37" Type="http://schemas.openxmlformats.org/officeDocument/2006/relationships/image" Target="../media/image20.png"/><Relationship Id="rId38" Type="http://schemas.openxmlformats.org/officeDocument/2006/relationships/image" Target="../media/image20.png"/><Relationship Id="rId39" Type="http://schemas.openxmlformats.org/officeDocument/2006/relationships/image" Target="../media/image20.png"/><Relationship Id="rId40" Type="http://schemas.openxmlformats.org/officeDocument/2006/relationships/image" Target="../media/image20.png"/><Relationship Id="rId41" Type="http://schemas.openxmlformats.org/officeDocument/2006/relationships/image" Target="../media/image15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«Космические игр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31284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6800" y="1212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ознавательных процессов внимания, мышл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раст: 5-7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вигац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ход на следующий слай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рат к содержа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Управляющая кнопка: далее 3"/>
          <p:cNvSpPr/>
          <p:nvPr/>
        </p:nvSpPr>
        <p:spPr>
          <a:xfrm>
            <a:off x="684360" y="458136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домой 4"/>
          <p:cNvSpPr/>
          <p:nvPr/>
        </p:nvSpPr>
        <p:spPr>
          <a:xfrm>
            <a:off x="695160" y="52308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74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5" descr=""/>
          <p:cNvPicPr/>
          <p:nvPr/>
        </p:nvPicPr>
        <p:blipFill>
          <a:blip r:embed="rId1"/>
          <a:stretch/>
        </p:blipFill>
        <p:spPr>
          <a:xfrm>
            <a:off x="395280" y="1252440"/>
            <a:ext cx="843588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какой ракете полетиш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20920" y="1987560"/>
            <a:ext cx="2050920" cy="416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471840" y="1986120"/>
            <a:ext cx="1531800" cy="416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4859280" y="1986120"/>
            <a:ext cx="2449440" cy="41670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в конец 5">
            <a:hlinkClick r:id="" action="ppaction://hlinkshowjump?jump=lastslide"/>
          </p:cNvPr>
          <p:cNvSpPr/>
          <p:nvPr/>
        </p:nvSpPr>
        <p:spPr>
          <a:xfrm>
            <a:off x="8101080" y="593892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17872" y="10800"/>
                </a:moveTo>
                <a:lnTo>
                  <a:pt x="7367" y="17806"/>
                </a:lnTo>
                <a:lnTo>
                  <a:pt x="7367" y="3794"/>
                </a:lnTo>
                <a:close/>
              </a:path>
              <a:path fill="darken" w="28746" h="21600">
                <a:moveTo>
                  <a:pt x="19717" y="3794"/>
                </a:moveTo>
                <a:lnTo>
                  <a:pt x="19717" y="17806"/>
                </a:lnTo>
                <a:lnTo>
                  <a:pt x="21379" y="17806"/>
                </a:lnTo>
                <a:lnTo>
                  <a:pt x="21379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600200"/>
          <a:ext cx="8147160" cy="341316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2" descr="Похожее изображение"/>
          <p:cNvPicPr/>
          <p:nvPr/>
        </p:nvPicPr>
        <p:blipFill>
          <a:blip r:embed="rId1"/>
          <a:stretch/>
        </p:blipFill>
        <p:spPr>
          <a:xfrm rot="1021200">
            <a:off x="1115640" y="1413000"/>
            <a:ext cx="1430280" cy="14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5229360"/>
          <a:ext cx="8209080" cy="1224000"/>
        </p:xfrm>
        <a:graphic>
          <a:graphicData uri="http://schemas.openxmlformats.org/drawingml/2006/table">
            <a:tbl>
              <a:tblPr/>
              <a:tblGrid>
                <a:gridCol w="2737080"/>
                <a:gridCol w="2735280"/>
                <a:gridCol w="273672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2" descr="Похожее изображение"/>
          <p:cNvPicPr/>
          <p:nvPr/>
        </p:nvPicPr>
        <p:blipFill>
          <a:blip r:embed="rId2"/>
          <a:stretch/>
        </p:blipFill>
        <p:spPr>
          <a:xfrm rot="1021200">
            <a:off x="6549840" y="252720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Похожее изображение"/>
          <p:cNvPicPr/>
          <p:nvPr/>
        </p:nvPicPr>
        <p:blipFill>
          <a:blip r:embed="rId3"/>
          <a:stretch/>
        </p:blipFill>
        <p:spPr>
          <a:xfrm rot="1021200">
            <a:off x="3812760" y="375120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Похожее изображение"/>
          <p:cNvPicPr/>
          <p:nvPr/>
        </p:nvPicPr>
        <p:blipFill>
          <a:blip r:embed="rId4"/>
          <a:stretch/>
        </p:blipFill>
        <p:spPr>
          <a:xfrm rot="1021200">
            <a:off x="1077480" y="504684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артинки по запросу марс картинка для детей"/>
          <p:cNvPicPr/>
          <p:nvPr/>
        </p:nvPicPr>
        <p:blipFill>
          <a:blip r:embed="rId5"/>
          <a:stretch/>
        </p:blipFill>
        <p:spPr>
          <a:xfrm>
            <a:off x="4067280" y="17002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артинки по запросу марс картинка для детей"/>
          <p:cNvPicPr/>
          <p:nvPr/>
        </p:nvPicPr>
        <p:blipFill>
          <a:blip r:embed="rId6"/>
          <a:stretch/>
        </p:blipFill>
        <p:spPr>
          <a:xfrm>
            <a:off x="6948360" y="40053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Картинки по запросу марс картинка для детей"/>
          <p:cNvPicPr/>
          <p:nvPr/>
        </p:nvPicPr>
        <p:blipFill>
          <a:blip r:embed="rId7"/>
          <a:stretch/>
        </p:blipFill>
        <p:spPr>
          <a:xfrm>
            <a:off x="1476360" y="2852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артинки по запросу марс картинка для детей"/>
          <p:cNvPicPr/>
          <p:nvPr/>
        </p:nvPicPr>
        <p:blipFill>
          <a:blip r:embed="rId8"/>
          <a:stretch/>
        </p:blipFill>
        <p:spPr>
          <a:xfrm>
            <a:off x="4140360" y="5373720"/>
            <a:ext cx="936360" cy="93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и по запросу земля картинка для детей"/>
          <p:cNvPicPr/>
          <p:nvPr/>
        </p:nvPicPr>
        <p:blipFill>
          <a:blip r:embed="rId9"/>
          <a:stretch/>
        </p:blipFill>
        <p:spPr>
          <a:xfrm>
            <a:off x="4067280" y="2781360"/>
            <a:ext cx="1009440" cy="100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Картинки по запросу земля картинка для детей"/>
          <p:cNvPicPr/>
          <p:nvPr/>
        </p:nvPicPr>
        <p:blipFill>
          <a:blip r:embed="rId10"/>
          <a:stretch/>
        </p:blipFill>
        <p:spPr>
          <a:xfrm>
            <a:off x="6804000" y="1628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Картинки по запросу земля картинка для детей"/>
          <p:cNvPicPr/>
          <p:nvPr/>
        </p:nvPicPr>
        <p:blipFill>
          <a:blip r:embed="rId11"/>
          <a:stretch/>
        </p:blipFill>
        <p:spPr>
          <a:xfrm>
            <a:off x="6875640" y="5300640"/>
            <a:ext cx="1009440" cy="100800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684360" y="692280"/>
            <a:ext cx="574560" cy="433080"/>
          </a:xfrm>
          <a:custGeom>
            <a:avLst/>
            <a:gdLst>
              <a:gd name="textAreaLeft" fmla="*/ 28080 w 574560"/>
              <a:gd name="textAreaRight" fmla="*/ 546480 w 5745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8650" h="21600">
                <a:moveTo>
                  <a:pt x="0" y="0"/>
                </a:moveTo>
                <a:lnTo>
                  <a:pt x="28650" y="0"/>
                </a:lnTo>
                <a:lnTo>
                  <a:pt x="28650" y="21600"/>
                </a:lnTo>
                <a:lnTo>
                  <a:pt x="0" y="21600"/>
                </a:lnTo>
                <a:close/>
              </a:path>
              <a:path fill="lightenLess" w="28650" h="21600">
                <a:moveTo>
                  <a:pt x="0" y="0"/>
                </a:moveTo>
                <a:lnTo>
                  <a:pt x="28650" y="0"/>
                </a:lnTo>
                <a:lnTo>
                  <a:pt x="27250" y="1400"/>
                </a:lnTo>
                <a:lnTo>
                  <a:pt x="1400" y="1400"/>
                </a:lnTo>
                <a:close/>
              </a:path>
              <a:path fill="darken" w="28650" h="21600">
                <a:moveTo>
                  <a:pt x="28650" y="0"/>
                </a:moveTo>
                <a:lnTo>
                  <a:pt x="28650" y="21600"/>
                </a:lnTo>
                <a:lnTo>
                  <a:pt x="27250" y="20200"/>
                </a:lnTo>
                <a:lnTo>
                  <a:pt x="27250" y="1400"/>
                </a:lnTo>
                <a:close/>
              </a:path>
              <a:path fill="darkenLess" w="28650" h="21600">
                <a:moveTo>
                  <a:pt x="28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0" y="20200"/>
                </a:lnTo>
                <a:close/>
              </a:path>
              <a:path fill="lighten" w="28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0" h="21600">
                <a:moveTo>
                  <a:pt x="7319" y="3794"/>
                </a:moveTo>
                <a:lnTo>
                  <a:pt x="21332" y="10800"/>
                </a:lnTo>
                <a:lnTo>
                  <a:pt x="731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Управляющая кнопка: домой 4"/>
          <p:cNvSpPr/>
          <p:nvPr/>
        </p:nvSpPr>
        <p:spPr>
          <a:xfrm>
            <a:off x="7812000" y="692280"/>
            <a:ext cx="647640" cy="43308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2292" h="21600">
                <a:moveTo>
                  <a:pt x="0" y="0"/>
                </a:moveTo>
                <a:lnTo>
                  <a:pt x="32292" y="0"/>
                </a:lnTo>
                <a:lnTo>
                  <a:pt x="32292" y="21600"/>
                </a:lnTo>
                <a:lnTo>
                  <a:pt x="0" y="21600"/>
                </a:lnTo>
                <a:close/>
              </a:path>
              <a:path fill="lightenLess" w="32292" h="21600">
                <a:moveTo>
                  <a:pt x="0" y="0"/>
                </a:moveTo>
                <a:lnTo>
                  <a:pt x="32292" y="0"/>
                </a:lnTo>
                <a:lnTo>
                  <a:pt x="30892" y="1400"/>
                </a:lnTo>
                <a:lnTo>
                  <a:pt x="1400" y="1400"/>
                </a:lnTo>
                <a:close/>
              </a:path>
              <a:path fill="darken" w="32292" h="21600">
                <a:moveTo>
                  <a:pt x="32292" y="0"/>
                </a:moveTo>
                <a:lnTo>
                  <a:pt x="32292" y="21600"/>
                </a:lnTo>
                <a:lnTo>
                  <a:pt x="30892" y="20200"/>
                </a:lnTo>
                <a:lnTo>
                  <a:pt x="30892" y="1400"/>
                </a:lnTo>
                <a:close/>
              </a:path>
              <a:path fill="darkenLess" w="32292" h="21600">
                <a:moveTo>
                  <a:pt x="32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2" y="20200"/>
                </a:lnTo>
                <a:close/>
              </a:path>
              <a:path fill="lighten" w="32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2" h="21600">
                <a:moveTo>
                  <a:pt x="16146" y="3837"/>
                </a:moveTo>
                <a:lnTo>
                  <a:pt x="18722" y="6448"/>
                </a:ln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lnTo>
                  <a:pt x="23109" y="10800"/>
                </a:lnTo>
                <a:lnTo>
                  <a:pt x="21455" y="10800"/>
                </a:lnTo>
                <a:lnTo>
                  <a:pt x="21455" y="17989"/>
                </a:lnTo>
                <a:lnTo>
                  <a:pt x="10837" y="17989"/>
                </a:lnTo>
                <a:lnTo>
                  <a:pt x="10837" y="10800"/>
                </a:lnTo>
                <a:lnTo>
                  <a:pt x="9183" y="10800"/>
                </a:lnTo>
                <a:close/>
              </a:path>
              <a:path fill="darkenLess" w="32292" h="21600">
                <a:moveTo>
                  <a:pt x="18722" y="6448"/>
                </a:move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close/>
              </a:path>
              <a:path fill="darkenLess" w="32292" h="21600">
                <a:moveTo>
                  <a:pt x="15224" y="14299"/>
                </a:moveTo>
                <a:lnTo>
                  <a:pt x="17069" y="14299"/>
                </a:lnTo>
                <a:lnTo>
                  <a:pt x="17069" y="17989"/>
                </a:lnTo>
                <a:lnTo>
                  <a:pt x="21455" y="17989"/>
                </a:lnTo>
                <a:lnTo>
                  <a:pt x="21455" y="10800"/>
                </a:lnTo>
                <a:lnTo>
                  <a:pt x="10837" y="10800"/>
                </a:lnTo>
                <a:lnTo>
                  <a:pt x="10837" y="17989"/>
                </a:lnTo>
                <a:lnTo>
                  <a:pt x="1522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41351E-006 L -0.60643 -0.19912 E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, чья тен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29600" cy="2309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rcRect l="4347" t="0" r="0" b="0"/>
          <a:stretch/>
        </p:blipFill>
        <p:spPr>
          <a:xfrm>
            <a:off x="395280" y="4365720"/>
            <a:ext cx="1477800" cy="199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851280" y="4365720"/>
            <a:ext cx="1584360" cy="199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651640" y="4365720"/>
            <a:ext cx="1441440" cy="19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5"/>
          <a:stretch/>
        </p:blipFill>
        <p:spPr>
          <a:xfrm>
            <a:off x="7236000" y="4365720"/>
            <a:ext cx="1643040" cy="195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6"/>
          <a:stretch/>
        </p:blipFill>
        <p:spPr>
          <a:xfrm>
            <a:off x="2050920" y="4365720"/>
            <a:ext cx="1584360" cy="193824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12"/>
          <p:cNvCxnSpPr/>
          <p:nvPr/>
        </p:nvCxnSpPr>
        <p:spPr>
          <a:xfrm flipV="1">
            <a:off x="1619280" y="3788640"/>
            <a:ext cx="4177440" cy="577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14"/>
          <p:cNvCxnSpPr/>
          <p:nvPr/>
        </p:nvCxnSpPr>
        <p:spPr>
          <a:xfrm flipV="1">
            <a:off x="3492000" y="3715920"/>
            <a:ext cx="793080" cy="72144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86" name="Прямая со стрелкой 16"/>
          <p:cNvCxnSpPr/>
          <p:nvPr/>
        </p:nvCxnSpPr>
        <p:spPr>
          <a:xfrm flipV="1">
            <a:off x="5292360" y="3715920"/>
            <a:ext cx="208836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8"/>
          <p:cNvCxnSpPr/>
          <p:nvPr/>
        </p:nvCxnSpPr>
        <p:spPr>
          <a:xfrm flipH="1" flipV="1">
            <a:off x="1402560" y="3715920"/>
            <a:ext cx="4825080" cy="721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8" name="Прямая со стрелкой 20"/>
          <p:cNvCxnSpPr/>
          <p:nvPr/>
        </p:nvCxnSpPr>
        <p:spPr>
          <a:xfrm flipH="1" flipV="1">
            <a:off x="2986920" y="3788640"/>
            <a:ext cx="4825080" cy="57708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arrow" w="med"/>
          </a:ln>
        </p:spPr>
      </p:cxnSp>
      <p:sp>
        <p:nvSpPr>
          <p:cNvPr id="89" name="Управляющая кнопка: домой 13"/>
          <p:cNvSpPr/>
          <p:nvPr/>
        </p:nvSpPr>
        <p:spPr>
          <a:xfrm>
            <a:off x="7812000" y="692280"/>
            <a:ext cx="647640" cy="43308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2292" h="21600">
                <a:moveTo>
                  <a:pt x="0" y="0"/>
                </a:moveTo>
                <a:lnTo>
                  <a:pt x="32292" y="0"/>
                </a:lnTo>
                <a:lnTo>
                  <a:pt x="32292" y="21600"/>
                </a:lnTo>
                <a:lnTo>
                  <a:pt x="0" y="21600"/>
                </a:lnTo>
                <a:close/>
              </a:path>
              <a:path fill="lightenLess" w="32292" h="21600">
                <a:moveTo>
                  <a:pt x="0" y="0"/>
                </a:moveTo>
                <a:lnTo>
                  <a:pt x="32292" y="0"/>
                </a:lnTo>
                <a:lnTo>
                  <a:pt x="30892" y="1400"/>
                </a:lnTo>
                <a:lnTo>
                  <a:pt x="1400" y="1400"/>
                </a:lnTo>
                <a:close/>
              </a:path>
              <a:path fill="darken" w="32292" h="21600">
                <a:moveTo>
                  <a:pt x="32292" y="0"/>
                </a:moveTo>
                <a:lnTo>
                  <a:pt x="32292" y="21600"/>
                </a:lnTo>
                <a:lnTo>
                  <a:pt x="30892" y="20200"/>
                </a:lnTo>
                <a:lnTo>
                  <a:pt x="30892" y="1400"/>
                </a:lnTo>
                <a:close/>
              </a:path>
              <a:path fill="darkenLess" w="32292" h="21600">
                <a:moveTo>
                  <a:pt x="32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2" y="20200"/>
                </a:lnTo>
                <a:close/>
              </a:path>
              <a:path fill="lighten" w="32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2" h="21600">
                <a:moveTo>
                  <a:pt x="16146" y="3837"/>
                </a:moveTo>
                <a:lnTo>
                  <a:pt x="18722" y="6448"/>
                </a:ln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lnTo>
                  <a:pt x="23109" y="10800"/>
                </a:lnTo>
                <a:lnTo>
                  <a:pt x="21455" y="10800"/>
                </a:lnTo>
                <a:lnTo>
                  <a:pt x="21455" y="17989"/>
                </a:lnTo>
                <a:lnTo>
                  <a:pt x="10837" y="17989"/>
                </a:lnTo>
                <a:lnTo>
                  <a:pt x="10837" y="10800"/>
                </a:lnTo>
                <a:lnTo>
                  <a:pt x="9183" y="10800"/>
                </a:lnTo>
                <a:close/>
              </a:path>
              <a:path fill="darkenLess" w="32292" h="21600">
                <a:moveTo>
                  <a:pt x="18722" y="6448"/>
                </a:move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close/>
              </a:path>
              <a:path fill="darkenLess" w="32292" h="21600">
                <a:moveTo>
                  <a:pt x="15224" y="14299"/>
                </a:moveTo>
                <a:lnTo>
                  <a:pt x="17069" y="14299"/>
                </a:lnTo>
                <a:lnTo>
                  <a:pt x="17069" y="17989"/>
                </a:lnTo>
                <a:lnTo>
                  <a:pt x="21455" y="17989"/>
                </a:lnTo>
                <a:lnTo>
                  <a:pt x="21455" y="10800"/>
                </a:lnTo>
                <a:lnTo>
                  <a:pt x="10837" y="10800"/>
                </a:lnTo>
                <a:lnTo>
                  <a:pt x="10837" y="17989"/>
                </a:lnTo>
                <a:lnTo>
                  <a:pt x="1522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684360" y="692280"/>
            <a:ext cx="574560" cy="433080"/>
          </a:xfrm>
          <a:custGeom>
            <a:avLst/>
            <a:gdLst>
              <a:gd name="textAreaLeft" fmla="*/ 28080 w 574560"/>
              <a:gd name="textAreaRight" fmla="*/ 546480 w 5745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8650" h="21600">
                <a:moveTo>
                  <a:pt x="0" y="0"/>
                </a:moveTo>
                <a:lnTo>
                  <a:pt x="28650" y="0"/>
                </a:lnTo>
                <a:lnTo>
                  <a:pt x="28650" y="21600"/>
                </a:lnTo>
                <a:lnTo>
                  <a:pt x="0" y="21600"/>
                </a:lnTo>
                <a:close/>
              </a:path>
              <a:path fill="lightenLess" w="28650" h="21600">
                <a:moveTo>
                  <a:pt x="0" y="0"/>
                </a:moveTo>
                <a:lnTo>
                  <a:pt x="28650" y="0"/>
                </a:lnTo>
                <a:lnTo>
                  <a:pt x="27250" y="1400"/>
                </a:lnTo>
                <a:lnTo>
                  <a:pt x="1400" y="1400"/>
                </a:lnTo>
                <a:close/>
              </a:path>
              <a:path fill="darken" w="28650" h="21600">
                <a:moveTo>
                  <a:pt x="28650" y="0"/>
                </a:moveTo>
                <a:lnTo>
                  <a:pt x="28650" y="21600"/>
                </a:lnTo>
                <a:lnTo>
                  <a:pt x="27250" y="20200"/>
                </a:lnTo>
                <a:lnTo>
                  <a:pt x="27250" y="1400"/>
                </a:lnTo>
                <a:close/>
              </a:path>
              <a:path fill="darkenLess" w="28650" h="21600">
                <a:moveTo>
                  <a:pt x="28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0" y="20200"/>
                </a:lnTo>
                <a:close/>
              </a:path>
              <a:path fill="lighten" w="28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0" h="21600">
                <a:moveTo>
                  <a:pt x="7319" y="3794"/>
                </a:moveTo>
                <a:lnTo>
                  <a:pt x="21332" y="10800"/>
                </a:lnTo>
                <a:lnTo>
                  <a:pt x="731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все НЛО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1600200"/>
          <a:ext cx="8291520" cy="4997520"/>
        </p:xfrm>
        <a:graphic>
          <a:graphicData uri="http://schemas.openxmlformats.org/drawingml/2006/table">
            <a:tbl>
              <a:tblPr/>
              <a:tblGrid>
                <a:gridCol w="1184400"/>
                <a:gridCol w="1184040"/>
                <a:gridCol w="1184400"/>
                <a:gridCol w="1185840"/>
                <a:gridCol w="1184400"/>
                <a:gridCol w="1184040"/>
                <a:gridCol w="118440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88596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4140360" y="1700280"/>
            <a:ext cx="866520" cy="60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5364000" y="170028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6"/>
          <a:stretch/>
        </p:blipFill>
        <p:spPr>
          <a:xfrm>
            <a:off x="611280" y="249228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7"/>
          <a:stretch/>
        </p:blipFill>
        <p:spPr>
          <a:xfrm>
            <a:off x="6443640" y="1700280"/>
            <a:ext cx="866880" cy="60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8"/>
          <a:stretch/>
        </p:blipFill>
        <p:spPr>
          <a:xfrm>
            <a:off x="7596360" y="1700280"/>
            <a:ext cx="942840" cy="64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9"/>
          <a:stretch/>
        </p:blipFill>
        <p:spPr>
          <a:xfrm>
            <a:off x="6659640" y="549360"/>
            <a:ext cx="885600" cy="61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10"/>
          <a:stretch/>
        </p:blipFill>
        <p:spPr>
          <a:xfrm>
            <a:off x="2916360" y="342900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11"/>
          <a:stretch/>
        </p:blipFill>
        <p:spPr>
          <a:xfrm>
            <a:off x="5219640" y="2565360"/>
            <a:ext cx="895320" cy="59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12"/>
          <a:stretch/>
        </p:blipFill>
        <p:spPr>
          <a:xfrm>
            <a:off x="6516720" y="501336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13"/>
          <a:stretch/>
        </p:blipFill>
        <p:spPr>
          <a:xfrm>
            <a:off x="7667640" y="2492280"/>
            <a:ext cx="885960" cy="619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14"/>
          <a:stretch/>
        </p:blipFill>
        <p:spPr>
          <a:xfrm>
            <a:off x="539640" y="3357720"/>
            <a:ext cx="885960" cy="61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15"/>
          <a:stretch/>
        </p:blipFill>
        <p:spPr>
          <a:xfrm>
            <a:off x="4140360" y="3357720"/>
            <a:ext cx="885600" cy="61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16"/>
          <a:stretch/>
        </p:blipFill>
        <p:spPr>
          <a:xfrm>
            <a:off x="6516720" y="4221000"/>
            <a:ext cx="88596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17"/>
          <a:stretch/>
        </p:blipFill>
        <p:spPr>
          <a:xfrm>
            <a:off x="2916360" y="5013360"/>
            <a:ext cx="88560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18"/>
          <a:stretch/>
        </p:blipFill>
        <p:spPr>
          <a:xfrm>
            <a:off x="1692360" y="5877000"/>
            <a:ext cx="88560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19"/>
          <a:stretch/>
        </p:blipFill>
        <p:spPr>
          <a:xfrm>
            <a:off x="5292720" y="5877000"/>
            <a:ext cx="88596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790560" cy="6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1"/>
          <a:stretch/>
        </p:blipFill>
        <p:spPr>
          <a:xfrm>
            <a:off x="2916360" y="4149720"/>
            <a:ext cx="790560" cy="65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2"/>
          <a:stretch/>
        </p:blipFill>
        <p:spPr>
          <a:xfrm>
            <a:off x="684360" y="5013360"/>
            <a:ext cx="790560" cy="65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3"/>
          <a:stretch/>
        </p:blipFill>
        <p:spPr>
          <a:xfrm>
            <a:off x="7667640" y="5805360"/>
            <a:ext cx="790560" cy="65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4"/>
          <a:stretch/>
        </p:blipFill>
        <p:spPr>
          <a:xfrm>
            <a:off x="1763640" y="2565360"/>
            <a:ext cx="866880" cy="6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5"/>
          <a:stretch/>
        </p:blipFill>
        <p:spPr>
          <a:xfrm>
            <a:off x="7667640" y="3357720"/>
            <a:ext cx="866880" cy="59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6"/>
          <a:stretch/>
        </p:blipFill>
        <p:spPr>
          <a:xfrm>
            <a:off x="6443640" y="5877000"/>
            <a:ext cx="866880" cy="600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7"/>
          <a:stretch/>
        </p:blipFill>
        <p:spPr>
          <a:xfrm>
            <a:off x="4067280" y="5013360"/>
            <a:ext cx="866520" cy="60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8"/>
          <a:stretch/>
        </p:blipFill>
        <p:spPr>
          <a:xfrm>
            <a:off x="2987640" y="24922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9"/>
          <a:stretch/>
        </p:blipFill>
        <p:spPr>
          <a:xfrm>
            <a:off x="611280" y="422100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0"/>
          <a:stretch/>
        </p:blipFill>
        <p:spPr>
          <a:xfrm>
            <a:off x="5364000" y="501336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31"/>
          <a:stretch/>
        </p:blipFill>
        <p:spPr>
          <a:xfrm>
            <a:off x="5292720" y="3357720"/>
            <a:ext cx="866880" cy="599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32"/>
          <a:stretch/>
        </p:blipFill>
        <p:spPr>
          <a:xfrm>
            <a:off x="1692360" y="4221000"/>
            <a:ext cx="866520" cy="60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33"/>
          <a:stretch/>
        </p:blipFill>
        <p:spPr>
          <a:xfrm>
            <a:off x="7667640" y="5013360"/>
            <a:ext cx="866880" cy="6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34"/>
          <a:stretch/>
        </p:blipFill>
        <p:spPr>
          <a:xfrm>
            <a:off x="5219640" y="414972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35"/>
          <a:stretch/>
        </p:blipFill>
        <p:spPr>
          <a:xfrm>
            <a:off x="468360" y="5805360"/>
            <a:ext cx="942840" cy="64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36"/>
          <a:stretch/>
        </p:blipFill>
        <p:spPr>
          <a:xfrm>
            <a:off x="4067280" y="256536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37"/>
          <a:stretch/>
        </p:blipFill>
        <p:spPr>
          <a:xfrm>
            <a:off x="6443640" y="3357720"/>
            <a:ext cx="914400" cy="676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8"/>
          <a:stretch/>
        </p:blipFill>
        <p:spPr>
          <a:xfrm>
            <a:off x="4067280" y="422100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39"/>
          <a:stretch/>
        </p:blipFill>
        <p:spPr>
          <a:xfrm>
            <a:off x="1692360" y="3357720"/>
            <a:ext cx="914400" cy="676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0"/>
          <a:stretch/>
        </p:blipFill>
        <p:spPr>
          <a:xfrm>
            <a:off x="7667640" y="414972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41"/>
          <a:stretch/>
        </p:blipFill>
        <p:spPr>
          <a:xfrm>
            <a:off x="4067280" y="587700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42"/>
          <a:stretch/>
        </p:blipFill>
        <p:spPr>
          <a:xfrm>
            <a:off x="2916360" y="5877000"/>
            <a:ext cx="866520" cy="600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43"/>
          <a:stretch/>
        </p:blipFill>
        <p:spPr>
          <a:xfrm>
            <a:off x="1692360" y="501336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36" name="Управляющая кнопка: домой 49"/>
          <p:cNvSpPr/>
          <p:nvPr/>
        </p:nvSpPr>
        <p:spPr>
          <a:xfrm>
            <a:off x="7812000" y="692280"/>
            <a:ext cx="647640" cy="43308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2292" h="21600">
                <a:moveTo>
                  <a:pt x="0" y="0"/>
                </a:moveTo>
                <a:lnTo>
                  <a:pt x="32292" y="0"/>
                </a:lnTo>
                <a:lnTo>
                  <a:pt x="32292" y="21600"/>
                </a:lnTo>
                <a:lnTo>
                  <a:pt x="0" y="21600"/>
                </a:lnTo>
                <a:close/>
              </a:path>
              <a:path fill="lightenLess" w="32292" h="21600">
                <a:moveTo>
                  <a:pt x="0" y="0"/>
                </a:moveTo>
                <a:lnTo>
                  <a:pt x="32292" y="0"/>
                </a:lnTo>
                <a:lnTo>
                  <a:pt x="30892" y="1400"/>
                </a:lnTo>
                <a:lnTo>
                  <a:pt x="1400" y="1400"/>
                </a:lnTo>
                <a:close/>
              </a:path>
              <a:path fill="darken" w="32292" h="21600">
                <a:moveTo>
                  <a:pt x="32292" y="0"/>
                </a:moveTo>
                <a:lnTo>
                  <a:pt x="32292" y="21600"/>
                </a:lnTo>
                <a:lnTo>
                  <a:pt x="30892" y="20200"/>
                </a:lnTo>
                <a:lnTo>
                  <a:pt x="30892" y="1400"/>
                </a:lnTo>
                <a:close/>
              </a:path>
              <a:path fill="darkenLess" w="32292" h="21600">
                <a:moveTo>
                  <a:pt x="32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2" y="20200"/>
                </a:lnTo>
                <a:close/>
              </a:path>
              <a:path fill="lighten" w="32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2" h="21600">
                <a:moveTo>
                  <a:pt x="16146" y="3837"/>
                </a:moveTo>
                <a:lnTo>
                  <a:pt x="18722" y="6448"/>
                </a:ln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lnTo>
                  <a:pt x="23109" y="10800"/>
                </a:lnTo>
                <a:lnTo>
                  <a:pt x="21455" y="10800"/>
                </a:lnTo>
                <a:lnTo>
                  <a:pt x="21455" y="17989"/>
                </a:lnTo>
                <a:lnTo>
                  <a:pt x="10837" y="17989"/>
                </a:lnTo>
                <a:lnTo>
                  <a:pt x="10837" y="10800"/>
                </a:lnTo>
                <a:lnTo>
                  <a:pt x="9183" y="10800"/>
                </a:lnTo>
                <a:close/>
              </a:path>
              <a:path fill="darkenLess" w="32292" h="21600">
                <a:moveTo>
                  <a:pt x="18722" y="6448"/>
                </a:move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close/>
              </a:path>
              <a:path fill="darkenLess" w="32292" h="21600">
                <a:moveTo>
                  <a:pt x="15224" y="14299"/>
                </a:moveTo>
                <a:lnTo>
                  <a:pt x="17069" y="14299"/>
                </a:lnTo>
                <a:lnTo>
                  <a:pt x="17069" y="17989"/>
                </a:lnTo>
                <a:lnTo>
                  <a:pt x="21455" y="17989"/>
                </a:lnTo>
                <a:lnTo>
                  <a:pt x="21455" y="10800"/>
                </a:lnTo>
                <a:lnTo>
                  <a:pt x="10837" y="10800"/>
                </a:lnTo>
                <a:lnTo>
                  <a:pt x="10837" y="17989"/>
                </a:lnTo>
                <a:lnTo>
                  <a:pt x="1522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алее 50">
            <a:hlinkClick r:id="" action="ppaction://hlinkshowjump?jump=nextslide"/>
          </p:cNvPr>
          <p:cNvSpPr/>
          <p:nvPr/>
        </p:nvSpPr>
        <p:spPr>
          <a:xfrm>
            <a:off x="684360" y="692280"/>
            <a:ext cx="574560" cy="433080"/>
          </a:xfrm>
          <a:custGeom>
            <a:avLst/>
            <a:gdLst>
              <a:gd name="textAreaLeft" fmla="*/ 28080 w 574560"/>
              <a:gd name="textAreaRight" fmla="*/ 546480 w 5745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8650" h="21600">
                <a:moveTo>
                  <a:pt x="0" y="0"/>
                </a:moveTo>
                <a:lnTo>
                  <a:pt x="28650" y="0"/>
                </a:lnTo>
                <a:lnTo>
                  <a:pt x="28650" y="21600"/>
                </a:lnTo>
                <a:lnTo>
                  <a:pt x="0" y="21600"/>
                </a:lnTo>
                <a:close/>
              </a:path>
              <a:path fill="lightenLess" w="28650" h="21600">
                <a:moveTo>
                  <a:pt x="0" y="0"/>
                </a:moveTo>
                <a:lnTo>
                  <a:pt x="28650" y="0"/>
                </a:lnTo>
                <a:lnTo>
                  <a:pt x="27250" y="1400"/>
                </a:lnTo>
                <a:lnTo>
                  <a:pt x="1400" y="1400"/>
                </a:lnTo>
                <a:close/>
              </a:path>
              <a:path fill="darken" w="28650" h="21600">
                <a:moveTo>
                  <a:pt x="28650" y="0"/>
                </a:moveTo>
                <a:lnTo>
                  <a:pt x="28650" y="21600"/>
                </a:lnTo>
                <a:lnTo>
                  <a:pt x="27250" y="20200"/>
                </a:lnTo>
                <a:lnTo>
                  <a:pt x="27250" y="1400"/>
                </a:lnTo>
                <a:close/>
              </a:path>
              <a:path fill="darkenLess" w="28650" h="21600">
                <a:moveTo>
                  <a:pt x="28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0" y="20200"/>
                </a:lnTo>
                <a:close/>
              </a:path>
              <a:path fill="lighten" w="28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0" h="21600">
                <a:moveTo>
                  <a:pt x="7319" y="3794"/>
                </a:moveTo>
                <a:lnTo>
                  <a:pt x="21332" y="10800"/>
                </a:lnTo>
                <a:lnTo>
                  <a:pt x="731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Объект 3" descr=""/>
          <p:cNvPicPr/>
          <p:nvPr/>
        </p:nvPicPr>
        <p:blipFill>
          <a:blip r:embed="rId1"/>
          <a:stretch/>
        </p:blipFill>
        <p:spPr>
          <a:xfrm>
            <a:off x="0" y="-34920"/>
            <a:ext cx="91933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1T05:30:01Z</dcterms:created>
  <dc:creator>Admin</dc:creator>
  <dc:description/>
  <dc:language>en-US</dc:language>
  <cp:lastModifiedBy>Пользователь Windows</cp:lastModifiedBy>
  <dcterms:modified xsi:type="dcterms:W3CDTF">2023-01-28T12:06:02Z</dcterms:modified>
  <cp:revision>20</cp:revision>
  <dc:subject/>
  <dc:title>Презентация PowerPoint</dc:title>
</cp:coreProperties>
</file>