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B31-FF86-4A0D-8C2B-C7D2D45A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C7F-9950-4532-A13B-9CF0E8F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099-CBF3-44D1-A145-E200930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282-E597-4EFB-9E2D-DE790527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A266-9439-4A74-8C7E-50DB8690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3871-60B5-478E-B0AC-0DC6645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3F3-EEFE-4FC7-9184-C84E9A7E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265D-46C6-450D-9D7A-27BF6BD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7DCC-5793-430C-96CF-31C8A7F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D680-4ACC-4C2B-A44C-229A99AF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C8F6-E1CA-496F-8581-F7D05A3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3A3-2298-48DF-B78B-FCCAEEFA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19D1-2399-4AFA-B685-B1C38EC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432-DCE1-46DA-99ED-CE254D4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E40-F3D7-4FFA-A47F-9F67C34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07B-BD67-4BC3-9D0D-53A435B2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56AA-91D0-4A5B-8360-E73BC7F2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92F-43EA-40F2-A874-2A816F7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FDF-BE5C-4884-AB17-21A207E8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035-CB7C-4C19-A744-16E5B4CA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E8E-4B1D-4115-A92B-6648A83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754-DB37-4998-8CC1-F884F45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846-ED50-4CD6-B3B3-06ACE13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5A0-A1C7-4D58-9CB6-E3A416A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F6E6-7BFA-4048-85B0-587EB287F8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723-9FBA-429A-92F3-D47AB761A97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860280"/>
            <a:ext cx="6764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собенности сотрудничества учителя - логопеда с родителями детей раннего возрас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374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5" descr="https://s52vla.storage.yandex.net/rdisk/d9b32c1899726a5d121395f64d8ba83801467cd73aff4a10c9fdc6594e370ac4/5c8a340e/mC7e0OsYrtJDeMZmvbKxyeAbUL1_-Q8Lr651Le01tN-UW6Z9rtS1ffLaFIKfWxLWq_J6bpmRyOJonT3VoXnDag==?uid=0&amp;filename=5a56436e202e.png&amp;disposition=inline&amp;hash=&amp;limit=0&amp;content_type=inline&amp;tknv=v2&amp;rtoken=T5ewkp1raZBF&amp;force_default=no&amp;ycrid=na-c71f903967241d72825579a5c3749751-downloader22f&amp;ts=5840bd0ca9f80&amp;s=8ead508a3c8461c6ea94a4d6be2060b100d7b1c1fae1ef3f6f2112811aacc324&amp;pb=U2FsdGVkX18r7bwwnxBVXJZlMaqrbuuoxeGmJ7nG-ysKC1V-rU3mqm20xR9RzImxvo0NqemIjlqrXGJ40juX_w"/>
          <p:cNvPicPr/>
          <p:nvPr/>
        </p:nvPicPr>
        <p:blipFill>
          <a:blip r:embed="rId1"/>
          <a:stretch/>
        </p:blipFill>
        <p:spPr>
          <a:xfrm>
            <a:off x="1428840" y="928800"/>
            <a:ext cx="51433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ПАСИБО   ЗА 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6" descr="https://s22vla.storage.yandex.net/rdisk/08c1fe272ca0b481c64db2649af39ac00e8d9dd5bd6218c6cc61af32d6e6cca5/5c8a2d11/vXZ9LYuhFneeB8U0hagDeFEg1BAStueybU7gkjpzZbEG6GPd3QlQz0o_XMbZv2xtq_J6bpmRyOJonT3VoXnDag==?uid=0&amp;filename=9b0087729546.png&amp;disposition=inline&amp;hash=&amp;limit=0&amp;content_type=inline&amp;tknv=v2&amp;rtoken=IwRKlvrBL2RU&amp;force_default=no&amp;ycrid=na-2c8676c6de7326a7168332c981f3d892-downloader2f&amp;ts=5840b6628a640&amp;s=5b034809ebcf19591315daa602f6c8731bf31b512586306bfce2b575343d5ad8&amp;pb=U2FsdGVkX1_fKoW1j9iGAqRDGqiHEF-8Noc4FvpSYOKjmcRkXuwxsJEWnteDMKZ3RdbSMa0hDqM-r0sQT2IoqQ"/>
          <p:cNvPicPr/>
          <p:nvPr/>
        </p:nvPicPr>
        <p:blipFill>
          <a:blip r:embed="rId1"/>
          <a:stretch/>
        </p:blipFill>
        <p:spPr>
          <a:xfrm>
            <a:off x="2071800" y="2714760"/>
            <a:ext cx="3333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Что предусматривает работа учителя-логопеда с родителями детей раннего возраст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одительские собр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ндивидуальные консультац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еминары – практикум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ни открытых дверей для родителей впервые поступивших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готовление стендов и папок-передвиж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следование речи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Рисунок 2" descr="http://www.dou914.edusite.ru/images/5f8350820dd8.png"/>
          <p:cNvPicPr/>
          <p:nvPr/>
        </p:nvPicPr>
        <p:blipFill>
          <a:blip r:embed="rId1"/>
          <a:stretch/>
        </p:blipFill>
        <p:spPr>
          <a:xfrm>
            <a:off x="5214960" y="5286240"/>
            <a:ext cx="2060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Работа с родителями неговорящих дет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одители таких детей по-разному относятся к такой ситуаци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 вариант: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 видят проблемы в том, что ребенок в 2,5 года молчит, объясняя это так: он все понимает, только ленится, или он весь в папу(тетю, дедушку), тот тоже поздно заговорил, или с мальчиками всегда так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: родители, напротив, много читают, ищут выход из ситуации, но, четко следуя советам, не могут или не хотят признать, что у всех детей разные стартовые возможности, и удивляются: Я все делаю, как рекомендуется: не сюсюкаю, говорю полными словами, много читаю, ставлю для прослушивания аудиокассеты. А он по-прежнему молчит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1532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Что можно посоветовать родителям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7675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первом варианте: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йствительно многие дети начинают говорить после 2,5-3 лет. Но подобная задержка сама по себе уже должна насторожить: значит какие-то, пусть минимальные, но изменения в развитии есть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торой вариант: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им родителям приходится объяснять, что они награждают ребенка непосильной работой. Да, один малыш встанет на ножки и легко потопает сам, без посторонней помощи, а другой будет долго ходить по стенке, и ему придется специально формировать корригировать походку. Так же и с речью. Если родитель видит, что ребенок не справляется, он должен облегчить ему задачу ( например использовать в речи звукоподражания, лепетные слов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Рекомендации для родителей, чьи дети долго не могут заговорить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ольше говорите с ребенком, озвучивая все действия (кормление, купание, одевание), комментируя окружающее, не боясь повторения одних и тех же слов, произносите их четко, терпеливо, доброжелат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йте понимание речи, используя простые инструкции типа «Дай ручку, где ножка?». Опирайтесь на то, что ребенку доступно. Неоднократно повторяйте уже усвоенно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38684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спользуйте в речи наряду с полными словами их упрощенные варианты: машина-би-би, кукля-ля-л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йте ребенку перед сном. Лучше не менять часто реперту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зывайте желание подражать взрослому. Это возможно, когда сочетаются эмоциональная заинтересованность и доступность слов, которые ребенок произносит во время совместных игр (прятки – ку-ку, паровозик – ту-ту). Можно вместе удивляться увиденному: ух ты, ой, ах, у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чаще рассказывайте, читайте первые детские сказки, стихи. Побуждайте договаривать слова по мере речевой возможности. «изображайте стихи» ( пример : мишка косолапый по лесу идет, ребенок показывает мишку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перегружайте ребенка телевизионной, видео и аудиоинформацией. При чтении сокращайте текст до понятных фраз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говорите при ребенке о его отстава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раздражайтесь, не стесняйтесь того, что ваш ребенок не говорит. Не проявляйте излишнюю тревогу: у каждого свои сроки, свои проблем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дожидаясь, пока ребенок заговорит, начинайте учить его различать предметы по размеру (большой-маленький), соотносить цвета, форму (дай такой же), количество (один-мног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одите массаж пальчиков рук и ладошек, народные игры («сорока-сорока», «ладушки-ладушки» и т.п.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жно не отпугнуть ребенка настойчивым «скажи», «повтори», лучше применять различные игрушки и от лица персонажа побуждать к речи: «Скажи как ляля», «Как киса говорит?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сякое проявление речи необходимо поощрять, не обращая внимание на качество звукопроизнош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можно чаще рассматривайте сюжетные картинки, при этом взрослый задает постепенно усложняющиеся вопросы (делая паузы, поощряя ребенка к любому ответу) и сам на них отвеча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 покажи где мячик, вот мячик, у кого мячик? У куклы, ляли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йте у малыша артикуляционное внимание (к движениям органов артикуляции), приучая его смотреть на лицо говоряще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9:59:53Z</dcterms:created>
  <dc:creator>Виктория</dc:creator>
  <dc:description/>
  <dc:language>en-US</dc:language>
  <cp:lastModifiedBy>МБДОУ № 176</cp:lastModifiedBy>
  <dcterms:modified xsi:type="dcterms:W3CDTF">2019-03-14T10:54:11Z</dcterms:modified>
  <cp:revision>15</cp:revision>
  <dc:subject/>
  <dc:title>Рекомендации для родителей неговорящих и плохоговорящих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30000000000010250600207f5000400038000</vt:lpwstr>
  </property>
</Properties>
</file>