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E1BD-FE32-48B0-B548-0F040C71B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47C9-512E-4939-9755-B8D0CD9D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B777-736D-4A5F-892D-0CB5B832E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FA00-362E-4E61-BB4B-9976BF03D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EB41-1625-4962-B0CE-20B840D99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67160-5EC2-4DE1-B72C-F0ED4975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FDA9-C602-48EB-A144-FC491129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90A0-EC70-4761-B306-C9A00D37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A6E0C-B1C3-4006-9E03-06283108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9D44-5918-4567-8FD1-89F7BB51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1C45-C40F-4AAD-BB6E-70AE1226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9940-F808-461D-AF88-1D9CD0FD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46BF-CE62-45E6-B03F-9125CE8B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39293-0C82-4A00-992C-0849BF26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507D-374D-4A17-8F58-B7C85998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D793C-AF41-4998-96A2-416D372BA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6750-4AA1-4E1E-990E-F77F0A5E3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C750-4AA7-462B-8D58-7FA71F63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6D2C-87C7-4EB2-8B55-FD1CA22C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A55B-78CD-400E-8C14-7628BB008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A0C0-1A69-4319-A90A-1630E6E8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52C0-4136-4FA6-9348-08267BCF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46E7-52EA-4EE0-9A0F-B790835F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0252-272B-4A8B-8646-0CD173B9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image" Target="../media/image1.wmf"/><Relationship Id="rId43" Type="http://schemas.openxmlformats.org/officeDocument/2006/relationships/image" Target="../media/image1.wmf"/><Relationship Id="rId44" Type="http://schemas.openxmlformats.org/officeDocument/2006/relationships/image" Target="../media/image1.wmf"/><Relationship Id="rId45" Type="http://schemas.openxmlformats.org/officeDocument/2006/relationships/image" Target="../media/image1.wmf"/><Relationship Id="rId46" Type="http://schemas.openxmlformats.org/officeDocument/2006/relationships/image" Target="../media/image1.wmf"/><Relationship Id="rId47" Type="http://schemas.openxmlformats.org/officeDocument/2006/relationships/image" Target="../media/image1.wmf"/><Relationship Id="rId48" Type="http://schemas.openxmlformats.org/officeDocument/2006/relationships/image" Target="../media/image1.wmf"/><Relationship Id="rId49" Type="http://schemas.openxmlformats.org/officeDocument/2006/relationships/image" Target="../media/image1.wmf"/><Relationship Id="rId50" Type="http://schemas.openxmlformats.org/officeDocument/2006/relationships/image" Target="../media/image1.wmf"/><Relationship Id="rId51" Type="http://schemas.openxmlformats.org/officeDocument/2006/relationships/image" Target="../media/image1.wmf"/><Relationship Id="rId52" Type="http://schemas.openxmlformats.org/officeDocument/2006/relationships/image" Target="../media/image1.wmf"/><Relationship Id="rId53" Type="http://schemas.openxmlformats.org/officeDocument/2006/relationships/image" Target="../media/image1.wmf"/><Relationship Id="rId54" Type="http://schemas.openxmlformats.org/officeDocument/2006/relationships/image" Target="../media/image1.wmf"/><Relationship Id="rId55" Type="http://schemas.openxmlformats.org/officeDocument/2006/relationships/image" Target="../media/image1.wmf"/><Relationship Id="rId56" Type="http://schemas.openxmlformats.org/officeDocument/2006/relationships/image" Target="../media/image1.wmf"/><Relationship Id="rId57" Type="http://schemas.openxmlformats.org/officeDocument/2006/relationships/image" Target="../media/image1.wmf"/><Relationship Id="rId58" Type="http://schemas.openxmlformats.org/officeDocument/2006/relationships/image" Target="../media/image2.png"/><Relationship Id="rId59" Type="http://schemas.openxmlformats.org/officeDocument/2006/relationships/image" Target="../media/image2.png"/><Relationship Id="rId60" Type="http://schemas.openxmlformats.org/officeDocument/2006/relationships/image" Target="../media/image3.png"/><Relationship Id="rId61" Type="http://schemas.openxmlformats.org/officeDocument/2006/relationships/image" Target="../media/image4.png"/><Relationship Id="rId62" Type="http://schemas.openxmlformats.org/officeDocument/2006/relationships/image" Target="../media/image5.png"/><Relationship Id="rId63" Type="http://schemas.openxmlformats.org/officeDocument/2006/relationships/slideLayout" Target="../slideLayouts/slideLayout13.xml"/><Relationship Id="rId64" Type="http://schemas.openxmlformats.org/officeDocument/2006/relationships/slideLayout" Target="../slideLayouts/slideLayout14.xml"/><Relationship Id="rId65" Type="http://schemas.openxmlformats.org/officeDocument/2006/relationships/slideLayout" Target="../slideLayouts/slideLayout15.xml"/><Relationship Id="rId66" Type="http://schemas.openxmlformats.org/officeDocument/2006/relationships/slideLayout" Target="../slideLayouts/slideLayout16.xml"/><Relationship Id="rId67" Type="http://schemas.openxmlformats.org/officeDocument/2006/relationships/slideLayout" Target="../slideLayouts/slideLayout17.xml"/><Relationship Id="rId68" Type="http://schemas.openxmlformats.org/officeDocument/2006/relationships/slideLayout" Target="../slideLayouts/slideLayout18.xml"/><Relationship Id="rId69" Type="http://schemas.openxmlformats.org/officeDocument/2006/relationships/slideLayout" Target="../slideLayouts/slideLayout19.xml"/><Relationship Id="rId70" Type="http://schemas.openxmlformats.org/officeDocument/2006/relationships/slideLayout" Target="../slideLayouts/slideLayout20.xml"/><Relationship Id="rId71" Type="http://schemas.openxmlformats.org/officeDocument/2006/relationships/slideLayout" Target="../slideLayouts/slideLayout21.xml"/><Relationship Id="rId72" Type="http://schemas.openxmlformats.org/officeDocument/2006/relationships/slideLayout" Target="../slideLayouts/slideLayout22.xml"/><Relationship Id="rId73" Type="http://schemas.openxmlformats.org/officeDocument/2006/relationships/slideLayout" Target="../slideLayouts/slideLayout23.xml"/><Relationship Id="rId7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F4D5-E6A2-4BB2-8320-393861535DA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151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152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3" name="Rectangle 4"/>
            <p:cNvSpPr/>
            <p:nvPr/>
          </p:nvSpPr>
          <p:spPr>
            <a:xfrm>
              <a:off x="0" y="10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4" name="Rectangle 5"/>
            <p:cNvSpPr/>
            <p:nvPr/>
          </p:nvSpPr>
          <p:spPr>
            <a:xfrm>
              <a:off x="7953480" y="1080"/>
              <a:ext cx="1203120" cy="68565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55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56" name="Group 7"/>
              <p:cNvGrpSpPr/>
              <p:nvPr/>
            </p:nvGrpSpPr>
            <p:grpSpPr>
              <a:xfrm>
                <a:off x="8381880" y="360"/>
                <a:ext cx="762120" cy="2271600"/>
                <a:chOff x="8381880" y="360"/>
                <a:chExt cx="762120" cy="2271600"/>
              </a:xfrm>
            </p:grpSpPr>
            <p:grpSp>
              <p:nvGrpSpPr>
                <p:cNvPr id="157" name="Group 8"/>
                <p:cNvGrpSpPr/>
                <p:nvPr/>
              </p:nvGrpSpPr>
              <p:grpSpPr>
                <a:xfrm>
                  <a:off x="8707320" y="360"/>
                  <a:ext cx="279360" cy="275400"/>
                  <a:chOff x="8707320" y="360"/>
                  <a:chExt cx="279360" cy="275400"/>
                </a:xfrm>
              </p:grpSpPr>
              <p:grpSp>
                <p:nvGrpSpPr>
                  <p:cNvPr id="158" name="Group 9"/>
                  <p:cNvGrpSpPr/>
                  <p:nvPr/>
                </p:nvGrpSpPr>
                <p:grpSpPr>
                  <a:xfrm>
                    <a:off x="8707320" y="360"/>
                    <a:ext cx="279360" cy="275400"/>
                    <a:chOff x="8707320" y="360"/>
                    <a:chExt cx="279360" cy="275400"/>
                  </a:xfrm>
                </p:grpSpPr>
                <p:sp>
                  <p:nvSpPr>
                    <p:cNvPr id="159" name="Freeform 10"/>
                    <p:cNvSpPr/>
                    <p:nvPr/>
                  </p:nvSpPr>
                  <p:spPr>
                    <a:xfrm rot="16200000">
                      <a:off x="8746200" y="-3852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custGeom>
                      <a:avLst/>
                      <a:gdLst>
                        <a:gd name="textAreaLeft" fmla="*/ 0 w 141120"/>
                        <a:gd name="textAreaRight" fmla="*/ 141480 w 14112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1" name="Oval 12"/>
                  <p:cNvSpPr/>
                  <p:nvPr/>
                </p:nvSpPr>
                <p:spPr>
                  <a:xfrm rot="16200000">
                    <a:off x="8826840" y="1310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Freeform 13"/>
                  <p:cNvSpPr/>
                  <p:nvPr/>
                </p:nvSpPr>
                <p:spPr>
                  <a:xfrm rot="16200000">
                    <a:off x="8760600" y="72000"/>
                    <a:ext cx="42480" cy="5724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Freeform 15"/>
                  <p:cNvSpPr/>
                  <p:nvPr/>
                </p:nvSpPr>
                <p:spPr>
                  <a:xfrm rot="16200000">
                    <a:off x="890100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Freeform 16"/>
                  <p:cNvSpPr/>
                  <p:nvPr/>
                </p:nvSpPr>
                <p:spPr>
                  <a:xfrm rot="16200000">
                    <a:off x="8826840" y="19296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17"/>
                  <p:cNvSpPr/>
                  <p:nvPr/>
                </p:nvSpPr>
                <p:spPr>
                  <a:xfrm rot="16200000">
                    <a:off x="8775360" y="16812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7" name="Picture 18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8381880" y="2296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Picture 19" descr=""/>
                <p:cNvPicPr/>
                <p:nvPr/>
              </p:nvPicPr>
              <p:blipFill>
                <a:blip r:embed="rId32"/>
                <a:stretch/>
              </p:blipFill>
              <p:spPr>
                <a:xfrm>
                  <a:off x="8848800" y="2296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Picture 20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8610480" y="534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Picture 21" descr="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8534520" y="91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Picture 22" descr="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8848800" y="839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Picture 23" descr="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8686800" y="122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Picture 24" descr=""/>
                <p:cNvPicPr/>
                <p:nvPr/>
              </p:nvPicPr>
              <p:blipFill>
                <a:blip r:embed="rId37"/>
                <a:stretch/>
              </p:blipFill>
              <p:spPr>
                <a:xfrm>
                  <a:off x="8848800" y="1600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Picture 25" descr=""/>
                <p:cNvPicPr/>
                <p:nvPr/>
              </p:nvPicPr>
              <p:blipFill>
                <a:blip r:embed="rId38"/>
                <a:stretch/>
              </p:blipFill>
              <p:spPr>
                <a:xfrm>
                  <a:off x="8848800" y="1981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75" name="Group 26"/>
              <p:cNvGrpSpPr/>
              <p:nvPr/>
            </p:nvGrpSpPr>
            <p:grpSpPr>
              <a:xfrm>
                <a:off x="7848720" y="1600920"/>
                <a:ext cx="828720" cy="4708800"/>
                <a:chOff x="7848720" y="1600920"/>
                <a:chExt cx="828720" cy="4708800"/>
              </a:xfrm>
            </p:grpSpPr>
            <p:pic>
              <p:nvPicPr>
                <p:cNvPr id="176" name="Picture 27" descr=""/>
                <p:cNvPicPr/>
                <p:nvPr/>
              </p:nvPicPr>
              <p:blipFill>
                <a:blip r:embed="rId39"/>
                <a:stretch/>
              </p:blipFill>
              <p:spPr>
                <a:xfrm>
                  <a:off x="8153280" y="1600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Picture 28" descr=""/>
                <p:cNvPicPr/>
                <p:nvPr/>
              </p:nvPicPr>
              <p:blipFill>
                <a:blip r:embed="rId40"/>
                <a:stretch/>
              </p:blipFill>
              <p:spPr>
                <a:xfrm>
                  <a:off x="8229600" y="190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Picture 29" descr=""/>
                <p:cNvPicPr/>
                <p:nvPr/>
              </p:nvPicPr>
              <p:blipFill>
                <a:blip r:embed="rId41"/>
                <a:stretch/>
              </p:blipFill>
              <p:spPr>
                <a:xfrm>
                  <a:off x="8153280" y="2514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Picture 30" descr=""/>
                <p:cNvPicPr/>
                <p:nvPr/>
              </p:nvPicPr>
              <p:blipFill>
                <a:blip r:embed="rId42"/>
                <a:stretch/>
              </p:blipFill>
              <p:spPr>
                <a:xfrm>
                  <a:off x="8381880" y="2743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Picture 31" descr=""/>
                <p:cNvPicPr/>
                <p:nvPr/>
              </p:nvPicPr>
              <p:blipFill>
                <a:blip r:embed="rId43"/>
                <a:stretch/>
              </p:blipFill>
              <p:spPr>
                <a:xfrm>
                  <a:off x="8001000" y="289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1" name="Picture 32" descr=""/>
                <p:cNvPicPr/>
                <p:nvPr/>
              </p:nvPicPr>
              <p:blipFill>
                <a:blip r:embed="rId44"/>
                <a:stretch/>
              </p:blipFill>
              <p:spPr>
                <a:xfrm>
                  <a:off x="8077320" y="3200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2" name="Picture 33" descr=""/>
                <p:cNvPicPr/>
                <p:nvPr/>
              </p:nvPicPr>
              <p:blipFill>
                <a:blip r:embed="rId45"/>
                <a:stretch/>
              </p:blipFill>
              <p:spPr>
                <a:xfrm>
                  <a:off x="8381880" y="3276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3" name="Picture 34" descr=""/>
                <p:cNvPicPr/>
                <p:nvPr/>
              </p:nvPicPr>
              <p:blipFill>
                <a:blip r:embed="rId46"/>
                <a:stretch/>
              </p:blipFill>
              <p:spPr>
                <a:xfrm>
                  <a:off x="8305920" y="3733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4" name="Picture 35" descr=""/>
                <p:cNvPicPr/>
                <p:nvPr/>
              </p:nvPicPr>
              <p:blipFill>
                <a:blip r:embed="rId47"/>
                <a:stretch/>
              </p:blipFill>
              <p:spPr>
                <a:xfrm>
                  <a:off x="7924680" y="3505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5" name="Picture 36" descr=""/>
                <p:cNvPicPr/>
                <p:nvPr/>
              </p:nvPicPr>
              <p:blipFill>
                <a:blip r:embed="rId48"/>
                <a:stretch/>
              </p:blipFill>
              <p:spPr>
                <a:xfrm>
                  <a:off x="7924680" y="3886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6" name="Picture 37" descr=""/>
                <p:cNvPicPr/>
                <p:nvPr/>
              </p:nvPicPr>
              <p:blipFill>
                <a:blip r:embed="rId49"/>
                <a:stretch/>
              </p:blipFill>
              <p:spPr>
                <a:xfrm>
                  <a:off x="8153280" y="4114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7" name="Picture 38" descr=""/>
                <p:cNvPicPr/>
                <p:nvPr/>
              </p:nvPicPr>
              <p:blipFill>
                <a:blip r:embed="rId50"/>
                <a:stretch/>
              </p:blipFill>
              <p:spPr>
                <a:xfrm>
                  <a:off x="8305920" y="221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8" name="Picture 39" descr=""/>
                <p:cNvPicPr/>
                <p:nvPr/>
              </p:nvPicPr>
              <p:blipFill>
                <a:blip r:embed="rId51"/>
                <a:stretch/>
              </p:blipFill>
              <p:spPr>
                <a:xfrm>
                  <a:off x="7848720" y="4343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9" name="Picture 40" descr=""/>
                <p:cNvPicPr/>
                <p:nvPr/>
              </p:nvPicPr>
              <p:blipFill>
                <a:blip r:embed="rId52"/>
                <a:stretch/>
              </p:blipFill>
              <p:spPr>
                <a:xfrm>
                  <a:off x="7924680" y="4876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0" name="Picture 41" descr=""/>
                <p:cNvPicPr/>
                <p:nvPr/>
              </p:nvPicPr>
              <p:blipFill>
                <a:blip r:embed="rId53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1" name="Picture 42" descr=""/>
                <p:cNvPicPr/>
                <p:nvPr/>
              </p:nvPicPr>
              <p:blipFill>
                <a:blip r:embed="rId54"/>
                <a:stretch/>
              </p:blipFill>
              <p:spPr>
                <a:xfrm>
                  <a:off x="7924680" y="5409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2" name="Picture 43" descr=""/>
                <p:cNvPicPr/>
                <p:nvPr/>
              </p:nvPicPr>
              <p:blipFill>
                <a:blip r:embed="rId55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3" name="Picture 44" descr=""/>
                <p:cNvPicPr/>
                <p:nvPr/>
              </p:nvPicPr>
              <p:blipFill>
                <a:blip r:embed="rId56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4" name="Picture 45" descr=""/>
                <p:cNvPicPr/>
                <p:nvPr/>
              </p:nvPicPr>
              <p:blipFill>
                <a:blip r:embed="rId57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95" name="Freeform 46"/>
            <p:cNvSpPr/>
            <p:nvPr/>
          </p:nvSpPr>
          <p:spPr>
            <a:xfrm>
              <a:off x="7953480" y="4908960"/>
              <a:ext cx="1190520" cy="193932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9320"/>
                <a:gd name="textAreaBottom" fmla="*/ 1939680 h 193932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" name="Freeform 47"/>
            <p:cNvSpPr/>
            <p:nvPr/>
          </p:nvSpPr>
          <p:spPr>
            <a:xfrm>
              <a:off x="7939080" y="4858200"/>
              <a:ext cx="1219320" cy="199944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9440"/>
                <a:gd name="textAreaBottom" fmla="*/ 1999800 h 199944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" name="Freeform 48"/>
            <p:cNvSpPr/>
            <p:nvPr/>
          </p:nvSpPr>
          <p:spPr>
            <a:xfrm>
              <a:off x="7927920" y="2818440"/>
              <a:ext cx="1231920" cy="403596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5960"/>
                <a:gd name="textAreaBottom" fmla="*/ 4035960 h 403596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8" name="Freeform 49"/>
            <p:cNvSpPr/>
            <p:nvPr/>
          </p:nvSpPr>
          <p:spPr>
            <a:xfrm>
              <a:off x="8010360" y="3538800"/>
              <a:ext cx="979560" cy="218376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3760"/>
                <a:gd name="textAreaBottom" fmla="*/ 2184120 h 218376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5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9" name="Freeform 50"/>
            <p:cNvSpPr/>
            <p:nvPr/>
          </p:nvSpPr>
          <p:spPr>
            <a:xfrm>
              <a:off x="8244000" y="428040"/>
              <a:ext cx="914400" cy="504720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7200"/>
                <a:gd name="textAreaBottom" fmla="*/ 5047560 h 504720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5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Freeform 51"/>
            <p:cNvSpPr/>
            <p:nvPr/>
          </p:nvSpPr>
          <p:spPr>
            <a:xfrm>
              <a:off x="8250120" y="263160"/>
              <a:ext cx="909720" cy="30708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0800"/>
                <a:gd name="textAreaBottom" fmla="*/ 3071160 h 307080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Freeform 52"/>
            <p:cNvSpPr/>
            <p:nvPr/>
          </p:nvSpPr>
          <p:spPr>
            <a:xfrm>
              <a:off x="7943760" y="1080"/>
              <a:ext cx="576360" cy="335196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1960"/>
                <a:gd name="textAreaBottom" fmla="*/ 3352320 h 335196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2" name="Freeform 53"/>
            <p:cNvSpPr/>
            <p:nvPr/>
          </p:nvSpPr>
          <p:spPr>
            <a:xfrm>
              <a:off x="7943760" y="2520"/>
              <a:ext cx="300240" cy="335232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2320"/>
                <a:gd name="textAreaBottom" fmla="*/ 3352680 h 335232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3" name="Rectangle 54"/>
            <p:cNvSpPr/>
            <p:nvPr/>
          </p:nvSpPr>
          <p:spPr>
            <a:xfrm>
              <a:off x="7866000" y="2520"/>
              <a:ext cx="8892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4" name="Freeform 55"/>
            <p:cNvSpPr/>
            <p:nvPr/>
          </p:nvSpPr>
          <p:spPr>
            <a:xfrm>
              <a:off x="7958160" y="6229440"/>
              <a:ext cx="1165320" cy="61884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5" name="AutoShape 56"/>
            <p:cNvSpPr/>
            <p:nvPr/>
          </p:nvSpPr>
          <p:spPr>
            <a:xfrm rot="5400000">
              <a:off x="4324680" y="3316680"/>
              <a:ext cx="6856560" cy="225360"/>
            </a:xfrm>
            <a:custGeom>
              <a:avLst/>
              <a:gdLst>
                <a:gd name="textAreaLeft" fmla="*/ 668160 w 6856560"/>
                <a:gd name="textAreaRight" fmla="*/ 6188400 w 68565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6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6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6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1955-F287-4C04-9520-51D692E16A35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3"/>
    <p:sldLayoutId id="2147483663" r:id="rId64"/>
    <p:sldLayoutId id="2147483664" r:id="rId65"/>
    <p:sldLayoutId id="2147483665" r:id="rId66"/>
    <p:sldLayoutId id="2147483666" r:id="rId67"/>
    <p:sldLayoutId id="2147483667" r:id="rId68"/>
    <p:sldLayoutId id="2147483668" r:id="rId69"/>
    <p:sldLayoutId id="2147483669" r:id="rId70"/>
    <p:sldLayoutId id="2147483670" r:id="rId71"/>
    <p:sldLayoutId id="2147483671" r:id="rId72"/>
    <p:sldLayoutId id="2147483672" r:id="rId73"/>
    <p:sldLayoutId id="2147483673" r:id="rId7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55640" y="3860280"/>
            <a:ext cx="6764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Особенности сотрудничества учителя - логопеда с родителями детей раннего возраста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0" y="3743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9" name="Picture 5" descr="https://s52vla.storage.yandex.net/rdisk/d9b32c1899726a5d121395f64d8ba83801467cd73aff4a10c9fdc6594e370ac4/5c8a340e/mC7e0OsYrtJDeMZmvbKxyeAbUL1_-Q8Lr651Le01tN-UW6Z9rtS1ffLaFIKfWxLWq_J6bpmRyOJonT3VoXnDag==?uid=0&amp;filename=5a56436e202e.png&amp;disposition=inline&amp;hash=&amp;limit=0&amp;content_type=inline&amp;tknv=v2&amp;rtoken=T5ewkp1raZBF&amp;force_default=no&amp;ycrid=na-c71f903967241d72825579a5c3749751-downloader22f&amp;ts=5840bd0ca9f80&amp;s=8ead508a3c8461c6ea94a4d6be2060b100d7b1c1fae1ef3f6f2112811aacc324&amp;pb=U2FsdGVkX18r7bwwnxBVXJZlMaqrbuuoxeGmJ7nG-ysKC1V-rU3mqm20xR9RzImxvo0NqemIjlqrXGJ40juX_w"/>
          <p:cNvPicPr/>
          <p:nvPr/>
        </p:nvPicPr>
        <p:blipFill>
          <a:blip r:embed="rId1"/>
          <a:stretch/>
        </p:blipFill>
        <p:spPr>
          <a:xfrm>
            <a:off x="1428840" y="928800"/>
            <a:ext cx="514332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СПАСИБО   ЗА  ВНИМАНИЕ!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4" name="Picture 6" descr="https://s22vla.storage.yandex.net/rdisk/08c1fe272ca0b481c64db2649af39ac00e8d9dd5bd6218c6cc61af32d6e6cca5/5c8a2d11/vXZ9LYuhFneeB8U0hagDeFEg1BAStueybU7gkjpzZbEG6GPd3QlQz0o_XMbZv2xtq_J6bpmRyOJonT3VoXnDag==?uid=0&amp;filename=9b0087729546.png&amp;disposition=inline&amp;hash=&amp;limit=0&amp;content_type=inline&amp;tknv=v2&amp;rtoken=IwRKlvrBL2RU&amp;force_default=no&amp;ycrid=na-2c8676c6de7326a7168332c981f3d892-downloader2f&amp;ts=5840b6628a640&amp;s=5b034809ebcf19591315daa602f6c8731bf31b512586306bfce2b575343d5ad8&amp;pb=U2FsdGVkX1_fKoW1j9iGAqRDGqiHEF-8Noc4FvpSYOKjmcRkXuwxsJEWnteDMKZ3RdbSMa0hDqM-r0sQT2IoqQ"/>
          <p:cNvPicPr/>
          <p:nvPr/>
        </p:nvPicPr>
        <p:blipFill>
          <a:blip r:embed="rId1"/>
          <a:stretch/>
        </p:blipFill>
        <p:spPr>
          <a:xfrm>
            <a:off x="2071800" y="2714760"/>
            <a:ext cx="333360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Что предусматривает работа учителя-логопеда с родителями детей раннего возраста: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Формы работ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Родительские собрани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Индивидуальные консультаци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еминары – практикум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Дни открытых дверей для родителей впервые поступивших детей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Изготовление стендов и папок-передвижек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Обследование речи детей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2" name="Рисунок 2" descr="http://www.dou914.edusite.ru/images/5f8350820dd8.png"/>
          <p:cNvPicPr/>
          <p:nvPr/>
        </p:nvPicPr>
        <p:blipFill>
          <a:blip r:embed="rId1"/>
          <a:stretch/>
        </p:blipFill>
        <p:spPr>
          <a:xfrm>
            <a:off x="5214960" y="5286240"/>
            <a:ext cx="2060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Работа с родителями неговорящих детей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Родители таких детей по-разному относятся к такой ситуации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1 вариант: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не видят проблемы в том, что ребенок в 2,5 года молчит, объясняя это так: он все понимает, только ленится, или он весь в папу(тетю, дедушку), тот тоже поздно заговорил, или с мальчиками всегда так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2 вариант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: родители, напротив, много читают, ищут выход из ситуации, но, четко следуя советам, не могут или не хотят признать, что у всех детей разные стартовые возможности, и удивляются: Я все делаю, как рекомендуется: не сюсюкаю, говорю полными словами, много читаю, ставлю для прослушивания аудиокассеты. А он по-прежнему молчит.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1532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Что можно посоветовать родителям: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767556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 первом варианте: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действительно многие дети начинают говорить после 2,5-3 лет. Но подобная задержка сама по себе уже должна насторожить: значит какие-то, пусть минимальные, но изменения в развитии есть 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торой вариант: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таким родителям приходится объяснять, что они награждают ребенка непосильной работой. Да, один малыш встанет на ножки и легко потопает сам, без посторонней помощи, а другой будет долго ходить по стенке, и ему придется специально формировать корригировать походку. Так же и с речью. Если родитель видит, что ребенок не справляется, он должен облегчить ему задачу ( например использовать в речи звукоподражания, лепетные слова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Рекомендации для родителей, чьи дети долго не могут заговорить: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Больше говорите с ребенком, озвучивая все действия (кормление, купание, одевание), комментируя окружающее, не боясь повторения одних и тех же слов, произносите их четко, терпеливо, доброжелательно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Развивайте понимание речи, используя простые инструкции типа «Дай ручку, где ножка?». Опирайтесь на то, что ребенку доступно. Неоднократно повторяйте уже усвоенное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78920" y="404640"/>
            <a:ext cx="7386840" cy="60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Используйте в речи наряду с полными словами их упрощенные варианты: машина-би-би, кукля-ля-л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ойте ребенку перед сном. Лучше не менять часто репертуар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ызывайте желание подражать взрослому. Это возможно, когда сочетаются эмоциональная заинтересованность и доступность слов, которые ребенок произносит во время совместных игр (прятки – ку-ку, паровозик – ту-ту). Можно вместе удивляться увиденному: ух ты, ой, ах, ух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263520" y="259920"/>
            <a:ext cx="73864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очаще рассказывайте, читайте первые детские сказки, стихи. Побуждайте договаривать слова по мере речевой возможности. «изображайте стихи» ( пример : мишка косолапый по лесу идет, ребенок показывает мишку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Не перегружайте ребенка телевизионной, видео и аудиоинформацией. При чтении сокращайте текст до понятных фраз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Не говорите при ребенке о его отставани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Не раздражайтесь, не стесняйтесь того, что ваш ребенок не говорит. Не проявляйте излишнюю тревогу: у каждого свои сроки, свои проблемы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73864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Не дожидаясь, пока ребенок заговорит, начинайте учить его различать предметы по размеру (большой-маленький), соотносить цвета, форму (дай такой же), количество (один-много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оводите массаж пальчиков рук и ладошек, народные игры («сорока-сорока», «ладушки-ладушки» и т.п.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ажно не отпугнуть ребенка настойчивым «скажи», «повтори», лучше применять различные игрушки и от лица персонажа побуждать к речи: «Скажи как ляля», «Как киса говорит?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сякое проявление речи необходимо поощрять, не обращая внимание на качество звукопроизношени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263520" y="476280"/>
            <a:ext cx="73864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 можно чаще рассматривайте сюжетные картинки, при этом взрослый задает постепенно усложняющиеся вопросы (делая паузы, поощряя ребенка к любому ответу) и сам на них отвечае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( покажи где мячик, вот мячик, у кого мячик? У куклы, ляли.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Развивайте у малыша артикуляционное внимание (к движениям органов артикуляции), приучая его смотреть на лицо говорящего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8T19:59:53Z</dcterms:created>
  <dc:creator>Виктория</dc:creator>
  <dc:description/>
  <dc:language>en-US</dc:language>
  <cp:lastModifiedBy>МБДОУ № 176</cp:lastModifiedBy>
  <dcterms:modified xsi:type="dcterms:W3CDTF">2019-03-14T10:54:11Z</dcterms:modified>
  <cp:revision>15</cp:revision>
  <dc:subject/>
  <dc:title>Рекомендации для родителей неговорящих и плохоговорящих детей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4030000000000010250600207f5000400038000</vt:lpwstr>
  </property>
</Properties>
</file>