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7AA-72E4-429E-811F-1F060AA9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102614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739320"/>
            <a:ext cx="102614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E932-37C1-4384-AE69-D0533CD3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172560" y="182880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73932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72560" y="373932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760-97E6-4607-8D12-CAD147EB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3304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84080" y="1828800"/>
            <a:ext cx="3304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853760" y="1828800"/>
            <a:ext cx="3304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739320"/>
            <a:ext cx="3304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84080" y="3739320"/>
            <a:ext cx="3304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853760" y="3739320"/>
            <a:ext cx="3304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AA60-DC36-4A9B-8905-73F409D10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9B00-3C1A-43AE-B0B8-E061652E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14400" y="1828800"/>
            <a:ext cx="10261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5B9F-031D-44A8-A022-D1A7E15B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10261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08B2-7477-4C95-9924-9C9FD3C8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5007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172560" y="1828800"/>
            <a:ext cx="5007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D613-6657-4835-8D97-F316DA4E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150F-0FFF-41F8-9EB4-B5577D26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914040" y="151920"/>
            <a:ext cx="916164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BED6-3CAE-4E4A-BE9E-7E5EBBF3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172560" y="1828800"/>
            <a:ext cx="5007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14400" y="373932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F057-D858-4064-BB39-79447BDD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828800"/>
            <a:ext cx="10261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067C-624F-4A17-AA25-0383C4AD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5007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172560" y="182880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2560" y="373932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AFDF-37FC-4D72-92E3-2FBBD571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172560" y="182880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14400" y="3739320"/>
            <a:ext cx="102614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FB57-6E68-4F31-B567-DB4FB6E5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102614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914400" y="3739320"/>
            <a:ext cx="102614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EFE7-240A-4EDD-BAAE-DE7DF270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172560" y="182880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14400" y="373932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172560" y="373932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38AB-A173-4BE8-B97C-4DE0DC6A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3304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384080" y="1828800"/>
            <a:ext cx="3304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853760" y="1828800"/>
            <a:ext cx="3304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914400" y="3739320"/>
            <a:ext cx="3304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384080" y="3739320"/>
            <a:ext cx="3304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853760" y="3739320"/>
            <a:ext cx="3304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F790-FEF6-4389-AE9A-51E31BD9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10261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1DC1-BC64-4188-BF9F-11555EB3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5007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172560" y="1828800"/>
            <a:ext cx="5007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DDDF-3039-40A6-9C66-85E2A41F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672E-15C7-447A-A1FE-56A06949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151920"/>
            <a:ext cx="916164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B2F2-7108-4FBD-95F9-EEEBCD5A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172560" y="1828800"/>
            <a:ext cx="5007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73932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8946-D392-4F98-AD72-5BBD9F3A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5007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172560" y="182880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72560" y="373932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0D2B-0605-4FD8-A93E-A25E88E6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72560" y="1828800"/>
            <a:ext cx="500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739320"/>
            <a:ext cx="102614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3E90-F76B-4DAB-A303-28506DD1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10563840" y="-362160"/>
            <a:ext cx="1162080" cy="2779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828800"/>
            <a:ext cx="10261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8288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741920" y="6248520"/>
            <a:ext cx="386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95824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0C00-5658-4F37-9EF8-47B3BDA4D6A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10681200" y="-324360"/>
            <a:ext cx="1164960" cy="27957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10612080" y="-69840"/>
            <a:ext cx="1025640" cy="209556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11160" y="5540400"/>
            <a:ext cx="2376720" cy="1246320"/>
            <a:chOff x="11160" y="5540400"/>
            <a:chExt cx="2376720" cy="1246320"/>
          </a:xfrm>
        </p:grpSpPr>
        <p:sp>
          <p:nvSpPr>
            <p:cNvPr id="9" name="Freeform 11"/>
            <p:cNvSpPr/>
            <p:nvPr/>
          </p:nvSpPr>
          <p:spPr>
            <a:xfrm>
              <a:off x="51120" y="5564160"/>
              <a:ext cx="230364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162520" y="5686560"/>
              <a:ext cx="15012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42480" y="5991120"/>
              <a:ext cx="167544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73240" y="6045120"/>
              <a:ext cx="111024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1026720" y="5607000"/>
              <a:ext cx="28512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56480" y="6608880"/>
              <a:ext cx="16056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067040" y="5726160"/>
              <a:ext cx="40824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413720" y="5699160"/>
              <a:ext cx="76968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734400" y="5862600"/>
              <a:ext cx="32976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11160" y="5540400"/>
              <a:ext cx="2376720" cy="1238400"/>
              <a:chOff x="11160" y="5540400"/>
              <a:chExt cx="23767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1055520" y="5654520"/>
                <a:ext cx="1158840" cy="1124280"/>
                <a:chOff x="1055520" y="5654520"/>
                <a:chExt cx="115884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1055520" y="5694480"/>
                  <a:ext cx="3322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345320" y="6567480"/>
                  <a:ext cx="24300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2123280" y="5654520"/>
                  <a:ext cx="9108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61280" y="5924520"/>
                <a:ext cx="125856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550440" y="6168960"/>
                <a:ext cx="51588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1195200" y="5842080"/>
                <a:ext cx="22608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11160" y="5540400"/>
                <a:ext cx="2376720" cy="1076400"/>
                <a:chOff x="11160" y="5540400"/>
                <a:chExt cx="23767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415160" y="6426360"/>
                  <a:ext cx="15840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11160" y="5918040"/>
                  <a:ext cx="178056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224280" y="5985000"/>
                  <a:ext cx="16920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950040" y="5540400"/>
                  <a:ext cx="68076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1222920" y="5794200"/>
                  <a:ext cx="2026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694080" y="5762520"/>
                  <a:ext cx="4122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392120" y="5616720"/>
                  <a:ext cx="99576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517040" y="5724360"/>
                  <a:ext cx="51768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11574360" y="2116080"/>
            <a:ext cx="513720" cy="4308480"/>
            <a:chOff x="11574360" y="2116080"/>
            <a:chExt cx="5137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11574360" y="4159080"/>
              <a:ext cx="433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11654640" y="2116080"/>
              <a:ext cx="433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9679680" y="-297000"/>
            <a:ext cx="3000960" cy="2685600"/>
            <a:chOff x="9679680" y="-297000"/>
            <a:chExt cx="3000960" cy="2685600"/>
          </a:xfrm>
        </p:grpSpPr>
        <p:grpSp>
          <p:nvGrpSpPr>
            <p:cNvPr id="39" name="Group 41"/>
            <p:cNvGrpSpPr/>
            <p:nvPr/>
          </p:nvGrpSpPr>
          <p:grpSpPr>
            <a:xfrm>
              <a:off x="9679680" y="-297000"/>
              <a:ext cx="3000960" cy="2685600"/>
              <a:chOff x="9679680" y="-297000"/>
              <a:chExt cx="3000960" cy="26856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11509560" y="1648080"/>
                <a:ext cx="98640" cy="60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9679680" y="-297000"/>
                <a:ext cx="3000960" cy="2685600"/>
                <a:chOff x="9679680" y="-297000"/>
                <a:chExt cx="3000960" cy="26856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10550880" y="80280"/>
                  <a:ext cx="245160" cy="264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10754640" y="416880"/>
                  <a:ext cx="431280" cy="926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10412280" y="58320"/>
                  <a:ext cx="809640" cy="1902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10572120" y="-375840"/>
                  <a:ext cx="1215720" cy="284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11258640" y="1389600"/>
                  <a:ext cx="270720" cy="258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11168280" y="1237320"/>
                  <a:ext cx="290520" cy="30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10598040" y="298080"/>
                  <a:ext cx="290160" cy="311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10522080" y="189000"/>
                  <a:ext cx="287280" cy="291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10308600" y="133200"/>
              <a:ext cx="89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7000" y="12600"/>
            <a:ext cx="1186164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260280" y="235080"/>
            <a:ext cx="5049360" cy="1778040"/>
            <a:chOff x="260280" y="235080"/>
            <a:chExt cx="5049360" cy="1778040"/>
          </a:xfrm>
        </p:grpSpPr>
        <p:sp>
          <p:nvSpPr>
            <p:cNvPr id="89" name="Freeform 9"/>
            <p:cNvSpPr/>
            <p:nvPr/>
          </p:nvSpPr>
          <p:spPr>
            <a:xfrm>
              <a:off x="374760" y="281160"/>
              <a:ext cx="47613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351360" y="414360"/>
              <a:ext cx="474876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1002960" y="546120"/>
              <a:ext cx="314928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260280" y="235080"/>
              <a:ext cx="5049360" cy="1716120"/>
              <a:chOff x="260280" y="235080"/>
              <a:chExt cx="504936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4242960" y="1482840"/>
                <a:ext cx="44856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260280" y="235080"/>
                <a:ext cx="504936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685800" y="250920"/>
                <a:ext cx="356796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865800" y="398520"/>
                <a:ext cx="48024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790640" y="851040"/>
                <a:ext cx="146196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10492920" y="4281480"/>
            <a:ext cx="1110960" cy="1240560"/>
            <a:chOff x="10492920" y="4281480"/>
            <a:chExt cx="1110960" cy="1240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10561320" y="4589640"/>
              <a:ext cx="986400" cy="6188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10527840" y="4554000"/>
              <a:ext cx="983160" cy="61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10694520" y="4575960"/>
              <a:ext cx="652320" cy="5598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10492920" y="4286880"/>
              <a:ext cx="1110960" cy="1235160"/>
              <a:chOff x="10492920" y="4286880"/>
              <a:chExt cx="1110960" cy="12351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10571400" y="5051160"/>
                <a:ext cx="9252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10525320" y="4575960"/>
                <a:ext cx="1045800" cy="65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10842120" y="4717440"/>
                <a:ext cx="740160" cy="37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11369880" y="4539240"/>
                <a:ext cx="98280" cy="24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10925640" y="4725000"/>
                <a:ext cx="302400" cy="21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1201680" y="5054760"/>
            <a:ext cx="907740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5435640" y="1930320"/>
            <a:ext cx="118584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916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1828800"/>
            <a:ext cx="10261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9144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4AEE-B5FF-456E-B526-BC44CD9EDB2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69600" y="274320"/>
            <a:ext cx="9161640" cy="12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Муниципальное автономное дошкольное образовательное учреждение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"Детский сад с приоритетным осуществлением интеллектуального, художественно-эстетического направлений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развития воспитанников № 344 г. Челябинска"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МАДОУ "ДС № 344 г. Челябинска"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8109000" y="4403880"/>
            <a:ext cx="340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полнил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Воспитатель подготовительной к школе группы Зарипова А.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5227560" y="591480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елябинск 20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817640" y="2400840"/>
            <a:ext cx="883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амообразование по теме: «Дидактические игры и упражнения в обучении детей подготовительно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школе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руппы основам математики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5520" y="522000"/>
            <a:ext cx="1010304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идактическая игра: «Математическая машин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392120"/>
            <a:ext cx="10261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звивать представления детей о составе числ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од игры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машине указан номер, задача ребенка подобрать соответствующие колеса, таким образом, чтобы их сумма была равна номеру машины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4" descr="nkpNXpve230"/>
          <p:cNvPicPr/>
          <p:nvPr/>
        </p:nvPicPr>
        <p:blipFill>
          <a:blip r:embed="rId1"/>
          <a:stretch/>
        </p:blipFill>
        <p:spPr>
          <a:xfrm>
            <a:off x="1403280" y="3346560"/>
            <a:ext cx="4478400" cy="3359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zXfar5vNpn4"/>
          <p:cNvPicPr/>
          <p:nvPr/>
        </p:nvPicPr>
        <p:blipFill>
          <a:blip r:embed="rId2"/>
          <a:stretch/>
        </p:blipFill>
        <p:spPr>
          <a:xfrm>
            <a:off x="8143920" y="3365640"/>
            <a:ext cx="245088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0840" y="365040"/>
            <a:ext cx="9161280" cy="61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идактическая игра: «Весы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1127160"/>
            <a:ext cx="10806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репить умение сравнивать числа, знание состава числа и математических действ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од игры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ям предлагаются карточки с изображением весов (больше, меньше, равно) и  гири с разными объемами. Задача детей подобрать гири к веса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914400" y="0"/>
            <a:ext cx="9161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5" descr="djWLLxifH7s"/>
          <p:cNvPicPr/>
          <p:nvPr/>
        </p:nvPicPr>
        <p:blipFill>
          <a:blip r:embed="rId1"/>
          <a:stretch/>
        </p:blipFill>
        <p:spPr>
          <a:xfrm>
            <a:off x="1127160" y="3436920"/>
            <a:ext cx="4335480" cy="32511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XaSRiLjZnJI"/>
          <p:cNvPicPr/>
          <p:nvPr/>
        </p:nvPicPr>
        <p:blipFill>
          <a:blip r:embed="rId2"/>
          <a:stretch/>
        </p:blipFill>
        <p:spPr>
          <a:xfrm>
            <a:off x="6205680" y="3444840"/>
            <a:ext cx="42973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400" y="258480"/>
            <a:ext cx="91616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идактическая игра: «Прищепки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57120" y="1112400"/>
            <a:ext cx="628488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репить представление детей о числе и количестве, развивает умение определять место того или иного числа, и развивает мелкую моторику руки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од игры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бёнку предлагается посчитать предметы в серединке цветка и с помощью прищепки указать ответ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 С помощью прищепок определить из каких чисел состоит то или иное число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С помощью прищепки указать пропущенную цифру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5" descr="Nq3E2FQZZuA"/>
          <p:cNvPicPr/>
          <p:nvPr/>
        </p:nvPicPr>
        <p:blipFill>
          <a:blip r:embed="rId1"/>
          <a:stretch/>
        </p:blipFill>
        <p:spPr>
          <a:xfrm>
            <a:off x="8982000" y="920880"/>
            <a:ext cx="2827440" cy="3768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detsad-243633-1476717416"/>
          <p:cNvPicPr/>
          <p:nvPr/>
        </p:nvPicPr>
        <p:blipFill>
          <a:blip r:embed="rId2"/>
          <a:stretch/>
        </p:blipFill>
        <p:spPr>
          <a:xfrm>
            <a:off x="8885160" y="4859280"/>
            <a:ext cx="3013200" cy="1812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2590887742"/>
          <p:cNvPicPr/>
          <p:nvPr/>
        </p:nvPicPr>
        <p:blipFill>
          <a:blip r:embed="rId3"/>
          <a:stretch/>
        </p:blipFill>
        <p:spPr>
          <a:xfrm>
            <a:off x="5992920" y="4832280"/>
            <a:ext cx="2660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25160" y="325440"/>
            <a:ext cx="91616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идактическая игра: «Сосчитай и запиш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03080" y="1258920"/>
            <a:ext cx="10845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внимания, навыков счета счета в пределах 10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од игры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читай и запиши, сколько раз встречаетс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т или иной предм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ИЛИ Сосчитай, сколько раз встречается предмет и найди нужную цифру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5" descr="_R8aUcwNoQI"/>
          <p:cNvPicPr/>
          <p:nvPr/>
        </p:nvPicPr>
        <p:blipFill>
          <a:blip r:embed="rId1"/>
          <a:stretch/>
        </p:blipFill>
        <p:spPr>
          <a:xfrm>
            <a:off x="527040" y="3435480"/>
            <a:ext cx="4351320" cy="32637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awkeCTZZfZw"/>
          <p:cNvPicPr/>
          <p:nvPr/>
        </p:nvPicPr>
        <p:blipFill>
          <a:blip r:embed="rId2"/>
          <a:stretch/>
        </p:blipFill>
        <p:spPr>
          <a:xfrm>
            <a:off x="7689960" y="3432240"/>
            <a:ext cx="4292640" cy="3219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2620593933"/>
          <p:cNvPicPr/>
          <p:nvPr/>
        </p:nvPicPr>
        <p:blipFill>
          <a:blip r:embed="rId3"/>
          <a:stretch/>
        </p:blipFill>
        <p:spPr>
          <a:xfrm>
            <a:off x="5435640" y="3692520"/>
            <a:ext cx="1947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47800" y="429840"/>
            <a:ext cx="951840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Дидактическая игра: «Почт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28280" y="1390680"/>
            <a:ext cx="10672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внимания, навыков счета счета в пределах 10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репление знаний о профессии почтальон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од игры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ям предлагаются  «Почтовые ящики» и открытки с картинками. Задача детей посчитать картинки на открытке и положить в соответствующий почтовый ящик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19" descr="xqFSWrt3yYg"/>
          <p:cNvPicPr/>
          <p:nvPr/>
        </p:nvPicPr>
        <p:blipFill>
          <a:blip r:embed="rId1"/>
          <a:stretch/>
        </p:blipFill>
        <p:spPr>
          <a:xfrm>
            <a:off x="3232080" y="3086280"/>
            <a:ext cx="567684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12760" y="509760"/>
            <a:ext cx="10631520" cy="582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Обучать детей основам математики через дидактическую игр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развивать интеллектуальные способности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Упражнять в количественном и порядковом счете, пространственной ориентировк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Закрепить умение быстро находить геометрические фигуры определенного размера и цвета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Закрепить знания детей в решение задач в пределах 10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 Развивать логическое мышление, умение мыслить, рассуждать, доказывать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 Воспитывать целеустремленность, устойчивость, интерес к математическим знаниям. 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1560" y="1917720"/>
            <a:ext cx="10434600" cy="42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ешение поставленных задач с детьм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Повысить собственный уровень знаний путем изучения необходимой литератур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Разработать и изготовить картотеку дидактических игр по математик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Продолжать развивать навыки самостоятельной деятельности детей, умение сосредотачиваться на одном объекте, умственные способности, коммуникативные навык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Способствовать формированию дружеских взаимоотношений со сверстникам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Развивать у детей интерес к математике в дошкольном возраст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Приобщать к предмету в игровой форм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8920" y="296640"/>
            <a:ext cx="916128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Дидактическая игра: «Рыбалка»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38120" y="923760"/>
            <a:ext cx="7086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Цель: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репить у детей умение выполнять простые арифметические действия на сложение и вычитание. Развивать внимание и сосредоточенн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Ход игр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ям раздаются макеты ведерок с цифрами. Ведущий достает из коробки рыбку с написанным на боку арифметическим действием и задает вопросы. Ответы должны быть построены соответственно заданному вопросу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прим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опро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Это чья рыбк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Это моя рыб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4" descr="5__YGiz9uG8"/>
          <p:cNvPicPr/>
          <p:nvPr/>
        </p:nvPicPr>
        <p:blipFill>
          <a:blip r:embed="rId1"/>
          <a:stretch/>
        </p:blipFill>
        <p:spPr>
          <a:xfrm>
            <a:off x="7489800" y="914400"/>
            <a:ext cx="3724200" cy="2793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ekzfZzR8vT4"/>
          <p:cNvPicPr/>
          <p:nvPr/>
        </p:nvPicPr>
        <p:blipFill>
          <a:blip r:embed="rId2"/>
          <a:stretch/>
        </p:blipFill>
        <p:spPr>
          <a:xfrm>
            <a:off x="7493040" y="3724200"/>
            <a:ext cx="37465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4680" y="285840"/>
            <a:ext cx="9161280" cy="5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идактическая игра: Сет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9520" y="968400"/>
            <a:ext cx="11215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Активизировать пространственные представления: вверх, вниз, вправо, влево. Повторение сче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Ход игры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игрока по очереди кидают кубик. В зависимости от того, какая цифра выпала ребенок рисует стрелку, указанная на дополнительной карточке. Задача участников стре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ложить путь до круг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5" descr="XWJlKMyo4fQ"/>
          <p:cNvPicPr/>
          <p:nvPr/>
        </p:nvPicPr>
        <p:blipFill>
          <a:blip r:embed="rId1"/>
          <a:stretch/>
        </p:blipFill>
        <p:spPr>
          <a:xfrm>
            <a:off x="549360" y="2984400"/>
            <a:ext cx="5243400" cy="3675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3Zy4x4GzyVg"/>
          <p:cNvPicPr/>
          <p:nvPr/>
        </p:nvPicPr>
        <p:blipFill>
          <a:blip r:embed="rId2"/>
          <a:stretch/>
        </p:blipFill>
        <p:spPr>
          <a:xfrm>
            <a:off x="6362640" y="2978280"/>
            <a:ext cx="485136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52160" y="390600"/>
            <a:ext cx="916164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идактическая игра: «Собери разрезную картинку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4960" y="1405080"/>
            <a:ext cx="11242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Цель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Формировать у детей представления о целостном образе предмета, учить считать от 1 до 10, развивать мелкую моторику, связную речь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Ход игр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зрослый раздает детям разрезные части и просит их собрать целую картинку, опираясь на цифры. Только последовательно расположив цифры от 1 до 10 можно получить целостное изображени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5" descr="qTK1wwy2Zes"/>
          <p:cNvPicPr/>
          <p:nvPr/>
        </p:nvPicPr>
        <p:blipFill>
          <a:blip r:embed="rId1"/>
          <a:stretch/>
        </p:blipFill>
        <p:spPr>
          <a:xfrm>
            <a:off x="414360" y="3573360"/>
            <a:ext cx="4051440" cy="3038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EJ1uvKQiURY"/>
          <p:cNvPicPr/>
          <p:nvPr/>
        </p:nvPicPr>
        <p:blipFill>
          <a:blip r:embed="rId2"/>
          <a:stretch/>
        </p:blipFill>
        <p:spPr>
          <a:xfrm>
            <a:off x="7775640" y="3521160"/>
            <a:ext cx="4154400" cy="3114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image_5af56560b9f66"/>
          <p:cNvPicPr/>
          <p:nvPr/>
        </p:nvPicPr>
        <p:blipFill>
          <a:blip r:embed="rId3"/>
          <a:stretch/>
        </p:blipFill>
        <p:spPr>
          <a:xfrm>
            <a:off x="4819680" y="3986280"/>
            <a:ext cx="25509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02920" y="258840"/>
            <a:ext cx="91616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Дидактическая игра: «Гусениц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15880" y="1166760"/>
            <a:ext cx="11003040" cy="19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вать цветовое восприятие, мелкую моторику рук, логическое мышление. Закреплять порядковый сч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од иг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Задача ребенка определить цвета гусеницы; Посчитать части гусеницы; Ответить на примерные вопросы «Какого цвета 3 часть гусеницы? «Сколько желтых частей у гусеницы» итд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SgdROH2lgBk"/>
          <p:cNvPicPr/>
          <p:nvPr/>
        </p:nvPicPr>
        <p:blipFill>
          <a:blip r:embed="rId1"/>
          <a:stretch/>
        </p:blipFill>
        <p:spPr>
          <a:xfrm>
            <a:off x="1549440" y="3137040"/>
            <a:ext cx="4064040" cy="3047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dPFESCSHs5c"/>
          <p:cNvPicPr/>
          <p:nvPr/>
        </p:nvPicPr>
        <p:blipFill>
          <a:blip r:embed="rId2"/>
          <a:stretch/>
        </p:blipFill>
        <p:spPr>
          <a:xfrm>
            <a:off x="6559560" y="3106800"/>
            <a:ext cx="36273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31920" y="283680"/>
            <a:ext cx="9161280" cy="8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идактическая игра: «Помоги Мишке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08200" y="1271520"/>
            <a:ext cx="10261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ель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акрепление приёмов прибавления и вычитания в пределах 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од игры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ча ребят помочь мишке посчитать примеры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5" descr="Bf1uwZ9g5zk"/>
          <p:cNvPicPr/>
          <p:nvPr/>
        </p:nvPicPr>
        <p:blipFill>
          <a:blip r:embed="rId1"/>
          <a:stretch/>
        </p:blipFill>
        <p:spPr>
          <a:xfrm>
            <a:off x="1384200" y="3108240"/>
            <a:ext cx="4680000" cy="3510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6GQsa7WOESk"/>
          <p:cNvPicPr/>
          <p:nvPr/>
        </p:nvPicPr>
        <p:blipFill>
          <a:blip r:embed="rId2"/>
          <a:stretch/>
        </p:blipFill>
        <p:spPr>
          <a:xfrm>
            <a:off x="6256440" y="2705040"/>
            <a:ext cx="521496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4440" y="390240"/>
            <a:ext cx="9916920" cy="3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идактическая игра: «Шнурк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36120" y="1179360"/>
            <a:ext cx="10990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ель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чет в пределах 10, развитие мелкой мотори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од игр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Детям предлагаются карточки с цифрами от 1-10, у каждой цифры проделана дырка для шнурка. Задача детей последовательно от 1 до 10 продеть шнурок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Рисунок 14" descr="C:\Users\admin\Downloads\Дизайн без названия (1).png"/>
          <p:cNvPicPr/>
          <p:nvPr/>
        </p:nvPicPr>
        <p:blipFill>
          <a:blip r:embed="rId1"/>
          <a:stretch/>
        </p:blipFill>
        <p:spPr>
          <a:xfrm>
            <a:off x="517680" y="3168720"/>
            <a:ext cx="4510080" cy="293364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3" descr="C:\Users\admin\Desktop\Дизайн без названия.png"/>
          <p:cNvPicPr/>
          <p:nvPr/>
        </p:nvPicPr>
        <p:blipFill>
          <a:blip r:embed="rId2"/>
          <a:stretch/>
        </p:blipFill>
        <p:spPr>
          <a:xfrm>
            <a:off x="4313160" y="4479840"/>
            <a:ext cx="3749760" cy="237816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5" descr="C:\Users\admin\Downloads\Дизайн без названия (2).png"/>
          <p:cNvPicPr/>
          <p:nvPr/>
        </p:nvPicPr>
        <p:blipFill>
          <a:blip r:embed="rId3"/>
          <a:stretch/>
        </p:blipFill>
        <p:spPr>
          <a:xfrm>
            <a:off x="6988320" y="3033720"/>
            <a:ext cx="46069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4T18:18:56Z</dcterms:created>
  <dc:creator>Зотовы</dc:creator>
  <dc:description/>
  <dc:language>en-US</dc:language>
  <cp:lastModifiedBy>Алия Зарипова</cp:lastModifiedBy>
  <dcterms:modified xsi:type="dcterms:W3CDTF">2023-01-29T10:27:12Z</dcterms:modified>
  <cp:revision>18</cp:revision>
  <dc:subject/>
  <dc:title>Технологии семейного образования детей с ОВЗ</dc:title>
</cp:coreProperties>
</file>