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2627280" y="1370160"/>
            <a:ext cx="4105440" cy="385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042920" y="2176560"/>
            <a:ext cx="69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Использование нетрадиционных техник рис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 детьми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092480" y="4419720"/>
            <a:ext cx="436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нина А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etskie_Barabashka_(-).mp3" descr=""/>
          <p:cNvPicPr/>
          <p:nvPr/>
        </p:nvPicPr>
        <p:blipFill>
          <a:blip r:embed="rId2"/>
          <a:stretch/>
        </p:blipFill>
        <p:spPr>
          <a:xfrm>
            <a:off x="971640" y="616572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824040" y="1246320"/>
            <a:ext cx="74199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2 этап- основно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928880"/>
            <a:ext cx="7010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вать художественно- творческие способности у детей старшего дошкольного возраста с помощью нетрадиционных техник и живописных материалов через систему заняти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ходе занятий используются следующие методы и приёмы: беседа, показ технических приёмов, объяснение, указание, напоминание, поощрение, анализ, игровые методы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занятиях используются нетрадиционное оборудование, иллюстративный материал, музык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занятиях по рисованию познакомить детей с техникой раздувания краски, рисования на фальге, рисование жесткой кистью, рисование вилкой, ниткография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3 этап- завершающ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вить уровень художественно- творческих способностей детей, выработанный в ходе занятий нетрадиционными техниками и живописными материалам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зентация проект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формление детского альбома «Фантазёры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жидаемый результат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величить динамику высокого уровня развития по ИЗО.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ие применять усвоенные техники изо деятельности.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ствовать самореализации личности ребёнка в художественном творчестве, стимулировать стремление быть оригинальным в выборе средств своего замысла, давать оценку продуктам своей и чужой деятельности.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детского альбома рисунков «Фантазёры».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69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редства изображе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03280" y="162864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Коктейльные трубоч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Расчес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убная щет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Нит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Фольг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Жесткие ки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Вилки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Picture 8" descr="CIMG0789"/>
          <p:cNvPicPr/>
          <p:nvPr/>
        </p:nvPicPr>
        <p:blipFill>
          <a:blip r:embed="rId1"/>
          <a:stretch/>
        </p:blipFill>
        <p:spPr>
          <a:xfrm>
            <a:off x="4462560" y="1908000"/>
            <a:ext cx="3627360" cy="353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9" descr=""/>
          <p:cNvPicPr/>
          <p:nvPr/>
        </p:nvPicPr>
        <p:blipFill>
          <a:blip r:embed="rId1"/>
          <a:stretch/>
        </p:blipFill>
        <p:spPr>
          <a:xfrm>
            <a:off x="3327480" y="3573360"/>
            <a:ext cx="2319120" cy="17035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5867280" y="1612800"/>
            <a:ext cx="1832040" cy="2167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1547640" y="1197000"/>
            <a:ext cx="70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я в технике нетрадиционного рис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3"/>
          <a:stretch/>
        </p:blipFill>
        <p:spPr>
          <a:xfrm>
            <a:off x="1076400" y="4005360"/>
            <a:ext cx="2095560" cy="1695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4"/>
          <a:stretch/>
        </p:blipFill>
        <p:spPr>
          <a:xfrm>
            <a:off x="5837400" y="4076640"/>
            <a:ext cx="2266920" cy="1552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3490920" y="3152880"/>
            <a:ext cx="19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моноти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1419120" y="5486400"/>
            <a:ext cx="18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клякс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722920" y="362124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Рисование ладо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6286680" y="5429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гратт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3"/>
          <p:cNvSpPr/>
          <p:nvPr/>
        </p:nvSpPr>
        <p:spPr>
          <a:xfrm>
            <a:off x="1324080" y="35877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метод ты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327480" y="5191200"/>
            <a:ext cx="249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egoe Script"/>
                <a:ea typeface="Arial"/>
              </a:rPr>
              <a:t>Отпечатки листь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тоги реализации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221472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нашего проекта детьми совместно со взрослыми было сделано много, а именно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готовлен альбом с рисунками «Фантазёры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готовлены консультации для родителей, папки передвижки по «Нетрадиционному рисованию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проект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00120"/>
            <a:ext cx="70106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было выявлено, что нетрадиционные техники рисования оказывают положительное влияние на развитие ребенка, способствуют развитию интеллекта, моторики, формированию таких психических функций, как воображение, память, зрительное восприятие и мышление. 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 наши ребята в процессе рисования учатся эстетически воспринимать окружающий мир и передавать его в рисунках. Как известно, одним из основных заданий дошкольного образования, является обеспечение надлежащих условий для полноценного, своевременного и разностороннего развития ребенка с целью воспитания инициативной, творческой личности. А от нас, воспитателей, требуется переориентироваться в выборе методов организации занятий по разным видам деятельности детей: перейти от репродуктивных методов к творческим, исследовательским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Рекомендации педагогам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856880"/>
            <a:ext cx="70106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уйте разные формы художественной деятельности: коллективное творчество, самостоятельную и игровую деятельность детей по освоению нетрадиционных техник изображения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ланировании занятий по изобразительной деятельности соблюдайте систему и преемственность использования нетрадиционных изобразительных техник, учитывая возрастные и индивидуальные способности детей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йте свой профессиональный уровень и мастерство через ознакомление, и овладение новыми нетрадиционными способами и приемами изображени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Рекомендации родителям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915920"/>
            <a:ext cx="701064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ы (карандаши, краски, кисти, фломастеры, восковые карандаши и т.д.) необходимо располагать в поле зрения малыша, чтобы у него возникло желание творить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комьте его с окружающим миром вещей, живой и неживой природой, предметами изобразительного искусства, предлагайте  рисовать все, о чем ребенок любит говорить, и беседовать с ним обо всем, что он любит рисовать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критикуйте ребенка и не торопите, наоборот, время от времени стимулируйте занятия ребенка рисованием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ите своего ребёнка, помогайте ему, доверяйте ему, ведь ваш  ребёнок индивидуален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71360" y="148392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411280" y="2160720"/>
            <a:ext cx="3024360" cy="374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традиционное рисование – искусство изображать, не основываясь на традиц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Garamond"/>
              </a:rPr>
              <a:t>«Истоки способностей и дарования детей – на кончиках и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ено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0070c0"/>
                </a:solidFill>
                <a:latin typeface="Garamond"/>
              </a:rPr>
              <a:t>В. С. Сухомлинск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9720" y="1052640"/>
            <a:ext cx="7010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7575d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575d1"/>
                </a:solidFill>
                <a:latin typeface="Garamond"/>
              </a:rPr>
              <a:t>Каждая из этих техник -- это маленькая игра. Их использование позволяет детям чувствовать себя раскованне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575d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Участники проекта: дети группы «Фантазер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: творческий, краткосрочный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одолжительностью 4 месяц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ъек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: нетрадиционные методы рисова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Актуальность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00" y="1413000"/>
            <a:ext cx="69120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 современном этапе развития дошкольной педагогики проблему детского творчества невозможно рассматривать вне вопросов обучения изобразительной деятельности. Рисование является одним из самых интересных и увлекательных занятий для детей дошкольного возраста. В процессе рисования совершенствуются наблюдательность, эстетическое восприятие, художественный вкус, творческие способности. Одним из приемов, направленных на создание условий для творческого самовыражения ребенка, является организация работы с детьми с применением способов нетрадиционного рисования. Оригинальное рисование привлекает своей простотой и доступностью, раскрывает возможность использование хорошо знакомых предметов в качестве художественных материалов. А главное то, что нетрадиционное рисование играет важную роль в общем психическом развитии ребенка. Ведь самоценным является не конечный продукт – рисунок, а развитие личности: формирование уверенности в себе, в своих способностях, самоидентификация в творческой работе, целенаправленность деятельности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6769080" cy="44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ть влияние нетрадиционных техник рисования на творческие способности каждого ребёнка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ассмотреть наиболее распространенные техники нетрадиционного рисо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развитие творческих способностей у детей старшей группы путём проведения занимательных занятий рисования краск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условия необходимые для развития творческой деятельности дете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15640" y="2123640"/>
            <a:ext cx="72723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3160" indent="-71316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Теоретический метод – изучение литературы по нетрадиционным техникам рисова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13160" indent="-71316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Практический метод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13160" indent="-71316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Эмпирический метод - наблюд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радиционные техники рисования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071440"/>
            <a:ext cx="7010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исование вилко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ляксограф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исование на фольг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исование жесткой кисть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иткограф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Этапы реализации проект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 этап- подготовительный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развивающую среду и соответствующую материальную баз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ение литерату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бор материала (теоретическое обоснование, разработка конспектов и сценариев мероприятий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авление перспективного пла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хождение и установление эффективных связей с родителям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2:48:06Z</dcterms:created>
  <dc:creator>Шатов Илья</dc:creator>
  <dc:description/>
  <dc:language>en-US</dc:language>
  <cp:lastModifiedBy>Никита Домнин</cp:lastModifiedBy>
  <dcterms:modified xsi:type="dcterms:W3CDTF">2023-01-29T12:48:32Z</dcterms:modified>
  <cp:revision>182</cp:revision>
  <dc:subject/>
  <dc:title>Слайд 1</dc:title>
</cp:coreProperties>
</file>