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jpeg" ContentType="image/jpeg"/>
  <Override PartName="/ppt/media/image8.wmf" ContentType="image/x-wmf"/>
  <Override PartName="/ppt/media/image9.jpeg" ContentType="image/jpeg"/>
  <Override PartName="/ppt/media/image11.jpeg" ContentType="image/jpeg"/>
  <Override PartName="/ppt/media/image7.wmf" ContentType="image/x-wmf"/>
  <Override PartName="/ppt/media/image20.jpeg" ContentType="image/jpeg"/>
  <Override PartName="/ppt/media/image6.wmf" ContentType="image/x-wmf"/>
  <Override PartName="/ppt/media/image19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5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2D14-F3EB-47D0-A25C-E3C66F28B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3714-9990-4720-B53E-A4285E1D5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7A17-043A-409C-A893-365B29210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C8AA-E47C-4675-854A-262E42D68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1F383-9295-4E21-9138-156803239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94C46-6A00-4EE2-91F9-1DE73AF9C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5BD18-4691-4D76-8AF9-F8DA66B4A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45534-1256-4F15-9E8F-84AEF4521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37658-59B2-4512-8242-F07061555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A3C91-5515-4399-9886-B11E36D14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B8350-9484-4EBB-9B4C-E3374C81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87E1-5659-4C9E-BA21-877E43ACE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EF0C9-8BBB-475F-A1B9-3B258AE8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3D4B6-A297-44F3-B898-F78F1D9A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87F81-B0F7-4C59-8F9D-9FA3DE556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E6B09-5A0E-4BD9-AEF3-0E1E81F98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ED080-B984-4C52-9701-4530B15BD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1E72D-D94B-4F37-B908-C87840714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3B31A-7B03-4C63-8F81-18D00B0FB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16D2E-3615-44F8-8EEC-8A08C67D6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BF56F-E0C2-4A96-8BEE-4710ADBC6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6F34B-2B26-4608-A4F7-0C489ED8F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52B7-7D66-4CBE-A6CC-C2E8E7837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596FB-BA19-486A-B63F-036CAF97D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2E836-5275-4CCF-A2A3-F2B4BE88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A3E20-7058-436B-A43B-F05F9AC7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EFD7C-2D23-4405-B526-584CBDE3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809ED-0F21-4CA6-A5F9-5A29E5267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53CE4-9D3E-4ADA-AF5C-007EBFC5E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A8385-65D3-4975-99CD-13381DAC8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8690-2775-443D-B1B6-ACB0BBDAC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2F9D-4183-47E9-9FC4-822BB06A1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8B90-91CA-4C06-A189-5807777F8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FE1E-AEBB-4A4D-A450-9B1DC6D0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D813-85BE-472C-B930-A4F6FE5D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48C0-4428-4EFA-906D-6479D734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4FBE1-53C7-49DF-AA7C-2FE25A9D756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7B235-955F-4B03-A927-C5FB803F9E4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5EFF5-28E9-4548-9718-3BD7DEAE9D1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tepka.ru/trud/59.jpg" TargetMode="External"/><Relationship Id="rId2" Type="http://schemas.openxmlformats.org/officeDocument/2006/relationships/hyperlink" Target="http://www.tepka.ru/trud/61.jpg" TargetMode="Externa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234936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Лобзик и его применение для выпиливания из древесины и фанер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3400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Calibri"/>
              </a:rPr>
              <a:t>Учитель технологии Жанков В.И.</a:t>
            </a:r>
            <a:r>
              <a:rPr b="0" lang="ru-RU" sz="2000" spc="-1" strike="noStrike">
                <a:solidFill>
                  <a:srgbClr val="6633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Calibri"/>
              </a:rPr>
              <a:t>МБОУ «СШ№37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5" descr="59"/>
          <p:cNvPicPr/>
          <p:nvPr/>
        </p:nvPicPr>
        <p:blipFill>
          <a:blip r:embed="rId1"/>
          <a:stretch/>
        </p:blipFill>
        <p:spPr>
          <a:xfrm>
            <a:off x="250920" y="189000"/>
            <a:ext cx="8640720" cy="17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9" descr="61"/>
          <p:cNvPicPr/>
          <p:nvPr/>
        </p:nvPicPr>
        <p:blipFill>
          <a:blip r:embed="rId1"/>
          <a:stretch/>
        </p:blipFill>
        <p:spPr>
          <a:xfrm>
            <a:off x="2340000" y="476280"/>
            <a:ext cx="4546440" cy="44830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0"/>
          <p:cNvSpPr/>
          <p:nvPr/>
        </p:nvSpPr>
        <p:spPr>
          <a:xfrm>
            <a:off x="1817280" y="5440320"/>
            <a:ext cx="591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Рис. 8. Прием работы лобзи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5" descr="62"/>
          <p:cNvPicPr/>
          <p:nvPr/>
        </p:nvPicPr>
        <p:blipFill>
          <a:blip r:embed="rId1"/>
          <a:stretch/>
        </p:blipFill>
        <p:spPr>
          <a:xfrm>
            <a:off x="1619280" y="404640"/>
            <a:ext cx="5765760" cy="405144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161" name="Rectangle 6"/>
          <p:cNvSpPr/>
          <p:nvPr/>
        </p:nvSpPr>
        <p:spPr>
          <a:xfrm>
            <a:off x="1749240" y="4929480"/>
            <a:ext cx="572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Рис. 9. Выпиливание острых угло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 – внутренних, б – внешн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5" descr="63"/>
          <p:cNvPicPr/>
          <p:nvPr/>
        </p:nvPicPr>
        <p:blipFill>
          <a:blip r:embed="rId1"/>
          <a:stretch/>
        </p:blipFill>
        <p:spPr>
          <a:xfrm>
            <a:off x="250920" y="765000"/>
            <a:ext cx="8642160" cy="38466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6"/>
          <p:cNvSpPr/>
          <p:nvPr/>
        </p:nvSpPr>
        <p:spPr>
          <a:xfrm>
            <a:off x="582840" y="5372280"/>
            <a:ext cx="814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Рис. 10. Выпиливание: а – по внутреннему контур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 – по внешнему контур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1257840" y="5156280"/>
            <a:ext cx="686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Рис. 11. Технология вставки пилки лобз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о внутренний контур заготов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7" descr="Выпиливаем_из_фанеры_стр_0017"/>
          <p:cNvPicPr/>
          <p:nvPr/>
        </p:nvPicPr>
        <p:blipFill>
          <a:blip r:embed="rId1"/>
          <a:stretch/>
        </p:blipFill>
        <p:spPr>
          <a:xfrm>
            <a:off x="1692360" y="907920"/>
            <a:ext cx="584208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Задание 14 №2. В данных словах буквы перепутаны. Напиши слова правильно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кизбол, нефара, калип, товзагока, лош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461240" y="404640"/>
            <a:ext cx="616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Закрепление уче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6" descr="Выпиливаем_из_фанеры_стр_0016"/>
          <p:cNvPicPr/>
          <p:nvPr/>
        </p:nvPicPr>
        <p:blipFill>
          <a:blip r:embed="rId1"/>
          <a:stretch/>
        </p:blipFill>
        <p:spPr>
          <a:xfrm>
            <a:off x="2987640" y="3357720"/>
            <a:ext cx="331308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628640"/>
            <a:ext cx="324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80000" y="836640"/>
            <a:ext cx="511776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Ответы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alibri"/>
              </a:rPr>
              <a:t>кизбол - </a:t>
            </a: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лобзи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alibri"/>
              </a:rPr>
              <a:t>нефара - </a:t>
            </a: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фанер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663300"/>
                </a:solidFill>
                <a:latin typeface="Calibri"/>
              </a:rPr>
              <a:t>калип - </a:t>
            </a: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пил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663300"/>
                </a:solidFill>
                <a:latin typeface="Calibri"/>
              </a:rPr>
              <a:t>товзагока – </a:t>
            </a: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заготов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alibri"/>
              </a:rPr>
              <a:t>лоши - </a:t>
            </a: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шил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5" descr="66"/>
          <p:cNvPicPr/>
          <p:nvPr/>
        </p:nvPicPr>
        <p:blipFill>
          <a:blip r:embed="rId1"/>
          <a:stretch/>
        </p:blipFill>
        <p:spPr>
          <a:xfrm>
            <a:off x="468360" y="981000"/>
            <a:ext cx="3722760" cy="4391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95280" y="476280"/>
            <a:ext cx="8229600" cy="47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Задание 14 №3. Впиши недостающие буквы в следующих словах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р _ _ ка; з _ б _ я; з _ ж _ м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в _ н _ ; и _ де _ _ 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5" descr=""/>
          <p:cNvPicPr/>
          <p:nvPr/>
        </p:nvPicPr>
        <p:blipFill>
          <a:blip r:embed="rId1"/>
          <a:stretch/>
        </p:blipFill>
        <p:spPr>
          <a:xfrm>
            <a:off x="2916360" y="2852640"/>
            <a:ext cx="3311280" cy="34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620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560" indent="0" algn="ctr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ff"/>
                </a:solidFill>
                <a:latin typeface="Calibri"/>
              </a:rPr>
              <a:t>Ответы: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547560" indent="0" algn="ctr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663300"/>
                </a:solidFill>
                <a:latin typeface="Calibri"/>
              </a:rPr>
              <a:t>р </a:t>
            </a:r>
            <a:r>
              <a:rPr b="1" lang="ru-RU" sz="3700" spc="-1" strike="noStrike" u="sng">
                <a:solidFill>
                  <a:srgbClr val="0000ff"/>
                </a:solidFill>
                <a:uFillTx/>
                <a:latin typeface="Calibri"/>
              </a:rPr>
              <a:t>у</a:t>
            </a:r>
            <a:r>
              <a:rPr b="1" lang="ru-RU" sz="37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ru-RU" sz="3700" spc="-1" strike="noStrike" u="sng">
                <a:solidFill>
                  <a:srgbClr val="0000ff"/>
                </a:solidFill>
                <a:uFillTx/>
                <a:latin typeface="Calibri"/>
              </a:rPr>
              <a:t>ч</a:t>
            </a:r>
            <a:r>
              <a:rPr b="1" lang="ru-RU" sz="3700" spc="-1" strike="noStrike">
                <a:solidFill>
                  <a:srgbClr val="663300"/>
                </a:solidFill>
                <a:latin typeface="Calibri"/>
              </a:rPr>
              <a:t> ка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547560" indent="0" algn="ctr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lang="ru-RU" sz="3700" spc="-1" strike="noStrike">
                <a:solidFill>
                  <a:srgbClr val="663300"/>
                </a:solidFill>
                <a:latin typeface="Calibri"/>
              </a:rPr>
              <a:t>з </a:t>
            </a:r>
            <a:r>
              <a:rPr b="1" lang="ru-RU" sz="3700" spc="-1" strike="noStrike" u="sng">
                <a:solidFill>
                  <a:srgbClr val="0000ff"/>
                </a:solidFill>
                <a:uFillTx/>
                <a:latin typeface="Calibri"/>
              </a:rPr>
              <a:t>у</a:t>
            </a:r>
            <a:r>
              <a:rPr b="1" lang="ru-RU" sz="3700" spc="-1" strike="noStrike">
                <a:solidFill>
                  <a:srgbClr val="663300"/>
                </a:solidFill>
                <a:latin typeface="Calibri"/>
              </a:rPr>
              <a:t> б </a:t>
            </a:r>
            <a:r>
              <a:rPr b="1" lang="ru-RU" sz="3700" spc="-1" strike="noStrike" u="sng">
                <a:solidFill>
                  <a:srgbClr val="0000ff"/>
                </a:solidFill>
                <a:uFillTx/>
                <a:latin typeface="Calibri"/>
              </a:rPr>
              <a:t>ь</a:t>
            </a:r>
            <a:r>
              <a:rPr b="1" lang="ru-RU" sz="3700" spc="-1" strike="noStrike">
                <a:solidFill>
                  <a:srgbClr val="663300"/>
                </a:solidFill>
                <a:latin typeface="Calibri"/>
              </a:rPr>
              <a:t> я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547560" indent="0" algn="ctr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lang="ru-RU" sz="3700" spc="-1" strike="noStrike">
                <a:solidFill>
                  <a:srgbClr val="663300"/>
                </a:solidFill>
                <a:latin typeface="Calibri"/>
              </a:rPr>
              <a:t>з </a:t>
            </a:r>
            <a:r>
              <a:rPr b="1" lang="ru-RU" sz="3700" spc="-1" strike="noStrike" u="sng">
                <a:solidFill>
                  <a:srgbClr val="0000ff"/>
                </a:solidFill>
                <a:uFillTx/>
                <a:latin typeface="Calibri"/>
              </a:rPr>
              <a:t>а</a:t>
            </a:r>
            <a:r>
              <a:rPr b="1" lang="ru-RU" sz="3700" spc="-1" strike="noStrike">
                <a:solidFill>
                  <a:srgbClr val="663300"/>
                </a:solidFill>
                <a:latin typeface="Calibri"/>
              </a:rPr>
              <a:t> ж </a:t>
            </a:r>
            <a:r>
              <a:rPr b="1" lang="ru-RU" sz="3700" spc="-1" strike="noStrike" u="sng">
                <a:solidFill>
                  <a:srgbClr val="0000ff"/>
                </a:solidFill>
                <a:uFillTx/>
                <a:latin typeface="Calibri"/>
              </a:rPr>
              <a:t>и</a:t>
            </a:r>
            <a:r>
              <a:rPr b="1" lang="ru-RU" sz="3700" spc="-1" strike="noStrike">
                <a:solidFill>
                  <a:srgbClr val="663300"/>
                </a:solidFill>
                <a:latin typeface="Calibri"/>
              </a:rPr>
              <a:t> м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547560" indent="0" algn="ctr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663300"/>
                </a:solidFill>
                <a:latin typeface="Calibri"/>
              </a:rPr>
              <a:t>в </a:t>
            </a:r>
            <a:r>
              <a:rPr b="1" lang="ru-RU" sz="3700" spc="-1" strike="noStrike" u="sng">
                <a:solidFill>
                  <a:srgbClr val="0000ff"/>
                </a:solidFill>
                <a:uFillTx/>
                <a:latin typeface="Calibri"/>
              </a:rPr>
              <a:t>и</a:t>
            </a:r>
            <a:r>
              <a:rPr b="1" lang="ru-RU" sz="3700" spc="-1" strike="noStrike">
                <a:solidFill>
                  <a:srgbClr val="663300"/>
                </a:solidFill>
                <a:latin typeface="Calibri"/>
              </a:rPr>
              <a:t> н </a:t>
            </a:r>
            <a:r>
              <a:rPr b="1" lang="ru-RU" sz="3700" spc="-1" strike="noStrike" u="sng">
                <a:solidFill>
                  <a:srgbClr val="0000ff"/>
                </a:solidFill>
                <a:uFillTx/>
                <a:latin typeface="Calibri"/>
              </a:rPr>
              <a:t>т</a:t>
            </a:r>
            <a:r>
              <a:rPr b="1" lang="ru-RU" sz="3700" spc="-1" strike="noStrike">
                <a:solidFill>
                  <a:srgbClr val="663300"/>
                </a:solidFill>
                <a:latin typeface="Calibri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547560" indent="0" algn="ctr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lang="ru-RU" sz="3700" spc="-1" strike="noStrike">
                <a:solidFill>
                  <a:srgbClr val="663300"/>
                </a:solidFill>
                <a:latin typeface="Calibri"/>
              </a:rPr>
              <a:t>и </a:t>
            </a:r>
            <a:r>
              <a:rPr b="1" lang="ru-RU" sz="3700" spc="-1" strike="noStrike" u="sng">
                <a:solidFill>
                  <a:srgbClr val="0000ff"/>
                </a:solidFill>
                <a:uFillTx/>
                <a:latin typeface="Calibri"/>
              </a:rPr>
              <a:t>з</a:t>
            </a:r>
            <a:r>
              <a:rPr b="1" lang="ru-RU" sz="3700" spc="-1" strike="noStrike">
                <a:solidFill>
                  <a:srgbClr val="663300"/>
                </a:solidFill>
                <a:latin typeface="Calibri"/>
              </a:rPr>
              <a:t> де </a:t>
            </a:r>
            <a:r>
              <a:rPr b="1" lang="ru-RU" sz="3700" spc="-1" strike="noStrike" u="sng">
                <a:solidFill>
                  <a:srgbClr val="0000ff"/>
                </a:solidFill>
                <a:uFillTx/>
                <a:latin typeface="Calibri"/>
              </a:rPr>
              <a:t>л</a:t>
            </a:r>
            <a:r>
              <a:rPr b="1" lang="ru-RU" sz="37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lang="ru-RU" sz="3700" spc="-1" strike="noStrike" u="sng">
                <a:solidFill>
                  <a:srgbClr val="0000ff"/>
                </a:solidFill>
                <a:uFillTx/>
                <a:latin typeface="Calibri"/>
              </a:rPr>
              <a:t>и</a:t>
            </a:r>
            <a:r>
              <a:rPr b="1" lang="ru-RU" sz="3700" spc="-1" strike="noStrike">
                <a:solidFill>
                  <a:srgbClr val="663300"/>
                </a:solidFill>
                <a:latin typeface="Calibri"/>
              </a:rPr>
              <a:t> е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642920" y="836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6" descr="66"/>
          <p:cNvPicPr/>
          <p:nvPr/>
        </p:nvPicPr>
        <p:blipFill>
          <a:blip r:embed="rId1"/>
          <a:stretch/>
        </p:blipFill>
        <p:spPr>
          <a:xfrm>
            <a:off x="4788000" y="836640"/>
            <a:ext cx="38685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Работа моих учеников с лобзик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Объект 6" descr=""/>
          <p:cNvPicPr/>
          <p:nvPr/>
        </p:nvPicPr>
        <p:blipFill>
          <a:blip r:embed="rId1"/>
          <a:stretch/>
        </p:blipFill>
        <p:spPr>
          <a:xfrm>
            <a:off x="4211640" y="3898800"/>
            <a:ext cx="1920960" cy="233856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7" descr=""/>
          <p:cNvPicPr/>
          <p:nvPr/>
        </p:nvPicPr>
        <p:blipFill>
          <a:blip r:embed="rId2"/>
          <a:stretch/>
        </p:blipFill>
        <p:spPr>
          <a:xfrm>
            <a:off x="539640" y="2852640"/>
            <a:ext cx="2448000" cy="326412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8" descr=""/>
          <p:cNvPicPr/>
          <p:nvPr/>
        </p:nvPicPr>
        <p:blipFill>
          <a:blip r:embed="rId3"/>
          <a:stretch/>
        </p:blipFill>
        <p:spPr>
          <a:xfrm>
            <a:off x="6443640" y="1386000"/>
            <a:ext cx="2376360" cy="316836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9" descr=""/>
          <p:cNvPicPr/>
          <p:nvPr/>
        </p:nvPicPr>
        <p:blipFill>
          <a:blip r:embed="rId4"/>
          <a:stretch/>
        </p:blipFill>
        <p:spPr>
          <a:xfrm>
            <a:off x="3276720" y="1341360"/>
            <a:ext cx="17967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e1c11"/>
                </a:solidFill>
                <a:latin typeface="Calibri"/>
              </a:rPr>
              <a:t>Делаем сами своими рук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Объект 4" descr=""/>
          <p:cNvPicPr/>
          <p:nvPr/>
        </p:nvPicPr>
        <p:blipFill>
          <a:blip r:embed="rId1"/>
          <a:stretch/>
        </p:blipFill>
        <p:spPr>
          <a:xfrm>
            <a:off x="6351480" y="1519200"/>
            <a:ext cx="2705040" cy="199548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5" descr=""/>
          <p:cNvPicPr/>
          <p:nvPr/>
        </p:nvPicPr>
        <p:blipFill>
          <a:blip r:embed="rId2"/>
          <a:stretch/>
        </p:blipFill>
        <p:spPr>
          <a:xfrm>
            <a:off x="7280280" y="4105440"/>
            <a:ext cx="1832040" cy="244152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6" descr=""/>
          <p:cNvPicPr/>
          <p:nvPr/>
        </p:nvPicPr>
        <p:blipFill>
          <a:blip r:embed="rId3"/>
          <a:stretch/>
        </p:blipFill>
        <p:spPr>
          <a:xfrm>
            <a:off x="4030560" y="4365720"/>
            <a:ext cx="3097440" cy="1922400"/>
          </a:xfrm>
          <a:prstGeom prst="rect">
            <a:avLst/>
          </a:prstGeom>
          <a:ln w="0">
            <a:noFill/>
          </a:ln>
        </p:spPr>
      </p:pic>
      <p:pic>
        <p:nvPicPr>
          <p:cNvPr id="192" name="Рисунок 7" descr=""/>
          <p:cNvPicPr/>
          <p:nvPr/>
        </p:nvPicPr>
        <p:blipFill>
          <a:blip r:embed="rId4"/>
          <a:stretch/>
        </p:blipFill>
        <p:spPr>
          <a:xfrm>
            <a:off x="4062240" y="1484280"/>
            <a:ext cx="2075040" cy="2239920"/>
          </a:xfrm>
          <a:prstGeom prst="rect">
            <a:avLst/>
          </a:prstGeom>
          <a:ln w="0">
            <a:noFill/>
          </a:ln>
        </p:spPr>
      </p:pic>
      <p:pic>
        <p:nvPicPr>
          <p:cNvPr id="193" name="Рисунок 8" descr=""/>
          <p:cNvPicPr/>
          <p:nvPr/>
        </p:nvPicPr>
        <p:blipFill>
          <a:blip r:embed="rId5"/>
          <a:stretch/>
        </p:blipFill>
        <p:spPr>
          <a:xfrm>
            <a:off x="250920" y="1700280"/>
            <a:ext cx="3298680" cy="43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Лобзик –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инструмент для выпиливания изделий из древесины и фанер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Лобзик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представляет собой металлическую рамку, на концах которой имеются винтовые зажимы с гайками для крепления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пилки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– узкой тонкой металлической полоски с мелкими зубья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626400" y="404640"/>
            <a:ext cx="784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Изучение нового учебного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Выпиливаем_из_фанеры_стр_0002"/>
          <p:cNvPicPr/>
          <p:nvPr/>
        </p:nvPicPr>
        <p:blipFill>
          <a:blip r:embed="rId1"/>
          <a:stretch/>
        </p:blipFill>
        <p:spPr>
          <a:xfrm>
            <a:off x="4859280" y="4076640"/>
            <a:ext cx="360036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23480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1.Глозман Е.С. Технология. Индустриальные технологии: 5 класс: учеб. для гор. общеобразоват. учреждений / Е.С. Глозман; под ред. Ю.Л. Хотунцева, Е.С. Глозмана. – 5-е изд., испр. и доп. – М.: Мнемозина, 201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2.Е.Данкевич, В.Поляков. Выпиливаем из фанеры. Санкт-Петербург. – «Кристалл», 1998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3.Тищенко А.Т. Технология. Индустриальные технологии: 5 класс: учебник для учащихся общеобразовательных учреждений /А.Т. Тищенко, В.Д. Симоненко – М.: Вентана-Граф, 201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4.Тищенко А.Т. Технология. Индустриальные технологии: 5 класс: рабочая тетрадь для учащихся общеобразовательных организаций/ А.Т. Тищенко, Н.А. Буглаева. – 2-е изд., дораб. – М.: Вентана-Граф, 2014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271440" y="404640"/>
            <a:ext cx="855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Список использованных печатных источ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23480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Изображение изделия из фанеры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tepka.ru/trud/59.jp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Изображение приём работы лобзиком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tepka.ru/trud/61.jp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Изображение выпиливание острых угло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http://www.tepka.ru/trud/62.jp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Изображение выпиливани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http://www.tepka.ru/trud/63.jp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Изображение способы выпилива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http://www.tepka.ru/trud/64.jp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Изображение мальчик выпиливает (цветное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http://www.tepka.ru/trud/66.4.jp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Изображение вставка пилки в лобзик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http://narodna-osvita.com.ua/uploads/trud-5-tereshuk/tereskuk-trudove-5-klas-115.p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428760" y="455760"/>
            <a:ext cx="820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Активные ссылки на использованные изображ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(URL-адрес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23480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Изображение выпиливание лобзиком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alibri"/>
              </a:rPr>
              <a:t>http://bycinka.ru/img/359/image312.jp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428760" y="455760"/>
            <a:ext cx="820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Активные ссылки на использованные изображ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(URL-адрес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7" descr=""/>
          <p:cNvPicPr/>
          <p:nvPr/>
        </p:nvPicPr>
        <p:blipFill>
          <a:blip r:embed="rId1"/>
          <a:stretch/>
        </p:blipFill>
        <p:spPr>
          <a:xfrm>
            <a:off x="2195640" y="476280"/>
            <a:ext cx="4835520" cy="41418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8"/>
          <p:cNvSpPr/>
          <p:nvPr/>
        </p:nvSpPr>
        <p:spPr>
          <a:xfrm>
            <a:off x="1193760" y="5216760"/>
            <a:ext cx="683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Рис. 1. Ручной лобзик: 1 – рамка; 2 – ручк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3 – зажимные гайки; 4 – пилк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750960" y="548280"/>
            <a:ext cx="76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илку в лобзике закрепляю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 наклоном зубьев в сторону руч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8" descr=""/>
          <p:cNvPicPr/>
          <p:nvPr/>
        </p:nvPicPr>
        <p:blipFill>
          <a:blip r:embed="rId1"/>
          <a:stretch/>
        </p:blipFill>
        <p:spPr>
          <a:xfrm>
            <a:off x="-28440" y="1989000"/>
            <a:ext cx="9172440" cy="24480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9"/>
          <p:cNvSpPr/>
          <p:nvPr/>
        </p:nvSpPr>
        <p:spPr>
          <a:xfrm>
            <a:off x="755640" y="494172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Прави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3419640" y="494172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Неправи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6227640" y="494172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Неправи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1619280" y="573264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Рис. 2. Положение пилки в лобз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4"/>
          <p:cNvSpPr/>
          <p:nvPr/>
        </p:nvSpPr>
        <p:spPr>
          <a:xfrm>
            <a:off x="401760" y="549000"/>
            <a:ext cx="842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илку в лобзике закрепляю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начала в нижнем, а затем в верхнем зажим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9" descr="Выпиливаем_из_фанеры_стр_0011"/>
          <p:cNvPicPr/>
          <p:nvPr/>
        </p:nvPicPr>
        <p:blipFill>
          <a:blip r:embed="rId1"/>
          <a:stretch/>
        </p:blipFill>
        <p:spPr>
          <a:xfrm>
            <a:off x="1763640" y="1916280"/>
            <a:ext cx="5524560" cy="347976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10"/>
          <p:cNvSpPr/>
          <p:nvPr/>
        </p:nvSpPr>
        <p:spPr>
          <a:xfrm>
            <a:off x="1619280" y="566100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Рис. 3. Крепление пилки в лобз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834480" y="549000"/>
            <a:ext cx="7468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Для выпиливания лобзиком применя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ыпиловочный столик, который крепя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 крышке верстака струбциной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1"/>
          <a:stretch/>
        </p:blipFill>
        <p:spPr>
          <a:xfrm>
            <a:off x="2484360" y="2133720"/>
            <a:ext cx="4272120" cy="339084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7"/>
          <p:cNvSpPr/>
          <p:nvPr/>
        </p:nvSpPr>
        <p:spPr>
          <a:xfrm>
            <a:off x="1322280" y="5907600"/>
            <a:ext cx="664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Рис. 4. 1 – ласточкин хвост; 2 – струбц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       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Рис. 5. Рабочие позы при выпиливани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сидя и сто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8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3552840" cy="3600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"/>
          <p:cNvPicPr/>
          <p:nvPr/>
        </p:nvPicPr>
        <p:blipFill>
          <a:blip r:embed="rId2"/>
          <a:stretch/>
        </p:blipFill>
        <p:spPr>
          <a:xfrm>
            <a:off x="4643280" y="549360"/>
            <a:ext cx="381636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          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Рис. 6. Движение лобзика при работе.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7" descr="Выпиливаем_из_фанеры_стр_0015 - копия"/>
          <p:cNvPicPr/>
          <p:nvPr/>
        </p:nvPicPr>
        <p:blipFill>
          <a:blip r:embed="rId1"/>
          <a:stretch/>
        </p:blipFill>
        <p:spPr>
          <a:xfrm>
            <a:off x="1476360" y="981000"/>
            <a:ext cx="635652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5" descr="64"/>
          <p:cNvPicPr/>
          <p:nvPr/>
        </p:nvPicPr>
        <p:blipFill>
          <a:blip r:embed="rId1"/>
          <a:stretch/>
        </p:blipFill>
        <p:spPr>
          <a:xfrm>
            <a:off x="250920" y="765000"/>
            <a:ext cx="8642160" cy="42530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6"/>
          <p:cNvSpPr/>
          <p:nvPr/>
        </p:nvSpPr>
        <p:spPr>
          <a:xfrm>
            <a:off x="927000" y="5558040"/>
            <a:ext cx="751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Рис. 7. Способы выпили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 – в круглом отверстии; б – в вырезе стол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7T20:19:53Z</dcterms:created>
  <dc:creator>User</dc:creator>
  <dc:description/>
  <dc:language>en-US</dc:language>
  <cp:lastModifiedBy>qqq</cp:lastModifiedBy>
  <dcterms:modified xsi:type="dcterms:W3CDTF">2023-01-29T10:37:28Z</dcterms:modified>
  <cp:revision>32</cp:revision>
  <dc:subject/>
  <dc:title>Выпиливание лобзиком</dc:title>
</cp:coreProperties>
</file>