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B0-7EEC-4581-BE50-79953CF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FEA-031E-4B6B-A0C4-AEDA15F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C59-51ED-4118-962C-F4F72925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84-6009-4682-8DDF-004F781D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E47-22F7-41D4-B1E8-71B50BD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8C3-EC60-4A69-AE59-D6C05F09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CD2-2FFE-4254-B200-473A903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010-6DC0-4223-97B9-043433B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313-3BC5-432C-A471-B193450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91F-5F28-438E-ACA2-9D80482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09E-CBB0-4CB1-AFD8-1A4873B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0A2-FE23-47AE-9663-E8D0716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B38-34DD-44C9-A46B-9158429DF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86040"/>
            <a:ext cx="7772400" cy="8143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Бухтатая М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ая Д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Октябрьское, 2023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Азм\Pictures\1619544959_14-phonoteka_org-p-bayan-fon-14.jpg"/>
          <p:cNvPicPr/>
          <p:nvPr/>
        </p:nvPicPr>
        <p:blipFill>
          <a:blip r:embed="rId1"/>
          <a:stretch/>
        </p:blipFill>
        <p:spPr>
          <a:xfrm>
            <a:off x="2643120" y="214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 задача которого - разучивание текста, отбор выразительных средств и работы над ними. Грамотный, музыкально-осмысленный разбор, создаёт основу для дальнейшей правиль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целесообразно работать над произведением по частям. Чем лучше будут отработаны частные детали, тем легче в последующем сосредоточить всё внимание ученика на создании художественной целостности испол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на части должно производиться на основе анализа формы сочинения: необходимо установить количество и границы частей, периодов предложений, фраз, а также их ритмоинтонационное сходство или различ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рабатывать отдельные фразы, объединяя их затем в предложения, периоды. Работая над фразировкой, необходимо не только определить границы фразы, но и артикуляцию фразы, звуковое соотношение фраз при объединении их в более крупные построения. Выстраивая артикуляцию каждой фразы, важно установить нахождение её кульминации, подход к ней и завершение фр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560" y="285480"/>
            <a:ext cx="8715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на втором этапе работы занимает отделка технических трудностей. Вначале необходимо   разобрать технически сложное местo: его фактуру и её расположение на клавиатуре, определить элементы техники. От этого анализа зависит выбор метода работы над преодоление трудности, и в частности, рациональной аппликату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туру можно считать правильной, если она удобна для  данного ученика, основана на естественном чередовании пальцев и их нормальной растяжке. Но главное - аппликатура должна способствовать свободному исполнению. Важно использовать только установленную аппликатуру, не допуская даже случайного применения в игре других пальцев. Очень многое зависит от удобной, целесообразной аппликатуры. Аппликатура воздействует на ритм, динамику, артикуляцию, подчеркивает выразительные фразы, придает определённую окраску звучанию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техническими трудностями проводится путём многократных повторений в замедленном темпе небольших построений. Замедленный темп позволяет найти и закрепить необходимые игровые движения; ученик успевает сыграть уверенно все звуки правильной аппликатурой и, что не менее важно, проконтролировать слухом качество исполнения. Работая над техникой, полезно применять различные ритмические, штриховые и динамические варианты. Важно работу строить так, чтобы перед каждым проигрыванием произведения или его части, педагог ставил конкретные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, как произведение будет разобрано самым тщательным образом, можно приступать к его запоминанию. Но только учить на память надо не механически, а чрезвычайно внимательно, исходя из внутренних закономерностей произведения. Учить наизусть надо активно, а не пассив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полагаться только на один вид памяти - слухо-моторный, хотя это и наиболее крепкий, надёжный вид памяти. Нельзя игнорировать такие важные дополняющие виды памяти, как память аналитическая, конструктивная, зрительная, и конечно эмоциональ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второго этапа работы должно быть свободное и уверенное владение учеником текстом и всеми средствами выражения художественного содержания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интезируется всё, что сделано ранее: устанавливается смысловое взаимоотношение фраз внутри предложений, предложений - внутри периодов, периодов - внутри более крупных построений; выявляется главная кульминация произведения, споряжение с ней частных кульминаций, а отсюда определяется единая линия развития музыкального материала. Для этого рекомендуется работать над всем произведением, либо над крупными разделами объеденяя их затем в законченное цел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исполнение музыкального произведения могло считаться художественным, то есть передающим заложенное в нём содержание, необходимо вополнениен трёх основных условий: фразировка, динамические и агогические оттен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у учащихся нужно развивать умение пользоваться всеми динамическими оттенками. Для этого необходима специальная, ежедневная тренировка, при которой какую-либо музыкальную фразу или последование нот (можно использовать любую гамму) играть в виде упражнения, повторяя на различной силе звука, начиная от пианиссимо и кончая фортиссим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музыкальным произведением, его частью или отдельной фразой в отношении динамики, прежде всего, необходимо установить основной момент всего музыкального произведения, самый сильный по громкости, и применительно к нему вводить "динамические" детали. Это усилит и оттенит высшую степень динамики произведения(т.е. динамическую кульминаци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музыкального произведения во многом зависит от характера самого произведения. Установление темпа, соответствующего музыкальному произведению, и сохранение его в продолжении всей пьесы, является главной, основной в работе учащегося над художественным произведением. Всякое неоправданное, произвольное изменение основного темпа нарушает характер произведения и искажает его художественный смыс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любого музыкального произведения не есть, механическая и раз установленная скорость движения. Темп должен безостановочно жить, пульсировать, и до известной степени меняться. Эти небольшие временные отклонения от основного темпа, указанные в нотах, то есть агогические оттенки, обусловлены содержанием музыкального произведения и являются одним из значительных средств музыкальной вырази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е средства выразительности должны отвечать содержанию музыкального произведения. Результатом недопонимания этого является скучное, невыразительное испол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работы над произведением на этапы - условно, так как оно представляет собой единый процесс, в котором неизбежны повторения и возвращения к тому, что было сдела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5" descr="C:\Users\Азм\Pictures\291bba9de9805b3e34cfdab872aae3d4.jpg"/>
          <p:cNvPicPr/>
          <p:nvPr/>
        </p:nvPicPr>
        <p:blipFill>
          <a:blip r:embed="rId1"/>
          <a:stretch/>
        </p:blipFill>
        <p:spPr>
          <a:xfrm>
            <a:off x="3357720" y="235728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285560"/>
            <a:ext cx="8472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ян как сольный инструмент гораздо моложе инструментов симфонического оркестра, фортепиано или органа. Инструмент со своей первоначальной конструкции (гармоника) получил распространение во многих странах мира, становясь в них национальным инструментом. Обладая такими преимуществами как богатство звучания, несложная конструкция для первоначального освоения, мобильность, стойкость к смене температуры, баян стал истинно народным инструментом. Пройдя бурный этап развития в 20 веке, этот музыкальный инструмент с каждым днем занимает все более прочное место в современном музыкальном мир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совершенствуясь, баян становится полноправным концертным инструментом. С появлением многотембрового готово-выборного баяна появилась возможность исполнять переложения для баяна произведений классического наследия композиторов прошлых столетий, что дисциплинирует художественное мышление музыканта, открывает исполнителям доступ к сокровищам культуры, без которой невозможно воспитание музыканта-баяни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баян по существу превратился в небольшой орган, или мини – симфонический оркестр, с огромным диапазоном звучания, богатым тембровым разнообразие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обучения игры на баяне берет свое начало с появления в России гармоники(начало19в.) и длится вплоть, до середины 20- годов середины 20 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80г. Появляются первые школы и самоучители: школа Н.Белобородова; «Самоучитель для русской семиклапанной гармоники»- известного Европейского русского гармониста для хроматической гармоники «Баян» Я. Орлеанского-Титаренко(1915г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работах представлены отдельные методические положения касающиеся посадки исполнителя, аппликатурных приемов, характера ведения меха, методики работы над музыкальным произведением.В данных пособиях обучение игре ведется на основе цифровой записи, копирования с рук или подбора по слуху. Так в отдельных изданиях говорится «какую клавишу следует придавить», «тянуть гармонию кверху» или «опускать книзу», что «басовые клапана правил не имеют и беруться произволь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6г., в Москве проходит конференция гармонистов и запевал, и в свет выходит школа М.Герасимова и Я.Орлеанского0 Титаренко. Эти издания отличаются наличием нотной схемы, более сложным репертуаром, постановкой различных технических задач, игры гамм двумя руками, игры хроматической гаммы для естественной постановки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5г выходит издание  А.Клайнарда«Школа для баяна Ленинградской и Московской систем». Автор впервые озвучил основные дидактические принципы достижения методик других исполнительских школ. Этот труд, по своей значимости, значительно опередил сво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1г. Была издана работа Н.Речменского «Как играть на баяне или аккордеоне по нотам написанным для фортепиа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4г.была впервые написана и защищена  и издана диссертация «Методика преподавания  игры на баяне», автор И. Алексеев. В этой работе поднимаются общепедагогические вопросы принципы планирования учебной работы, индивидуальный подход в обучении, методы преподавания и научного осмысления учебного процес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60-е годы появляется значительное количество работ  по методике и теории исполнительства на баяне: А.Басурманов «Работа баяниста над мехом», Б.Беньяминов «Гаммы и ежедневные упражнения баяниста», А.Полетаев «Пятипальцевая аппликатура на баяне», А.Мирек «Школа игры на баяне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дании «Школа игры на баяне» –П.Говорушко, уже представлены полифонические произведения, сочинения русских  и зарубежных классиков, народные пьесы и произведения современных авторов. В ней впервые рассматривается проблемы физиологии исполнительского аппарата, вопросы звукоизвлечения трактовки штрих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ующее десятилетием ознаменовалось поиском новых форм и средств обучения, внедрением их в методику преподавания.  В издании «Школа игры на  аккордеоне» , автор В.Лушников, впервые рассмотрен донотный период обучения аккордеони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игры на баяне» Ф.Липса стала настольной книгой  многих поколений музыка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Ю.Акимова «Некоторые проблемы теории исполнительства на баяне; Б.Егорова «Общие основы постановыки при обучении» В.Мотова «Развитие первоначальных навыков подбора по слуху»; А.Дмитриева «Позиционная аппликатура на баяне», стали явлением в музыкальной педагогике70-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7200"/>
            <a:ext cx="8472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 работа В. Семенова 2003г. «Современная школа игры на баяне», обобщило в себе методико-педагогические поиски и стала результатом более чем сорокалетней исполнительской и педагогической деятельности В. Семен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ное пособие предусматривает обучение на всех типах баяна и предназначено для педагогов и учащихся ДШИ, музыкальных училищ и студентов вузов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ктический материал Школы излагается достаточно просто и убедительно, - с одной стороны, упражнениями и популярными мелодиями, - с другой, элементарной теорией музы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ются вопросы конструкции инструмента, формирования исполнительских навыков, техники игры на баяне, изучаются методы работы над музыкальным произведением, воспитания внимания и развития полиритм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ая новизна данной работы в том, что она представляет собой последовательную систему профессионального обучения и воспитания баяниста, включающая в себя три ступени обучения: музыкальная школа, училище, вуз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42960" y="285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тановления и развития методики обучения  игры на бая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музыкальным произвед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моментом в обучении игре на инструменте является разучивание музыкального произведения, так как именно в работе над музыкальным произведением ученик приобретает знания, умения и навыки, необходимые для его дальнейшего развития, а главное - умение самостоятельно изучать музыкальные произ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над музыкальным произведением можно условно разбить на три эта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комство с произведением, создание общего представления о пьесе, о её основных художественных образ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ение музыкального текста, выразительных и технических сред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над раскрытием художественного содержания произведения в ц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этапы тесно взаимосвязаны между собой, и порой трудно выявить, где кончается один и начинается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 работы характеризуется общим ознакомлением с произведением и эмоциональным восприятием его в целом. Прежде всего, педагог  проигрывает произведение на инструменте. Подобный показ на этом этапе имеет основной целью ознакомление произведением. Далее идет рассказ ученику о создателе произведения; об эпохе, в которую оно возникло; содержании, характере, сюжете; основных темпах; о форме; о манере ис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ученику дается  возможность прочитать с листа всё произведение, не останавливаясь, предварительно ознакомиться с наиболее трудными фрагментами, скачками, пассажами. Уже при "черновом" проигрывании, необходимо обращать внимание ученика на указания характера, темпа, динамики, штрих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не следует заострять внимание на погрешностях исполнения. Итак, в результате первоначального знакомства с произведением учащийся должен как можно больше узнать о нём, понимать предстоящие технические и художественные задачи, представлять конечное звучание пье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29T04:17:52Z</dcterms:created>
  <dc:creator>Азм</dc:creator>
  <dc:description/>
  <dc:language>en-US</dc:language>
  <cp:lastModifiedBy>Азм</cp:lastModifiedBy>
  <dcterms:modified xsi:type="dcterms:W3CDTF">2023-01-29T06:30:48Z</dcterms:modified>
  <cp:revision>14</cp:revision>
  <dc:subject/>
  <dc:title>Методика игры на баяне</dc:title>
</cp:coreProperties>
</file>