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0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6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9BE-0E25-4553-918F-A9F21744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4D4-A752-469D-B1A2-E1E52A2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28A-2A12-4DB3-BDDA-E1D95071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F0E-D8D9-4647-8530-A47EE1BA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D72-8D67-417A-8245-76FC5475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C24-1AE3-4E8E-9229-C1B26FE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047-2A91-49D5-B4CC-0EE48A4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DBB-63FD-4562-BBD2-1B548A8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A6B-601B-481D-9D5F-7C752556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2A1-151B-4E13-8075-1273F8A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292-6DAA-4351-9568-2064E46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2A6-DBDF-4D45-A92A-0775D97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2165-CAE0-47CF-9486-4E4E86720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1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5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5"/>
          <p:cNvSpPr/>
          <p:nvPr/>
        </p:nvSpPr>
        <p:spPr>
          <a:xfrm flipH="1">
            <a:off x="304920" y="304920"/>
            <a:ext cx="8534160" cy="624816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28235"/>
                </a:srgbClr>
              </a:gs>
              <a:gs pos="50000">
                <a:srgbClr val="ffffb7">
                  <a:alpha val="99215"/>
                </a:srgbClr>
              </a:gs>
              <a:gs pos="100000">
                <a:srgbClr val="ffffff">
                  <a:alpha val="28235"/>
                </a:srgbClr>
              </a:gs>
            </a:gsLst>
            <a:lin ang="2700000"/>
          </a:gra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2666880" y="1568520"/>
            <a:ext cx="3962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Проект по технологии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16"/>
          <p:cNvSpPr txBox="1"/>
          <p:nvPr/>
        </p:nvSpPr>
        <p:spPr>
          <a:xfrm>
            <a:off x="3657600" y="2006640"/>
            <a:ext cx="20574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Times New Roman"/>
              </a:rPr>
              <a:t>Вязание крючком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2200320" y="381600"/>
            <a:ext cx="487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Федерац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5997960" y="4470840"/>
            <a:ext cx="2863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“Б” класс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ражей Мария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и проекта: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икторовна Першин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Юрьевна Малышева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42"/>
          <p:cNvSpPr txBox="1"/>
          <p:nvPr/>
        </p:nvSpPr>
        <p:spPr>
          <a:xfrm>
            <a:off x="1219320" y="2666880"/>
            <a:ext cx="6629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"ОФОРМЛЕНИЕ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АСХАЛЬНОГО СТОЛА"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28_Velichit_dusha_moya__svetisya.mp3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45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09480" y="1614960"/>
            <a:ext cx="4038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лфет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неизменный атрибут праздничного стола, маленькая, но нужная деталь, к которой мы все привыкли. Гармоничное сочетание скатерти и салфетки по цвету и материалу - ещё один важный момент в сервировке стола. Совсем не обязательно класть салфетку точно такого же цвета, как скатерть, оттенки могут отличаться. Кружевные и вышитые салфетки и скатерти, изготавливаемые своими руками или на заказ, издавна становились семейной реликвией, переходящей по наследству. Такие салфетки имеют особенную ценность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312408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ЛФЕТ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15" descr="Безымянный"/>
          <p:cNvPicPr/>
          <p:nvPr/>
        </p:nvPicPr>
        <p:blipFill>
          <a:blip r:embed="rId5"/>
          <a:stretch/>
        </p:blipFill>
        <p:spPr>
          <a:xfrm>
            <a:off x="5638680" y="1523880"/>
            <a:ext cx="2698920" cy="43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7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120" y="2129760"/>
            <a:ext cx="38862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ЗИН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Наполненная чем-либо - символ изобилия, плодородия, достатка. С древних  времён плетёная корзинка являлась неотъемлемым атрибутом пасхального стола. Она служила не только украшением, в неё клали  пасхальные яйца, хлеб и прочие продукты для освещения,…таким образом, хозяева показывали своим гостям свою доброту и радушнос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2666880" y="838080"/>
            <a:ext cx="396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КОРЗИ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14" descr="Изображение 005"/>
          <p:cNvPicPr/>
          <p:nvPr/>
        </p:nvPicPr>
        <p:blipFill>
          <a:blip r:embed="rId5"/>
          <a:stretch/>
        </p:blipFill>
        <p:spPr>
          <a:xfrm>
            <a:off x="5181480" y="2133720"/>
            <a:ext cx="3346560" cy="27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7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58880" y="2362320"/>
            <a:ext cx="375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дную вещь я руками свяжу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лфетка- подставка её назов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румянится в ней мой кулич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тяжело совершенства достичь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о руками работать быстрей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бы связать красоту поскоре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2362320" y="6858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ЛФЕТКА-ПОДСТАВ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8" name="Picture 14" descr="Изображение 011"/>
          <p:cNvPicPr/>
          <p:nvPr/>
        </p:nvPicPr>
        <p:blipFill>
          <a:blip r:embed="rId5"/>
          <a:stretch/>
        </p:blipFill>
        <p:spPr>
          <a:xfrm>
            <a:off x="4724280" y="1981080"/>
            <a:ext cx="3876840" cy="29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3809880" y="685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КУЛИЧ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685800" y="3112920"/>
            <a:ext cx="4572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838080" y="3265560"/>
            <a:ext cx="457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09480" y="1752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ич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туальное пасхальное блюдо в православной традиции. Пасхальный кулич символизирует присутствие Бога в мире и в человеческой жизн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85800" y="3124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лтеет кулич на средине стола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орностью цвета, привлекая глаз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уюсь на него вот уже 2 часа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, как же работа моя хорош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вязка чудесно дополняет его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ую работу связать нелегко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8" descr="Изображение 013"/>
          <p:cNvPicPr/>
          <p:nvPr/>
        </p:nvPicPr>
        <p:blipFill>
          <a:blip r:embed="rId5"/>
          <a:stretch/>
        </p:blipFill>
        <p:spPr>
          <a:xfrm>
            <a:off x="5867280" y="1981080"/>
            <a:ext cx="235764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809880" y="685800"/>
            <a:ext cx="1905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ЯЙЦ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5800" y="3112920"/>
            <a:ext cx="4572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838080" y="3265560"/>
            <a:ext cx="457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57200" y="2286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йц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исконный символ мира и происхождения жизни. В древней мифологии яйцо - это и небо, и земля, и подземное царство. В христианстве пасхальные яйца символизируют кровь Христа и его Воскресен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Безымянный4"/>
          <p:cNvPicPr/>
          <p:nvPr/>
        </p:nvPicPr>
        <p:blipFill>
          <a:blip r:embed="rId5"/>
          <a:stretch/>
        </p:blipFill>
        <p:spPr>
          <a:xfrm>
            <a:off x="5105520" y="1905120"/>
            <a:ext cx="317160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7058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47058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95160" y="13852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стоимость моих  изделий составляет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56.80  руб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38080" y="2780640"/>
            <a:ext cx="7543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вою работу я выполняла из экологически чистых материалов и в процессе работы не применяла экологически опасных веществ, поэтому моя работа нарушать экологию дома, школы и других помещений не будет.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процессе всего изготовления изделий я соблюдала необходимые правила безопасности, чтобы не навредить себе, окружающим и не испортить сами изделия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2057400" y="213372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ЭКОЛОГИЧЕСКАЯ  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6"/>
          <p:cNvSpPr txBox="1"/>
          <p:nvPr/>
        </p:nvSpPr>
        <p:spPr>
          <a:xfrm>
            <a:off x="2133720" y="762120"/>
            <a:ext cx="48006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ЭКОНОМИЧЕСКАЯ  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6248520" y="5257800"/>
            <a:ext cx="1981080" cy="146700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20"/>
          <p:cNvSpPr/>
          <p:nvPr/>
        </p:nvSpPr>
        <p:spPr>
          <a:xfrm>
            <a:off x="7707240" y="6006960"/>
            <a:ext cx="84132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838080" y="5119560"/>
            <a:ext cx="2140200" cy="1584360"/>
          </a:xfrm>
          <a:prstGeom prst="ellipse">
            <a:avLst/>
          </a:prstGeom>
          <a:blipFill rotWithShape="0">
            <a:blip r:embed="rId7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2057400" y="5959440"/>
            <a:ext cx="909720" cy="6746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3429000" y="4782960"/>
            <a:ext cx="2455920" cy="1818000"/>
          </a:xfrm>
          <a:prstGeom prst="ellipse">
            <a:avLst/>
          </a:prstGeom>
          <a:blipFill rotWithShape="0">
            <a:blip r:embed="rId8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4888080" y="5638680"/>
            <a:ext cx="1041120" cy="771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54117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54117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80396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м кажется, что проблема, возникшая ещё в самом начале работы, была решен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важным в моём проекте оказалось подробное описание вязания, которое дало новые навыки, ускорило процесс выполнения работы, привило аккуратность, развило память. Да и человеку, не умеющему работать с крючком, оно будет хорошим помощни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асхальный стол теперь точно получится торжественным, оригинальным, красивым и станет прекрасным украшение дома и праздника, любой другой бы позавидовал. Но ведь и вы можете такое сделать, надо только дать волю фантазии и хорошо потруди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3581280" y="5029200"/>
            <a:ext cx="2057400" cy="15638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4956120" y="5835600"/>
            <a:ext cx="871560" cy="66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143000" y="5257800"/>
            <a:ext cx="1828800" cy="134136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362320" y="5958000"/>
            <a:ext cx="777600" cy="5713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6172200" y="5257800"/>
            <a:ext cx="1752480" cy="130176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7391520" y="5934240"/>
            <a:ext cx="744480" cy="555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2819520" y="762120"/>
            <a:ext cx="3504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САМООЦЕНК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54117"/>
                </a:srgbClr>
              </a:gs>
              <a:gs pos="50000">
                <a:srgbClr val="ffffbd">
                  <a:alpha val="95294"/>
                </a:srgbClr>
              </a:gs>
              <a:gs pos="100000">
                <a:srgbClr val="ffffff">
                  <a:alpha val="54117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914400" y="2008440"/>
            <a:ext cx="74674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уществует множество способов применения изготовленных изделий. Ими можно украсить не только пасхальный стол, но и просто расставить по дому, как элементы дэкора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расиво упакованные изделия, могут служить прекрасным подарком, ведь вещи, сделанные собственными руками, всегда дорого ценились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о не только изделия несут практическую значимость. Полученные знания в процессе работы помогут вам создать ещё более сложные и интересные украшения, чем получились у меня.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3505320" y="4952880"/>
            <a:ext cx="1947600" cy="146052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14"/>
          <p:cNvSpPr txBox="1"/>
          <p:nvPr/>
        </p:nvSpPr>
        <p:spPr>
          <a:xfrm>
            <a:off x="1143000" y="99072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3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РАКТИЧЕСКАЯ  ЗНАЧИМОСТЬ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4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4883040" y="5757840"/>
            <a:ext cx="944640" cy="719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762120" y="4800600"/>
            <a:ext cx="2286000" cy="1668600"/>
          </a:xfrm>
          <a:prstGeom prst="ellipse">
            <a:avLst/>
          </a:prstGeom>
          <a:blipFill rotWithShape="0">
            <a:blip r:embed="rId5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2297160" y="5888160"/>
            <a:ext cx="842760" cy="6188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6019920" y="5181480"/>
            <a:ext cx="2057400" cy="150192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7467480" y="5943600"/>
            <a:ext cx="806400" cy="6015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72156"/>
                </a:srgbClr>
              </a:gs>
            </a:gsLst>
            <a:lin ang="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8001000" y="533520"/>
            <a:ext cx="457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505320" y="68580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РЕКЛАМ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4" name="Picture 15" descr="Безымянный5"/>
          <p:cNvPicPr/>
          <p:nvPr/>
        </p:nvPicPr>
        <p:blipFill>
          <a:blip r:embed="rId4"/>
          <a:stretch/>
        </p:blipFill>
        <p:spPr>
          <a:xfrm>
            <a:off x="2209680" y="1447920"/>
            <a:ext cx="5265720" cy="41083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1"/>
          <p:cNvSpPr txBox="1"/>
          <p:nvPr/>
        </p:nvSpPr>
        <p:spPr>
          <a:xfrm>
            <a:off x="4800600" y="472428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19891e"/>
                    </a:gs>
                    <a:gs pos="100000">
                      <a:srgbClr val="ffff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РЕМЕН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19891e"/>
                  </a:gs>
                  <a:gs pos="100000">
                    <a:srgbClr val="ffff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2133720" y="167652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891e"/>
                    </a:gs>
                    <a:gs pos="50000">
                      <a:srgbClr val="ffff00"/>
                    </a:gs>
                    <a:gs pos="100000">
                      <a:srgbClr val="19891e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АС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891e"/>
                  </a:gs>
                  <a:gs pos="50000">
                    <a:srgbClr val="ffff00"/>
                  </a:gs>
                  <a:gs pos="100000">
                    <a:srgbClr val="19891e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457200" y="350532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19891e"/>
                    </a:gs>
                    <a:gs pos="100000">
                      <a:srgbClr val="ffff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ПОДВЛАСТНА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19891e"/>
                  </a:gs>
                  <a:gs pos="100000">
                    <a:srgbClr val="ffff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50000">
                <a:srgbClr val="ffffbd">
                  <a:alpha val="97254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3"/>
          <p:cNvSpPr/>
          <p:nvPr/>
        </p:nvSpPr>
        <p:spPr>
          <a:xfrm>
            <a:off x="5281560" y="4856040"/>
            <a:ext cx="2262240" cy="16970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7040520" y="5803920"/>
            <a:ext cx="981000" cy="71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6873840" y="419040"/>
            <a:ext cx="1371600" cy="10288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7848720" y="952560"/>
            <a:ext cx="593640" cy="434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371600" y="5035680"/>
            <a:ext cx="1947960" cy="14605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809800" y="5965920"/>
            <a:ext cx="841320" cy="6141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95480" y="76212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ПРОБЛЕМ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762120" y="1390320"/>
            <a:ext cx="739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дальше мы уходим во время, тем больше начинаем забывать о традициях и истории этого праздника. В советские времена многие люди вообще перестали считать Пасху за праздник, а даже если и праздновали её, то в основном ограничивались покупкой кулича и раскрашиванием яиц, и лишь совсем немногие семьи считали Пасху великим событием и праздновали его, соблюдая все православные традиции. Сейчас люди нашего поколения стараются возродить незаслуженно забытые традиции наших предко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не смогла остаться равнодушной  к теме празднования Великой Пасхи, ведь в семьях моих предков этот праздник проходил с соблюдением всех традиций. Мне захотелось, что бы и в моей семье он проходил так же. Но проблема заключается в том, что к сожалению я слишком мало знаю о нё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50000">
                <a:srgbClr val="ffffbd">
                  <a:alpha val="97254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281560" y="4856040"/>
            <a:ext cx="2262240" cy="169704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"/>
          <p:cNvSpPr/>
          <p:nvPr/>
        </p:nvSpPr>
        <p:spPr>
          <a:xfrm>
            <a:off x="7040520" y="5803920"/>
            <a:ext cx="981000" cy="71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6873840" y="419040"/>
            <a:ext cx="1371600" cy="10288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7848720" y="952560"/>
            <a:ext cx="593640" cy="434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1371600" y="5035680"/>
            <a:ext cx="1947960" cy="14605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0"/>
          <p:cNvSpPr/>
          <p:nvPr/>
        </p:nvSpPr>
        <p:spPr>
          <a:xfrm>
            <a:off x="2809800" y="5965920"/>
            <a:ext cx="841320" cy="6141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21"/>
          <p:cNvSpPr txBox="1"/>
          <p:nvPr/>
        </p:nvSpPr>
        <p:spPr>
          <a:xfrm>
            <a:off x="2895480" y="76212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5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ЦЕЛЬ  И  ЗАДАЧ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6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762120" y="152496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моего проекта – Приобщение к истокам русской культуры.  Научиться вязать изделия, которые помогут мне преобразить пасхальный стол, изготовить их и украсить ими  праздник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Отобрать необходимую теоретическую литературу по интересующему нас вопросу о празднике Пасхи и его традициях, проанализировать и выделить самое главное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ыбрать из предложенного разнообразия моделей изделий наиболее понравившиеся на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пределиться в какой цветовой гамме будут выполнены издел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Закрепить и пополнить навыки и приемы в работе с крюч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Изготовить выбранные  издел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838080" y="1303920"/>
            <a:ext cx="74678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ИСТОРИЯ  ПАСХ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ха, - главное событие года для православных христиан и самый большой православный праздник. Слово "Пасха" пришло к нам из греческого языка и означает "прехождение", "избавление". В этот день мы торжествуем избавление через Христа Спасителя всего человечества от рабства дьяволу и дарование нам жизни и вечного блаженства. Как крестной Христовой смертью совершено наше искупление, так ЕГО Воскресением дарована нам вечная жизнь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еи, празднуя ветхозаветную Пасху, вспоминали об освобождении предков своих от рабства египетского. Христиане же, празднуя Пасху новозаветную, торжествуют избавление чрез Христа всего человечества от рабства дьяволу и дарование нам жизни и вечного блаженств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6172200" y="5181480"/>
            <a:ext cx="1905120" cy="14907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7543800" y="6095880"/>
            <a:ext cx="747720" cy="5461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7010280" y="533520"/>
            <a:ext cx="1371600" cy="100152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8001000" y="1143000"/>
            <a:ext cx="581040" cy="4255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19"/>
          <p:cNvSpPr txBox="1"/>
          <p:nvPr/>
        </p:nvSpPr>
        <p:spPr>
          <a:xfrm>
            <a:off x="2514600" y="6094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4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ИССЛЕД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5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609480" y="5410080"/>
            <a:ext cx="1752840" cy="1279800"/>
          </a:xfrm>
          <a:prstGeom prst="ellipse">
            <a:avLst/>
          </a:prstGeom>
          <a:blipFill rotWithShape="0">
            <a:blip r:embed="rId6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905120" y="6095880"/>
            <a:ext cx="774720" cy="565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3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6324480" y="609480"/>
            <a:ext cx="2222640" cy="162108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038480" y="5105520"/>
            <a:ext cx="2133720" cy="155736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5389560" y="6039000"/>
            <a:ext cx="903240" cy="661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62120" y="12193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ЛЬНОЕ БОГОСЛУЖЕНИ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асху, как в важнейший праздник церковного года, совершается особо торжественное богослужение. Оно формировалось в первые века христианства как крещальное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7556400" y="1662120"/>
            <a:ext cx="870120" cy="592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1066680" y="5105520"/>
            <a:ext cx="2057400" cy="152064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2286000" y="6019920"/>
            <a:ext cx="871560" cy="6444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762120" y="2666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инство оглашенных после подготовительного поста принимали крещение в этот особый день. Само торжество всегда сопровождается богатым застольем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ркви c древних времён сложилась традиция совершения Пасхального богослужения ночью; или в некоторых странах (например, Сербии) ранним утром — с рассвет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7086600" y="5638680"/>
            <a:ext cx="1295280" cy="946440"/>
          </a:xfrm>
          <a:prstGeom prst="ellipse">
            <a:avLst/>
          </a:prstGeom>
          <a:blipFill rotWithShape="0">
            <a:blip r:embed="rId5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8001000" y="6172200"/>
            <a:ext cx="550800" cy="4032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6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6167520" y="4764240"/>
            <a:ext cx="2214360" cy="1731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3429000" y="4226040"/>
            <a:ext cx="2286000" cy="164448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4560840" y="5554800"/>
            <a:ext cx="965160" cy="6937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7601040" y="5907240"/>
            <a:ext cx="866520" cy="6332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838080" y="832320"/>
            <a:ext cx="7543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ЬНЫЙ ОГОН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хальный огонь играет большую роль в богослужении, а также в народных празднествах. Он символизирует Свет Божий, просвещающий все народы после Христова Воскресения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ореволюционное время в России, а на Западе и по сей день на прихрамовой территории разжигается большой костёр. С одной стороны смысл костра как и у пасхальной свечи — огонь есть Свет и Обновление. Пасхальный костёр также разводят для символического сожжения Иуды (Греция, Германия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762120" y="4842000"/>
            <a:ext cx="2286000" cy="166824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1969920" y="5972040"/>
            <a:ext cx="971640" cy="70992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 flipH="1">
            <a:off x="380160" y="30492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670680"/>
            <a:ext cx="746784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ПАСХАЛЬНАЯ ТРАПЕ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чение Великой Субботы и после пасхального богослужения в храмах освящают куличи, творожные пасхи, яйца и всё, что приготовлено к праздничному столу для разговения после Великого поста. Пасхальные яйца верующие дарят друг другу как символ чудесного появления на свет — Воскресения Христова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асху освящается артос — квасной хлеб особого освящения. Те, кто не мог причаститься на Пасху могли ощутить единство через вкушение общего хлеба. Сейчас артос раздают верующим для хранения дома в течение года, его принято вкушать натощак. Символ единства перешёл к куличам и пасха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235560" y="4937040"/>
            <a:ext cx="1994040" cy="15591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3505320" y="4495680"/>
            <a:ext cx="2055600" cy="147960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4503600" y="5729400"/>
            <a:ext cx="86868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7535880" y="5970600"/>
            <a:ext cx="779400" cy="569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838080" y="5008680"/>
            <a:ext cx="2057400" cy="150156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1916280" y="6043680"/>
            <a:ext cx="873000" cy="638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38080" y="1828800"/>
            <a:ext cx="7467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КРЕСТНЫЙ Х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 перед Пасхой православные собираются в храме, откуда начинается крестный ход с громким пением стихиры праздника. К полуночи шествие подходит к дверям храма и начинается богослужение пасхальной утрен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6324480" y="4343400"/>
            <a:ext cx="1994040" cy="155880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838080" y="3733920"/>
            <a:ext cx="2055960" cy="1479600"/>
          </a:xfrm>
          <a:prstGeom prst="ellipse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362320" y="4724280"/>
            <a:ext cx="868320" cy="623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6400800" y="5410080"/>
            <a:ext cx="779400" cy="5698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629400" y="457200"/>
            <a:ext cx="2057400" cy="1501920"/>
          </a:xfrm>
          <a:prstGeom prst="ellipse">
            <a:avLst/>
          </a:prstGeom>
          <a:blipFill rotWithShape="0">
            <a:blip r:embed="rId4">
              <a:alphaModFix amt="77000"/>
            </a:blip>
            <a:srcRect/>
            <a:stretch/>
          </a:blipFill>
          <a:ln w="38160">
            <a:solidFill>
              <a:srgbClr val="fffda7"/>
            </a:solidFill>
            <a:miter/>
          </a:ln>
          <a:effectLst>
            <a:outerShdw dist="99192" dir="2381944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7848720" y="1523880"/>
            <a:ext cx="873000" cy="6382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4"/>
          <p:cNvSpPr/>
          <p:nvPr/>
        </p:nvSpPr>
        <p:spPr>
          <a:xfrm flipH="1">
            <a:off x="380160" y="228600"/>
            <a:ext cx="8458200" cy="6400800"/>
          </a:xfrm>
          <a:prstGeom prst="flowChartDocumen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50000">
                <a:srgbClr val="ffffbd">
                  <a:alpha val="99215"/>
                </a:srgbClr>
              </a:gs>
              <a:gs pos="100000">
                <a:srgbClr val="ffffff">
                  <a:alpha val="49019"/>
                </a:srgbClr>
              </a:gs>
            </a:gsLst>
            <a:lin ang="2700000"/>
          </a:gradFill>
          <a:ln w="57240">
            <a:solidFill>
              <a:srgbClr val="fff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990720" y="609480"/>
            <a:ext cx="7391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>
                    <a:alphaModFix amt="79000"/>
                  </a:blip>
                  <a:srcRect/>
                  <a:stretch/>
                </a:blipFill>
                <a:effectLst>
                  <a:outerShdw dist="107932" dir="2700000" blurRad="0" rotWithShape="0">
                    <a:srgbClr val="5f5f5f">
                      <a:alpha val="50000"/>
                    </a:srgbClr>
                  </a:outerShdw>
                </a:effectLst>
                <a:latin typeface="Times New Roman"/>
              </a:rPr>
              <a:t>ВЫБРАННЫЕ  ВАРИАНТЫ  ИЗДЕЛИЙ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>
                  <a:alphaModFix amt="79000"/>
                </a:blip>
                <a:srcRect/>
                <a:stretch/>
              </a:blipFill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41" descr="Безымянный"/>
          <p:cNvPicPr/>
          <p:nvPr/>
        </p:nvPicPr>
        <p:blipFill>
          <a:blip r:embed="rId4"/>
          <a:stretch/>
        </p:blipFill>
        <p:spPr>
          <a:xfrm rot="1596000">
            <a:off x="1143000" y="1676520"/>
            <a:ext cx="1792440" cy="29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0" descr="Безымянный4"/>
          <p:cNvPicPr/>
          <p:nvPr/>
        </p:nvPicPr>
        <p:blipFill>
          <a:blip r:embed="rId5"/>
          <a:stretch/>
        </p:blipFill>
        <p:spPr>
          <a:xfrm rot="19015200">
            <a:off x="3733560" y="1523880"/>
            <a:ext cx="1976400" cy="2082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2" descr="Изображение 005"/>
          <p:cNvPicPr/>
          <p:nvPr/>
        </p:nvPicPr>
        <p:blipFill>
          <a:blip r:embed="rId6"/>
          <a:stretch/>
        </p:blipFill>
        <p:spPr>
          <a:xfrm rot="816600">
            <a:off x="6181200" y="1743120"/>
            <a:ext cx="2320920" cy="18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3" descr="Изображение 011"/>
          <p:cNvPicPr/>
          <p:nvPr/>
        </p:nvPicPr>
        <p:blipFill>
          <a:blip r:embed="rId7"/>
          <a:stretch/>
        </p:blipFill>
        <p:spPr>
          <a:xfrm rot="977400">
            <a:off x="2666880" y="3657600"/>
            <a:ext cx="3011760" cy="22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Изображение 013"/>
          <p:cNvPicPr/>
          <p:nvPr/>
        </p:nvPicPr>
        <p:blipFill>
          <a:blip r:embed="rId8"/>
          <a:stretch/>
        </p:blipFill>
        <p:spPr>
          <a:xfrm rot="20752800">
            <a:off x="6095520" y="3962160"/>
            <a:ext cx="183528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ершина Т.В.  Малышева Т.Ю.  Курыжко В.О.</dc:creator>
  <dc:description>Проект участвовал в Олимпиаде по технологии в 2007-2008 годах. В V заключительном этапе всероссийской олимпиады по технологии взял диплом III степени.</dc:description>
  <cp:keywords>Рождество вязание игрушки</cp:keywords>
  <dc:language>en-US</dc:language>
  <cp:lastModifiedBy>Татьяна</cp:lastModifiedBy>
  <dcterms:modified xsi:type="dcterms:W3CDTF">2023-01-29T14:54:14Z</dcterms:modified>
  <cp:revision>14</cp:revision>
  <dc:subject>Рождество</dc:subject>
  <dc:title>"РОЖДЕСТВЕНСКИЕ ИГРУШКИ НА ЁЛКУ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