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0.jpeg" ContentType="image/jpeg"/>
  <Override PartName="/ppt/media/image39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7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27.jpeg" ContentType="image/jpeg"/>
  <Override PartName="/ppt/media/image10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5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6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.jpeg" ContentType="image/jpeg"/>
  <Override PartName="/ppt/media/image41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5CEC-9DED-40B2-A22D-2FAF504B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92DD-AFCD-4F7E-B19D-D9EC8F21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5394-C530-4188-8309-EFCFCF1E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0C0-11B4-46E3-9191-505989B5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DFB-1FD3-4829-9E38-87731D12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8CE-CA3C-4B92-B1A0-010143BA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E0CA-FEA2-45A9-B00E-FB530F8F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0DBF-EAFF-48A7-9250-364E9E8A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0ADB-3734-44DC-AFAC-A0E094B5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77C6-CFEB-4B52-A5AD-F12DED5B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707-DF47-4687-822F-4EAEAD20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E86C-F71D-4BFF-AB26-487F9D21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425E-A72D-45CB-B73C-6D970E4E5A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1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1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1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1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5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35"/>
          <p:cNvSpPr/>
          <p:nvPr/>
        </p:nvSpPr>
        <p:spPr>
          <a:xfrm flipH="1">
            <a:off x="304920" y="304920"/>
            <a:ext cx="8534160" cy="624816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28235"/>
                </a:srgbClr>
              </a:gs>
              <a:gs pos="50000">
                <a:srgbClr val="ffffb7">
                  <a:alpha val="99215"/>
                </a:srgbClr>
              </a:gs>
              <a:gs pos="100000">
                <a:srgbClr val="ffffff">
                  <a:alpha val="28235"/>
                </a:srgbClr>
              </a:gs>
            </a:gsLst>
            <a:lin ang="2700000"/>
          </a:gra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17"/>
          <p:cNvSpPr txBox="1"/>
          <p:nvPr/>
        </p:nvSpPr>
        <p:spPr>
          <a:xfrm>
            <a:off x="2666880" y="1568520"/>
            <a:ext cx="3962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latin typeface="Times New Roman"/>
              </a:rPr>
              <a:t>Проект по технологии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latin typeface="Times New Roman"/>
              <a:ea typeface="Times New Roman"/>
            </a:endParaRPr>
          </a:p>
        </p:txBody>
      </p:sp>
      <p:sp>
        <p:nvSpPr>
          <p:cNvPr id="43" name="WordArt 16"/>
          <p:cNvSpPr txBox="1"/>
          <p:nvPr/>
        </p:nvSpPr>
        <p:spPr>
          <a:xfrm>
            <a:off x="3657600" y="2006640"/>
            <a:ext cx="205740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Times New Roman"/>
              </a:rPr>
              <a:t>Вязание крючком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44" name="Rectangle 18"/>
          <p:cNvSpPr/>
          <p:nvPr/>
        </p:nvSpPr>
        <p:spPr>
          <a:xfrm>
            <a:off x="2200320" y="381600"/>
            <a:ext cx="487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ая Федерац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общеобразовательная школа №5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2"/>
          <p:cNvSpPr/>
          <p:nvPr/>
        </p:nvSpPr>
        <p:spPr>
          <a:xfrm>
            <a:off x="5997960" y="4470840"/>
            <a:ext cx="286308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11 “Б” класса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ражей Мария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и проекта: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ьяна Викторовна Першина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ьяна Юрьевна Малышева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42"/>
          <p:cNvSpPr txBox="1"/>
          <p:nvPr/>
        </p:nvSpPr>
        <p:spPr>
          <a:xfrm>
            <a:off x="1219320" y="2666880"/>
            <a:ext cx="6629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"ОФОРМЛЕНИЕ 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ПАСХАЛЬНОГО СТОЛА"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28_Velichit_dusha_moya__svetisya.mp3" descr=""/>
          <p:cNvPicPr/>
          <p:nvPr/>
        </p:nvPicPr>
        <p:blipFill>
          <a:blip r:embed="rId6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blipFill rotWithShape="0">
            <a:blip r:embed="rId2">
              <a:alphaModFix amt="45000"/>
            </a:blip>
            <a:srcRect/>
            <a:stretch/>
          </a:blip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609480" y="1614960"/>
            <a:ext cx="40388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лфет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неизменный атрибут праздничного стола, маленькая, но нужная деталь, к которой мы все привыкли. Гармоничное сочетание скатерти и салфетки по цвету и материалу - ещё один важный момент в сервировке стола. Совсем не обязательно класть салфетку точно такого же цвета, как скатерть, оттенки могут отличаться. Кружевные и вышитые салфетки и скатерти, изготавливаемые своими руками или на заказ, издавна становились семейной реликвией, переходящей по наследству. Такие салфетки имеют особенную ценность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WordArt 12"/>
          <p:cNvSpPr txBox="1"/>
          <p:nvPr/>
        </p:nvSpPr>
        <p:spPr>
          <a:xfrm>
            <a:off x="3124080" y="68580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3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САЛФЕТК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4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Picture 15" descr="Безымянный"/>
          <p:cNvPicPr/>
          <p:nvPr/>
        </p:nvPicPr>
        <p:blipFill>
          <a:blip r:embed="rId5"/>
          <a:stretch/>
        </p:blipFill>
        <p:spPr>
          <a:xfrm>
            <a:off x="5638680" y="1523880"/>
            <a:ext cx="2698920" cy="439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blipFill rotWithShape="0">
            <a:blip r:embed="rId2">
              <a:alphaModFix amt="72000"/>
            </a:blip>
            <a:srcRect/>
            <a:stretch/>
          </a:blip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762120" y="2129760"/>
            <a:ext cx="38862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РЗИН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Наполненная чем-либо - символ изобилия, плодородия, достатка. С древних  времён плетёная корзинка являлась неотъемлемым атрибутом пасхального стола. Она служила не только украшением, в неё клали  пасхальные яйца, хлеб и прочие продукты для освещения,…таким образом, хозяева показывали своим гостям свою доброту и радушность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WordArt 11"/>
          <p:cNvSpPr txBox="1"/>
          <p:nvPr/>
        </p:nvSpPr>
        <p:spPr>
          <a:xfrm>
            <a:off x="2666880" y="838080"/>
            <a:ext cx="3962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3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КОРЗИНК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4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4" name="Picture 14" descr="Изображение 005"/>
          <p:cNvPicPr/>
          <p:nvPr/>
        </p:nvPicPr>
        <p:blipFill>
          <a:blip r:embed="rId5"/>
          <a:stretch/>
        </p:blipFill>
        <p:spPr>
          <a:xfrm>
            <a:off x="5181480" y="2133720"/>
            <a:ext cx="3346560" cy="271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3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blipFill rotWithShape="0">
            <a:blip r:embed="rId2">
              <a:alphaModFix amt="72000"/>
            </a:blip>
            <a:srcRect/>
            <a:stretch/>
          </a:blip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758880" y="2362320"/>
            <a:ext cx="375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удную вещь я руками свяжу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лфетка- подставка её назову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дет румянится в ней мой кулич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 тяжело совершенства достичь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до руками работать быстрей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бы связать красоту поскоре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WordArt 11"/>
          <p:cNvSpPr txBox="1"/>
          <p:nvPr/>
        </p:nvSpPr>
        <p:spPr>
          <a:xfrm>
            <a:off x="2362320" y="685800"/>
            <a:ext cx="4267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3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САЛФЕТКА-ПОДСТАВК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4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8" name="Picture 14" descr="Изображение 011"/>
          <p:cNvPicPr/>
          <p:nvPr/>
        </p:nvPicPr>
        <p:blipFill>
          <a:blip r:embed="rId5"/>
          <a:stretch/>
        </p:blipFill>
        <p:spPr>
          <a:xfrm>
            <a:off x="4724280" y="1981080"/>
            <a:ext cx="3876840" cy="290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4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blipFill rotWithShape="0">
            <a:blip r:embed="rId2">
              <a:alphaModFix amt="62000"/>
            </a:blip>
            <a:srcRect/>
            <a:stretch/>
          </a:blip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3809880" y="685800"/>
            <a:ext cx="1905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3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КУЛИЧ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4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685800" y="3112920"/>
            <a:ext cx="45720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838080" y="3265560"/>
            <a:ext cx="457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609480" y="1752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лич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туальное пасхальное блюдо в православной традиции. Пасхальный кулич символизирует присутствие Бога в мире и в человеческой жизн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685800" y="31240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елтеет кулич на средине стола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орностью цвета, привлекая глаз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уюсь на него вот уже 2 часа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х, как же работа моя хорош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вязка чудесно дополняет его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ую работу связать нелегко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8" descr="Изображение 013"/>
          <p:cNvPicPr/>
          <p:nvPr/>
        </p:nvPicPr>
        <p:blipFill>
          <a:blip r:embed="rId5"/>
          <a:stretch/>
        </p:blipFill>
        <p:spPr>
          <a:xfrm>
            <a:off x="5867280" y="1981080"/>
            <a:ext cx="2357640" cy="29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 flipH="1">
            <a:off x="380160" y="228600"/>
            <a:ext cx="8458200" cy="6400800"/>
          </a:xfrm>
          <a:prstGeom prst="flowChartDocument">
            <a:avLst/>
          </a:prstGeom>
          <a:blipFill rotWithShape="0">
            <a:blip r:embed="rId2">
              <a:alphaModFix amt="62000"/>
            </a:blip>
            <a:srcRect/>
            <a:stretch/>
          </a:blip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WordArt 3"/>
          <p:cNvSpPr txBox="1"/>
          <p:nvPr/>
        </p:nvSpPr>
        <p:spPr>
          <a:xfrm>
            <a:off x="3809880" y="685800"/>
            <a:ext cx="1905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3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ЯЙЦ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4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685800" y="3112920"/>
            <a:ext cx="45720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838080" y="3265560"/>
            <a:ext cx="457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457200" y="2286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Яйц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исконный символ мира и происхождения жизни. В древней мифологии яйцо - это и небо, и земля, и подземное царство. В христианстве пасхальные яйца символизируют кровь Христа и его Воскресение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3" descr="Безымянный4"/>
          <p:cNvPicPr/>
          <p:nvPr/>
        </p:nvPicPr>
        <p:blipFill>
          <a:blip r:embed="rId5"/>
          <a:stretch/>
        </p:blipFill>
        <p:spPr>
          <a:xfrm>
            <a:off x="5105520" y="1905120"/>
            <a:ext cx="3171600" cy="33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47058"/>
                </a:srgbClr>
              </a:gs>
              <a:gs pos="50000">
                <a:srgbClr val="ffffbd">
                  <a:alpha val="95294"/>
                </a:srgbClr>
              </a:gs>
              <a:gs pos="100000">
                <a:srgbClr val="ffffff">
                  <a:alpha val="47058"/>
                </a:srgbClr>
              </a:gs>
            </a:gsLst>
            <a:lin ang="270000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95160" y="13852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ая стоимость моих  изделий составляет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956.80  руб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838080" y="2780640"/>
            <a:ext cx="75438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Свою работу я выполняла из экологически чистых материалов и в процессе работы не применяла экологически опасных веществ, поэтому моя работа нарушать экологию дома, школы и других помещений не будет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 процессе всего изготовления изделий я соблюдала необходимые правила безопасности, чтобы не навредить себе, окружающим и не испортить сами изделия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WordArt 15"/>
          <p:cNvSpPr txBox="1"/>
          <p:nvPr/>
        </p:nvSpPr>
        <p:spPr>
          <a:xfrm>
            <a:off x="2057400" y="2133720"/>
            <a:ext cx="5257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2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ЭКОЛОГИЧЕСКАЯ  ОЦЕНК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3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WordArt 16"/>
          <p:cNvSpPr txBox="1"/>
          <p:nvPr/>
        </p:nvSpPr>
        <p:spPr>
          <a:xfrm>
            <a:off x="2133720" y="762120"/>
            <a:ext cx="480060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4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ЭКОНОМИЧЕСКАЯ  ОЦЕНК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5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Oval 19"/>
          <p:cNvSpPr/>
          <p:nvPr/>
        </p:nvSpPr>
        <p:spPr>
          <a:xfrm>
            <a:off x="6248520" y="5257800"/>
            <a:ext cx="1981080" cy="1467000"/>
          </a:xfrm>
          <a:prstGeom prst="ellipse">
            <a:avLst/>
          </a:prstGeom>
          <a:blipFill rotWithShape="0">
            <a:blip r:embed="rId6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20"/>
          <p:cNvSpPr/>
          <p:nvPr/>
        </p:nvSpPr>
        <p:spPr>
          <a:xfrm>
            <a:off x="7707240" y="6006960"/>
            <a:ext cx="841320" cy="6238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21"/>
          <p:cNvSpPr/>
          <p:nvPr/>
        </p:nvSpPr>
        <p:spPr>
          <a:xfrm>
            <a:off x="838080" y="5119560"/>
            <a:ext cx="2140200" cy="1584360"/>
          </a:xfrm>
          <a:prstGeom prst="ellipse">
            <a:avLst/>
          </a:prstGeom>
          <a:blipFill rotWithShape="0">
            <a:blip r:embed="rId7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22"/>
          <p:cNvSpPr/>
          <p:nvPr/>
        </p:nvSpPr>
        <p:spPr>
          <a:xfrm>
            <a:off x="2057400" y="5959440"/>
            <a:ext cx="909720" cy="67464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23"/>
          <p:cNvSpPr/>
          <p:nvPr/>
        </p:nvSpPr>
        <p:spPr>
          <a:xfrm>
            <a:off x="3429000" y="4782960"/>
            <a:ext cx="2455920" cy="1818000"/>
          </a:xfrm>
          <a:prstGeom prst="ellipse">
            <a:avLst/>
          </a:prstGeom>
          <a:blipFill rotWithShape="0">
            <a:blip r:embed="rId8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24"/>
          <p:cNvSpPr/>
          <p:nvPr/>
        </p:nvSpPr>
        <p:spPr>
          <a:xfrm>
            <a:off x="4888080" y="5638680"/>
            <a:ext cx="1041120" cy="7714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1" presetSubtype="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7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1" presetSubtype="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8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54117"/>
                </a:srgbClr>
              </a:gs>
              <a:gs pos="50000">
                <a:srgbClr val="ffffbd">
                  <a:alpha val="95294"/>
                </a:srgbClr>
              </a:gs>
              <a:gs pos="100000">
                <a:srgbClr val="ffffff">
                  <a:alpha val="54117"/>
                </a:srgbClr>
              </a:gs>
            </a:gsLst>
            <a:lin ang="270000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914400" y="1803960"/>
            <a:ext cx="746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м кажется, что проблема, возникшая ещё в самом начале работы, была решена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чень важным в моём проекте оказалось подробное описание вязания, которое дало новые навыки, ускорило процесс выполнения работы, привило аккуратность, развило память. Да и человеку, не умеющему работать с крючком, оно будет хорошим помощнико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пасхальный стол теперь точно получится торжественным, оригинальным, красивым и станет прекрасным украшение дома и праздника, любой другой бы позавидовал. Но ведь и вы можете такое сделать, надо только дать волю фантазии и хорошо потрудитьс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3581280" y="5029200"/>
            <a:ext cx="2057400" cy="156384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8"/>
          <p:cNvSpPr/>
          <p:nvPr/>
        </p:nvSpPr>
        <p:spPr>
          <a:xfrm>
            <a:off x="4956120" y="5835600"/>
            <a:ext cx="871560" cy="6634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9"/>
          <p:cNvSpPr/>
          <p:nvPr/>
        </p:nvSpPr>
        <p:spPr>
          <a:xfrm>
            <a:off x="1143000" y="5257800"/>
            <a:ext cx="1828800" cy="1341360"/>
          </a:xfrm>
          <a:prstGeom prst="ellipse">
            <a:avLst/>
          </a:prstGeom>
          <a:blipFill rotWithShape="0">
            <a:blip r:embed="rId3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2362320" y="5958000"/>
            <a:ext cx="777600" cy="57132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1"/>
          <p:cNvSpPr/>
          <p:nvPr/>
        </p:nvSpPr>
        <p:spPr>
          <a:xfrm>
            <a:off x="6172200" y="5257800"/>
            <a:ext cx="1752480" cy="1301760"/>
          </a:xfrm>
          <a:prstGeom prst="ellipse">
            <a:avLst/>
          </a:prstGeom>
          <a:blipFill rotWithShape="0">
            <a:blip r:embed="rId4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12"/>
          <p:cNvSpPr/>
          <p:nvPr/>
        </p:nvSpPr>
        <p:spPr>
          <a:xfrm>
            <a:off x="7391520" y="5934240"/>
            <a:ext cx="744480" cy="5554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WordArt 13"/>
          <p:cNvSpPr txBox="1"/>
          <p:nvPr/>
        </p:nvSpPr>
        <p:spPr>
          <a:xfrm>
            <a:off x="2819520" y="762120"/>
            <a:ext cx="3504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5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САМООЦЕНК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6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6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54117"/>
                </a:srgbClr>
              </a:gs>
              <a:gs pos="50000">
                <a:srgbClr val="ffffbd">
                  <a:alpha val="95294"/>
                </a:srgbClr>
              </a:gs>
              <a:gs pos="100000">
                <a:srgbClr val="ffffff">
                  <a:alpha val="54117"/>
                </a:srgbClr>
              </a:gs>
            </a:gsLst>
            <a:lin ang="270000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914400" y="2008440"/>
            <a:ext cx="746748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уществует множество способов применения изготовленных изделий. Ими можно украсить не только пасхальный стол, но и просто расставить по дому, как элементы дэкора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Красиво упакованные изделия, могут служить прекрасным подарком, ведь вещи, сделанные собственными руками, всегда дорого ценились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Но не только изделия несут практическую значимость. Полученные знания в процессе работы помогут вам создать ещё более сложные и интересные украшения, чем получились у меня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9"/>
          <p:cNvSpPr/>
          <p:nvPr/>
        </p:nvSpPr>
        <p:spPr>
          <a:xfrm>
            <a:off x="3505320" y="4952880"/>
            <a:ext cx="1947600" cy="146052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WordArt 14"/>
          <p:cNvSpPr txBox="1"/>
          <p:nvPr/>
        </p:nvSpPr>
        <p:spPr>
          <a:xfrm>
            <a:off x="1143000" y="99072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3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ПРАКТИЧЕСКАЯ  ЗНАЧИМОСТЬ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4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Oval 9"/>
          <p:cNvSpPr/>
          <p:nvPr/>
        </p:nvSpPr>
        <p:spPr>
          <a:xfrm>
            <a:off x="4883040" y="5757840"/>
            <a:ext cx="944640" cy="7192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0"/>
          <p:cNvSpPr/>
          <p:nvPr/>
        </p:nvSpPr>
        <p:spPr>
          <a:xfrm>
            <a:off x="762120" y="4800600"/>
            <a:ext cx="2286000" cy="1668600"/>
          </a:xfrm>
          <a:prstGeom prst="ellipse">
            <a:avLst/>
          </a:prstGeom>
          <a:blipFill rotWithShape="0">
            <a:blip r:embed="rId5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2297160" y="5888160"/>
            <a:ext cx="842760" cy="61884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21"/>
          <p:cNvSpPr/>
          <p:nvPr/>
        </p:nvSpPr>
        <p:spPr>
          <a:xfrm>
            <a:off x="6019920" y="5181480"/>
            <a:ext cx="2057400" cy="1501920"/>
          </a:xfrm>
          <a:prstGeom prst="ellipse">
            <a:avLst/>
          </a:prstGeom>
          <a:blipFill rotWithShape="0">
            <a:blip r:embed="rId6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7467480" y="5943600"/>
            <a:ext cx="806400" cy="60156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4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4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5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72156"/>
                </a:srgbClr>
              </a:gs>
              <a:gs pos="50000">
                <a:srgbClr val="ffffbd">
                  <a:alpha val="99215"/>
                </a:srgbClr>
              </a:gs>
              <a:gs pos="100000">
                <a:srgbClr val="ffffff">
                  <a:alpha val="72156"/>
                </a:srgbClr>
              </a:gs>
            </a:gsLst>
            <a:lin ang="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WordArt 3"/>
          <p:cNvSpPr txBox="1"/>
          <p:nvPr/>
        </p:nvSpPr>
        <p:spPr>
          <a:xfrm>
            <a:off x="8001000" y="533520"/>
            <a:ext cx="45720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WordArt 9"/>
          <p:cNvSpPr txBox="1"/>
          <p:nvPr/>
        </p:nvSpPr>
        <p:spPr>
          <a:xfrm>
            <a:off x="3505320" y="685800"/>
            <a:ext cx="2514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2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РЕКЛАМ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3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4" name="Picture 15" descr="Безымянный5"/>
          <p:cNvPicPr/>
          <p:nvPr/>
        </p:nvPicPr>
        <p:blipFill>
          <a:blip r:embed="rId4"/>
          <a:stretch/>
        </p:blipFill>
        <p:spPr>
          <a:xfrm>
            <a:off x="2209680" y="1447920"/>
            <a:ext cx="5265720" cy="4108320"/>
          </a:xfrm>
          <a:prstGeom prst="rect">
            <a:avLst/>
          </a:prstGeom>
          <a:ln w="0">
            <a:noFill/>
          </a:ln>
        </p:spPr>
      </p:pic>
      <p:sp>
        <p:nvSpPr>
          <p:cNvPr id="175" name="WordArt 11"/>
          <p:cNvSpPr txBox="1"/>
          <p:nvPr/>
        </p:nvSpPr>
        <p:spPr>
          <a:xfrm>
            <a:off x="4800600" y="4724280"/>
            <a:ext cx="3048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19891e"/>
                    </a:gs>
                    <a:gs pos="100000">
                      <a:srgbClr val="ffff00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РЕМЕН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19891e"/>
                  </a:gs>
                  <a:gs pos="100000">
                    <a:srgbClr val="ffff00"/>
                  </a:gs>
                </a:gsLst>
                <a:lin ang="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WordArt 13"/>
          <p:cNvSpPr txBox="1"/>
          <p:nvPr/>
        </p:nvSpPr>
        <p:spPr>
          <a:xfrm>
            <a:off x="2133720" y="1676520"/>
            <a:ext cx="3047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9891e"/>
                    </a:gs>
                    <a:gs pos="50000">
                      <a:srgbClr val="ffff00"/>
                    </a:gs>
                    <a:gs pos="100000">
                      <a:srgbClr val="19891e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РАСОТ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9891e"/>
                  </a:gs>
                  <a:gs pos="50000">
                    <a:srgbClr val="ffff00"/>
                  </a:gs>
                  <a:gs pos="100000">
                    <a:srgbClr val="19891e"/>
                  </a:gs>
                </a:gsLst>
                <a:lin ang="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WordArt 14"/>
          <p:cNvSpPr txBox="1"/>
          <p:nvPr/>
        </p:nvSpPr>
        <p:spPr>
          <a:xfrm>
            <a:off x="457200" y="3505320"/>
            <a:ext cx="4267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19891e"/>
                    </a:gs>
                    <a:gs pos="100000">
                      <a:srgbClr val="ffff00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ЕПОДВЛАСТНА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19891e"/>
                  </a:gs>
                  <a:gs pos="100000">
                    <a:srgbClr val="ffff00"/>
                  </a:gs>
                </a:gsLst>
                <a:lin ang="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68235"/>
                </a:srgbClr>
              </a:gs>
              <a:gs pos="50000">
                <a:srgbClr val="ffffbd">
                  <a:alpha val="97254"/>
                </a:srgbClr>
              </a:gs>
              <a:gs pos="100000">
                <a:srgbClr val="ffffff">
                  <a:alpha val="68235"/>
                </a:srgbClr>
              </a:gs>
            </a:gsLst>
            <a:lin ang="540000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3"/>
          <p:cNvSpPr/>
          <p:nvPr/>
        </p:nvSpPr>
        <p:spPr>
          <a:xfrm>
            <a:off x="5281560" y="4856040"/>
            <a:ext cx="2262240" cy="169704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4"/>
          <p:cNvSpPr/>
          <p:nvPr/>
        </p:nvSpPr>
        <p:spPr>
          <a:xfrm>
            <a:off x="7040520" y="5803920"/>
            <a:ext cx="981000" cy="71604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5"/>
          <p:cNvSpPr/>
          <p:nvPr/>
        </p:nvSpPr>
        <p:spPr>
          <a:xfrm>
            <a:off x="6873840" y="419040"/>
            <a:ext cx="1371600" cy="1028880"/>
          </a:xfrm>
          <a:prstGeom prst="ellipse">
            <a:avLst/>
          </a:prstGeom>
          <a:blipFill rotWithShape="0">
            <a:blip r:embed="rId3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6"/>
          <p:cNvSpPr/>
          <p:nvPr/>
        </p:nvSpPr>
        <p:spPr>
          <a:xfrm>
            <a:off x="7848720" y="952560"/>
            <a:ext cx="593640" cy="4348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7"/>
          <p:cNvSpPr/>
          <p:nvPr/>
        </p:nvSpPr>
        <p:spPr>
          <a:xfrm>
            <a:off x="1371600" y="5035680"/>
            <a:ext cx="1947960" cy="1460520"/>
          </a:xfrm>
          <a:prstGeom prst="ellipse">
            <a:avLst/>
          </a:prstGeom>
          <a:blipFill rotWithShape="0">
            <a:blip r:embed="rId4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8"/>
          <p:cNvSpPr/>
          <p:nvPr/>
        </p:nvSpPr>
        <p:spPr>
          <a:xfrm>
            <a:off x="2809800" y="5965920"/>
            <a:ext cx="841320" cy="61416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2895480" y="762120"/>
            <a:ext cx="3353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5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ПРОБЛЕМ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6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762120" y="1390320"/>
            <a:ext cx="7391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м дальше мы уходим во время, тем больше начинаем забывать о традициях и истории этого праздника. В советские времена многие люди вообще перестали считать Пасху за праздник, а даже если и праздновали её, то в основном ограничивались покупкой кулича и раскрашиванием яиц, и лишь совсем немногие семьи считали Пасху великим событием и праздновали его, соблюдая все православные традиции. Сейчас люди нашего поколения стараются возродить незаслуженно забытые традиции наших предков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 не смогла остаться равнодушной  к теме празднования Великой Пасхи, ведь в семьях моих предков этот праздник проходил с соблюдением всех традиций. Мне захотелось, что бы и в моей семье он проходил так же. Но проблема заключается в том, что к сожалению я слишком мало знаю о нё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68235"/>
                </a:srgbClr>
              </a:gs>
              <a:gs pos="50000">
                <a:srgbClr val="ffffbd">
                  <a:alpha val="97254"/>
                </a:srgbClr>
              </a:gs>
              <a:gs pos="100000">
                <a:srgbClr val="ffffff">
                  <a:alpha val="68235"/>
                </a:srgbClr>
              </a:gs>
            </a:gsLst>
            <a:lin ang="540000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5"/>
          <p:cNvSpPr/>
          <p:nvPr/>
        </p:nvSpPr>
        <p:spPr>
          <a:xfrm>
            <a:off x="5281560" y="4856040"/>
            <a:ext cx="2262240" cy="169704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6"/>
          <p:cNvSpPr/>
          <p:nvPr/>
        </p:nvSpPr>
        <p:spPr>
          <a:xfrm>
            <a:off x="7040520" y="5803920"/>
            <a:ext cx="981000" cy="71604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7"/>
          <p:cNvSpPr/>
          <p:nvPr/>
        </p:nvSpPr>
        <p:spPr>
          <a:xfrm>
            <a:off x="6873840" y="419040"/>
            <a:ext cx="1371600" cy="1028880"/>
          </a:xfrm>
          <a:prstGeom prst="ellipse">
            <a:avLst/>
          </a:prstGeom>
          <a:blipFill rotWithShape="0">
            <a:blip r:embed="rId3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7848720" y="952560"/>
            <a:ext cx="593640" cy="4348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19"/>
          <p:cNvSpPr/>
          <p:nvPr/>
        </p:nvSpPr>
        <p:spPr>
          <a:xfrm>
            <a:off x="1371600" y="5035680"/>
            <a:ext cx="1947960" cy="1460520"/>
          </a:xfrm>
          <a:prstGeom prst="ellipse">
            <a:avLst/>
          </a:prstGeom>
          <a:blipFill rotWithShape="0">
            <a:blip r:embed="rId4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20"/>
          <p:cNvSpPr/>
          <p:nvPr/>
        </p:nvSpPr>
        <p:spPr>
          <a:xfrm>
            <a:off x="2809800" y="5965920"/>
            <a:ext cx="841320" cy="61416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WordArt 21"/>
          <p:cNvSpPr txBox="1"/>
          <p:nvPr/>
        </p:nvSpPr>
        <p:spPr>
          <a:xfrm>
            <a:off x="2895480" y="762120"/>
            <a:ext cx="3353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5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ЦЕЛЬ  И  ЗАДАЧИ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6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762120" y="1524960"/>
            <a:ext cx="739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 моего проекта – Приобщение к истокам русской культуры.  Научиться вязать изделия, которые помогут мне преобразить пасхальный стол, изготовить их и украсить ими  праздник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Отобрать необходимую теоретическую литературу по интересующему нас вопросу о празднике Пасхи и его традициях, проанализировать и выделить самое главное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Выбрать из предложенного разнообразия моделей изделий наиболее понравившиеся на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Определиться в какой цветовой гамме будут выполнены издели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Закрепить и пополнить навыки и приемы в работе с крючко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Изготовить выбранные  издели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3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49019"/>
                </a:srgbClr>
              </a:gs>
              <a:gs pos="50000">
                <a:srgbClr val="ffffbd">
                  <a:alpha val="99215"/>
                </a:srgbClr>
              </a:gs>
              <a:gs pos="100000">
                <a:srgbClr val="ffffff">
                  <a:alpha val="49019"/>
                </a:srgbClr>
              </a:gs>
            </a:gsLst>
            <a:lin ang="270000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838080" y="1303920"/>
            <a:ext cx="746784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ИСТОРИЯ  ПАСХ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сха, - главное событие года для православных христиан и самый большой православный праздник. Слово "Пасха" пришло к нам из греческого языка и означает "прехождение", "избавление". В этот день мы торжествуем избавление через Христа Спасителя всего человечества от рабства дьяволу и дарование нам жизни и вечного блаженства. Как крестной Христовой смертью совершено наше искупление, так ЕГО Воскресением дарована нам вечная жизнь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вреи, празднуя ветхозаветную Пасху, вспоминали об освобождении предков своих от рабства египетского. Христиане же, празднуя Пасху новозаветную, торжествуют избавление чрез Христа всего человечества от рабства дьяволу и дарование нам жизни и вечного блаженства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6172200" y="5181480"/>
            <a:ext cx="1905120" cy="149076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13"/>
          <p:cNvSpPr/>
          <p:nvPr/>
        </p:nvSpPr>
        <p:spPr>
          <a:xfrm>
            <a:off x="7543800" y="6095880"/>
            <a:ext cx="747720" cy="54612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15"/>
          <p:cNvSpPr/>
          <p:nvPr/>
        </p:nvSpPr>
        <p:spPr>
          <a:xfrm>
            <a:off x="7010280" y="533520"/>
            <a:ext cx="1371600" cy="1001520"/>
          </a:xfrm>
          <a:prstGeom prst="ellipse">
            <a:avLst/>
          </a:prstGeom>
          <a:blipFill rotWithShape="0">
            <a:blip r:embed="rId3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6"/>
          <p:cNvSpPr/>
          <p:nvPr/>
        </p:nvSpPr>
        <p:spPr>
          <a:xfrm>
            <a:off x="8001000" y="1143000"/>
            <a:ext cx="581040" cy="42552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WordArt 19"/>
          <p:cNvSpPr txBox="1"/>
          <p:nvPr/>
        </p:nvSpPr>
        <p:spPr>
          <a:xfrm>
            <a:off x="2514600" y="609480"/>
            <a:ext cx="4038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4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ИССЛЕДОВАНИЕ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5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609480" y="5410080"/>
            <a:ext cx="1752840" cy="1279800"/>
          </a:xfrm>
          <a:prstGeom prst="ellipse">
            <a:avLst/>
          </a:prstGeom>
          <a:blipFill rotWithShape="0">
            <a:blip r:embed="rId6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2"/>
          <p:cNvSpPr/>
          <p:nvPr/>
        </p:nvSpPr>
        <p:spPr>
          <a:xfrm>
            <a:off x="1905120" y="6095880"/>
            <a:ext cx="774720" cy="56520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3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49019"/>
                </a:srgbClr>
              </a:gs>
              <a:gs pos="50000">
                <a:srgbClr val="ffffbd">
                  <a:alpha val="99215"/>
                </a:srgbClr>
              </a:gs>
              <a:gs pos="100000">
                <a:srgbClr val="ffffff">
                  <a:alpha val="49019"/>
                </a:srgbClr>
              </a:gs>
            </a:gsLst>
            <a:lin ang="270000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4"/>
          <p:cNvSpPr/>
          <p:nvPr/>
        </p:nvSpPr>
        <p:spPr>
          <a:xfrm>
            <a:off x="6324480" y="609480"/>
            <a:ext cx="2222640" cy="162108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038480" y="5105520"/>
            <a:ext cx="2133720" cy="1557360"/>
          </a:xfrm>
          <a:prstGeom prst="ellipse">
            <a:avLst/>
          </a:prstGeom>
          <a:blipFill rotWithShape="0">
            <a:blip r:embed="rId3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16"/>
          <p:cNvSpPr/>
          <p:nvPr/>
        </p:nvSpPr>
        <p:spPr>
          <a:xfrm>
            <a:off x="5389560" y="6039000"/>
            <a:ext cx="903240" cy="6616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762120" y="1219320"/>
            <a:ext cx="541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ПАСХАЛЬНОЕ БОГОСЛУЖЕНИ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асху, как в важнейший праздник церковного года, совершается особо торжественное богослужение. Оно формировалось в первые века христианства как крещальное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19"/>
          <p:cNvSpPr/>
          <p:nvPr/>
        </p:nvSpPr>
        <p:spPr>
          <a:xfrm>
            <a:off x="7556400" y="1662120"/>
            <a:ext cx="870120" cy="59220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21"/>
          <p:cNvSpPr/>
          <p:nvPr/>
        </p:nvSpPr>
        <p:spPr>
          <a:xfrm>
            <a:off x="1066680" y="5105520"/>
            <a:ext cx="2057400" cy="1520640"/>
          </a:xfrm>
          <a:prstGeom prst="ellipse">
            <a:avLst/>
          </a:prstGeom>
          <a:blipFill rotWithShape="0">
            <a:blip r:embed="rId4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22"/>
          <p:cNvSpPr/>
          <p:nvPr/>
        </p:nvSpPr>
        <p:spPr>
          <a:xfrm>
            <a:off x="2286000" y="6019920"/>
            <a:ext cx="871560" cy="64440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3"/>
          <p:cNvSpPr/>
          <p:nvPr/>
        </p:nvSpPr>
        <p:spPr>
          <a:xfrm>
            <a:off x="762120" y="266688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ьшинство оглашенных после подготовительного поста принимали крещение в этот особый день. Само торжество всегда сопровождается богатым застольем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Церкви c древних времён сложилась традиция совершения Пасхального богослужения ночью; или в некоторых странах (например, Сербии) ранним утром — с рассвето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24"/>
          <p:cNvSpPr/>
          <p:nvPr/>
        </p:nvSpPr>
        <p:spPr>
          <a:xfrm>
            <a:off x="7086600" y="5638680"/>
            <a:ext cx="1295280" cy="946440"/>
          </a:xfrm>
          <a:prstGeom prst="ellipse">
            <a:avLst/>
          </a:prstGeom>
          <a:blipFill rotWithShape="0">
            <a:blip r:embed="rId5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25"/>
          <p:cNvSpPr/>
          <p:nvPr/>
        </p:nvSpPr>
        <p:spPr>
          <a:xfrm>
            <a:off x="8001000" y="6172200"/>
            <a:ext cx="550800" cy="40320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6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49019"/>
                </a:srgbClr>
              </a:gs>
              <a:gs pos="50000">
                <a:srgbClr val="ffffbd">
                  <a:alpha val="99215"/>
                </a:srgbClr>
              </a:gs>
              <a:gs pos="100000">
                <a:srgbClr val="ffffff">
                  <a:alpha val="49019"/>
                </a:srgbClr>
              </a:gs>
            </a:gsLst>
            <a:lin ang="270000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17"/>
          <p:cNvSpPr/>
          <p:nvPr/>
        </p:nvSpPr>
        <p:spPr>
          <a:xfrm>
            <a:off x="6167520" y="4764240"/>
            <a:ext cx="2214360" cy="173196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18"/>
          <p:cNvSpPr/>
          <p:nvPr/>
        </p:nvSpPr>
        <p:spPr>
          <a:xfrm>
            <a:off x="3429000" y="4226040"/>
            <a:ext cx="2286000" cy="1644480"/>
          </a:xfrm>
          <a:prstGeom prst="ellipse">
            <a:avLst/>
          </a:prstGeom>
          <a:blipFill rotWithShape="0">
            <a:blip r:embed="rId3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19"/>
          <p:cNvSpPr/>
          <p:nvPr/>
        </p:nvSpPr>
        <p:spPr>
          <a:xfrm>
            <a:off x="4560840" y="5554800"/>
            <a:ext cx="965160" cy="69372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20"/>
          <p:cNvSpPr/>
          <p:nvPr/>
        </p:nvSpPr>
        <p:spPr>
          <a:xfrm>
            <a:off x="7601040" y="5907240"/>
            <a:ext cx="866520" cy="63324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838080" y="832320"/>
            <a:ext cx="75438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ПАСХАЬНЫЙ ОГОН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схальный огонь играет большую роль в богослужении, а также в народных празднествах. Он символизирует Свет Божий, просвещающий все народы после Христова Воскресения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дореволюционное время в России, а на Западе и по сей день на прихрамовой территории разжигается большой костёр. С одной стороны смысл костра как и у пасхальной свечи — огонь есть Свет и Обновление. Пасхальный костёр также разводят для символического сожжения Иуды (Греция, Германия)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23"/>
          <p:cNvSpPr/>
          <p:nvPr/>
        </p:nvSpPr>
        <p:spPr>
          <a:xfrm>
            <a:off x="762120" y="4842000"/>
            <a:ext cx="2286000" cy="1668240"/>
          </a:xfrm>
          <a:prstGeom prst="ellipse">
            <a:avLst/>
          </a:prstGeom>
          <a:blipFill rotWithShape="0">
            <a:blip r:embed="rId4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24"/>
          <p:cNvSpPr/>
          <p:nvPr/>
        </p:nvSpPr>
        <p:spPr>
          <a:xfrm>
            <a:off x="1969920" y="5972040"/>
            <a:ext cx="971640" cy="70992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5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49019"/>
                </a:srgbClr>
              </a:gs>
              <a:gs pos="50000">
                <a:srgbClr val="ffffbd">
                  <a:alpha val="99215"/>
                </a:srgbClr>
              </a:gs>
              <a:gs pos="100000">
                <a:srgbClr val="ffffff">
                  <a:alpha val="49019"/>
                </a:srgbClr>
              </a:gs>
            </a:gsLst>
            <a:lin ang="270000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838080" y="670680"/>
            <a:ext cx="746784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ПАСХАЛЬНАЯ ТРАПЕЗ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течение Великой Субботы и после пасхального богослужения в храмах освящают куличи, творожные пасхи, яйца и всё, что приготовлено к праздничному столу для разговения после Великого поста. Пасхальные яйца верующие дарят друг другу как символ чудесного появления на свет — Воскресения Христова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Пасху освящается артос — квасной хлеб особого освящения. Те, кто не мог причаститься на Пасху могли ощутить единство через вкушение общего хлеба. Сейчас артос раздают верующим для хранения дома в течение года, его принято вкушать натощак. Символ единства перешёл к куличам и пасха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6235560" y="4937040"/>
            <a:ext cx="1994040" cy="155916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5"/>
          <p:cNvSpPr/>
          <p:nvPr/>
        </p:nvSpPr>
        <p:spPr>
          <a:xfrm>
            <a:off x="3505320" y="4495680"/>
            <a:ext cx="2055600" cy="1479600"/>
          </a:xfrm>
          <a:prstGeom prst="ellipse">
            <a:avLst/>
          </a:prstGeom>
          <a:blipFill rotWithShape="0">
            <a:blip r:embed="rId3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6"/>
          <p:cNvSpPr/>
          <p:nvPr/>
        </p:nvSpPr>
        <p:spPr>
          <a:xfrm>
            <a:off x="4503600" y="5729400"/>
            <a:ext cx="868680" cy="6238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17"/>
          <p:cNvSpPr/>
          <p:nvPr/>
        </p:nvSpPr>
        <p:spPr>
          <a:xfrm>
            <a:off x="7535880" y="5970600"/>
            <a:ext cx="779400" cy="5698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8"/>
          <p:cNvSpPr/>
          <p:nvPr/>
        </p:nvSpPr>
        <p:spPr>
          <a:xfrm>
            <a:off x="838080" y="5008680"/>
            <a:ext cx="2057400" cy="1501560"/>
          </a:xfrm>
          <a:prstGeom prst="ellipse">
            <a:avLst/>
          </a:prstGeom>
          <a:blipFill rotWithShape="0">
            <a:blip r:embed="rId4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9"/>
          <p:cNvSpPr/>
          <p:nvPr/>
        </p:nvSpPr>
        <p:spPr>
          <a:xfrm>
            <a:off x="1916280" y="6043680"/>
            <a:ext cx="873000" cy="6382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 flipH="1">
            <a:off x="380160" y="22860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49019"/>
                </a:srgbClr>
              </a:gs>
              <a:gs pos="50000">
                <a:srgbClr val="ffffbd">
                  <a:alpha val="99215"/>
                </a:srgbClr>
              </a:gs>
              <a:gs pos="100000">
                <a:srgbClr val="ffffff">
                  <a:alpha val="49019"/>
                </a:srgbClr>
              </a:gs>
            </a:gsLst>
            <a:lin ang="270000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838080" y="1828800"/>
            <a:ext cx="74678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КРЕСТНЫЙ ХО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посредственно перед Пасхой православные собираются в храме, откуда начинается крестный ход с громким пением стихиры праздника. К полуночи шествие подходит к дверям храма и начинается богослужение пасхальной утрени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6324480" y="4343400"/>
            <a:ext cx="1994040" cy="155880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838080" y="3733920"/>
            <a:ext cx="2055960" cy="1479600"/>
          </a:xfrm>
          <a:prstGeom prst="ellipse">
            <a:avLst/>
          </a:prstGeom>
          <a:blipFill rotWithShape="0">
            <a:blip r:embed="rId3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2362320" y="4724280"/>
            <a:ext cx="868320" cy="6238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6400800" y="5410080"/>
            <a:ext cx="779400" cy="5698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6629400" y="457200"/>
            <a:ext cx="2057400" cy="1501920"/>
          </a:xfrm>
          <a:prstGeom prst="ellipse">
            <a:avLst/>
          </a:prstGeom>
          <a:blipFill rotWithShape="0">
            <a:blip r:embed="rId4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7848720" y="1523880"/>
            <a:ext cx="873000" cy="6382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34"/>
          <p:cNvSpPr/>
          <p:nvPr/>
        </p:nvSpPr>
        <p:spPr>
          <a:xfrm flipH="1">
            <a:off x="380160" y="22860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49019"/>
                </a:srgbClr>
              </a:gs>
              <a:gs pos="50000">
                <a:srgbClr val="ffffbd">
                  <a:alpha val="99215"/>
                </a:srgbClr>
              </a:gs>
              <a:gs pos="100000">
                <a:srgbClr val="ffffff">
                  <a:alpha val="49019"/>
                </a:srgbClr>
              </a:gs>
            </a:gsLst>
            <a:lin ang="270000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WordArt 20"/>
          <p:cNvSpPr txBox="1"/>
          <p:nvPr/>
        </p:nvSpPr>
        <p:spPr>
          <a:xfrm>
            <a:off x="990720" y="609480"/>
            <a:ext cx="7391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2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ВЫБРАННЫЕ  ВАРИАНТЫ  ИЗДЕЛИЙ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3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2" name="Picture 41" descr="Безымянный"/>
          <p:cNvPicPr/>
          <p:nvPr/>
        </p:nvPicPr>
        <p:blipFill>
          <a:blip r:embed="rId4"/>
          <a:stretch/>
        </p:blipFill>
        <p:spPr>
          <a:xfrm rot="1596000">
            <a:off x="1143000" y="1676520"/>
            <a:ext cx="1792440" cy="291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0" descr="Безымянный4"/>
          <p:cNvPicPr/>
          <p:nvPr/>
        </p:nvPicPr>
        <p:blipFill>
          <a:blip r:embed="rId5"/>
          <a:stretch/>
        </p:blipFill>
        <p:spPr>
          <a:xfrm rot="19015200">
            <a:off x="3733560" y="1523880"/>
            <a:ext cx="1976400" cy="2082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2" descr="Изображение 005"/>
          <p:cNvPicPr/>
          <p:nvPr/>
        </p:nvPicPr>
        <p:blipFill>
          <a:blip r:embed="rId6"/>
          <a:stretch/>
        </p:blipFill>
        <p:spPr>
          <a:xfrm rot="816600">
            <a:off x="6181200" y="1743120"/>
            <a:ext cx="2320920" cy="1881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3" descr="Изображение 011"/>
          <p:cNvPicPr/>
          <p:nvPr/>
        </p:nvPicPr>
        <p:blipFill>
          <a:blip r:embed="rId7"/>
          <a:stretch/>
        </p:blipFill>
        <p:spPr>
          <a:xfrm rot="977400">
            <a:off x="2666880" y="3657600"/>
            <a:ext cx="3011760" cy="2259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4" descr="Изображение 013"/>
          <p:cNvPicPr/>
          <p:nvPr/>
        </p:nvPicPr>
        <p:blipFill>
          <a:blip r:embed="rId8"/>
          <a:stretch/>
        </p:blipFill>
        <p:spPr>
          <a:xfrm rot="20752800">
            <a:off x="6095520" y="3962160"/>
            <a:ext cx="1835280" cy="22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ершина Т.В.  Малышева Т.Ю.  Курыжко В.О.</dc:creator>
  <dc:description>Проект участвовал в Олимпиаде по технологии в 2007-2008 годах. В V заключительном этапе всероссийской олимпиады по технологии взял диплом III степени.</dc:description>
  <cp:keywords>Рождество вязание игрушки</cp:keywords>
  <dc:language>en-US</dc:language>
  <cp:lastModifiedBy>Татьяна</cp:lastModifiedBy>
  <dcterms:modified xsi:type="dcterms:W3CDTF">2023-01-29T14:54:14Z</dcterms:modified>
  <cp:revision>14</cp:revision>
  <dc:subject>Рождество</dc:subject>
  <dc:title>"РОЖДЕСТВЕНСКИЕ ИГРУШКИ НА ЁЛКУ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