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8F3A2-B28D-4180-BE48-CE22585BB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39875-B7FD-4FE8-8854-9B0BE116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88B1F-3F00-48B5-9808-29E002788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00C6A-38F4-46E4-AA57-5889CBD1C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95A42C-45F7-4C5F-AE48-446F841A4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D5FD8E-1320-40B4-AD8E-BCEDE072E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264E5C-A0BC-48F1-93FC-DCEFA8210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FAA345-C1B0-42FC-A50E-BC893B5CD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A757FF-4AFA-4443-AC1B-01BF691C2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B0B431-21BB-499E-BF09-CCB77081C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BF4A4A-10E0-4783-9166-8F14C69F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ACC3-8B72-4DB0-930C-9499BAA4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B40658-C97F-4A14-89EA-2C9AACFA2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1FE235-8CD3-4A39-AE73-A2D1F98E4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6966BE-15E7-4C16-AEA3-07DC78802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8DF1ED-412A-4AAF-860B-B603E60D1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44FE24F-485F-4F61-BA0D-734F75884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3F0C9-0964-41AB-8B9C-B684D7C896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B25FC-A55A-4590-8618-FAA6E2447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BBB5F-875E-413C-9324-730CD4D8B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53A69-65EC-48CC-A2DA-3449E5F12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B556E-50BF-4842-A4EF-6496CF9B5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B3DA7-F452-415F-BC6C-7662788D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C6632-2702-4B6E-8DCB-9B31E54F9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A0779-1B19-46D9-90C5-AF64E9C77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76A4C-5DC1-43D0-A182-F79FACBE9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1AB76-6359-454B-9276-FC629D78D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B4C1B-488D-469F-8E4A-4C2C76BC9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5D475B-D622-4D47-AB70-3FB0CAE2B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3AD7C7-3468-4692-B048-68C247736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8DDD73E-EB20-4F69-B1D3-8C4DE51F17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F99F1AD-7865-4B41-A9D0-AF2031488D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761D738-1D0D-4221-81B5-60EEC70540E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4ACCD-7E29-4C59-832C-F8F0DFCD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77BBF04-85C6-41BB-B731-22DD05FB02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1BB0314-7709-4E8B-934E-C5C43AB8F05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AC7FE74-36DD-4660-8F43-D2B4BA9682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316638D-0E68-436F-A55C-A0485E2ECA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40CF02D-186F-46E5-8489-B060C67486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D60090A-42F3-40C9-BA39-F38242DAE8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8A2F915-B7C7-4AC8-80FC-049E62F320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E1F7B80-5BE0-4CDE-B976-B2F7BA614BC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4DACCF5-4C1A-4A04-8EAB-9F4A8FAEB50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D6B33-38D6-40F9-955D-AB0DD7C9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94C6-BFCB-46BA-BAE9-E7CC29C27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08D4-9F44-42A5-A157-7F3F05149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CA62-E8CD-4111-B965-9CB1B7AC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6247-7295-42F5-8F28-4087FD0F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A586-10BB-4C97-BD4D-2363B0D80486}"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eb80a"/>
          </a:solidFill>
          <a:ln w="38160">
            <a:solidFill>
              <a:srgbClr val="feb80a"/>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996D-231D-439E-890B-CCD8B1AE72D3}"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5820-7B52-4DDF-8862-691B65D2B63A}"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B409-D45A-4F16-89B3-DAE981B07185}"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4791240" y="2066760"/>
            <a:ext cx="3840120" cy="1810080"/>
          </a:xfrm>
          <a:prstGeom prst="rect">
            <a:avLst/>
          </a:prstGeom>
          <a:ln w="0">
            <a:noFill/>
          </a:ln>
        </p:spPr>
      </p:pic>
      <p:pic>
        <p:nvPicPr>
          <p:cNvPr id="171" name="Picture 2" descr="Century Olympic posters: Poster for the first modern Olympic Games in Athens 1896"/>
          <p:cNvPicPr/>
          <p:nvPr/>
        </p:nvPicPr>
        <p:blipFill>
          <a:blip r:embed="rId2"/>
          <a:stretch/>
        </p:blipFill>
        <p:spPr>
          <a:xfrm>
            <a:off x="971640" y="620640"/>
            <a:ext cx="2448000" cy="3529080"/>
          </a:xfrm>
          <a:prstGeom prst="rect">
            <a:avLst/>
          </a:prstGeom>
          <a:ln w="0">
            <a:noFill/>
          </a:ln>
        </p:spPr>
      </p:pic>
      <p:sp>
        <p:nvSpPr>
          <p:cNvPr id="172" name="TextBox 3"/>
          <p:cNvSpPr/>
          <p:nvPr/>
        </p:nvSpPr>
        <p:spPr>
          <a:xfrm>
            <a:off x="6402240" y="442908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r>
              <a:rPr b="0" lang="ru-RU"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99680" y="356760"/>
            <a:ext cx="8258040" cy="14288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r the period of the Games all the wars stopped. So the Olympic Games became the symbol of peace and friendship. In 394 AD the Games were abolished and were not renewed until many centuries later.</a:t>
            </a:r>
            <a:endParaRPr b="0" lang="en-US" sz="2400" spc="-1" strike="noStrike">
              <a:solidFill>
                <a:srgbClr val="ffffff"/>
              </a:solidFill>
              <a:latin typeface="Constantia"/>
            </a:endParaRPr>
          </a:p>
        </p:txBody>
      </p:sp>
      <p:pic>
        <p:nvPicPr>
          <p:cNvPr id="190" name="Picture 2" descr="http://storage13.pho.to/images/3/DC/23700E26-2FA2-4634-8FC7-6D449C610F1D.jpg"/>
          <p:cNvPicPr/>
          <p:nvPr/>
        </p:nvPicPr>
        <p:blipFill>
          <a:blip r:embed="rId1"/>
          <a:stretch/>
        </p:blipFill>
        <p:spPr>
          <a:xfrm>
            <a:off x="2484360" y="3986280"/>
            <a:ext cx="5132520" cy="192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714920" y="642960"/>
            <a:ext cx="4186080" cy="45720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 Olympic Anthem composed by Spyros Samaras was played at the Athens.  For the next 60 year a variety of musical compositions provided the backgrounds to the Opening Ceremonies, then in 1960, the Samaras composition became the official Olympic Anthem</a:t>
            </a:r>
            <a:endParaRPr b="0" lang="en-US" sz="2600" spc="-1" strike="noStrike">
              <a:solidFill>
                <a:srgbClr val="ffffff"/>
              </a:solidFill>
              <a:latin typeface="Constantia"/>
            </a:endParaRPr>
          </a:p>
        </p:txBody>
      </p:sp>
      <p:pic>
        <p:nvPicPr>
          <p:cNvPr id="192" name="Picture 2" descr="http://storage13.pho.to/images/2/75/51436968-A43B-4DE1-8A71-99F1F28D01F9.jpg"/>
          <p:cNvPicPr/>
          <p:nvPr/>
        </p:nvPicPr>
        <p:blipFill>
          <a:blip r:embed="rId1"/>
          <a:stretch/>
        </p:blipFill>
        <p:spPr>
          <a:xfrm>
            <a:off x="642960" y="2060640"/>
            <a:ext cx="3749760" cy="3368520"/>
          </a:xfrm>
          <a:prstGeom prst="rect">
            <a:avLst/>
          </a:prstGeom>
          <a:ln w="0">
            <a:noFill/>
          </a:ln>
        </p:spPr>
      </p:pic>
      <p:sp>
        <p:nvSpPr>
          <p:cNvPr id="193" name="Прямоугольник 3"/>
          <p:cNvSpPr/>
          <p:nvPr/>
        </p:nvSpPr>
        <p:spPr>
          <a:xfrm>
            <a:off x="1857240" y="6143760"/>
            <a:ext cx="542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00040" y="2071440"/>
            <a:ext cx="5686560" cy="3625560"/>
          </a:xfrm>
          <a:prstGeom prst="rect">
            <a:avLst/>
          </a:prstGeom>
          <a:noFill/>
          <a:ln w="0">
            <a:noFill/>
          </a:ln>
        </p:spPr>
        <p:txBody>
          <a:bodyPr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2004 Summer Olympic Games, officially known as the Games of the XXVIII Olympiad, was a premier international multi-sport event held in Athens, Greece from August 13th to August 29th, 2004 with the motto "Welcome Home".</a:t>
            </a:r>
            <a:endParaRPr b="0" lang="en-US" sz="2600" spc="-1" strike="noStrike">
              <a:solidFill>
                <a:srgbClr val="ffffff"/>
              </a:solidFill>
              <a:latin typeface="Constantia"/>
            </a:endParaRPr>
          </a:p>
        </p:txBody>
      </p:sp>
      <p:pic>
        <p:nvPicPr>
          <p:cNvPr id="195" name="Заголовок 1" descr=""/>
          <p:cNvPicPr/>
          <p:nvPr/>
        </p:nvPicPr>
        <p:blipFill>
          <a:blip r:embed="rId1"/>
          <a:stretch/>
        </p:blipFill>
        <p:spPr>
          <a:xfrm>
            <a:off x="304920" y="231840"/>
            <a:ext cx="8424720" cy="1925640"/>
          </a:xfrm>
          <a:prstGeom prst="rect">
            <a:avLst/>
          </a:prstGeom>
          <a:ln w="0">
            <a:noFill/>
          </a:ln>
        </p:spPr>
      </p:pic>
      <p:pic>
        <p:nvPicPr>
          <p:cNvPr id="196" name="Picture 2" descr="Athens 2004 Olympic Games"/>
          <p:cNvPicPr/>
          <p:nvPr/>
        </p:nvPicPr>
        <p:blipFill>
          <a:blip r:embed="rId2"/>
          <a:stretch/>
        </p:blipFill>
        <p:spPr>
          <a:xfrm>
            <a:off x="6357960" y="2071800"/>
            <a:ext cx="2071800" cy="3370320"/>
          </a:xfrm>
          <a:prstGeom prst="rect">
            <a:avLst/>
          </a:prstGeom>
          <a:ln w="0">
            <a:noFill/>
          </a:ln>
        </p:spPr>
      </p:pic>
      <p:sp>
        <p:nvSpPr>
          <p:cNvPr id="197" name="Прямоугольник 4"/>
          <p:cNvSpPr/>
          <p:nvPr/>
        </p:nvSpPr>
        <p:spPr>
          <a:xfrm>
            <a:off x="1714680" y="6215040"/>
            <a:ext cx="564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643280" y="836640"/>
            <a:ext cx="4114800" cy="4680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Athens 2004 marked the first time since the 1996 Summer Olympics that all countries with a National Olympic Committee were in attendance.  It was also the first time since </a:t>
            </a:r>
            <a:r>
              <a:rPr b="1" lang="en-US" sz="2400" spc="-1" strike="noStrike">
                <a:solidFill>
                  <a:srgbClr val="ffffff"/>
                </a:solidFill>
                <a:latin typeface="Constantia"/>
              </a:rPr>
              <a:t>1896</a:t>
            </a:r>
            <a:r>
              <a:rPr b="0" lang="en-US" sz="2400" spc="-1" strike="noStrike" u="sng">
                <a:solidFill>
                  <a:srgbClr val="ffffff"/>
                </a:solidFill>
                <a:uFillTx/>
                <a:latin typeface="Constantia"/>
              </a:rPr>
              <a:t> </a:t>
            </a:r>
            <a:r>
              <a:rPr b="0" lang="en-US" sz="2400" spc="-1" strike="noStrike">
                <a:solidFill>
                  <a:srgbClr val="ffffff"/>
                </a:solidFill>
                <a:latin typeface="Constantia"/>
              </a:rPr>
              <a:t>that the Olympics were held in Greece.</a:t>
            </a:r>
            <a:endParaRPr b="0" lang="en-US" sz="2400" spc="-1" strike="noStrike">
              <a:solidFill>
                <a:srgbClr val="ffffff"/>
              </a:solidFill>
              <a:latin typeface="Constantia"/>
            </a:endParaRPr>
          </a:p>
        </p:txBody>
      </p:sp>
      <p:pic>
        <p:nvPicPr>
          <p:cNvPr id="199" name="Picture 2" descr="Athens 2004 Olympic Games"/>
          <p:cNvPicPr/>
          <p:nvPr/>
        </p:nvPicPr>
        <p:blipFill>
          <a:blip r:embed="rId1"/>
          <a:stretch/>
        </p:blipFill>
        <p:spPr>
          <a:xfrm>
            <a:off x="357120" y="785880"/>
            <a:ext cx="4143600" cy="4143240"/>
          </a:xfrm>
          <a:prstGeom prst="rect">
            <a:avLst/>
          </a:prstGeom>
          <a:ln w="0">
            <a:noFill/>
          </a:ln>
        </p:spPr>
      </p:pic>
      <p:sp>
        <p:nvSpPr>
          <p:cNvPr id="200" name="Прямоугольник 3"/>
          <p:cNvSpPr/>
          <p:nvPr/>
        </p:nvSpPr>
        <p:spPr>
          <a:xfrm>
            <a:off x="2143080" y="6357960"/>
            <a:ext cx="53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D:\Desktop\Греция\Греция мои\175.JPG"/>
          <p:cNvPicPr/>
          <p:nvPr/>
        </p:nvPicPr>
        <p:blipFill>
          <a:blip r:embed="rId1"/>
          <a:stretch/>
        </p:blipFill>
        <p:spPr>
          <a:xfrm>
            <a:off x="1116000" y="1700280"/>
            <a:ext cx="6624720" cy="2952720"/>
          </a:xfrm>
          <a:prstGeom prst="rect">
            <a:avLst/>
          </a:prstGeom>
          <a:ln w="0">
            <a:noFill/>
          </a:ln>
        </p:spPr>
      </p:pic>
      <p:sp>
        <p:nvSpPr>
          <p:cNvPr id="202" name="TextBox 2"/>
          <p:cNvSpPr/>
          <p:nvPr/>
        </p:nvSpPr>
        <p:spPr>
          <a:xfrm>
            <a:off x="2847240" y="5445000"/>
            <a:ext cx="33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ew Stadium in Ath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Заголовок 3" descr=""/>
          <p:cNvPicPr/>
          <p:nvPr/>
        </p:nvPicPr>
        <p:blipFill>
          <a:blip r:embed="rId1"/>
          <a:stretch/>
        </p:blipFill>
        <p:spPr>
          <a:xfrm>
            <a:off x="469800" y="6480"/>
            <a:ext cx="8229600" cy="1925640"/>
          </a:xfrm>
          <a:prstGeom prst="rect">
            <a:avLst/>
          </a:prstGeom>
          <a:ln w="0">
            <a:noFill/>
          </a:ln>
        </p:spPr>
      </p:pic>
      <p:sp>
        <p:nvSpPr>
          <p:cNvPr id="204" name=""/>
          <p:cNvSpPr txBox="1"/>
          <p:nvPr/>
        </p:nvSpPr>
        <p:spPr>
          <a:xfrm>
            <a:off x="250560" y="1412640"/>
            <a:ext cx="3313080" cy="4803480"/>
          </a:xfrm>
          <a:prstGeom prst="rect">
            <a:avLst/>
          </a:prstGeom>
          <a:noFill/>
          <a:ln w="0">
            <a:noFill/>
          </a:ln>
        </p:spPr>
        <p:txBody>
          <a:bodyPr anchor="t">
            <a:normAutofit/>
          </a:bodyPr>
          <a:p>
            <a:pPr lvl="1" marL="63972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dec9"/>
                </a:solidFill>
                <a:latin typeface="Arial"/>
              </a:rPr>
              <a:t>2012 London</a:t>
            </a:r>
            <a:endParaRPr b="0" lang="en-US" sz="2400" spc="-1" strike="noStrike">
              <a:solidFill>
                <a:srgbClr val="e7dec9"/>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 Beijing</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 Athen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 Sydney</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6 Atlant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2 Barcelon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8 Seoul</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4 Los Angele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0 Moscow</a:t>
            </a:r>
            <a:endParaRPr b="0" lang="en-US" sz="24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nstantia"/>
            </a:endParaRPr>
          </a:p>
        </p:txBody>
      </p:sp>
      <p:sp>
        <p:nvSpPr>
          <p:cNvPr id="205" name=""/>
          <p:cNvSpPr txBox="1"/>
          <p:nvPr/>
        </p:nvSpPr>
        <p:spPr>
          <a:xfrm>
            <a:off x="6227280" y="1928880"/>
            <a:ext cx="3273480" cy="49291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8 Amsterdam</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4 Pari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0 Antwerp</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2 Stockholm</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8 London</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4 St. Loui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0 Pari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6 Athens</a:t>
            </a:r>
            <a:endParaRPr b="0" lang="en-US" sz="24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206" name="Прямоугольник 4"/>
          <p:cNvSpPr/>
          <p:nvPr/>
        </p:nvSpPr>
        <p:spPr>
          <a:xfrm>
            <a:off x="2286000" y="6357960"/>
            <a:ext cx="55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
        <p:nvSpPr>
          <p:cNvPr id="207" name="Содержимое 4"/>
          <p:cNvSpPr/>
          <p:nvPr/>
        </p:nvSpPr>
        <p:spPr>
          <a:xfrm>
            <a:off x="5572080" y="714240"/>
            <a:ext cx="3273480" cy="4929480"/>
          </a:xfrm>
          <a:prstGeom prst="rect">
            <a:avLst/>
          </a:prstGeom>
          <a:noFill/>
          <a:ln w="0">
            <a:noFill/>
          </a:ln>
        </p:spPr>
        <p:style>
          <a:lnRef idx="0"/>
          <a:fillRef idx="0"/>
          <a:effectRef idx="0"/>
          <a:fontRef idx="minor"/>
        </p:style>
        <p:txBody>
          <a:bodyPr lIns="90000" rIns="90000" tIns="46800" bIns="46800"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8"/>
          <p:cNvSpPr/>
          <p:nvPr/>
        </p:nvSpPr>
        <p:spPr>
          <a:xfrm>
            <a:off x="3203640" y="1700280"/>
            <a:ext cx="316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76 Montre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72 Muni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68 Mexico C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64 Toky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60 Ro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56 Melbour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52 Helsink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48 Lond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36 Berl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32 Los Ange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642600"/>
            <a:ext cx="3757680" cy="54831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Olympic Games have a very long history. They began in 777 </a:t>
            </a:r>
            <a:r>
              <a:rPr b="0" lang="ru-RU" sz="2400" spc="-1" strike="noStrike">
                <a:solidFill>
                  <a:srgbClr val="ffffff"/>
                </a:solidFill>
                <a:latin typeface="Constantia"/>
              </a:rPr>
              <a:t>ВС</a:t>
            </a:r>
            <a:r>
              <a:rPr b="0" lang="en-US" sz="2400" spc="-1" strike="noStrike">
                <a:solidFill>
                  <a:srgbClr val="ffffff"/>
                </a:solidFill>
                <a:latin typeface="Constantia"/>
              </a:rPr>
              <a:t> in Greece and took place every four years for nearly twelve centuries at Olympia.  The Olympic games originate in athletic contests to  honor of Zeus  Only men competed and they wore no clothes in order to have greater freedom of movement.</a:t>
            </a:r>
            <a:endParaRPr b="0" lang="en-US" sz="2400" spc="-1" strike="noStrike">
              <a:solidFill>
                <a:srgbClr val="ffffff"/>
              </a:solidFill>
              <a:latin typeface="Constantia"/>
            </a:endParaRPr>
          </a:p>
        </p:txBody>
      </p:sp>
      <p:pic>
        <p:nvPicPr>
          <p:cNvPr id="174" name="Picture 2" descr="http://www.thenagain.info/WebChron/Mediterranean/OlympicGames.jpg"/>
          <p:cNvPicPr/>
          <p:nvPr/>
        </p:nvPicPr>
        <p:blipFill>
          <a:blip r:embed="rId1"/>
          <a:stretch/>
        </p:blipFill>
        <p:spPr>
          <a:xfrm>
            <a:off x="5286240" y="1143000"/>
            <a:ext cx="3429000" cy="2573280"/>
          </a:xfrm>
          <a:prstGeom prst="rect">
            <a:avLst/>
          </a:prstGeom>
          <a:ln w="0">
            <a:noFill/>
          </a:ln>
        </p:spPr>
      </p:pic>
      <p:sp>
        <p:nvSpPr>
          <p:cNvPr id="175" name="Прямоугольник 4"/>
          <p:cNvSpPr/>
          <p:nvPr/>
        </p:nvSpPr>
        <p:spPr>
          <a:xfrm>
            <a:off x="5077080" y="492912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ea typeface="Arial"/>
              </a:rPr>
              <a:t>Statue of Olympic Ze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3"/>
          <p:cNvSpPr/>
          <p:nvPr/>
        </p:nvSpPr>
        <p:spPr>
          <a:xfrm>
            <a:off x="468360" y="333360"/>
            <a:ext cx="8319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The ancient Greek Olympics were held every four years during the full moon of midsummer. That date was chosen so the games could last into the night.  The time between games was called an Olympiad, and each Olympiad was named for an athletic victor at the previous contests.   The Greeks used the Olympiads as a way to establish historical chronology.  </a:t>
            </a:r>
            <a:endParaRPr b="0" lang="en-US" sz="2400" spc="-1" strike="noStrike">
              <a:solidFill>
                <a:srgbClr val="ffffff"/>
              </a:solidFill>
              <a:latin typeface="Arial"/>
            </a:endParaRPr>
          </a:p>
        </p:txBody>
      </p:sp>
      <p:pic>
        <p:nvPicPr>
          <p:cNvPr id="177" name="Picture 6" descr="http://storage13.pho.to/images/3/A4/0A265FA5-FC8E-4118-B153-084CA46718BF.jpg"/>
          <p:cNvPicPr/>
          <p:nvPr/>
        </p:nvPicPr>
        <p:blipFill>
          <a:blip r:embed="rId1"/>
          <a:stretch/>
        </p:blipFill>
        <p:spPr>
          <a:xfrm>
            <a:off x="2744640" y="4076640"/>
            <a:ext cx="4121280" cy="194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Прямоугольник 1"/>
          <p:cNvSpPr/>
          <p:nvPr/>
        </p:nvSpPr>
        <p:spPr>
          <a:xfrm>
            <a:off x="4932360" y="333360"/>
            <a:ext cx="3819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Only free born male Greek citizens not accused of murder or sacrilege were eligible to participate.  Training began as early as one year before the games in the athlete's home city.  A month before the games, the athletes were the obligated to move to Elis or Olympia for their final training.  It was here that the athletes were taught the rules of fair-play and honorable competition.</a:t>
            </a:r>
            <a:endParaRPr b="0" lang="en-US" sz="2400" spc="-1" strike="noStrike">
              <a:solidFill>
                <a:srgbClr val="ffffff"/>
              </a:solidFill>
              <a:latin typeface="Arial"/>
            </a:endParaRPr>
          </a:p>
        </p:txBody>
      </p:sp>
      <p:pic>
        <p:nvPicPr>
          <p:cNvPr id="179" name="Picture 4" descr="http://storage11.pho.to/images/2/5F/6187AB24-62A6-4427-927D-9DE6BDAEC083.jpg"/>
          <p:cNvPicPr/>
          <p:nvPr/>
        </p:nvPicPr>
        <p:blipFill>
          <a:blip r:embed="rId1"/>
          <a:stretch/>
        </p:blipFill>
        <p:spPr>
          <a:xfrm>
            <a:off x="1332000" y="2060640"/>
            <a:ext cx="237636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Прямоугольник 1"/>
          <p:cNvSpPr/>
          <p:nvPr/>
        </p:nvSpPr>
        <p:spPr>
          <a:xfrm>
            <a:off x="611280" y="765000"/>
            <a:ext cx="3282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People from all over Greece gathered for this Olympic festival.  It was a chance to sell goods, recite poems for money, negotiate business deals, and even sign peace treaties between cities.  Visitors slept in the open air or tents due to overcrowded small residential quarters.</a:t>
            </a:r>
            <a:endParaRPr b="0" lang="en-US" sz="2400" spc="-1" strike="noStrike">
              <a:solidFill>
                <a:srgbClr val="ffffff"/>
              </a:solidFill>
              <a:latin typeface="Arial"/>
            </a:endParaRPr>
          </a:p>
        </p:txBody>
      </p:sp>
      <p:pic>
        <p:nvPicPr>
          <p:cNvPr id="181" name="Picture 4" descr="http://storage13.pho.to/images/3/CE/F914991D-BBF1-4E82-B380-1251BD942EFD.jpg"/>
          <p:cNvPicPr/>
          <p:nvPr/>
        </p:nvPicPr>
        <p:blipFill>
          <a:blip r:embed="rId1"/>
          <a:stretch/>
        </p:blipFill>
        <p:spPr>
          <a:xfrm>
            <a:off x="4643280" y="1989000"/>
            <a:ext cx="398808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5076720" y="549360"/>
            <a:ext cx="37497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A simple foot race marked the early Olympic games, but over the centuries the games became numerous and complicated.  At most, a total of fourteen contests were held over a  period of four days.  The games were divided into two classes:  physical contest were held in the stadium nude, and those on the race tracks with chariots.</a:t>
            </a:r>
            <a:endParaRPr b="0" lang="en-US" sz="2400" spc="-1" strike="noStrike">
              <a:solidFill>
                <a:srgbClr val="ffffff"/>
              </a:solidFill>
              <a:latin typeface="Arial"/>
            </a:endParaRPr>
          </a:p>
        </p:txBody>
      </p:sp>
      <p:pic>
        <p:nvPicPr>
          <p:cNvPr id="183" name="Picture 4" descr="http://storage13.pho.to/images/2/31/44F4446B-B106-4CB3-BE8E-D93D3A5BE5EA.jpg"/>
          <p:cNvPicPr/>
          <p:nvPr/>
        </p:nvPicPr>
        <p:blipFill>
          <a:blip r:embed="rId1"/>
          <a:stretch/>
        </p:blipFill>
        <p:spPr>
          <a:xfrm>
            <a:off x="857160" y="2060640"/>
            <a:ext cx="3283200" cy="21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523880"/>
            <a:ext cx="8229600" cy="3191040"/>
          </a:xfrm>
          <a:prstGeom prst="rect">
            <a:avLst/>
          </a:prstGeom>
          <a:noFill/>
          <a:ln w="0">
            <a:noFill/>
          </a:ln>
        </p:spPr>
        <p:txBody>
          <a:bodyPr anchor="t">
            <a:normAutofit fontScale="98000"/>
          </a:bodyPr>
          <a:p>
            <a:pPr marL="267120" indent="-267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1894 French Baron Pierre de Coubertin, addressed all the sports governing bodies and pointed out the significance of sport and its educational value. Two years later the first modern Olympic Games took place. Of course, the competitions were held in Greece to symbolize the continuation of the centuries-old tradition.</a:t>
            </a:r>
            <a:endParaRPr b="0" lang="en-US" sz="2600" spc="-1" strike="noStrike">
              <a:solidFill>
                <a:srgbClr val="ffffff"/>
              </a:solidFill>
              <a:latin typeface="Constantia"/>
            </a:endParaRPr>
          </a:p>
          <a:p>
            <a:pPr marL="267120" indent="-267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214960" y="571320"/>
            <a:ext cx="3186000" cy="3786120"/>
          </a:xfrm>
          <a:prstGeom prst="rect">
            <a:avLst/>
          </a:prstGeom>
          <a:noFill/>
          <a:ln w="0">
            <a:noFill/>
          </a:ln>
        </p:spPr>
        <p:txBody>
          <a:bodyPr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included many different kinds of sports: running, boxing, wrestling, etc. All the cities in Greece sent their best athletes to Olympia to compete in the Games. </a:t>
            </a:r>
            <a:endParaRPr b="0" lang="en-US" sz="2600" spc="-1" strike="noStrike">
              <a:solidFill>
                <a:srgbClr val="ffffff"/>
              </a:solidFill>
              <a:latin typeface="Constantia"/>
            </a:endParaRPr>
          </a:p>
        </p:txBody>
      </p:sp>
      <p:pic>
        <p:nvPicPr>
          <p:cNvPr id="187" name="Picture 6" descr="http://storage11.pho.to/images/3/BD/113D6F40-A030-4AE5-9959-EF054B182306.jpg"/>
          <p:cNvPicPr/>
          <p:nvPr/>
        </p:nvPicPr>
        <p:blipFill>
          <a:blip r:embed="rId1"/>
          <a:stretch/>
        </p:blipFill>
        <p:spPr>
          <a:xfrm>
            <a:off x="714240" y="1844640"/>
            <a:ext cx="2921040" cy="219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1896 the International Olympic Committee was set up. It is the central policy-making body of the Olympic movement. It is formed by the representatives of all countries, which take part in the Olympic Games. On 6 April 1896, the American James Connolly won the triple jump to become the first Olympic champion in more than 1,500 years.  For these first Olympics, winners were awarded a crown of olive branches and a silver medal.</a:t>
            </a:r>
            <a:br>
              <a:rPr sz="2600"/>
            </a:b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4:55:34Z</dcterms:created>
  <dc:creator>Татьяна</dc:creator>
  <dc:description/>
  <dc:language>en-US</dc:language>
  <cp:lastModifiedBy>User</cp:lastModifiedBy>
  <dcterms:modified xsi:type="dcterms:W3CDTF">2023-01-29T16:28:20Z</dcterms:modified>
  <cp:revision>27</cp:revision>
  <dc:subject/>
  <dc:title>Olimpic Games</dc:title>
</cp:coreProperties>
</file>