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216-7E15-4BFF-9D28-1C922B96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70D-B7BD-40A0-BD36-06B992F1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FF6-C256-400A-8B47-69E39C21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7BC-DB36-4B83-853D-FF7F0BF4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4CF-D4A3-4CE0-8D0F-0D316EE7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D1D-ECB7-4F33-A0EA-9E6B965E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2AA-7C58-45EE-BCB7-421720BE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D6A-BC23-4271-8566-5DF7B9EC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96B-1A5A-4906-926C-DF1990CC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B2B-47B5-4A64-AECA-E0C7105E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FEB-07D3-4F4E-83A4-F3622B36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0EC-7395-48CE-8DC9-B5680511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362A-B61B-4267-9D42-8E6EABE7E0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9900cc"/>
                </a:solidFill>
                <a:latin typeface="Monotype Corsiva"/>
              </a:rPr>
              <a:t>Предметно – развивающая среда спортивного з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4071960"/>
            <a:ext cx="8229600" cy="2054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9900cc"/>
                </a:solidFill>
                <a:latin typeface="Monotype Corsiva"/>
              </a:rPr>
              <a:t>Инструктор по физической культу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Monotype Corsiva"/>
              </a:rPr>
              <a:t>МБДОУ № 26 Симкало Татья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редметно-развивающая среда спортивного зал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571560"/>
            <a:ext cx="82296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Для успешной реализации оздоровительных задач, решаемых в ДОУ, необходимо соблюдение многих условий, одним из которых является создание предметно-пространственной среды спортивного зала. В спортивный зал , который не только заполнен необходимым оборудованием, позволяющим увлечь ребят двигательной деятельностью, но и привлекает своей яркостью,  оформлением, ребятам всегда захочется вернуться. Правильное расположение спортивного инвентаря, позволяет рационально использовать время, отведенное на занятие, его разнообразие позволяет увлечь двигательной деятельностью, а творческий подход педагога, обеспечивает неисчерпаемый интерес дошколят к занятиям в спортивном зал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4071960" y="12859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бы сделать ребенка умным и рассудительным, сделайте его крепким и здоровым: пусть  он работает, кричит, пусть он находится в постоянном движении»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Жан Жак Ру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олнце 4"/>
          <p:cNvSpPr/>
          <p:nvPr/>
        </p:nvSpPr>
        <p:spPr>
          <a:xfrm>
            <a:off x="714240" y="1071720"/>
            <a:ext cx="1428840" cy="10713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остроение развивающей среды в спортивном зале с учетом всех принципов  обеспечивает воспитанникам чувство психологической защищенности , помогает формированию личности, развитию  двигательных способностей, овладению разными способами  двигательной  деятель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571680" y="464328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озданная эстетическая среда, вызывает чувство радости, эмоционально-положительное отношение к двигательной деятельности, желание заниматься в спортивном зале, побуждает к  активности, способствует развитию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олнце 5"/>
          <p:cNvSpPr/>
          <p:nvPr/>
        </p:nvSpPr>
        <p:spPr>
          <a:xfrm>
            <a:off x="7572240" y="1857240"/>
            <a:ext cx="1071720" cy="11430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Users\Мама\Desktop\на сайте нс портала\P1110112.JPG"/>
          <p:cNvPicPr/>
          <p:nvPr/>
        </p:nvPicPr>
        <p:blipFill>
          <a:blip r:embed="rId1"/>
          <a:stretch/>
        </p:blipFill>
        <p:spPr>
          <a:xfrm>
            <a:off x="1554120" y="2357280"/>
            <a:ext cx="60357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0cc"/>
                </a:solidFill>
                <a:latin typeface="Times New Roman"/>
              </a:rPr>
              <a:t>Создание условий для охраны и профилактики заболеваний глаз, </a:t>
            </a:r>
            <a:r>
              <a:rPr b="1" lang="ru-RU" sz="25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массаж активных жизненных точек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00040" y="485784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Широко используются  большие мячи с  целью коррекции нарушений опорно-двигательного аппарата и развития координационных способносте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лнце 5"/>
          <p:cNvSpPr/>
          <p:nvPr/>
        </p:nvSpPr>
        <p:spPr>
          <a:xfrm>
            <a:off x="7358040" y="1357200"/>
            <a:ext cx="1000080" cy="7146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C:\Users\Мама\Desktop\на сайте нс портала\P1110115.JPG"/>
          <p:cNvPicPr/>
          <p:nvPr/>
        </p:nvPicPr>
        <p:blipFill>
          <a:blip r:embed="rId1"/>
          <a:srcRect l="0" t="0" r="16979" b="18136"/>
          <a:stretch/>
        </p:blipFill>
        <p:spPr>
          <a:xfrm>
            <a:off x="2286000" y="2000160"/>
            <a:ext cx="40006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Необычное использование обычных предм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олнце 4"/>
          <p:cNvSpPr/>
          <p:nvPr/>
        </p:nvSpPr>
        <p:spPr>
          <a:xfrm>
            <a:off x="6357960" y="1500120"/>
            <a:ext cx="1571760" cy="150012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6" descr="P1010037.JPG"/>
          <p:cNvPicPr/>
          <p:nvPr/>
        </p:nvPicPr>
        <p:blipFill>
          <a:blip r:embed="rId1"/>
          <a:stretch/>
        </p:blipFill>
        <p:spPr>
          <a:xfrm>
            <a:off x="1676520" y="1517760"/>
            <a:ext cx="2577960" cy="25416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лыжи.jpg.jpg"/>
          <p:cNvPicPr/>
          <p:nvPr/>
        </p:nvPicPr>
        <p:blipFill>
          <a:blip r:embed="rId2"/>
          <a:stretch/>
        </p:blipFill>
        <p:spPr>
          <a:xfrm>
            <a:off x="4803840" y="3803760"/>
            <a:ext cx="29750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портивно-оздоровительная предметная среда помогает содействовать решению как специфических задач развития двигательной активности, моторики детей, так и задач их гармоничного развит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71680" y="4642920"/>
            <a:ext cx="822960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1643040" y="2428920"/>
            <a:ext cx="2857680" cy="228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8" descr="E:\мне\SAM_0532.JPG"/>
          <p:cNvPicPr/>
          <p:nvPr/>
        </p:nvPicPr>
        <p:blipFill>
          <a:blip r:embed="rId1"/>
          <a:stretch/>
        </p:blipFill>
        <p:spPr>
          <a:xfrm>
            <a:off x="1571760" y="2357280"/>
            <a:ext cx="3214440" cy="25005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9"/>
          <p:cNvSpPr/>
          <p:nvPr/>
        </p:nvSpPr>
        <p:spPr>
          <a:xfrm>
            <a:off x="5286240" y="2357280"/>
            <a:ext cx="3143520" cy="242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0" descr="E:\мне\SAM_0539.JPG"/>
          <p:cNvPicPr/>
          <p:nvPr/>
        </p:nvPicPr>
        <p:blipFill>
          <a:blip r:embed="rId2"/>
          <a:stretch/>
        </p:blipFill>
        <p:spPr>
          <a:xfrm>
            <a:off x="5286240" y="2357280"/>
            <a:ext cx="31435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4:52:16Z</dcterms:created>
  <dc:creator>Нурия</dc:creator>
  <dc:description/>
  <dc:language>en-US</dc:language>
  <cp:lastModifiedBy>Татьяна Симкало</cp:lastModifiedBy>
  <dcterms:modified xsi:type="dcterms:W3CDTF">2023-01-29T09:30:02Z</dcterms:modified>
  <cp:revision>30</cp:revision>
  <dc:subject/>
  <dc:title>Чтобы сделать ребенка умным и рассудительным, сделайте его крепким и здоровым: пусть  он работает, кричит, пусть он находится в постоянном движении»                              Жан Жак Руссо</dc:title>
</cp:coreProperties>
</file>