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CB9-2CB6-4C33-A5B6-9C54A97B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055-F144-4398-9A59-8884F77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CD0-3E3A-4759-95D5-414D4796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AF4-C9FB-491C-B094-03197638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96B1-ADFF-448B-BE9E-DFA056F3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762A-1FC2-4C75-9C67-226888B1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3B36-3E1D-4823-A109-EB26BE70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C317-E72C-4A86-A49D-66595FF3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B056-DDAA-4DE4-93BB-63ABED7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9D22-9C66-4B6B-B97C-1DF2B64D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DC28-89FC-491C-B2F9-20663BE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B7B-6D51-498E-B803-61F2CFAA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B2E8-968C-4007-88A3-1C180A0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59D6-0681-4EE1-98AD-F50691C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1A69-DD0B-4163-AA1E-2F5DC5DA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8FF-53DE-4D86-BF25-1DE3F394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7733-EED5-4CFA-9F8E-5E40B829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34B-6D6B-4BB7-BEB3-7A199FB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F58-A610-4C41-92B9-0494FB6F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974-5234-4D12-B717-61E3AEE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997-656D-4FE3-A660-BA6A13B4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11C-B2F6-4236-B57E-1E29913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D92-6842-4D1E-B34C-7ADDBA8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050-48A2-43ED-AFA7-8DCD316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3825-AF76-4B07-9D5F-2D58293180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3E99-358B-4636-B96A-623C5C4AB79E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8"/>
          <p:cNvSpPr/>
          <p:nvPr/>
        </p:nvSpPr>
        <p:spPr>
          <a:xfrm>
            <a:off x="492120" y="282600"/>
            <a:ext cx="81867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детский сад «Рукавич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езентация</a:t>
            </a:r>
            <a:br>
              <a:rPr sz="3200"/>
            </a:b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«Использование проектного метода в формировании первых профессиональных представлений детей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ыполнила воспитатель: Денис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0" y="3357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bject 2"/>
          <p:cNvSpPr/>
          <p:nvPr/>
        </p:nvSpPr>
        <p:spPr>
          <a:xfrm>
            <a:off x="260280" y="257040"/>
            <a:ext cx="71820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indent="451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ужно отметить и группу методов, которая  непосредственно способствует продуктивной детской  деятельности.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ъ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3"/>
          <p:cNvSpPr/>
          <p:nvPr/>
        </p:nvSpPr>
        <p:spPr>
          <a:xfrm>
            <a:off x="6429240" y="2085840"/>
            <a:ext cx="2714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260280" y="2085840"/>
            <a:ext cx="602640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buClr>
                <a:srgbClr val="f2f2f2"/>
              </a:buClr>
              <a:buFont typeface="Wingdings" charset="2"/>
              <a:buChar char=""/>
              <a:tabLst>
                <a:tab algn="l" pos="463680"/>
                <a:tab algn="l" pos="465120"/>
                <a:tab algn="l" pos="208764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учение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тдельным   способам  трудовых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463680"/>
                <a:tab algn="l" pos="465120"/>
                <a:tab algn="l" pos="208764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суждение труда и его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463680"/>
                <a:tab algn="l" pos="465120"/>
                <a:tab algn="l" pos="208764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859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словия для получения положительного результата </a:t>
            </a: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3200"/>
            </a:br>
            <a:br>
              <a:rPr sz="1800"/>
            </a:br>
            <a:r>
              <a:rPr b="1" i="1" lang="ru-RU" sz="1800" spc="-1" strike="noStrike">
                <a:solidFill>
                  <a:srgbClr val="2206c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2920" y="1599840"/>
            <a:ext cx="87868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2206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сихолого-педагогические условия: личностно-ориентированный и 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рганизовать развивающую предметно-пространственную среду: подобрать наглядные пособия, литературу, атрибуты для дидактических и сюжетно-ролевых и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ключить в работу всех участников воспитательно-образовательного процесса (педагогов, детей, род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5000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Алгоритм ознакомления с профессией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28760" y="1143000"/>
            <a:ext cx="3643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звание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есто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атериал дл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енная 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руд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ов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Личностн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а труда для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Ольга\Desktop\85327815_professii1.jpg"/>
          <p:cNvPicPr/>
          <p:nvPr/>
        </p:nvPicPr>
        <p:blipFill>
          <a:blip r:embed="rId1"/>
          <a:stretch/>
        </p:blipFill>
        <p:spPr>
          <a:xfrm>
            <a:off x="357120" y="1357200"/>
            <a:ext cx="4116600" cy="27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3" descr="C:\Users\Ольга\Desktop\85327892_professii2.jpg"/>
          <p:cNvPicPr/>
          <p:nvPr/>
        </p:nvPicPr>
        <p:blipFill>
          <a:blip r:embed="rId2"/>
          <a:stretch/>
        </p:blipFill>
        <p:spPr>
          <a:xfrm>
            <a:off x="4500720" y="3571920"/>
            <a:ext cx="464328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95280" y="214200"/>
            <a:ext cx="8353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ект: «</a:t>
            </a: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ние ранней профориентации у детей дошкольного возраста через знакомство с профессией учитель</a:t>
            </a: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2f2f2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бщений знаний о профессии учитель в процессе совместной и самостоятельной деятельности детей через «погружение» в реальные практические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2f2f2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ть у детей представления о профессии уч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оспитывать бережное отношение к труду и его результа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ть умения отражать в игровой и продуктивной деятельности свои впечатления,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863640" y="333360"/>
            <a:ext cx="741672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еседы, выставка книг по теме: «Профе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468360" y="1817640"/>
            <a:ext cx="3816360" cy="3408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Рисунок 3" descr=""/>
          <p:cNvPicPr/>
          <p:nvPr/>
        </p:nvPicPr>
        <p:blipFill>
          <a:blip r:embed="rId2"/>
          <a:stretch/>
        </p:blipFill>
        <p:spPr>
          <a:xfrm>
            <a:off x="4932360" y="1817640"/>
            <a:ext cx="3645000" cy="3408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324000" y="476280"/>
            <a:ext cx="84960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смотр презентации по теме «Профе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307800" y="1576440"/>
            <a:ext cx="2592720" cy="3531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3" name="Рисунок 5" descr=""/>
          <p:cNvPicPr/>
          <p:nvPr/>
        </p:nvPicPr>
        <p:blipFill>
          <a:blip r:embed="rId2"/>
          <a:stretch/>
        </p:blipFill>
        <p:spPr>
          <a:xfrm>
            <a:off x="3187800" y="1576440"/>
            <a:ext cx="2679480" cy="3564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4" name="Рисунок 6" descr=""/>
          <p:cNvPicPr/>
          <p:nvPr/>
        </p:nvPicPr>
        <p:blipFill>
          <a:blip r:embed="rId3"/>
          <a:stretch/>
        </p:blipFill>
        <p:spPr>
          <a:xfrm>
            <a:off x="6156360" y="1576440"/>
            <a:ext cx="2679840" cy="3490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1116000" y="333360"/>
            <a:ext cx="69120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кскурсия в школу №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2636640" cy="263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2636640" cy="263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8" name="Рисунок 5" descr=""/>
          <p:cNvPicPr/>
          <p:nvPr/>
        </p:nvPicPr>
        <p:blipFill>
          <a:blip r:embed="rId3"/>
          <a:stretch/>
        </p:blipFill>
        <p:spPr>
          <a:xfrm>
            <a:off x="6227640" y="2060640"/>
            <a:ext cx="2637000" cy="263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900000" y="333360"/>
            <a:ext cx="734400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гры со строительным материалом «Строим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3166920" y="1989000"/>
            <a:ext cx="2737080" cy="29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592360" cy="29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2" name="Рисунок 4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664000" cy="29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1044720" y="287280"/>
            <a:ext cx="705636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южетно-ролевая игра «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755640" y="1311120"/>
            <a:ext cx="3529080" cy="3529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4932360" y="1338120"/>
            <a:ext cx="3500280" cy="3502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91960" y="333360"/>
            <a:ext cx="856008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нижки-малышки по теме «Профе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D:\к проекту профессии\20221115_153608.jpg"/>
          <p:cNvPicPr/>
          <p:nvPr/>
        </p:nvPicPr>
        <p:blipFill>
          <a:blip r:embed="rId1"/>
          <a:stretch/>
        </p:blipFill>
        <p:spPr>
          <a:xfrm>
            <a:off x="428760" y="1357200"/>
            <a:ext cx="4071960" cy="3357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8" name="Рисунок 6" descr="D:\к проекту профессии\20221115_153436.jpg"/>
          <p:cNvPicPr/>
          <p:nvPr/>
        </p:nvPicPr>
        <p:blipFill>
          <a:blip r:embed="rId2"/>
          <a:stretch/>
        </p:blipFill>
        <p:spPr>
          <a:xfrm>
            <a:off x="4929120" y="1357200"/>
            <a:ext cx="3786120" cy="3357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ject 3"/>
          <p:cNvSpPr/>
          <p:nvPr/>
        </p:nvSpPr>
        <p:spPr>
          <a:xfrm>
            <a:off x="714240" y="571680"/>
            <a:ext cx="7715520" cy="44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1160" indent="144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фессиональная ориентация в ДОУ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то  система мероприятий, направленных на  выявление личностных особенностей,  интересов и способностей у каждого человека для оказания ему помощи в  разумном выборе профессии, наиболее  соответствующем его индивидуальным  возмож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144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щее знакомство с миром профессий, совместное обсуждение мечты и опыта ребенка, приобретенный им в разных видах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755640" y="404640"/>
            <a:ext cx="77770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готовление коллаж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«Все работы хороши – выбирай сво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"/>
          <p:cNvPicPr/>
          <p:nvPr/>
        </p:nvPicPr>
        <p:blipFill>
          <a:blip r:embed="rId1"/>
          <a:stretch/>
        </p:blipFill>
        <p:spPr>
          <a:xfrm>
            <a:off x="6197760" y="2163600"/>
            <a:ext cx="2854080" cy="2853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162000" y="2139840"/>
            <a:ext cx="2852640" cy="2853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2" name="Рисунок 4" descr=""/>
          <p:cNvPicPr/>
          <p:nvPr/>
        </p:nvPicPr>
        <p:blipFill>
          <a:blip r:embed="rId3"/>
          <a:stretch/>
        </p:blipFill>
        <p:spPr>
          <a:xfrm>
            <a:off x="3166920" y="2127240"/>
            <a:ext cx="2878200" cy="2878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14240" y="214200"/>
            <a:ext cx="785844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готовление лэпбука «Город професс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C:\Users\Lenovo\AppData\Local\Microsoft\Windows\INetCache\Content.Word\20221118_154019.jpg"/>
          <p:cNvPicPr/>
          <p:nvPr/>
        </p:nvPicPr>
        <p:blipFill>
          <a:blip r:embed="rId1"/>
          <a:stretch/>
        </p:blipFill>
        <p:spPr>
          <a:xfrm>
            <a:off x="285840" y="1785960"/>
            <a:ext cx="2500200" cy="234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5" name="Рисунок 3" descr="C:\Users\Lenovo\AppData\Local\Microsoft\Windows\INetCache\Content.Word\20221118_154055.jpg"/>
          <p:cNvPicPr/>
          <p:nvPr/>
        </p:nvPicPr>
        <p:blipFill>
          <a:blip r:embed="rId2"/>
          <a:stretch/>
        </p:blipFill>
        <p:spPr>
          <a:xfrm>
            <a:off x="3357720" y="2643120"/>
            <a:ext cx="2357280" cy="234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6" name="Рисунок 4" descr="C:\Users\Lenovo\AppData\Local\Microsoft\Windows\INetCache\Content.Word\20221118_154114.jpg"/>
          <p:cNvPicPr/>
          <p:nvPr/>
        </p:nvPicPr>
        <p:blipFill>
          <a:blip r:embed="rId3"/>
          <a:stretch/>
        </p:blipFill>
        <p:spPr>
          <a:xfrm>
            <a:off x="6286680" y="1785960"/>
            <a:ext cx="2428560" cy="2354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042920" y="404640"/>
            <a:ext cx="72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Я надеюсь, что дети научатся быть инициативными в выборе интересующего их вида деятельности, получат представления о мире профессий, осознают ценностное отношение к труду взрослых, будут проявлять самостоятельность, активность и творчество, что поможет их дальнейшему успешному обучению в школе, а в будущем стать профессионалами свое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979560" y="357120"/>
            <a:ext cx="718488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indent="451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Через профессиональную ориентацию я готовлю детей к тому, чтобы о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нимали, что труд, работа занимают в жизни  людей очень важное место, что труд – это основ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важали всех, кто трудится, и ценили плоды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знакомились  с тем, что делают люди разных  профессий, с помощью каких орудий и машин, и что  получается в результа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ыли готовы трудиться сами - по причине, что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м нравится и интересно, и потому, что это над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чились труду, овладевая необходимыми  навыками, трудились, принося пользу людям, и  развивали свои трудовые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34960" y="516240"/>
            <a:ext cx="80740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Цель работы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бщение знаний о профессиях в процессе совместной и самостоятельной деятельности детей через «погружение» в реальные практические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адач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витие эмоционально-положительного отношения к человеку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ние представлений о необходимости трудовой деятельности в жизни люд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витие познавательной активности, интереса к профессиям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оспитание бережного отношения к труду взрослых и результатам их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ние у детей желания научиться выполнять трудовые действия представителей раз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000720" y="4571640"/>
            <a:ext cx="1429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68580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82720" y="163440"/>
            <a:ext cx="507528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" descr=""/>
          <p:cNvPicPr/>
          <p:nvPr/>
        </p:nvPicPr>
        <p:blipFill>
          <a:blip r:embed="rId1"/>
          <a:stretch/>
        </p:blipFill>
        <p:spPr>
          <a:xfrm>
            <a:off x="701640" y="933480"/>
            <a:ext cx="74548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"/>
          <p:cNvSpPr/>
          <p:nvPr/>
        </p:nvSpPr>
        <p:spPr>
          <a:xfrm>
            <a:off x="468360" y="285840"/>
            <a:ext cx="828036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етоды проф-ориентацио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хема 3" descr=""/>
          <p:cNvPicPr/>
          <p:nvPr/>
        </p:nvPicPr>
        <p:blipFill>
          <a:blip r:embed="rId1"/>
          <a:stretch/>
        </p:blipFill>
        <p:spPr>
          <a:xfrm>
            <a:off x="1347840" y="890640"/>
            <a:ext cx="65898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bject 2"/>
          <p:cNvSpPr/>
          <p:nvPr/>
        </p:nvSpPr>
        <p:spPr>
          <a:xfrm>
            <a:off x="536400" y="441360"/>
            <a:ext cx="70088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глядные</a:t>
            </a:r>
            <a:r>
              <a:rPr b="1" lang="es-E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(живые образы), к которым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</a:t>
            </a: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аблю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дидактические пособ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ссматривание картин, иллюстраций, фотограф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исун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смотр видеозап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ject 2"/>
          <p:cNvSpPr/>
          <p:nvPr/>
        </p:nvSpPr>
        <p:spPr>
          <a:xfrm>
            <a:off x="536400" y="347760"/>
            <a:ext cx="6896160" cy="26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ловесные</a:t>
            </a:r>
            <a:r>
              <a:rPr b="1" lang="es-E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, </a:t>
            </a: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оторые вклю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художественное сло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ссказ воспит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алые фольклорные фо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блемные ситуации высказывания и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bject 2"/>
          <p:cNvSpPr/>
          <p:nvPr/>
        </p:nvSpPr>
        <p:spPr>
          <a:xfrm>
            <a:off x="971640" y="836640"/>
            <a:ext cx="68929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актические</a:t>
            </a: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овые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учение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тдельным способам выполнения  трудовых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гровые обучающие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южетно-ролев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3-01-29T13:58:57Z</dcterms:modified>
  <cp:revision>76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934</vt:lpwstr>
  </property>
</Properties>
</file>