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538-472B-4BA9-947F-812BBB95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E0E-C367-49AD-A10B-C406E21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E82-83B9-4787-98AD-6B473093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DB1-B192-43F6-8DB5-0AB01290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BFC-1434-4D2E-ABAC-79361E55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9D36-4DC3-405D-9AC1-0E93EBF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9309-A328-4FA0-8904-E8B54FA2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D9E-68E2-47BB-8980-C940B836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1603-A398-4DA2-A9D0-E2927B0C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B7AC-481A-4176-906B-740190F0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9B27-808F-4B58-A767-E3DEB7A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FB1-3856-43BF-9057-134C4361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41A-3F3D-4E85-84D5-986BFCB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FBEB-65AC-469C-B1C1-DD81704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31E6-A79F-45DE-AB27-07BE78A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DA0-13F6-48E5-8A63-811E108E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7A4-CAA2-4659-BCAF-9D7D6094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C53-12D7-457E-9981-A6E7E5D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063-8E5C-4814-B73A-832FD249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15B-F892-490E-B664-533BED4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CE3-3600-41CA-A27F-EC995239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2DB-D4DB-4268-B1ED-1618723E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193-A8BB-46B1-A1B0-FC7358D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641-B94B-4AD4-A6EB-ACBB6ED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E4D-06B9-47BD-8CDB-CE9D0CC1FF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9C5-5D20-4D4B-8AC2-4591511A99A0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8"/>
          <p:cNvSpPr/>
          <p:nvPr/>
        </p:nvSpPr>
        <p:spPr>
          <a:xfrm>
            <a:off x="492120" y="282600"/>
            <a:ext cx="81867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детский сад «Рукавич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«Использование проектного метода в формировании первых профессиональных представлений детей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ыполнила воспитатель: Денис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0" y="33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bject 2"/>
          <p:cNvSpPr/>
          <p:nvPr/>
        </p:nvSpPr>
        <p:spPr>
          <a:xfrm>
            <a:off x="260280" y="257040"/>
            <a:ext cx="71820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451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ужно отметить и группу методов, которая  непосредственно способствует продуктивной детской  деятельности.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ъ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3"/>
          <p:cNvSpPr/>
          <p:nvPr/>
        </p:nvSpPr>
        <p:spPr>
          <a:xfrm>
            <a:off x="6429240" y="2085840"/>
            <a:ext cx="271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260280" y="2085840"/>
            <a:ext cx="602640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учение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дельным   способам  трудовых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суждение труда и его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463680"/>
                <a:tab algn="l" pos="465120"/>
                <a:tab algn="l" pos="208764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словия для получения положительного результата </a:t>
            </a: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3200"/>
            </a:br>
            <a:br>
              <a:rPr sz="1800"/>
            </a:br>
            <a:r>
              <a:rPr b="1" i="1" lang="ru-RU" sz="1800" spc="-1" strike="noStrike">
                <a:solidFill>
                  <a:srgbClr val="2206c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2920" y="1599840"/>
            <a:ext cx="8786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2206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сихолого-педагогические условия: личностно-ориентированный и 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рганизовать развивающую предметно-пространственную среду: подобрать наглядные пособия, литературу, атрибуты для дидактических и сюжетно-ролевых и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ключить в работу всех участников воспитательно-образовательного процесса (педагогов, детей, род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5000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лгоритм ознакомления с профессией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28760" y="1143000"/>
            <a:ext cx="3643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звание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есто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атериал дл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енная 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ов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Личностн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а труда для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Ольга\Desktop\85327815_professii1.jpg"/>
          <p:cNvPicPr/>
          <p:nvPr/>
        </p:nvPicPr>
        <p:blipFill>
          <a:blip r:embed="rId1"/>
          <a:stretch/>
        </p:blipFill>
        <p:spPr>
          <a:xfrm>
            <a:off x="357120" y="1357200"/>
            <a:ext cx="411660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3" descr="C:\Users\Ольга\Desktop\85327892_professii2.jpg"/>
          <p:cNvPicPr/>
          <p:nvPr/>
        </p:nvPicPr>
        <p:blipFill>
          <a:blip r:embed="rId2"/>
          <a:stretch/>
        </p:blipFill>
        <p:spPr>
          <a:xfrm>
            <a:off x="4500720" y="3571920"/>
            <a:ext cx="464328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95280" y="214200"/>
            <a:ext cx="8353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ект: «</a:t>
            </a: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ранней профориентации у детей дошкольного возраста через знакомство с профессией учитель</a:t>
            </a: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бщений знаний о профессии учитель в процессе совместной и самостоятельной деятельности детей через «погружение» в реальные практические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ть у детей представления о профессии уч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спитывать бережное отношение к труду и его результа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ть умения отражать в игровой и продуктивной деятельности свои впечатления,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863640" y="333360"/>
            <a:ext cx="741672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еды, выставка книг по теме: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468360" y="1817640"/>
            <a:ext cx="3816360" cy="3408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Рисунок 3" descr=""/>
          <p:cNvPicPr/>
          <p:nvPr/>
        </p:nvPicPr>
        <p:blipFill>
          <a:blip r:embed="rId2"/>
          <a:stretch/>
        </p:blipFill>
        <p:spPr>
          <a:xfrm>
            <a:off x="4932360" y="1817640"/>
            <a:ext cx="3645000" cy="3408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324000" y="476280"/>
            <a:ext cx="84960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смотр презентации по теме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307800" y="1576440"/>
            <a:ext cx="2592720" cy="3531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3" name="Рисунок 5" descr=""/>
          <p:cNvPicPr/>
          <p:nvPr/>
        </p:nvPicPr>
        <p:blipFill>
          <a:blip r:embed="rId2"/>
          <a:stretch/>
        </p:blipFill>
        <p:spPr>
          <a:xfrm>
            <a:off x="3187800" y="1576440"/>
            <a:ext cx="2679480" cy="3564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4" name="Рисунок 6" descr=""/>
          <p:cNvPicPr/>
          <p:nvPr/>
        </p:nvPicPr>
        <p:blipFill>
          <a:blip r:embed="rId3"/>
          <a:stretch/>
        </p:blipFill>
        <p:spPr>
          <a:xfrm>
            <a:off x="6156360" y="1576440"/>
            <a:ext cx="2679840" cy="349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1116000" y="333360"/>
            <a:ext cx="691200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скурсия в школу №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263664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263664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8" name="Рисунок 5" descr=""/>
          <p:cNvPicPr/>
          <p:nvPr/>
        </p:nvPicPr>
        <p:blipFill>
          <a:blip r:embed="rId3"/>
          <a:stretch/>
        </p:blipFill>
        <p:spPr>
          <a:xfrm>
            <a:off x="6227640" y="2060640"/>
            <a:ext cx="2637000" cy="263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900000" y="333360"/>
            <a:ext cx="734400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гры со строительным материалом «Строим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3166920" y="1989000"/>
            <a:ext cx="273708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2" name="Рисунок 4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664000" cy="29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1044720" y="287280"/>
            <a:ext cx="705636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южетно-ролевая игра «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755640" y="1311120"/>
            <a:ext cx="3529080" cy="3529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932360" y="1338120"/>
            <a:ext cx="3500280" cy="3502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91960" y="333360"/>
            <a:ext cx="856008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нижки-малышки по теме «Профе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D:\к проекту профессии\20221115_153608.jpg"/>
          <p:cNvPicPr/>
          <p:nvPr/>
        </p:nvPicPr>
        <p:blipFill>
          <a:blip r:embed="rId1"/>
          <a:stretch/>
        </p:blipFill>
        <p:spPr>
          <a:xfrm>
            <a:off x="428760" y="1357200"/>
            <a:ext cx="4071960" cy="3357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8" name="Рисунок 6" descr="D:\к проекту профессии\20221115_153436.jpg"/>
          <p:cNvPicPr/>
          <p:nvPr/>
        </p:nvPicPr>
        <p:blipFill>
          <a:blip r:embed="rId2"/>
          <a:stretch/>
        </p:blipFill>
        <p:spPr>
          <a:xfrm>
            <a:off x="4929120" y="1357200"/>
            <a:ext cx="3786120" cy="3357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3"/>
          <p:cNvSpPr/>
          <p:nvPr/>
        </p:nvSpPr>
        <p:spPr>
          <a:xfrm>
            <a:off x="714240" y="571680"/>
            <a:ext cx="771552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1160" indent="144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фессиональная ориентация в ДОУ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то  система мероприятий, направленных на  выявление личностных особенностей,  интересов и способностей у каждого человека для оказания ему помощи в  разумном выборе профессии, наиболее  соответствующем его индивидуальным  возмож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щее знакомство с миром профессий, совместное обсуждение мечты и опыта ребенка, приобретенный им в разных видах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755640" y="404640"/>
            <a:ext cx="77770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готовление колла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«Все работы хороши – выбирай сво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6197760" y="2163600"/>
            <a:ext cx="2854080" cy="2853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162000" y="2139840"/>
            <a:ext cx="2852640" cy="2853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2" name="Рисунок 4" descr=""/>
          <p:cNvPicPr/>
          <p:nvPr/>
        </p:nvPicPr>
        <p:blipFill>
          <a:blip r:embed="rId3"/>
          <a:stretch/>
        </p:blipFill>
        <p:spPr>
          <a:xfrm>
            <a:off x="3166920" y="2127240"/>
            <a:ext cx="2878200" cy="2878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14240" y="214200"/>
            <a:ext cx="7858440" cy="520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готовление лэпбука «Город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C:\Users\Lenovo\AppData\Local\Microsoft\Windows\INetCache\Content.Word\20221118_154019.jpg"/>
          <p:cNvPicPr/>
          <p:nvPr/>
        </p:nvPicPr>
        <p:blipFill>
          <a:blip r:embed="rId1"/>
          <a:stretch/>
        </p:blipFill>
        <p:spPr>
          <a:xfrm>
            <a:off x="285840" y="1785960"/>
            <a:ext cx="2500200" cy="234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5" name="Рисунок 3" descr="C:\Users\Lenovo\AppData\Local\Microsoft\Windows\INetCache\Content.Word\20221118_154055.jpg"/>
          <p:cNvPicPr/>
          <p:nvPr/>
        </p:nvPicPr>
        <p:blipFill>
          <a:blip r:embed="rId2"/>
          <a:stretch/>
        </p:blipFill>
        <p:spPr>
          <a:xfrm>
            <a:off x="3357720" y="2643120"/>
            <a:ext cx="2357280" cy="234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6" name="Рисунок 4" descr="C:\Users\Lenovo\AppData\Local\Microsoft\Windows\INetCache\Content.Word\20221118_154114.jpg"/>
          <p:cNvPicPr/>
          <p:nvPr/>
        </p:nvPicPr>
        <p:blipFill>
          <a:blip r:embed="rId3"/>
          <a:stretch/>
        </p:blipFill>
        <p:spPr>
          <a:xfrm>
            <a:off x="6286680" y="1785960"/>
            <a:ext cx="2428560" cy="2354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042920" y="404640"/>
            <a:ext cx="72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Я надеюсь, что дети научатся быть инициативными в выборе интересующего их вида деятельности, получат представления о мире профессий, осознают ценностное отношение к труду взрослых, будут проявлять самостоятельность, активность и творчество, что поможет их дальнейшему успешному обучению в школе, а в будущем стать профессионалами свое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979560" y="357120"/>
            <a:ext cx="718488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indent="451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Через профессиональную ориентацию я готовлю детей к тому, чтобы о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нимали, что труд, работа занимают в жизни  людей очень важное место, что труд – это основ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важали всех, кто трудится, и ценили плоды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знакомились  с тем, что делают люди разных  профессий, с помощью каких орудий и машин, и что  получается в результа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ыли готовы трудиться сами - по причине, что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м нравится и интересно, и потому, что это над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451080" algn="just">
              <a:lnSpc>
                <a:spcPct val="100000"/>
              </a:lnSpc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чились труду, овладевая необходимыми  навыками, трудились, принося пользу людям, и  развивали свои трудов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34960" y="516240"/>
            <a:ext cx="80740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общение знаний о профессиях в процессе совместной и самостоятельной деятельности детей через «погружение» в реальные практические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витие эмоционально-положительного отношения к человеку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представлений о необходимости трудовой деятельности в жизни люд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звитие познавательной активности, интереса к профессиям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спитание бережного отношения к труду взрослых и результатам их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f2f2f2"/>
              </a:buClr>
              <a:buFont typeface="Times New Roman"/>
              <a:buChar char="•"/>
              <a:tabLst>
                <a:tab algn="l" pos="5851440"/>
                <a:tab algn="l" pos="594036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ормирование у детей желания научиться выполнять трудовые действия представител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000720" y="4571640"/>
            <a:ext cx="142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68580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82720" y="163440"/>
            <a:ext cx="507528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" descr=""/>
          <p:cNvPicPr/>
          <p:nvPr/>
        </p:nvPicPr>
        <p:blipFill>
          <a:blip r:embed="rId1"/>
          <a:stretch/>
        </p:blipFill>
        <p:spPr>
          <a:xfrm>
            <a:off x="701640" y="933480"/>
            <a:ext cx="74548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468360" y="285840"/>
            <a:ext cx="828036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етоды проф-ориентацио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хема 3" descr=""/>
          <p:cNvPicPr/>
          <p:nvPr/>
        </p:nvPicPr>
        <p:blipFill>
          <a:blip r:embed="rId1"/>
          <a:stretch/>
        </p:blipFill>
        <p:spPr>
          <a:xfrm>
            <a:off x="1347840" y="890640"/>
            <a:ext cx="65898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bject 2"/>
          <p:cNvSpPr/>
          <p:nvPr/>
        </p:nvSpPr>
        <p:spPr>
          <a:xfrm>
            <a:off x="536400" y="441360"/>
            <a:ext cx="70088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глядные</a:t>
            </a:r>
            <a:r>
              <a:rPr b="1" lang="es-E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(живые образы), к которым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</a:t>
            </a: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блю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дидактические пособ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ссматривание картин, иллюстраций, фотограф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исун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смотр видео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2"/>
          <p:cNvSpPr/>
          <p:nvPr/>
        </p:nvSpPr>
        <p:spPr>
          <a:xfrm>
            <a:off x="536400" y="347760"/>
            <a:ext cx="689616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ловесные</a:t>
            </a:r>
            <a:r>
              <a:rPr b="1" lang="es-E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, </a:t>
            </a: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оторые вклю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художественное сло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рассказ воспит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малые фольклорные ф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блемные ситуации высказывания и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bject 2"/>
          <p:cNvSpPr/>
          <p:nvPr/>
        </p:nvSpPr>
        <p:spPr>
          <a:xfrm>
            <a:off x="971640" y="836640"/>
            <a:ext cx="6892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актические</a:t>
            </a:r>
            <a:r>
              <a:rPr b="1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овые пор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бучение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дельным способам выполнения  трудовых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гровые обучающие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buClr>
                <a:srgbClr val="f2f2f2"/>
              </a:buClr>
              <a:buSzPct val="9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южетно-ролев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01-29T13:58:57Z</dcterms:modified>
  <cp:revision>7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934</vt:lpwstr>
  </property>
</Properties>
</file>