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31.png" ContentType="image/png"/>
  <Override PartName="/ppt/media/image34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7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C05-81F9-467C-8962-ED114C45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005-D488-4318-BD6D-CB416346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67A-A201-425B-A10D-D3D4EA07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89D-628A-4045-AFF3-C6C39D69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C026-0365-4882-882E-A50F48A9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5BA6-E417-4909-AB46-1E60A777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7D3B-DC3C-4AB9-B95B-2DA0D253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39FD-8F7D-43AB-A1C7-5C682D02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A508-0537-4E8D-9E95-C6A75D3C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D740-6285-48A8-AEEC-8902DB9C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50D6-D375-4B7B-AF69-779B4A8B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2BD-97C9-4CA4-977B-3E3F063C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3D42-33F9-4A1E-BF10-6BE2EBAD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1D92-254C-42B1-961D-A79771BB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344B-1DB5-4FDE-9AA3-1DCBD703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2951-A6E1-4F06-9E51-8D26CC61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2C8A-34FE-445C-9D2D-A639CDAD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227-811B-4A93-BB89-870B3507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89C-6390-4041-AA96-58873322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D7B-07A2-4E32-BE70-B3A15A9E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9AA-D6DB-4179-AA3C-258D738D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98F-3F18-4B18-8DA9-66733056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B86-2E1C-4776-B54D-3CB86AC4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C97-0D2B-49AF-80DF-4B966C6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AA2A-AB62-469E-970B-1A5E6151967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7695-00B7-4DBF-AAA2-6DF8A7AD259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Admin\Рабочий стол\607815457.gif"/>
          <p:cNvPicPr/>
          <p:nvPr/>
        </p:nvPicPr>
        <p:blipFill>
          <a:blip r:embed="rId1"/>
          <a:stretch/>
        </p:blipFill>
        <p:spPr>
          <a:xfrm>
            <a:off x="571680" y="35712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Рабочий стол\607815457.gif"/>
          <p:cNvPicPr/>
          <p:nvPr/>
        </p:nvPicPr>
        <p:blipFill>
          <a:blip r:embed="rId2"/>
          <a:stretch/>
        </p:blipFill>
        <p:spPr>
          <a:xfrm>
            <a:off x="584280" y="307800"/>
            <a:ext cx="7559640" cy="6188400"/>
          </a:xfrm>
          <a:prstGeom prst="rect">
            <a:avLst/>
          </a:prstGeom>
          <a:ln w="0">
            <a:noFill/>
          </a:ln>
        </p:spPr>
      </p:pic>
      <p:pic>
        <p:nvPicPr>
          <p:cNvPr id="153" name="Заголовок 1" descr=""/>
          <p:cNvPicPr/>
          <p:nvPr/>
        </p:nvPicPr>
        <p:blipFill>
          <a:blip r:embed="rId3"/>
          <a:stretch/>
        </p:blipFill>
        <p:spPr>
          <a:xfrm>
            <a:off x="493560" y="396720"/>
            <a:ext cx="7901280" cy="1816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142640" y="4797360"/>
            <a:ext cx="670572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19f9"/>
                </a:solidFill>
                <a:latin typeface="Georgia"/>
              </a:rPr>
              <a:t>Всем привет! Будьте внимательны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19f9"/>
                </a:solidFill>
                <a:latin typeface="Georgia"/>
              </a:rPr>
              <a:t>на уроке! Успехов и удачи вам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0" y="44280"/>
          <a:ext cx="4572000" cy="69361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мя прилагательное – это…..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бозначает….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твечает на вопросы…..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зменяется по….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В предложении является…….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81360" y="19080"/>
          <a:ext cx="4562640" cy="1744560"/>
        </p:xfrm>
        <a:graphic>
          <a:graphicData uri="http://schemas.openxmlformats.org/drawingml/2006/table">
            <a:tbl>
              <a:tblPr/>
              <a:tblGrid>
                <a:gridCol w="4562640"/>
              </a:tblGrid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ть речи</a:t>
                      </a:r>
                      <a:endParaRPr b="0" lang="en-US" sz="4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5a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619520" y="1844640"/>
          <a:ext cx="4524480" cy="1333440"/>
        </p:xfrm>
        <a:graphic>
          <a:graphicData uri="http://schemas.openxmlformats.org/drawingml/2006/table">
            <a:tbl>
              <a:tblPr/>
              <a:tblGrid>
                <a:gridCol w="452448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ризнак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редмета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3280" y="3068640"/>
          <a:ext cx="4500720" cy="14637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Какой? Какая ? Какое? Какие?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d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643280" y="4581360"/>
          <a:ext cx="4500720" cy="1341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о родам, числам 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и падеам?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572000" y="5791320"/>
          <a:ext cx="4537080" cy="12189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пределением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320364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Comic Sans MS"/>
              </a:rPr>
              <a:t>Обсудим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pic>
        <p:nvPicPr>
          <p:cNvPr id="182" name="Picture 4" descr="jcnm"/>
          <p:cNvPicPr/>
          <p:nvPr/>
        </p:nvPicPr>
        <p:blipFill>
          <a:blip r:embed="rId2"/>
          <a:stretch/>
        </p:blipFill>
        <p:spPr>
          <a:xfrm>
            <a:off x="250920" y="189000"/>
            <a:ext cx="3128760" cy="19177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611280" y="3500280"/>
            <a:ext cx="6840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omic Sans MS"/>
              </a:rPr>
              <a:t>Как определить род, падеж, число имени прилагательного?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539640" y="5805360"/>
            <a:ext cx="7993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4673880"/>
            <a:ext cx="86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айти существительное, к которому относится прилагательное.</a:t>
            </a: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пределить число, род и падеж существительного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 роду, числу и падежу существительного определить число, род и падеж прилагательного </a:t>
            </a: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бота в тетрад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адание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й имена прилагательные в соответствующем падеже, подбирая правильное окончание. Спиши, укажи падеж.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ступило ранн_  зимн_ утр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ятно гулять на свеж_  воздух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син_  небе не видно ни обла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://img-fotki.yandex.ru/get/3300/winx4163.c/0_1a6c8_a9c63348_L"/>
          <p:cNvPicPr/>
          <p:nvPr/>
        </p:nvPicPr>
        <p:blipFill>
          <a:blip r:embed="rId1"/>
          <a:stretch/>
        </p:blipFill>
        <p:spPr>
          <a:xfrm>
            <a:off x="3276720" y="1557360"/>
            <a:ext cx="3814560" cy="381636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2" descr=""/>
          <p:cNvPicPr/>
          <p:nvPr/>
        </p:nvPicPr>
        <p:blipFill>
          <a:blip r:embed="rId2"/>
          <a:stretch/>
        </p:blipFill>
        <p:spPr>
          <a:xfrm>
            <a:off x="1066680" y="944640"/>
            <a:ext cx="1463760" cy="113976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3" descr=""/>
          <p:cNvPicPr/>
          <p:nvPr/>
        </p:nvPicPr>
        <p:blipFill>
          <a:blip r:embed="rId3"/>
          <a:stretch/>
        </p:blipFill>
        <p:spPr>
          <a:xfrm>
            <a:off x="1712880" y="438120"/>
            <a:ext cx="1347840" cy="114156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4" descr=""/>
          <p:cNvPicPr/>
          <p:nvPr/>
        </p:nvPicPr>
        <p:blipFill>
          <a:blip r:embed="rId4"/>
          <a:stretch/>
        </p:blipFill>
        <p:spPr>
          <a:xfrm>
            <a:off x="2749680" y="291960"/>
            <a:ext cx="1420560" cy="11462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5" descr=""/>
          <p:cNvPicPr/>
          <p:nvPr/>
        </p:nvPicPr>
        <p:blipFill>
          <a:blip r:embed="rId5"/>
          <a:stretch/>
        </p:blipFill>
        <p:spPr>
          <a:xfrm>
            <a:off x="3548160" y="225360"/>
            <a:ext cx="160344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6" descr=""/>
          <p:cNvPicPr/>
          <p:nvPr/>
        </p:nvPicPr>
        <p:blipFill>
          <a:blip r:embed="rId6"/>
          <a:stretch/>
        </p:blipFill>
        <p:spPr>
          <a:xfrm>
            <a:off x="4743360" y="152280"/>
            <a:ext cx="1382760" cy="114012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7" descr=""/>
          <p:cNvPicPr/>
          <p:nvPr/>
        </p:nvPicPr>
        <p:blipFill>
          <a:blip r:embed="rId7"/>
          <a:stretch/>
        </p:blipFill>
        <p:spPr>
          <a:xfrm>
            <a:off x="5821200" y="225360"/>
            <a:ext cx="1397160" cy="113976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8" descr=""/>
          <p:cNvPicPr/>
          <p:nvPr/>
        </p:nvPicPr>
        <p:blipFill>
          <a:blip r:embed="rId8"/>
          <a:stretch/>
        </p:blipFill>
        <p:spPr>
          <a:xfrm>
            <a:off x="6802560" y="291960"/>
            <a:ext cx="1384200" cy="114624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9" descr=""/>
          <p:cNvPicPr/>
          <p:nvPr/>
        </p:nvPicPr>
        <p:blipFill>
          <a:blip r:embed="rId9"/>
          <a:stretch/>
        </p:blipFill>
        <p:spPr>
          <a:xfrm>
            <a:off x="7412040" y="944640"/>
            <a:ext cx="1506600" cy="1139760"/>
          </a:xfrm>
          <a:prstGeom prst="rect">
            <a:avLst/>
          </a:prstGeom>
          <a:ln w="0">
            <a:noFill/>
          </a:ln>
        </p:spPr>
      </p:pic>
      <p:pic>
        <p:nvPicPr>
          <p:cNvPr id="197" name="Смешарики - Круглая песенка (mp3ostrov.com).mp3" descr=""/>
          <p:cNvPicPr/>
          <p:nvPr/>
        </p:nvPicPr>
        <p:blipFill>
          <a:blip r:embed="rId10"/>
          <a:stretch/>
        </p:blipFill>
        <p:spPr>
          <a:xfrm>
            <a:off x="7883640" y="5877000"/>
            <a:ext cx="306360" cy="30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8925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2" descr="C:\Users\Папа и Мама\Downloads\WhatsApp Image 2022-10-25 at 08.45.52 (2).jpeg"/>
          <p:cNvPicPr/>
          <p:nvPr/>
        </p:nvPicPr>
        <p:blipFill>
          <a:blip r:embed="rId1"/>
          <a:stretch/>
        </p:blipFill>
        <p:spPr>
          <a:xfrm>
            <a:off x="1521000" y="260280"/>
            <a:ext cx="51958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8064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Понаблюдай и сделай вывод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484280"/>
          <a:ext cx="8631000" cy="5218200"/>
        </p:xfrm>
        <a:graphic>
          <a:graphicData uri="http://schemas.openxmlformats.org/drawingml/2006/table">
            <a:tbl>
              <a:tblPr/>
              <a:tblGrid>
                <a:gridCol w="1079280"/>
                <a:gridCol w="1873440"/>
                <a:gridCol w="5678280"/>
              </a:tblGrid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                         покрывало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(как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бел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Е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т)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Г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ГО</a:t>
                      </a:r>
                      <a:r>
                        <a:rPr b="1" lang="ru-RU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ГО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ть)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У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У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У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ижу)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Й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как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бел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Е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оржусь)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М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 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М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М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ечтаю)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о 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о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</a:t>
                      </a:r>
                      <a:r>
                        <a:rPr b="1" lang="ru-RU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о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2" descr="http://childrensbook.narod.ru/237.jpg"/>
          <p:cNvPicPr/>
          <p:nvPr/>
        </p:nvPicPr>
        <p:blipFill>
          <a:blip r:embed="rId1"/>
          <a:stretch/>
        </p:blipFill>
        <p:spPr>
          <a:xfrm>
            <a:off x="250920" y="-819000"/>
            <a:ext cx="163332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ЛОНЕНИЕ ИМЁН ПРИЛАГАТЕЛЬНЫХ ЖЕНСКОГО РОДА ЕДИНСТВЕН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95280" y="1773360"/>
          <a:ext cx="8137440" cy="3456000"/>
        </p:xfrm>
        <a:graphic>
          <a:graphicData uri="http://schemas.openxmlformats.org/drawingml/2006/table">
            <a:tbl>
              <a:tblPr/>
              <a:tblGrid>
                <a:gridCol w="2033640"/>
                <a:gridCol w="2035080"/>
                <a:gridCol w="2033640"/>
                <a:gridCol w="2035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адеж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опрос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вердая основ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ягкая основ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ая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Я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Я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ой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О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ой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ую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Ю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ЮЮ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ой 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 какой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О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Е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  <p:sp>
        <p:nvSpPr>
          <p:cNvPr id="205" name="Прямоугольник 4"/>
          <p:cNvSpPr/>
          <p:nvPr/>
        </p:nvSpPr>
        <p:spPr>
          <a:xfrm>
            <a:off x="395280" y="57326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Comic Sans MS"/>
              </a:rPr>
              <a:t>Имена прилагательные единственного числа женского рода с твердой/ мягкой основой склоняются одинаково, т.е. имеют одни и те же окончания в каждом падеже.</a:t>
            </a: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250920" y="5460840"/>
            <a:ext cx="48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ывод:</a:t>
            </a: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тавить пропущенные окончания имен прилагательных женского род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96472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руппа: до волшебн__ книги, о   быстр__ реке, тяжёло__  сумкой,  по красн__ лен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руппа: около высок__ ели, дружн__ семьёй, на соседн__ полянке,  по бел__ сте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руппа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: без вкусн__  каши,  по весенн__ траве, о зимн__  ёлке, желт__краск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WordArt 4" descr=""/>
          <p:cNvPicPr/>
          <p:nvPr/>
        </p:nvPicPr>
        <p:blipFill>
          <a:blip r:embed="rId1"/>
          <a:stretch/>
        </p:blipFill>
        <p:spPr>
          <a:xfrm>
            <a:off x="4846680" y="1542960"/>
            <a:ext cx="457200" cy="285840"/>
          </a:xfrm>
          <a:prstGeom prst="rect">
            <a:avLst/>
          </a:prstGeom>
          <a:ln w="0">
            <a:noFill/>
          </a:ln>
        </p:spPr>
      </p:pic>
      <p:pic>
        <p:nvPicPr>
          <p:cNvPr id="210" name="WordArt 6" descr=""/>
          <p:cNvPicPr/>
          <p:nvPr/>
        </p:nvPicPr>
        <p:blipFill>
          <a:blip r:embed="rId2"/>
          <a:stretch/>
        </p:blipFill>
        <p:spPr>
          <a:xfrm>
            <a:off x="1682640" y="2048040"/>
            <a:ext cx="480960" cy="353880"/>
          </a:xfrm>
          <a:prstGeom prst="rect">
            <a:avLst/>
          </a:prstGeom>
          <a:ln w="0">
            <a:noFill/>
          </a:ln>
        </p:spPr>
      </p:pic>
      <p:pic>
        <p:nvPicPr>
          <p:cNvPr id="211" name="WordArt 7" descr=""/>
          <p:cNvPicPr/>
          <p:nvPr/>
        </p:nvPicPr>
        <p:blipFill>
          <a:blip r:embed="rId3"/>
          <a:stretch/>
        </p:blipFill>
        <p:spPr>
          <a:xfrm>
            <a:off x="4846680" y="2048040"/>
            <a:ext cx="554040" cy="341280"/>
          </a:xfrm>
          <a:prstGeom prst="rect">
            <a:avLst/>
          </a:prstGeom>
          <a:ln w="0">
            <a:noFill/>
          </a:ln>
        </p:spPr>
      </p:pic>
      <p:pic>
        <p:nvPicPr>
          <p:cNvPr id="212" name="WordArt 10" descr=""/>
          <p:cNvPicPr/>
          <p:nvPr/>
        </p:nvPicPr>
        <p:blipFill>
          <a:blip r:embed="rId4"/>
          <a:stretch/>
        </p:blipFill>
        <p:spPr>
          <a:xfrm>
            <a:off x="1536840" y="2481120"/>
            <a:ext cx="480960" cy="335160"/>
          </a:xfrm>
          <a:prstGeom prst="rect">
            <a:avLst/>
          </a:prstGeom>
          <a:ln w="0">
            <a:noFill/>
          </a:ln>
        </p:spPr>
      </p:pic>
      <p:pic>
        <p:nvPicPr>
          <p:cNvPr id="213" name="WordArt 11" descr=""/>
          <p:cNvPicPr/>
          <p:nvPr/>
        </p:nvPicPr>
        <p:blipFill>
          <a:blip r:embed="rId5"/>
          <a:stretch/>
        </p:blipFill>
        <p:spPr>
          <a:xfrm>
            <a:off x="7296120" y="3706920"/>
            <a:ext cx="628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WordArt 12" descr=""/>
          <p:cNvPicPr/>
          <p:nvPr/>
        </p:nvPicPr>
        <p:blipFill>
          <a:blip r:embed="rId6"/>
          <a:stretch/>
        </p:blipFill>
        <p:spPr>
          <a:xfrm>
            <a:off x="2687760" y="4206960"/>
            <a:ext cx="555480" cy="358560"/>
          </a:xfrm>
          <a:prstGeom prst="rect">
            <a:avLst/>
          </a:prstGeom>
          <a:ln w="0">
            <a:noFill/>
          </a:ln>
        </p:spPr>
      </p:pic>
      <p:pic>
        <p:nvPicPr>
          <p:cNvPr id="215" name="WordArt 13" descr=""/>
          <p:cNvPicPr/>
          <p:nvPr/>
        </p:nvPicPr>
        <p:blipFill>
          <a:blip r:embed="rId7"/>
          <a:stretch/>
        </p:blipFill>
        <p:spPr>
          <a:xfrm>
            <a:off x="7223040" y="4206960"/>
            <a:ext cx="409680" cy="358560"/>
          </a:xfrm>
          <a:prstGeom prst="rect">
            <a:avLst/>
          </a:prstGeom>
          <a:ln w="0">
            <a:noFill/>
          </a:ln>
        </p:spPr>
      </p:pic>
      <p:pic>
        <p:nvPicPr>
          <p:cNvPr id="216" name="WordArt 14" descr=""/>
          <p:cNvPicPr/>
          <p:nvPr/>
        </p:nvPicPr>
        <p:blipFill>
          <a:blip r:embed="rId8"/>
          <a:stretch/>
        </p:blipFill>
        <p:spPr>
          <a:xfrm>
            <a:off x="3913200" y="4711680"/>
            <a:ext cx="549360" cy="341280"/>
          </a:xfrm>
          <a:prstGeom prst="rect">
            <a:avLst/>
          </a:prstGeom>
          <a:ln w="0">
            <a:noFill/>
          </a:ln>
        </p:spPr>
      </p:pic>
      <p:pic>
        <p:nvPicPr>
          <p:cNvPr id="217" name="WordArt 15" descr=""/>
          <p:cNvPicPr/>
          <p:nvPr/>
        </p:nvPicPr>
        <p:blipFill>
          <a:blip r:embed="rId9"/>
          <a:stretch/>
        </p:blipFill>
        <p:spPr>
          <a:xfrm>
            <a:off x="3986280" y="5864400"/>
            <a:ext cx="482400" cy="287280"/>
          </a:xfrm>
          <a:prstGeom prst="rect">
            <a:avLst/>
          </a:prstGeom>
          <a:ln w="0">
            <a:noFill/>
          </a:ln>
        </p:spPr>
      </p:pic>
      <p:pic>
        <p:nvPicPr>
          <p:cNvPr id="218" name="WordArt 16" descr=""/>
          <p:cNvPicPr/>
          <p:nvPr/>
        </p:nvPicPr>
        <p:blipFill>
          <a:blip r:embed="rId10"/>
          <a:stretch/>
        </p:blipFill>
        <p:spPr>
          <a:xfrm>
            <a:off x="8229600" y="5864400"/>
            <a:ext cx="554040" cy="353880"/>
          </a:xfrm>
          <a:prstGeom prst="rect">
            <a:avLst/>
          </a:prstGeom>
          <a:ln w="0">
            <a:noFill/>
          </a:ln>
        </p:spPr>
      </p:pic>
      <p:pic>
        <p:nvPicPr>
          <p:cNvPr id="219" name="WordArt 17" descr=""/>
          <p:cNvPicPr/>
          <p:nvPr/>
        </p:nvPicPr>
        <p:blipFill>
          <a:blip r:embed="rId11"/>
          <a:stretch/>
        </p:blipFill>
        <p:spPr>
          <a:xfrm>
            <a:off x="3260880" y="6370560"/>
            <a:ext cx="482400" cy="335160"/>
          </a:xfrm>
          <a:prstGeom prst="rect">
            <a:avLst/>
          </a:prstGeom>
          <a:ln w="0">
            <a:noFill/>
          </a:ln>
        </p:spPr>
      </p:pic>
      <p:pic>
        <p:nvPicPr>
          <p:cNvPr id="220" name="WordArt 18" descr=""/>
          <p:cNvPicPr/>
          <p:nvPr/>
        </p:nvPicPr>
        <p:blipFill>
          <a:blip r:embed="rId12"/>
          <a:stretch/>
        </p:blipFill>
        <p:spPr>
          <a:xfrm>
            <a:off x="6357960" y="6370560"/>
            <a:ext cx="414360" cy="262080"/>
          </a:xfrm>
          <a:prstGeom prst="rect">
            <a:avLst/>
          </a:prstGeom>
          <a:ln w="0">
            <a:noFill/>
          </a:ln>
        </p:spPr>
      </p:pic>
      <p:pic>
        <p:nvPicPr>
          <p:cNvPr id="221" name="WordArt 19" descr=""/>
          <p:cNvPicPr/>
          <p:nvPr/>
        </p:nvPicPr>
        <p:blipFill>
          <a:blip r:embed="rId13"/>
          <a:stretch/>
        </p:blipFill>
        <p:spPr>
          <a:xfrm>
            <a:off x="6595920" y="682560"/>
            <a:ext cx="2584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2421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СКЛОНЯТЬ СЛОВОСОЧЕТ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600200"/>
            <a:ext cx="41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.п.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ел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.п.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е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еле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.п.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е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еле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.п.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ел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п.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е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елень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п. о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ей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еле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06692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.п.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.п.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г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л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.п.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м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л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.п.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л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п.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ы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ле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п. о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м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611280" y="836640"/>
            <a:ext cx="47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свеж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ая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зелень</a:t>
            </a:r>
            <a:endParaRPr b="0" lang="en-US" sz="32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4716360" y="765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зелён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о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поле</a:t>
            </a:r>
            <a:endParaRPr b="0" lang="en-US" sz="32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.33№341уст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клонение имён прилагательных женского род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468360" y="1922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Определите падеж, род, число  прилагательного.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196200" y="1267200"/>
            <a:ext cx="40939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муч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лесу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коло низ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осны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дуб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камью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больш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мом 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ста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убом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 чис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роднику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извилис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роп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-за кирпич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тены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желез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крыш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иль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етель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4643280" y="1522800"/>
            <a:ext cx="45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лень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ел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пшенич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ю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  любим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ам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близ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угой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лин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ути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 ел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лесом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коло си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оря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ез глубо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враг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вер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руга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сыт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едом.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428760" y="432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Определите падеж, род, число  прилагательного.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6920" y="1284480"/>
            <a:ext cx="418104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муч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лесу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коло низ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осны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дуб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у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камью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больш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мом 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ста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убом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 чис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роднику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извилис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роп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-за кирпич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тены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желез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крыш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иль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у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етель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4500720" y="1522800"/>
            <a:ext cx="46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лень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ел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пшенич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ю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  любим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ам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близ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угой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лин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ути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 ел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лесом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коло си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е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оря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ез глубо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враг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вер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руга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сыт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едом.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склонять прилагатель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828800"/>
            <a:ext cx="791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В                            2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ашняя                     друж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бота                           брига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Оцени свою работу на урок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Содержимое 2" descr=""/>
          <p:cNvPicPr/>
          <p:nvPr/>
        </p:nvPicPr>
        <p:blipFill>
          <a:blip r:embed="rId2"/>
          <a:stretch/>
        </p:blipFill>
        <p:spPr>
          <a:xfrm>
            <a:off x="281160" y="1620720"/>
            <a:ext cx="10142280" cy="6535800"/>
          </a:xfrm>
          <a:prstGeom prst="rect">
            <a:avLst/>
          </a:prstGeom>
          <a:ln w="0">
            <a:noFill/>
          </a:ln>
        </p:spPr>
      </p:pic>
      <p:sp>
        <p:nvSpPr>
          <p:cNvPr id="239" name="Овал 3"/>
          <p:cNvSpPr/>
          <p:nvPr/>
        </p:nvSpPr>
        <p:spPr>
          <a:xfrm>
            <a:off x="8101080" y="2060640"/>
            <a:ext cx="770040" cy="79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40" name="Овал 4"/>
          <p:cNvSpPr/>
          <p:nvPr/>
        </p:nvSpPr>
        <p:spPr>
          <a:xfrm>
            <a:off x="8028000" y="3860640"/>
            <a:ext cx="792000" cy="8654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omic Sans MS"/>
              </a:rPr>
              <a:t>   </a:t>
            </a: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41" name="Овал 5"/>
          <p:cNvSpPr/>
          <p:nvPr/>
        </p:nvSpPr>
        <p:spPr>
          <a:xfrm>
            <a:off x="7740720" y="5516640"/>
            <a:ext cx="914400" cy="863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вило: стр.29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пражнение №33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f0000"/>
                </a:solidFill>
                <a:latin typeface="Comic Sans MS"/>
              </a:rPr>
              <a:t>Настрой на ур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Ну, ребята, чур, молчок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Начинается урок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Приготовьте свои ушки и глазк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Чтобы они могли всё видет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лышать и запомин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Девиз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«Кто думает – тот всегда додумается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2928960" y="571680"/>
            <a:ext cx="3786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aphicFrame>
        <p:nvGraphicFramePr>
          <p:cNvPr id="162" name="Object 2"/>
          <p:cNvGraphicFramePr/>
          <p:nvPr/>
        </p:nvGraphicFramePr>
        <p:xfrm>
          <a:off x="1187280" y="549360"/>
          <a:ext cx="7401240" cy="4929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549360"/>
                    <a:ext cx="740124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Прямоугольник 3"/>
          <p:cNvSpPr/>
          <p:nvPr/>
        </p:nvSpPr>
        <p:spPr>
          <a:xfrm>
            <a:off x="0" y="642960"/>
            <a:ext cx="9828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741240" indent="-741240" algn="ctr">
              <a:lnSpc>
                <a:spcPct val="100000"/>
              </a:lnSpc>
              <a:buClr>
                <a:srgbClr val="ffffff"/>
              </a:buClr>
              <a:buFont typeface="Arial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741240" indent="-74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MS Gothic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MS Gothic"/>
              </a:rPr>
              <a:t>Двадцать с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MS Gothic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MS Gothic"/>
              </a:rPr>
              <a:t>дьмое ян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MS Gothic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MS Gothic"/>
              </a:rPr>
              <a:t>ря.</a:t>
            </a:r>
            <a:endParaRPr b="0" lang="en-US" sz="36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741240" indent="-74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MS Gothic"/>
              </a:rPr>
              <a:t>Кл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MS Gothic"/>
              </a:rPr>
              <a:t>с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MS Gothic"/>
              </a:rPr>
              <a:t>ная 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MS Gothic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MS Gothic"/>
              </a:rPr>
              <a:t>бота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MS Gothic"/>
              </a:rPr>
              <a:t>.   </a:t>
            </a:r>
            <a:endParaRPr b="0" lang="en-US" sz="4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741240" indent="-74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741240" indent="-74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  <a:ea typeface="MS Gothic"/>
              </a:rPr>
              <a:t>       </a:t>
            </a:r>
            <a:endParaRPr b="0" lang="en-US" sz="5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ставь предложение. Разобра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56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етер, могучий, опасно, старое, наклонил, дерево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огучий ветер опасно  наклонил старое  дерев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468360" y="57326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старое- морфологический разбор.</a:t>
            </a:r>
            <a:endParaRPr b="0" lang="en-US" sz="32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ransition spd="med"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49952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тно найди лишнее слов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оза, шторм, вьюжный, бол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ужная, веселая, добрый, зелена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ушечный, больные, весёлый, берегов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селого, красного, золотым, свежег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3054240" y="500040"/>
            <a:ext cx="4260960" cy="97488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5" descr="Рисунок3y.png"/>
          <p:cNvPicPr/>
          <p:nvPr/>
        </p:nvPicPr>
        <p:blipFill>
          <a:blip r:embed="rId2"/>
          <a:stretch/>
        </p:blipFill>
        <p:spPr>
          <a:xfrm>
            <a:off x="5219640" y="2205000"/>
            <a:ext cx="1944720" cy="1892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1547280" y="4797000"/>
            <a:ext cx="6202440" cy="1252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Что мы знаем о прилагательном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4:52:49Z</dcterms:created>
  <dc:creator>Ольга</dc:creator>
  <dc:description/>
  <dc:language>en-US</dc:language>
  <cp:lastModifiedBy>Папа и Мама</cp:lastModifiedBy>
  <dcterms:modified xsi:type="dcterms:W3CDTF">2023-01-29T09:01:43Z</dcterms:modified>
  <cp:revision>65</cp:revision>
  <dc:subject>склонение прил.ж.р.</dc:subject>
  <dc:title>Урок-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