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31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7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7BD-CCCF-47CB-A37B-84FE6074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D82-1208-4111-936F-41BF6908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945-033F-4EB1-9F0E-A94FC191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A1A-301E-45B4-9FF5-B227BB76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91E5-97E3-4E7C-B7D2-AFDD0A5A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F54-3474-49E8-B885-0FC1187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741-6179-4448-8EB1-61482DC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DCBA-BC0A-4A9B-ADFB-CB9EDE7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284D-95FB-44DD-BD27-8F23D96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94A-E7EE-4F49-A949-59EEA54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6FB-DCEF-4D4F-985A-CD134E2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0C1-4A7A-4B58-80D5-1C900A9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213E-ACF3-4C84-AE37-05040EC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07C-0277-462D-BB49-2B72518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8007-F9F5-47F8-9C91-242F1C1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CA20-2ADD-437D-8379-320E85F4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8B3-5B9A-4349-8649-3CF67632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CFD-93D3-446A-BEB0-9249D51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860-4726-433F-BDB6-33E94FD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5A5-7F70-4DA5-900C-A021FFA6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944-C2C8-4D21-964B-40B3EF1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987-89BA-444F-BD9B-C34EE70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7F7-126C-4C49-8258-20994C6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2E6-9855-4692-84A3-B10F1D8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8703-DD3C-46E9-8CEC-7999001CBC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BA0-38AB-4F12-A520-F95A6825EF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Admin\Рабочий стол\607815457.gif"/>
          <p:cNvPicPr/>
          <p:nvPr/>
        </p:nvPicPr>
        <p:blipFill>
          <a:blip r:embed="rId1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Рабочий стол\607815457.gif"/>
          <p:cNvPicPr/>
          <p:nvPr/>
        </p:nvPicPr>
        <p:blipFill>
          <a:blip r:embed="rId2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pic>
        <p:nvPicPr>
          <p:cNvPr id="153" name="Заголовок 1" descr=""/>
          <p:cNvPicPr/>
          <p:nvPr/>
        </p:nvPicPr>
        <p:blipFill>
          <a:blip r:embed="rId3"/>
          <a:stretch/>
        </p:blipFill>
        <p:spPr>
          <a:xfrm>
            <a:off x="493560" y="396720"/>
            <a:ext cx="7901280" cy="1816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42640" y="4797360"/>
            <a:ext cx="670572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9f9"/>
                </a:solidFill>
                <a:latin typeface="Georgia"/>
              </a:rPr>
              <a:t>Всем привет! Будьте внимательны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19f9"/>
                </a:solidFill>
                <a:latin typeface="Georgia"/>
              </a:rPr>
              <a:t>на уроке! Успехов и удачи ва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0" y="44280"/>
          <a:ext cx="4572000" cy="69361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В предложении является…….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ть речи</a:t>
                      </a:r>
                      <a:endParaRPr b="0" lang="en-US" sz="4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5a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omic Sans MS"/>
                        </a:rPr>
                        <a:t>Какой? Какая ? Какое? Какие?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d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3280" y="4581360"/>
          <a:ext cx="4500720" cy="1341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падеам?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пределением</a:t>
                      </a: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320364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Comic Sans MS"/>
              </a:rPr>
              <a:t>Обсудим</a:t>
            </a:r>
            <a:endParaRPr b="0" lang="en-US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pic>
        <p:nvPicPr>
          <p:cNvPr id="182" name="Picture 4" descr="jcnm"/>
          <p:cNvPicPr/>
          <p:nvPr/>
        </p:nvPicPr>
        <p:blipFill>
          <a:blip r:embed="rId2"/>
          <a:stretch/>
        </p:blipFill>
        <p:spPr>
          <a:xfrm>
            <a:off x="250920" y="189000"/>
            <a:ext cx="3128760" cy="1917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611280" y="3500280"/>
            <a:ext cx="6840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Как определить род, падеж, число имени прилагательного?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539640" y="5805360"/>
            <a:ext cx="7993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467388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айти существительное, к которому относится прилагательное.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пределить число, род и падеж существительного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 роду, числу и падежу существительного определить число, род и падеж прилагательного 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в тетрад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адание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й имена прилагательные в соответствующем падеже, подбирая правильное окончание. Спиши, укажи падеж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ступило ранн_  зимн_ утр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ятно гулять на свеж_  воздух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син_  небе не видно ни обла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://img-fotki.yandex.ru/get/3300/winx4163.c/0_1a6c8_a9c63348_L"/>
          <p:cNvPicPr/>
          <p:nvPr/>
        </p:nvPicPr>
        <p:blipFill>
          <a:blip r:embed="rId1"/>
          <a:stretch/>
        </p:blipFill>
        <p:spPr>
          <a:xfrm>
            <a:off x="3276720" y="1557360"/>
            <a:ext cx="3814560" cy="38163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944640"/>
            <a:ext cx="1463760" cy="113976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3" descr=""/>
          <p:cNvPicPr/>
          <p:nvPr/>
        </p:nvPicPr>
        <p:blipFill>
          <a:blip r:embed="rId3"/>
          <a:stretch/>
        </p:blipFill>
        <p:spPr>
          <a:xfrm>
            <a:off x="1712880" y="438120"/>
            <a:ext cx="1347840" cy="114156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" descr=""/>
          <p:cNvPicPr/>
          <p:nvPr/>
        </p:nvPicPr>
        <p:blipFill>
          <a:blip r:embed="rId4"/>
          <a:stretch/>
        </p:blipFill>
        <p:spPr>
          <a:xfrm>
            <a:off x="2749680" y="291960"/>
            <a:ext cx="1420560" cy="1146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5" descr=""/>
          <p:cNvPicPr/>
          <p:nvPr/>
        </p:nvPicPr>
        <p:blipFill>
          <a:blip r:embed="rId5"/>
          <a:stretch/>
        </p:blipFill>
        <p:spPr>
          <a:xfrm>
            <a:off x="3548160" y="225360"/>
            <a:ext cx="160344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6" descr=""/>
          <p:cNvPicPr/>
          <p:nvPr/>
        </p:nvPicPr>
        <p:blipFill>
          <a:blip r:embed="rId6"/>
          <a:stretch/>
        </p:blipFill>
        <p:spPr>
          <a:xfrm>
            <a:off x="4743360" y="152280"/>
            <a:ext cx="1382760" cy="11401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7" descr=""/>
          <p:cNvPicPr/>
          <p:nvPr/>
        </p:nvPicPr>
        <p:blipFill>
          <a:blip r:embed="rId7"/>
          <a:stretch/>
        </p:blipFill>
        <p:spPr>
          <a:xfrm>
            <a:off x="5821200" y="225360"/>
            <a:ext cx="1397160" cy="113976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8" descr=""/>
          <p:cNvPicPr/>
          <p:nvPr/>
        </p:nvPicPr>
        <p:blipFill>
          <a:blip r:embed="rId8"/>
          <a:stretch/>
        </p:blipFill>
        <p:spPr>
          <a:xfrm>
            <a:off x="6802560" y="291960"/>
            <a:ext cx="1384200" cy="114624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9" descr=""/>
          <p:cNvPicPr/>
          <p:nvPr/>
        </p:nvPicPr>
        <p:blipFill>
          <a:blip r:embed="rId9"/>
          <a:stretch/>
        </p:blipFill>
        <p:spPr>
          <a:xfrm>
            <a:off x="7412040" y="944640"/>
            <a:ext cx="1506600" cy="1139760"/>
          </a:xfrm>
          <a:prstGeom prst="rect">
            <a:avLst/>
          </a:prstGeom>
          <a:ln w="0">
            <a:noFill/>
          </a:ln>
        </p:spPr>
      </p:pic>
      <p:pic>
        <p:nvPicPr>
          <p:cNvPr id="197" name="Смешарики - Круглая песенка (mp3ostrov.com).mp3" descr=""/>
          <p:cNvPicPr/>
          <p:nvPr/>
        </p:nvPicPr>
        <p:blipFill>
          <a:blip r:embed="rId10"/>
          <a:stretch/>
        </p:blipFill>
        <p:spPr>
          <a:xfrm>
            <a:off x="7883640" y="587700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8925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2" descr="C:\Users\Папа и Мама\Downloads\WhatsApp Image 2022-10-25 at 08.45.52 (2).jpeg"/>
          <p:cNvPicPr/>
          <p:nvPr/>
        </p:nvPicPr>
        <p:blipFill>
          <a:blip r:embed="rId1"/>
          <a:stretch/>
        </p:blipFill>
        <p:spPr>
          <a:xfrm>
            <a:off x="1521000" y="260280"/>
            <a:ext cx="51958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064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Понаблюдай и сделай вывод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484280"/>
          <a:ext cx="8631000" cy="5218200"/>
        </p:xfrm>
        <a:graphic>
          <a:graphicData uri="http://schemas.openxmlformats.org/drawingml/2006/table">
            <a:tbl>
              <a:tblPr/>
              <a:tblGrid>
                <a:gridCol w="1079280"/>
                <a:gridCol w="1873440"/>
                <a:gridCol w="5678280"/>
              </a:tblGrid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                         покрывал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(как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т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r>
                        <a:rPr b="1" lang="ru-RU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Г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ь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У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ижу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Й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ак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бел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Е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оржусь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М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ечтаю)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о как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) о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r>
                        <a:rPr b="1" lang="ru-RU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о бел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М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2" descr="http://childrensbook.narod.ru/237.jpg"/>
          <p:cNvPicPr/>
          <p:nvPr/>
        </p:nvPicPr>
        <p:blipFill>
          <a:blip r:embed="rId1"/>
          <a:stretch/>
        </p:blipFill>
        <p:spPr>
          <a:xfrm>
            <a:off x="250920" y="-819000"/>
            <a:ext cx="16333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 ИМЁН ПРИЛАГАТЕЛЬНЫХ ЖЕНСКОГО РОДА ЕДИНСТВЕН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773360"/>
          <a:ext cx="8137440" cy="345600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5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адеж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прос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вердая основ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ягкая основ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ая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Я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ую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Ю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Ю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 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.п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какой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О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Е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  <p:sp>
        <p:nvSpPr>
          <p:cNvPr id="205" name="Прямоугольник 4"/>
          <p:cNvSpPr/>
          <p:nvPr/>
        </p:nvSpPr>
        <p:spPr>
          <a:xfrm>
            <a:off x="395280" y="5732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Comic Sans MS"/>
              </a:rPr>
              <a:t>Имена прилагательные единственного числа женского рода с твердой/ мягкой основой склоняются одинаково, т.е. имеют одни и те же окончания в каждом падеже.</a:t>
            </a: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50920" y="546084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endParaRPr b="0" lang="en-US" sz="2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авить пропущенные окончания имен прилагательных женского ро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: до волшебн__ книги, о   быстр__ реке, тяжёло__  сумкой,  по красн__ лен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: около высок__ ели, дружн__ семьёй, на соседн__ полянке,  по бел__ сте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упп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 без вкусн__  каши,  по весенн__ траве, о зимн__  ёлке, желт__крас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WordArt 4" descr=""/>
          <p:cNvPicPr/>
          <p:nvPr/>
        </p:nvPicPr>
        <p:blipFill>
          <a:blip r:embed="rId1"/>
          <a:stretch/>
        </p:blipFill>
        <p:spPr>
          <a:xfrm>
            <a:off x="4846680" y="1542960"/>
            <a:ext cx="45720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6" descr=""/>
          <p:cNvPicPr/>
          <p:nvPr/>
        </p:nvPicPr>
        <p:blipFill>
          <a:blip r:embed="rId2"/>
          <a:stretch/>
        </p:blipFill>
        <p:spPr>
          <a:xfrm>
            <a:off x="1682640" y="2048040"/>
            <a:ext cx="480960" cy="35388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7" descr=""/>
          <p:cNvPicPr/>
          <p:nvPr/>
        </p:nvPicPr>
        <p:blipFill>
          <a:blip r:embed="rId3"/>
          <a:stretch/>
        </p:blipFill>
        <p:spPr>
          <a:xfrm>
            <a:off x="4846680" y="2048040"/>
            <a:ext cx="55404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10" descr=""/>
          <p:cNvPicPr/>
          <p:nvPr/>
        </p:nvPicPr>
        <p:blipFill>
          <a:blip r:embed="rId4"/>
          <a:stretch/>
        </p:blipFill>
        <p:spPr>
          <a:xfrm>
            <a:off x="1536840" y="2481120"/>
            <a:ext cx="480960" cy="335160"/>
          </a:xfrm>
          <a:prstGeom prst="rect">
            <a:avLst/>
          </a:prstGeom>
          <a:ln w="0">
            <a:noFill/>
          </a:ln>
        </p:spPr>
      </p:pic>
      <p:pic>
        <p:nvPicPr>
          <p:cNvPr id="213" name="WordArt 11" descr=""/>
          <p:cNvPicPr/>
          <p:nvPr/>
        </p:nvPicPr>
        <p:blipFill>
          <a:blip r:embed="rId5"/>
          <a:stretch/>
        </p:blipFill>
        <p:spPr>
          <a:xfrm>
            <a:off x="7296120" y="3706920"/>
            <a:ext cx="628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WordArt 12" descr=""/>
          <p:cNvPicPr/>
          <p:nvPr/>
        </p:nvPicPr>
        <p:blipFill>
          <a:blip r:embed="rId6"/>
          <a:stretch/>
        </p:blipFill>
        <p:spPr>
          <a:xfrm>
            <a:off x="2687760" y="4206960"/>
            <a:ext cx="555480" cy="358560"/>
          </a:xfrm>
          <a:prstGeom prst="rect">
            <a:avLst/>
          </a:prstGeom>
          <a:ln w="0">
            <a:noFill/>
          </a:ln>
        </p:spPr>
      </p:pic>
      <p:pic>
        <p:nvPicPr>
          <p:cNvPr id="215" name="WordArt 13" descr=""/>
          <p:cNvPicPr/>
          <p:nvPr/>
        </p:nvPicPr>
        <p:blipFill>
          <a:blip r:embed="rId7"/>
          <a:stretch/>
        </p:blipFill>
        <p:spPr>
          <a:xfrm>
            <a:off x="7223040" y="4206960"/>
            <a:ext cx="409680" cy="358560"/>
          </a:xfrm>
          <a:prstGeom prst="rect">
            <a:avLst/>
          </a:prstGeom>
          <a:ln w="0">
            <a:noFill/>
          </a:ln>
        </p:spPr>
      </p:pic>
      <p:pic>
        <p:nvPicPr>
          <p:cNvPr id="216" name="WordArt 14" descr=""/>
          <p:cNvPicPr/>
          <p:nvPr/>
        </p:nvPicPr>
        <p:blipFill>
          <a:blip r:embed="rId8"/>
          <a:stretch/>
        </p:blipFill>
        <p:spPr>
          <a:xfrm>
            <a:off x="3913200" y="4711680"/>
            <a:ext cx="549360" cy="341280"/>
          </a:xfrm>
          <a:prstGeom prst="rect">
            <a:avLst/>
          </a:prstGeom>
          <a:ln w="0">
            <a:noFill/>
          </a:ln>
        </p:spPr>
      </p:pic>
      <p:pic>
        <p:nvPicPr>
          <p:cNvPr id="217" name="WordArt 15" descr=""/>
          <p:cNvPicPr/>
          <p:nvPr/>
        </p:nvPicPr>
        <p:blipFill>
          <a:blip r:embed="rId9"/>
          <a:stretch/>
        </p:blipFill>
        <p:spPr>
          <a:xfrm>
            <a:off x="3986280" y="5864400"/>
            <a:ext cx="482400" cy="287280"/>
          </a:xfrm>
          <a:prstGeom prst="rect">
            <a:avLst/>
          </a:prstGeom>
          <a:ln w="0">
            <a:noFill/>
          </a:ln>
        </p:spPr>
      </p:pic>
      <p:pic>
        <p:nvPicPr>
          <p:cNvPr id="218" name="WordArt 16" descr=""/>
          <p:cNvPicPr/>
          <p:nvPr/>
        </p:nvPicPr>
        <p:blipFill>
          <a:blip r:embed="rId10"/>
          <a:stretch/>
        </p:blipFill>
        <p:spPr>
          <a:xfrm>
            <a:off x="8229600" y="5864400"/>
            <a:ext cx="554040" cy="353880"/>
          </a:xfrm>
          <a:prstGeom prst="rect">
            <a:avLst/>
          </a:prstGeom>
          <a:ln w="0">
            <a:noFill/>
          </a:ln>
        </p:spPr>
      </p:pic>
      <p:pic>
        <p:nvPicPr>
          <p:cNvPr id="219" name="WordArt 17" descr=""/>
          <p:cNvPicPr/>
          <p:nvPr/>
        </p:nvPicPr>
        <p:blipFill>
          <a:blip r:embed="rId11"/>
          <a:stretch/>
        </p:blipFill>
        <p:spPr>
          <a:xfrm>
            <a:off x="3260880" y="6370560"/>
            <a:ext cx="482400" cy="33516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18" descr=""/>
          <p:cNvPicPr/>
          <p:nvPr/>
        </p:nvPicPr>
        <p:blipFill>
          <a:blip r:embed="rId12"/>
          <a:stretch/>
        </p:blipFill>
        <p:spPr>
          <a:xfrm>
            <a:off x="6357960" y="6370560"/>
            <a:ext cx="414360" cy="262080"/>
          </a:xfrm>
          <a:prstGeom prst="rect">
            <a:avLst/>
          </a:prstGeom>
          <a:ln w="0">
            <a:noFill/>
          </a:ln>
        </p:spPr>
      </p:pic>
      <p:pic>
        <p:nvPicPr>
          <p:cNvPr id="221" name="WordArt 19" descr=""/>
          <p:cNvPicPr/>
          <p:nvPr/>
        </p:nvPicPr>
        <p:blipFill>
          <a:blip r:embed="rId13"/>
          <a:stretch/>
        </p:blipFill>
        <p:spPr>
          <a:xfrm>
            <a:off x="6595920" y="682560"/>
            <a:ext cx="2584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2421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СКЛОНЯТЬ СЛОВОСОЧЕТ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60020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п.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елен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п. о свеж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ей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ел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06692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г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м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п.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п. о зелён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611280" y="83664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веж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ая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зелень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4716360" y="765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зелён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о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поле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33№341уст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клонение имён прилагательных женского род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468360" y="192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пределите падеж, род, число  прилагательного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96200" y="1267200"/>
            <a:ext cx="40939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му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н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с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уб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амь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боль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ом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та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уб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одник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извил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оп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-за кирп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е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рыш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ь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тель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643280" y="1522800"/>
            <a:ext cx="45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лень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ел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шен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 люби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м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бл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угой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лин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ути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е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ря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глубо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враг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ер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у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сыт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дом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428760" y="432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пределите падеж, род, число  прилагательного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6920" y="1284480"/>
            <a:ext cx="418104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му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н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с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уб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камь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боль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ом 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ста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уб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однику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извилис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оп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-за кирп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ены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рыш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ь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тель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500720" y="1522800"/>
            <a:ext cx="46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лень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ел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шенич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ю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  люби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ме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близ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угой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лин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ути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ел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ом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ря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глубок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враг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ер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у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сыт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дом.</a:t>
            </a: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склонять прилага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В                            2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яя                     дружн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бота                           брига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Оцени свою работу на урок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Содержимое 2" descr=""/>
          <p:cNvPicPr/>
          <p:nvPr/>
        </p:nvPicPr>
        <p:blipFill>
          <a:blip r:embed="rId2"/>
          <a:stretch/>
        </p:blipFill>
        <p:spPr>
          <a:xfrm>
            <a:off x="281160" y="1620720"/>
            <a:ext cx="10142280" cy="653580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3"/>
          <p:cNvSpPr/>
          <p:nvPr/>
        </p:nvSpPr>
        <p:spPr>
          <a:xfrm>
            <a:off x="8101080" y="2060640"/>
            <a:ext cx="77004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8028000" y="3860640"/>
            <a:ext cx="792000" cy="8654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   </a:t>
            </a: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7740720" y="5516640"/>
            <a:ext cx="914400" cy="863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о: стр.29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е №3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f0000"/>
                </a:solidFill>
                <a:latin typeface="Comic Sans MS"/>
              </a:rPr>
              <a:t>Настрой на у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у, ребята, чур, молчок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ачинается у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Приготовьте свои ушки и глаз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Чтобы они могли всё виде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лышать и запомин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евиз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«Кто думает – тот всегда додумается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928960" y="571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1187280" y="549360"/>
          <a:ext cx="7401240" cy="4929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74012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3"/>
          <p:cNvSpPr/>
          <p:nvPr/>
        </p:nvSpPr>
        <p:spPr>
          <a:xfrm>
            <a:off x="0" y="642960"/>
            <a:ext cx="982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741240" indent="-741240" algn="ctr">
              <a:lnSpc>
                <a:spcPct val="100000"/>
              </a:lnSpc>
              <a:buClr>
                <a:srgbClr val="ffffff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Двадцать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MS Gothic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дьмое ян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MS Gothic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MS Gothic"/>
              </a:rPr>
              <a:t>ря.</a:t>
            </a:r>
            <a:endParaRPr b="0" lang="en-US" sz="36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К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MS Gothic"/>
              </a:rPr>
              <a:t>с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ная 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MS Gothic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MS Gothic"/>
              </a:rPr>
              <a:t>бот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MS Gothic"/>
              </a:rPr>
              <a:t>.   </a:t>
            </a:r>
            <a:endParaRPr b="0" lang="en-US" sz="48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000000"/>
              </a:solidFill>
              <a:uFillTx/>
              <a:latin typeface="Comic Sans MS"/>
            </a:endParaRPr>
          </a:p>
          <a:p>
            <a:pPr marL="741240" indent="-741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  <a:ea typeface="MS Gothic"/>
              </a:rPr>
              <a:t>       </a:t>
            </a:r>
            <a:endParaRPr b="0" lang="en-US" sz="54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ставь предложение. Разобра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56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тер, могучий, опасно, старое, наклонил, дерев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гучий ветер опасно  наклонил старое  дерев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468360" y="5732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старое- морфологический разбор.</a:t>
            </a:r>
            <a:endParaRPr b="0" lang="en-US" sz="32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transition spd="med">
    <p:wheel spokes="1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4995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стно найди лишнее сло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оза, шторм, вьюжный, бо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жная, веселая, добрый, зелена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ушечный, больные, весёлый, берег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елого, красного, золотым, свеже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3054240" y="500040"/>
            <a:ext cx="4260960" cy="97488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5" descr="Рисунок3y.png"/>
          <p:cNvPicPr/>
          <p:nvPr/>
        </p:nvPicPr>
        <p:blipFill>
          <a:blip r:embed="rId2"/>
          <a:stretch/>
        </p:blipFill>
        <p:spPr>
          <a:xfrm>
            <a:off x="5219640" y="2205000"/>
            <a:ext cx="1944720" cy="1892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547280" y="4797000"/>
            <a:ext cx="6202440" cy="1252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Что мы знаем о прилагательном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52:49Z</dcterms:created>
  <dc:creator>Ольга</dc:creator>
  <dc:description/>
  <dc:language>en-US</dc:language>
  <cp:lastModifiedBy>Папа и Мама</cp:lastModifiedBy>
  <dcterms:modified xsi:type="dcterms:W3CDTF">2023-01-29T09:01:43Z</dcterms:modified>
  <cp:revision>65</cp:revision>
  <dc:subject>склонение прил.ж.р.</dc:subject>
  <dc:title>Урок-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