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wmf" ContentType="image/x-wmf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715-3524-452A-B22F-A8ECA7DA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CFD3-0D35-40C4-8EB8-E213979D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CFFA-3727-49E2-A5D4-38E884BF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1EE0-239A-4596-9F65-F40491B8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3E19-D281-4614-8BA0-D626F755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745E-BBF5-4CBC-9946-C5A5156B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7266-AF9C-4D32-B482-3069C071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B0CF-2601-49FB-9339-8434439D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0083-4924-4B39-83FA-056AB855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DED-170B-4CC1-815F-79751890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BFB6-7653-4B3A-9920-36D30C90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38D-8ECF-49A5-87CD-B9916C1B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7FFC-EDFB-4A5E-9E0D-0AE35F010A3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2AB4-2638-4513-8D8B-6AD5B02642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доровое питание Вашего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00012573"/>
          <p:cNvPicPr/>
          <p:nvPr/>
        </p:nvPicPr>
        <p:blipFill>
          <a:blip r:embed="rId1"/>
          <a:stretch/>
        </p:blipFill>
        <p:spPr>
          <a:xfrm>
            <a:off x="2274840" y="1332000"/>
            <a:ext cx="4392720" cy="4618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езные со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 flipV="1" rot="10800000">
            <a:off x="324000" y="1251000"/>
            <a:ext cx="8496000" cy="31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Попытайтесь наглядно продемонстрировать      ребенку преимущества здорового пита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Мальчиков можно «воодушевить» с помощью объяснения, что здоровые продукты – путь к физической силе, высокому росту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На девочек можно повлиять с помощью рассказов о красоте волос и кожи. Проиллюстрируйте им возможные последствия переедания сладкого или жирного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Изображение 13319" descr="1600_1200_20100116095035384293"/>
          <p:cNvPicPr/>
          <p:nvPr/>
        </p:nvPicPr>
        <p:blipFill>
          <a:blip r:embed="rId1"/>
          <a:srcRect l="5731" t="0" r="0" b="8258"/>
          <a:stretch/>
        </p:blipFill>
        <p:spPr>
          <a:xfrm>
            <a:off x="5148360" y="3933720"/>
            <a:ext cx="355104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блема здоровья – проблема пит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оровое питание должно являться неотъемлемой частью повседневной жизни и способствовать крепкому физиологическому, психическому и социальному здоровью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j0240719"/>
          <p:cNvPicPr/>
          <p:nvPr/>
        </p:nvPicPr>
        <p:blipFill>
          <a:blip r:embed="rId1"/>
          <a:stretch/>
        </p:blipFill>
        <p:spPr>
          <a:xfrm>
            <a:off x="1332000" y="1628640"/>
            <a:ext cx="266040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чественное питание - что это такое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092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еспечивается путем потреблени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безопасных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пищевых продуктов в сбалансированной диет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результате  -  полностью удовлетворяются потребности организма ребенка в питательных веществ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00012799"/>
          <p:cNvPicPr/>
          <p:nvPr/>
        </p:nvPicPr>
        <p:blipFill>
          <a:blip r:embed="rId1"/>
          <a:stretch/>
        </p:blipFill>
        <p:spPr>
          <a:xfrm>
            <a:off x="468360" y="1413000"/>
            <a:ext cx="3438360" cy="5013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/>
          <p:cNvSpPr/>
          <p:nvPr/>
        </p:nvSpPr>
        <p:spPr>
          <a:xfrm>
            <a:off x="250920" y="3500280"/>
            <a:ext cx="2484360" cy="936720"/>
          </a:xfrm>
          <a:prstGeom prst="flowChartTerminator">
            <a:avLst/>
          </a:pr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достаточ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итательны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ещест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5580000" y="2060640"/>
            <a:ext cx="3241800" cy="790560"/>
          </a:xfrm>
          <a:prstGeom prst="flowChartTerminator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теря внимания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5580000" y="3284640"/>
            <a:ext cx="3241800" cy="790560"/>
          </a:xfrm>
          <a:prstGeom prst="flowChartTerminator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лабость и переутомляем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5580000" y="4581360"/>
            <a:ext cx="3241800" cy="790920"/>
          </a:xfrm>
          <a:prstGeom prst="flowChartTerminator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худшение памяти и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аботы мозг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5580000" y="5734080"/>
            <a:ext cx="3241800" cy="790560"/>
          </a:xfrm>
          <a:prstGeom prst="flowChartTerminator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Легкий доступ к вирусны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 инфекционны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заболевания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3203640" y="3213000"/>
            <a:ext cx="1946160" cy="146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105" y="0"/>
                </a:moveTo>
                <a:lnTo>
                  <a:pt x="16105" y="7846"/>
                </a:lnTo>
                <a:lnTo>
                  <a:pt x="3375" y="7846"/>
                </a:lnTo>
                <a:lnTo>
                  <a:pt x="3375" y="13754"/>
                </a:lnTo>
                <a:lnTo>
                  <a:pt x="16105" y="13754"/>
                </a:lnTo>
                <a:lnTo>
                  <a:pt x="16105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7846"/>
                </a:moveTo>
                <a:lnTo>
                  <a:pt x="1350" y="13754"/>
                </a:lnTo>
                <a:lnTo>
                  <a:pt x="2700" y="13754"/>
                </a:lnTo>
                <a:lnTo>
                  <a:pt x="2700" y="7846"/>
                </a:lnTo>
                <a:close/>
              </a:path>
              <a:path w="21600" h="21600">
                <a:moveTo>
                  <a:pt x="0" y="7846"/>
                </a:moveTo>
                <a:lnTo>
                  <a:pt x="0" y="13754"/>
                </a:lnTo>
                <a:lnTo>
                  <a:pt x="675" y="13754"/>
                </a:lnTo>
                <a:lnTo>
                  <a:pt x="675" y="784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мы питаемся неправиль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доровое питание – условие хорошего настроен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00012812"/>
          <p:cNvPicPr/>
          <p:nvPr/>
        </p:nvPicPr>
        <p:blipFill>
          <a:blip r:embed="rId1"/>
          <a:stretch/>
        </p:blipFill>
        <p:spPr>
          <a:xfrm>
            <a:off x="755640" y="1557360"/>
            <a:ext cx="3479760" cy="410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a2f37f6a334b"/>
          <p:cNvPicPr/>
          <p:nvPr/>
        </p:nvPicPr>
        <p:blipFill>
          <a:blip r:embed="rId2"/>
          <a:stretch/>
        </p:blipFill>
        <p:spPr>
          <a:xfrm>
            <a:off x="5580000" y="1341360"/>
            <a:ext cx="3240000" cy="2614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cf3e343ee062"/>
          <p:cNvPicPr/>
          <p:nvPr/>
        </p:nvPicPr>
        <p:blipFill>
          <a:blip r:embed="rId3"/>
          <a:stretch/>
        </p:blipFill>
        <p:spPr>
          <a:xfrm>
            <a:off x="4356000" y="3068640"/>
            <a:ext cx="2078280" cy="181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2bc8c1a30619"/>
          <p:cNvPicPr/>
          <p:nvPr/>
        </p:nvPicPr>
        <p:blipFill>
          <a:blip r:embed="rId4"/>
          <a:stretch/>
        </p:blipFill>
        <p:spPr>
          <a:xfrm>
            <a:off x="5580000" y="4292640"/>
            <a:ext cx="33037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втрак в детском саду обязателе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00012835"/>
          <p:cNvPicPr/>
          <p:nvPr/>
        </p:nvPicPr>
        <p:blipFill>
          <a:blip r:embed="rId1"/>
          <a:stretch/>
        </p:blipFill>
        <p:spPr>
          <a:xfrm>
            <a:off x="684360" y="1341360"/>
            <a:ext cx="3744720" cy="4176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4360" y="3645000"/>
            <a:ext cx="4608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ее самочувствие Вашего реб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ечение дня обеспечи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время съеденный завтр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ажные факты о завтрак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7002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трак обеспечивает детей необходимой энерг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следования показали, что дети, которые регулярно и правильно завтракают, лучше воспринимают информацию, проявляют большую энергию и достигают лучших результато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Object 7" descr=""/>
          <p:cNvPicPr/>
          <p:nvPr/>
        </p:nvPicPr>
        <p:blipFill>
          <a:blip r:embed="rId1"/>
          <a:stretch/>
        </p:blipFill>
        <p:spPr>
          <a:xfrm>
            <a:off x="2916360" y="1292400"/>
            <a:ext cx="5770440" cy="4833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4284720" y="1773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сследования показываю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780000" y="5084640"/>
            <a:ext cx="5040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зультаты статистики по детям, которые игнорирую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ильное пита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сследования показыв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е признаки хронических заболеваний (ожирение, сердечно-сосудистые заболевания, онкология, нарушения пищеварения) начинают проявляться уже в ю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вещение в области питания оказывает существенное влияние на формирование полезных для здоровья привычек и ведет к уменьшению опасности возникновения болезней, связанных с пит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отливым родителям важно быть образованными в вопросах организации здорового питания дете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00012275"/>
          <p:cNvPicPr/>
          <p:nvPr/>
        </p:nvPicPr>
        <p:blipFill>
          <a:blip r:embed="rId1"/>
          <a:stretch/>
        </p:blipFill>
        <p:spPr>
          <a:xfrm>
            <a:off x="1332000" y="2016000"/>
            <a:ext cx="6624720" cy="4380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5:53:20Z</dcterms:created>
  <dc:creator>Bill Geic</dc:creator>
  <dc:description/>
  <dc:language>en-US</dc:language>
  <cp:lastModifiedBy>Николай</cp:lastModifiedBy>
  <dcterms:modified xsi:type="dcterms:W3CDTF">2022-04-18T19:15:27Z</dcterms:modified>
  <cp:revision>12</cp:revision>
  <dc:subject/>
  <dc:title>Здоровое питание и мой ребен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70F4DDCCF1EB488AB17C080A54C1FB4A</vt:lpwstr>
  </property>
  <property fmtid="{D5CDD505-2E9C-101B-9397-08002B2CF9AE}" pid="3" name="KSOProductBuildVer">
    <vt:lpwstr>1049-11.2.0.11074</vt:lpwstr>
  </property>
</Properties>
</file>