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C12-DCE9-4B94-82B1-8C05EE9E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41C-01B8-4A16-9CF8-2F0E137B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6FA-D846-4033-9690-2B9E8F07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E8F-E7E0-4394-8955-773AE78F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793-DFEB-4061-84C2-2DF07BD4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55C-9ED0-41A6-AA00-34A4F158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B0E-82A2-49B3-B9EF-B1AD5696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E8F-532A-487F-9A93-0252415A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FE8-F770-4C8A-911B-6A9931FC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992-CA4A-49DC-BF57-E41914F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3D9-A0C2-4166-857C-4EE4FB82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430-32F0-420C-905D-DBE05AE8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19F6-A35F-48A9-85D9-08E179F922C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AD5C-7954-44E6-8F20-BDBA5C903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доровое питание Вашего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0012573"/>
          <p:cNvPicPr/>
          <p:nvPr/>
        </p:nvPicPr>
        <p:blipFill>
          <a:blip r:embed="rId1"/>
          <a:stretch/>
        </p:blipFill>
        <p:spPr>
          <a:xfrm>
            <a:off x="2274840" y="1332000"/>
            <a:ext cx="4392720" cy="4618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езные со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 flipV="1" rot="10800000">
            <a:off x="324000" y="1251000"/>
            <a:ext cx="8496000" cy="31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пытайтесь наглядно продемонстрировать      ребенку преимущества здорового пит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Мальчиков можно «воодушевить» с помощью объяснения, что здоровые продукты – путь к физической силе, высокому росту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а девочек можно повлиять с помощью рассказов о красоте волос и кожи. Проиллюстрируйте им возможные последствия переедания сладкого или жирного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Изображение 13319" descr="1600_1200_20100116095035384293"/>
          <p:cNvPicPr/>
          <p:nvPr/>
        </p:nvPicPr>
        <p:blipFill>
          <a:blip r:embed="rId1"/>
          <a:srcRect l="5731" t="0" r="0" b="8258"/>
          <a:stretch/>
        </p:blipFill>
        <p:spPr>
          <a:xfrm>
            <a:off x="5148360" y="3933720"/>
            <a:ext cx="355104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блема здоровья – проблема пит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ое питание должно являться неотъемлемой частью повседневной жизни и способствовать крепкому физиологическому, психическому и социальному здоровью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j0240719"/>
          <p:cNvPicPr/>
          <p:nvPr/>
        </p:nvPicPr>
        <p:blipFill>
          <a:blip r:embed="rId1"/>
          <a:stretch/>
        </p:blipFill>
        <p:spPr>
          <a:xfrm>
            <a:off x="1332000" y="1628640"/>
            <a:ext cx="266040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чественное питание - что это такое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09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еспечивается путем потреблени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безопасны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ищевых продуктов в сбалансированной дие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результате  -  полностью удовлетворяются потребности организма ребенка в питательных вещест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0012799"/>
          <p:cNvPicPr/>
          <p:nvPr/>
        </p:nvPicPr>
        <p:blipFill>
          <a:blip r:embed="rId1"/>
          <a:stretch/>
        </p:blipFill>
        <p:spPr>
          <a:xfrm>
            <a:off x="468360" y="1413000"/>
            <a:ext cx="343836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250920" y="3500280"/>
            <a:ext cx="2484360" cy="93672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достаточ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итатель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щест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5580000" y="2060640"/>
            <a:ext cx="3241800" cy="790560"/>
          </a:xfrm>
          <a:prstGeom prst="flowChartTerminator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теря вниман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580000" y="3284640"/>
            <a:ext cx="3241800" cy="790560"/>
          </a:xfrm>
          <a:prstGeom prst="flowChartTerminator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лабость и переутомляем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5580000" y="4581360"/>
            <a:ext cx="3241800" cy="790920"/>
          </a:xfrm>
          <a:prstGeom prst="flowChartTerminator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худшение памяти 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боты моз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5580000" y="5734080"/>
            <a:ext cx="3241800" cy="790560"/>
          </a:xfrm>
          <a:prstGeom prst="flowChartTerminator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егкий доступ к вирус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 инфекцион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болевания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3203640" y="3213000"/>
            <a:ext cx="1946160" cy="146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105" y="0"/>
                </a:moveTo>
                <a:lnTo>
                  <a:pt x="16105" y="7846"/>
                </a:lnTo>
                <a:lnTo>
                  <a:pt x="3375" y="7846"/>
                </a:lnTo>
                <a:lnTo>
                  <a:pt x="3375" y="13754"/>
                </a:lnTo>
                <a:lnTo>
                  <a:pt x="16105" y="13754"/>
                </a:lnTo>
                <a:lnTo>
                  <a:pt x="16105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846"/>
                </a:moveTo>
                <a:lnTo>
                  <a:pt x="1350" y="13754"/>
                </a:lnTo>
                <a:lnTo>
                  <a:pt x="2700" y="13754"/>
                </a:lnTo>
                <a:lnTo>
                  <a:pt x="2700" y="7846"/>
                </a:lnTo>
                <a:close/>
              </a:path>
              <a:path w="21600" h="21600">
                <a:moveTo>
                  <a:pt x="0" y="7846"/>
                </a:moveTo>
                <a:lnTo>
                  <a:pt x="0" y="13754"/>
                </a:lnTo>
                <a:lnTo>
                  <a:pt x="675" y="13754"/>
                </a:lnTo>
                <a:lnTo>
                  <a:pt x="675" y="784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мы питаемся неправиль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оровое питание – условие хорошего настро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012812"/>
          <p:cNvPicPr/>
          <p:nvPr/>
        </p:nvPicPr>
        <p:blipFill>
          <a:blip r:embed="rId1"/>
          <a:stretch/>
        </p:blipFill>
        <p:spPr>
          <a:xfrm>
            <a:off x="755640" y="1557360"/>
            <a:ext cx="3479760" cy="410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a2f37f6a334b"/>
          <p:cNvPicPr/>
          <p:nvPr/>
        </p:nvPicPr>
        <p:blipFill>
          <a:blip r:embed="rId2"/>
          <a:stretch/>
        </p:blipFill>
        <p:spPr>
          <a:xfrm>
            <a:off x="5580000" y="1341360"/>
            <a:ext cx="3240000" cy="261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f3e343ee062"/>
          <p:cNvPicPr/>
          <p:nvPr/>
        </p:nvPicPr>
        <p:blipFill>
          <a:blip r:embed="rId3"/>
          <a:stretch/>
        </p:blipFill>
        <p:spPr>
          <a:xfrm>
            <a:off x="4356000" y="3068640"/>
            <a:ext cx="2078280" cy="181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2bc8c1a30619"/>
          <p:cNvPicPr/>
          <p:nvPr/>
        </p:nvPicPr>
        <p:blipFill>
          <a:blip r:embed="rId4"/>
          <a:stretch/>
        </p:blipFill>
        <p:spPr>
          <a:xfrm>
            <a:off x="5580000" y="4292640"/>
            <a:ext cx="33037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втрак в детском саду обязател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00012835"/>
          <p:cNvPicPr/>
          <p:nvPr/>
        </p:nvPicPr>
        <p:blipFill>
          <a:blip r:embed="rId1"/>
          <a:stretch/>
        </p:blipFill>
        <p:spPr>
          <a:xfrm>
            <a:off x="684360" y="1341360"/>
            <a:ext cx="3744720" cy="4176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4360" y="3645000"/>
            <a:ext cx="4608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ее самочувствие Вашего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чение дня обеспечи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время съеденный завтр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жные факты о завтрак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трак обеспечивает детей необходимой энерг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следования показали, что дети, которые регулярно и правильно завтракают, лучше воспринимают информацию, проявляют большую энергию и достигают лучших результат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ject 7" descr=""/>
          <p:cNvPicPr/>
          <p:nvPr/>
        </p:nvPicPr>
        <p:blipFill>
          <a:blip r:embed="rId1"/>
          <a:stretch/>
        </p:blipFill>
        <p:spPr>
          <a:xfrm>
            <a:off x="2916360" y="1292400"/>
            <a:ext cx="5770440" cy="4833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4284720" y="1773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сследования показываю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780000" y="5084640"/>
            <a:ext cx="50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зультаты статистики по детям, которые игнорирую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ьное пит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ния показ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ризнаки хронических заболеваний (ожирение, сердечно-сосудистые заболевания, онкология, нарушения пищеварения) начинают проявляться уже в ю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вещение в области питания оказывает существенное влияние на формирование полезных для здоровья привычек и ведет к уменьшению опасности возникновения болезней, связанных с пит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отливым родителям важно быть образованными в вопросах организации здорового питания дет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0012275"/>
          <p:cNvPicPr/>
          <p:nvPr/>
        </p:nvPicPr>
        <p:blipFill>
          <a:blip r:embed="rId1"/>
          <a:stretch/>
        </p:blipFill>
        <p:spPr>
          <a:xfrm>
            <a:off x="1332000" y="2016000"/>
            <a:ext cx="6624720" cy="4380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53:20Z</dcterms:created>
  <dc:creator>Bill Geic</dc:creator>
  <dc:description/>
  <dc:language>en-US</dc:language>
  <cp:lastModifiedBy>Николай</cp:lastModifiedBy>
  <dcterms:modified xsi:type="dcterms:W3CDTF">2022-04-18T19:15:27Z</dcterms:modified>
  <cp:revision>12</cp:revision>
  <dc:subject/>
  <dc:title>Здоровое питание и мой ребе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0F4DDCCF1EB488AB17C080A54C1FB4A</vt:lpwstr>
  </property>
  <property fmtid="{D5CDD505-2E9C-101B-9397-08002B2CF9AE}" pid="3" name="KSOProductBuildVer">
    <vt:lpwstr>1049-11.2.0.11074</vt:lpwstr>
  </property>
</Properties>
</file>