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0BA-DFE8-4F55-8AF8-5CFDB804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2A4-427B-4FBB-934B-D1BA14FA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664-D3B6-4F4B-BB51-4943F100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E45-CAEC-4025-8445-57BC54BC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678-56BB-46AF-9932-CE4C264D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683-EFB3-4955-96A6-06A2F608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CDF-8187-4686-8414-69343152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54C-C6A1-49DF-9F51-3C44E406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05B-65E2-4D27-9CDC-0A7B928C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C5C-5A7A-48CF-9AB1-79C53FE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400-15F2-402D-8F54-11EDC628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F62-069D-40A2-B40D-E960C67B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35A6-B48B-4546-9255-9275098E9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38080" y="380880"/>
            <a:ext cx="563904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Давайт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Познакомимся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Часть 1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19720" y="464832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14400" y="33526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уппа №3 «Светля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лександр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952880" y="34290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уппа №5 «Пчёл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ерешнева Любовь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27"/>
          <p:cNvGrpSpPr/>
          <p:nvPr/>
        </p:nvGrpSpPr>
        <p:grpSpPr>
          <a:xfrm>
            <a:off x="0" y="1066680"/>
            <a:ext cx="8838360" cy="4827960"/>
            <a:chOff x="0" y="1066680"/>
            <a:chExt cx="8838360" cy="4827960"/>
          </a:xfrm>
        </p:grpSpPr>
        <p:cxnSp>
          <p:nvCxnSpPr>
            <p:cNvPr id="66" name="_s25603"/>
            <p:cNvCxnSpPr>
              <a:stCxn id="67" idx="0"/>
              <a:endCxn id="68" idx="2"/>
            </p:cNvCxnSpPr>
            <p:nvPr/>
          </p:nvCxnSpPr>
          <p:spPr>
            <a:xfrm flipV="1" rot="16200000">
              <a:off x="5482800" y="1933200"/>
              <a:ext cx="966240" cy="309420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5604"/>
            <p:cNvCxnSpPr>
              <a:stCxn id="70" idx="0"/>
              <a:endCxn id="68" idx="2"/>
            </p:cNvCxnSpPr>
            <p:nvPr/>
          </p:nvCxnSpPr>
          <p:spPr>
            <a:xfrm flipV="1">
              <a:off x="4419000" y="2997360"/>
              <a:ext cx="3240" cy="96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5605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2388960" y="1933200"/>
              <a:ext cx="966240" cy="309420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25606"/>
            <p:cNvSpPr/>
            <p:nvPr/>
          </p:nvSpPr>
          <p:spPr>
            <a:xfrm>
              <a:off x="3093480" y="106668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Подгруп-в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заня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5607"/>
            <p:cNvSpPr/>
            <p:nvPr/>
          </p:nvSpPr>
          <p:spPr>
            <a:xfrm>
              <a:off x="0" y="39636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Формирование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лексико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грам-го строя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5608"/>
            <p:cNvSpPr/>
            <p:nvPr/>
          </p:nvSpPr>
          <p:spPr>
            <a:xfrm>
              <a:off x="3093480" y="39636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Формирова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связной 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5609"/>
            <p:cNvSpPr/>
            <p:nvPr/>
          </p:nvSpPr>
          <p:spPr>
            <a:xfrm>
              <a:off x="6186960" y="39636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Подготовк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 </a:t>
              </a: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к обучению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грамот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ндивидуальные занятия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с учителем-логопе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:\ЕЛЕНА (K)\фото работа\Фото Елена Борисовна\DSCN1545.JPG"/>
          <p:cNvPicPr/>
          <p:nvPr/>
        </p:nvPicPr>
        <p:blipFill>
          <a:blip r:embed="rId1"/>
          <a:stretch/>
        </p:blipFill>
        <p:spPr>
          <a:xfrm>
            <a:off x="228600" y="2514600"/>
            <a:ext cx="4062240" cy="288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P:\ЕЛЕНА (K)\фото работа\1647\DSC_0340.jpg"/>
          <p:cNvPicPr/>
          <p:nvPr/>
        </p:nvPicPr>
        <p:blipFill>
          <a:blip r:embed="rId2"/>
          <a:stretch/>
        </p:blipFill>
        <p:spPr>
          <a:xfrm>
            <a:off x="4640400" y="1562040"/>
            <a:ext cx="4267080" cy="27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:\ЕЛЕНА (K)\фото работа\Фото Елена Борисовна\DSCN1559.JPG"/>
          <p:cNvPicPr/>
          <p:nvPr/>
        </p:nvPicPr>
        <p:blipFill>
          <a:blip r:embed="rId3"/>
          <a:stretch/>
        </p:blipFill>
        <p:spPr>
          <a:xfrm>
            <a:off x="4640400" y="4290840"/>
            <a:ext cx="4267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190-1\Desktop\DSC06003.jpg"/>
          <p:cNvPicPr/>
          <p:nvPr/>
        </p:nvPicPr>
        <p:blipFill>
          <a:blip r:embed="rId2"/>
          <a:stretch/>
        </p:blipFill>
        <p:spPr>
          <a:xfrm>
            <a:off x="0" y="0"/>
            <a:ext cx="5457960" cy="363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190-1\Desktop\PHOTO-2019-03-22-10-03-52.jpg"/>
          <p:cNvPicPr/>
          <p:nvPr/>
        </p:nvPicPr>
        <p:blipFill>
          <a:blip r:embed="rId3"/>
          <a:stretch/>
        </p:blipFill>
        <p:spPr>
          <a:xfrm>
            <a:off x="4419720" y="335268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5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огопедическая работа с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914400"/>
            <a:ext cx="63244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психологическое базы ре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ение умению слушать и слышать обращённую реч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гащение словарного запаса и обобщающих понят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правильного грамматического строя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фонематических процес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артикуляционной мотор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очнение звуков раннего онтогене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одготовка коррекции звукопроиз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просодической стороны ре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мелкой мотор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связной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богащение и активизация слова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C:\Users\190-1\Desktop\s1200.png"/>
          <p:cNvPicPr/>
          <p:nvPr/>
        </p:nvPicPr>
        <p:blipFill>
          <a:blip r:embed="rId2"/>
          <a:stretch/>
        </p:blipFill>
        <p:spPr>
          <a:xfrm>
            <a:off x="228600" y="144936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190-1\Desktop\s1200 (1).png"/>
          <p:cNvPicPr/>
          <p:nvPr/>
        </p:nvPicPr>
        <p:blipFill>
          <a:blip r:embed="rId2"/>
          <a:stretch/>
        </p:blipFill>
        <p:spPr>
          <a:xfrm>
            <a:off x="52560" y="372960"/>
            <a:ext cx="893916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-360" y="228600"/>
            <a:ext cx="883908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деление «Четвертого лишне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190-1\Desktop\49751.jpeg"/>
          <p:cNvPicPr/>
          <p:nvPr/>
        </p:nvPicPr>
        <p:blipFill>
          <a:blip r:embed="rId2"/>
          <a:stretch/>
        </p:blipFill>
        <p:spPr>
          <a:xfrm>
            <a:off x="1981080" y="973080"/>
            <a:ext cx="47815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82480" y="1752480"/>
            <a:ext cx="8104320" cy="4929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136440" y="380880"/>
            <a:ext cx="901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пражнение «Подбери слово-предмет»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Послушай слова-признаки и назови тот предмет, к которому они относятся. 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бразец: спелый, сочный — ... (арбу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685800" y="2133720"/>
            <a:ext cx="6324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j-lt"/>
              </a:rPr>
              <a:t>Продолжение следу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j-lt"/>
              </a:rPr>
              <a:t>См. часть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j-lt"/>
              <a:ea typeface="+mj-lt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591920"/>
            <a:ext cx="6858000" cy="48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огопедия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–    это наука о нарушениях речи, их коррекции. 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«Логопедия» - от гречского «логос» (речь, слово), «пайдео» (воспитываю, обучаю) – «Воспитание реч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066680" y="762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Что такое логопед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 такое АООП дошкольного образования для детей с ТН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даптированная основная образовательная программа  дошкольного образования для детей с тяжёлыми нарушениями речи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эт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ограмма  для неговорящих и плохо говорящих детей. Учитель-логопед формирует правильную речь и исправляет  нарушения посредством специального обучения и воспитания на подгрупповых и индивидуальных занятий согласно этой программе. Работают так же другие специалисты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63136665_5f8350820dd8"/>
          <p:cNvPicPr/>
          <p:nvPr/>
        </p:nvPicPr>
        <p:blipFill>
          <a:blip r:embed="rId2"/>
          <a:stretch/>
        </p:blipFill>
        <p:spPr>
          <a:xfrm>
            <a:off x="0" y="1676520"/>
            <a:ext cx="5029200" cy="333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52680" y="1143000"/>
            <a:ext cx="5639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 такое общее недоразвитие речи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то расстройство всей языковой системы, при котором  наблюдается: бедный словарь, нарушение грамматического строя, фонематического восприятия, трудности формирования связной речи, нарушение  звукопроизно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52280"/>
            <a:ext cx="86104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ул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 2 мес. Лепет – с 4-6 мес.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ервые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лова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 7-8 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вухсловные предложения из лепетных с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 год 6 мес.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р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 1,5 до 2 лет. К 2 годам- не меньше 50 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 года 2 мес. - употребляет пред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 года 6 мес. - сложные 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190-1\Desktop\img28.jpg"/>
          <p:cNvPicPr/>
          <p:nvPr/>
        </p:nvPicPr>
        <p:blipFill>
          <a:blip r:embed="rId1"/>
          <a:stretch/>
        </p:blipFill>
        <p:spPr>
          <a:xfrm>
            <a:off x="0" y="1766880"/>
            <a:ext cx="9144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ичины позднего речевого стар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765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утробные пат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ледст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вые пат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я первых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лагоприя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бытовые усло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роки преодоления речевых недостат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висят: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 степени сложности деф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 возрастных и индивиду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ей ребенк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 регулярности пос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 участия родителей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ом процесс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 каким программам мы работа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ая АООП дошкольного образования детей с ТН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щева Н.В. Система коррекционной работы в логопедической группе для детей с общим недоразвитием речи. – СПб.: Детство-пресс, 2009. – 56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Б. Филичева, Г.В. Чиркина, Т. В. Туманова «Программы дошкольных образовательных учреждений компенсирующего вида для детей с нарушениями речи» М. изд. «Просвещение»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кова Н.С.,  Мастюкова Е.М «Преодоление общего недоразвития ре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.В. Новикова «Массаж артикуляционного аппара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.-сост. Е.В. Мазанова Комплексная коррекционная образовательная программа развития детей 4- 7 лет- Волгоград: изд Учитель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Organization Chart 5"/>
          <p:cNvGrpSpPr/>
          <p:nvPr/>
        </p:nvGrpSpPr>
        <p:grpSpPr>
          <a:xfrm>
            <a:off x="1023840" y="1219320"/>
            <a:ext cx="6247800" cy="4441680"/>
            <a:chOff x="1023840" y="1219320"/>
            <a:chExt cx="6247800" cy="4441680"/>
          </a:xfrm>
        </p:grpSpPr>
        <p:cxnSp>
          <p:nvCxnSpPr>
            <p:cNvPr id="60" name="_s24579"/>
            <p:cNvCxnSpPr>
              <a:stCxn id="61" idx="0"/>
              <a:endCxn id="62" idx="2"/>
            </p:cNvCxnSpPr>
            <p:nvPr/>
          </p:nvCxnSpPr>
          <p:spPr>
            <a:xfrm flipV="1" rot="16200000">
              <a:off x="4544280" y="2598480"/>
              <a:ext cx="888840" cy="1682280"/>
            </a:xfrm>
            <a:prstGeom prst="bentConnector3">
              <a:avLst>
                <a:gd name="adj1" fmla="val 128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24580"/>
            <p:cNvCxnSpPr>
              <a:stCxn id="64" idx="0"/>
              <a:endCxn id="62" idx="2"/>
            </p:cNvCxnSpPr>
            <p:nvPr/>
          </p:nvCxnSpPr>
          <p:spPr>
            <a:xfrm flipH="1" flipV="1" rot="5400000">
              <a:off x="2862360" y="2598120"/>
              <a:ext cx="888840" cy="1683000"/>
            </a:xfrm>
            <a:prstGeom prst="bentConnector3">
              <a:avLst>
                <a:gd name="adj1" fmla="val 128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" name="_s24581"/>
            <p:cNvSpPr/>
            <p:nvPr/>
          </p:nvSpPr>
          <p:spPr>
            <a:xfrm>
              <a:off x="2706120" y="1219320"/>
              <a:ext cx="2883600" cy="17766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Занятия с детьм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4582"/>
            <p:cNvSpPr/>
            <p:nvPr/>
          </p:nvSpPr>
          <p:spPr>
            <a:xfrm>
              <a:off x="1023840" y="3884400"/>
              <a:ext cx="2883600" cy="17766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Подгруппов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4583"/>
            <p:cNvSpPr/>
            <p:nvPr/>
          </p:nvSpPr>
          <p:spPr>
            <a:xfrm>
              <a:off x="4388040" y="3884400"/>
              <a:ext cx="2883600" cy="17766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Индивидуальн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26:53Z</dcterms:created>
  <dc:creator>GRAF</dc:creator>
  <dc:description/>
  <dc:language>en-US</dc:language>
  <cp:lastModifiedBy>Пользователь Microsoft Office</cp:lastModifiedBy>
  <cp:lastPrinted>2023-01-30T17:45:10Z</cp:lastPrinted>
  <dcterms:modified xsi:type="dcterms:W3CDTF">2023-01-30T17:55:40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