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BA8-38DF-4457-AF52-12E3E17D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9CA-EEB3-4956-AFC0-FDEF07CA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E24-71C5-4450-A72C-3DD0F426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479-DFBA-4447-A761-2558619B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BFD-9B31-4645-BD80-228EA2D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3AF-36B1-4AF6-8FDF-08D217DE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520-736D-47F8-8DD0-4764061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D62-3B1A-4FD4-9618-EC3B5D5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B1E-E71E-4D54-A94E-30CA8239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57D-F745-45D8-87B9-D40D55A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55C-2963-40B3-AA78-DC0B07D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AF4-7A50-406B-871B-2625D09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8FA-4D50-421D-AC71-9C4AEA46A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38080" y="380880"/>
            <a:ext cx="563904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Давайт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Познакомимся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Часть 2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19720" y="46483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14400" y="33526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3 «Светля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лександр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952880" y="34290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5 «Пчёл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решнева Любовь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P:\ЕЛЕНА (K)\Лена работа разобрать фигню\ликбез для родителей\Поможем рукам стать трудолюбивыми.jpeg"/>
          <p:cNvPicPr/>
          <p:nvPr/>
        </p:nvPicPr>
        <p:blipFill>
          <a:blip r:embed="rId1"/>
          <a:stretch/>
        </p:blipFill>
        <p:spPr>
          <a:xfrm>
            <a:off x="15840" y="2746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23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витие мелкой мо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190-1\Desktop\04-Activities-to-Improve-Fine-Motor-Skills-for-Toddlers-make-jewelry-514794530_13-Smile.jpg"/>
          <p:cNvPicPr/>
          <p:nvPr/>
        </p:nvPicPr>
        <p:blipFill>
          <a:blip r:embed="rId2"/>
          <a:stretch/>
        </p:blipFill>
        <p:spPr>
          <a:xfrm>
            <a:off x="800280" y="1295280"/>
            <a:ext cx="3660480" cy="243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190-1\Desktop\formirovaniie-u-starshikh-doshkol-nikov-s-obshchim_2.jpeg"/>
          <p:cNvPicPr/>
          <p:nvPr/>
        </p:nvPicPr>
        <p:blipFill>
          <a:blip r:embed="rId3"/>
          <a:stretch/>
        </p:blipFill>
        <p:spPr>
          <a:xfrm>
            <a:off x="5334120" y="138420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190-1\Desktop\6d30a.jpg"/>
          <p:cNvPicPr/>
          <p:nvPr/>
        </p:nvPicPr>
        <p:blipFill>
          <a:blip r:embed="rId4"/>
          <a:stretch/>
        </p:blipFill>
        <p:spPr>
          <a:xfrm>
            <a:off x="581040" y="4114800"/>
            <a:ext cx="387972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190-1\Desktop\20170324_163832-1024x576.jpg"/>
          <p:cNvPicPr/>
          <p:nvPr/>
        </p:nvPicPr>
        <p:blipFill>
          <a:blip r:embed="rId5"/>
          <a:stretch/>
        </p:blipFill>
        <p:spPr>
          <a:xfrm>
            <a:off x="4967280" y="4299120"/>
            <a:ext cx="41432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Users\190-1\Desktop\kisspng-download-cartoon-holding-a-pencil-cartoon-5a9a62320e8060.5941926015200671220594.jpg"/>
          <p:cNvPicPr/>
          <p:nvPr/>
        </p:nvPicPr>
        <p:blipFill>
          <a:blip r:embed="rId2"/>
          <a:stretch/>
        </p:blipFill>
        <p:spPr>
          <a:xfrm>
            <a:off x="4876920" y="2362320"/>
            <a:ext cx="392436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Развитие мелкой мо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вильный захват каран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190-1\Desktop\depositphotos_26420147-stock-photo-kids-hand-holding-a-pencil.jpg"/>
          <p:cNvPicPr/>
          <p:nvPr/>
        </p:nvPicPr>
        <p:blipFill>
          <a:blip r:embed="rId3"/>
          <a:stretch/>
        </p:blipFill>
        <p:spPr>
          <a:xfrm>
            <a:off x="504720" y="2362320"/>
            <a:ext cx="41115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5"/>
          <p:cNvSpPr/>
          <p:nvPr/>
        </p:nvSpPr>
        <p:spPr>
          <a:xfrm>
            <a:off x="5028480" y="1828800"/>
            <a:ext cx="3429000" cy="4191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 flipH="1">
            <a:off x="5486400" y="1447920"/>
            <a:ext cx="1295280" cy="4876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оль родителей  в коррекционном проце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190-1\Desktop\IMG_20190925_151636 (1).jpg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04920" y="152280"/>
            <a:ext cx="845820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Чтобы  занятия дома были успешными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еткое время занятий, т.к. всегда находится «1000 неотложных дел». На исправление упущенного в коррекции речи и воспитании детей потом уходит во много раз больше времени и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15-20 минут - для детей средней груп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дварительно изучить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 делать это при ребенке). Распредел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ую часть задания выполните в 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 (по дороге, на кухне, в транспор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), а над чем необходимо «посиде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зеркалом, за столом в установл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. Предвидя отказ, использ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вопросы, ти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то будем сначала делать - повторим с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оставим рассказ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28600" y="228600"/>
            <a:ext cx="6477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 Речь взрослых должна быть чёткой и яс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Занятия проводить в виде игры или в процессе игры. Стараться не использовать прямые инструкции «Скажи!», «Повтори!»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 Говорить мягко и не авторита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ожно попробовать выполнить задание «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анию» со сверстником, братом, се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дкреплять достижения ребенка похва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достными восклицаниями. Подчеркивай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ам нравится заниматься с ним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. Родителям - иметь терпение, выдерж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ние помочь своему ребенку добиться успе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правильно организова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взаимодействия логопед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ями, позволит им стать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отными, осознанно и дей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овать в процессе коррекции речи детей и их воспит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 мире мудрых мыс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аивая родной язык, ребёнок усваивает не одни тольк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, но бесконечное множество понятий, воззрений на предмет и множество мыслей, чувств, художественных образов, логику и философию языка —  и усваивает легко и скор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аков этот  народный педагог — род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.Д. 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1066680" y="1981080"/>
            <a:ext cx="57913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82480" y="17524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36440" y="380880"/>
            <a:ext cx="901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пражнение «Подбери слово-предмет»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бразец: спелый, сочный — ... (арбу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гласование существительного с числительны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:\Users\190-1\Desktop\552f9acdce506d1ca9b3a42c4247f3f6.jpg"/>
          <p:cNvPicPr/>
          <p:nvPr/>
        </p:nvPicPr>
        <p:blipFill>
          <a:blip r:embed="rId1"/>
          <a:stretch/>
        </p:blipFill>
        <p:spPr>
          <a:xfrm>
            <a:off x="388800" y="3552840"/>
            <a:ext cx="2125800" cy="212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77239"/>
          <p:cNvPicPr/>
          <p:nvPr/>
        </p:nvPicPr>
        <p:blipFill>
          <a:blip r:embed="rId2"/>
          <a:stretch/>
        </p:blipFill>
        <p:spPr>
          <a:xfrm>
            <a:off x="336600" y="136836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:\Users\190-1\Desktop\450f5146e699307725bfbabbf740e704.jpg"/>
          <p:cNvPicPr/>
          <p:nvPr/>
        </p:nvPicPr>
        <p:blipFill>
          <a:blip r:embed="rId3"/>
          <a:stretch/>
        </p:blipFill>
        <p:spPr>
          <a:xfrm>
            <a:off x="3352680" y="1509840"/>
            <a:ext cx="2200320" cy="220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:\Users\190-1\Desktop\1016778667.jpg"/>
          <p:cNvPicPr/>
          <p:nvPr/>
        </p:nvPicPr>
        <p:blipFill>
          <a:blip r:embed="rId4"/>
          <a:stretch/>
        </p:blipFill>
        <p:spPr>
          <a:xfrm>
            <a:off x="3489480" y="3789360"/>
            <a:ext cx="236196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Users\190-1\Desktop\554030M_2.jpg"/>
          <p:cNvPicPr/>
          <p:nvPr/>
        </p:nvPicPr>
        <p:blipFill>
          <a:blip r:embed="rId5"/>
          <a:stretch/>
        </p:blipFill>
        <p:spPr>
          <a:xfrm>
            <a:off x="2370240" y="5537160"/>
            <a:ext cx="230004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252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гласование существительного с прилагате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90-1\Desktop\7617.50_1_1000x1000.jpg"/>
          <p:cNvPicPr/>
          <p:nvPr/>
        </p:nvPicPr>
        <p:blipFill>
          <a:blip r:embed="rId2"/>
          <a:stretch/>
        </p:blipFill>
        <p:spPr>
          <a:xfrm>
            <a:off x="2666880" y="28954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190-1\Desktop\01.jpg231098e4-df6d-4f98-910a-73384c87e70cOriginal.jpg"/>
          <p:cNvPicPr/>
          <p:nvPr/>
        </p:nvPicPr>
        <p:blipFill>
          <a:blip r:embed="rId3"/>
          <a:stretch/>
        </p:blipFill>
        <p:spPr>
          <a:xfrm>
            <a:off x="457200" y="2895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190-1\Desktop\142310-1.jpg"/>
          <p:cNvPicPr/>
          <p:nvPr/>
        </p:nvPicPr>
        <p:blipFill>
          <a:blip r:embed="rId4"/>
          <a:stretch/>
        </p:blipFill>
        <p:spPr>
          <a:xfrm>
            <a:off x="48769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190-1\Desktop\DdU8acGUwAAnpnL.jpg"/>
          <p:cNvPicPr/>
          <p:nvPr/>
        </p:nvPicPr>
        <p:blipFill>
          <a:blip r:embed="rId5"/>
          <a:stretch/>
        </p:blipFill>
        <p:spPr>
          <a:xfrm>
            <a:off x="7086600" y="2209680"/>
            <a:ext cx="1600200" cy="3675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авильное использование предлог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190-1\Desktop\831b92344915f6d83452e5a750a38a4e.jpg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оставление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rech169 - копия"/>
          <p:cNvPicPr/>
          <p:nvPr/>
        </p:nvPicPr>
        <p:blipFill>
          <a:blip r:embed="rId1"/>
          <a:stretch/>
        </p:blipFill>
        <p:spPr>
          <a:xfrm>
            <a:off x="800280" y="1982880"/>
            <a:ext cx="2819160" cy="190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rech169"/>
          <p:cNvPicPr/>
          <p:nvPr/>
        </p:nvPicPr>
        <p:blipFill>
          <a:blip r:embed="rId2"/>
          <a:stretch/>
        </p:blipFill>
        <p:spPr>
          <a:xfrm>
            <a:off x="685800" y="4052880"/>
            <a:ext cx="304812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rech169 - копия (3)"/>
          <p:cNvPicPr/>
          <p:nvPr/>
        </p:nvPicPr>
        <p:blipFill>
          <a:blip r:embed="rId3"/>
          <a:stretch/>
        </p:blipFill>
        <p:spPr>
          <a:xfrm>
            <a:off x="5410080" y="1828800"/>
            <a:ext cx="3295800" cy="2208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rech169 - копия (3)"/>
          <p:cNvPicPr/>
          <p:nvPr/>
        </p:nvPicPr>
        <p:blipFill>
          <a:blip r:embed="rId4"/>
          <a:stretch/>
        </p:blipFill>
        <p:spPr>
          <a:xfrm>
            <a:off x="5373720" y="4052880"/>
            <a:ext cx="3313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938 0.0081 L 0.45938 0.0081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2 L 0.01667 0.35116 E">
                                      <p:cBhvr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2 L 0.01667 0.35116 E">
                                      <p:cBhvr>
                                        <p:cTn id="2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Формирование речев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469042_html_17ce6bb9"/>
          <p:cNvPicPr/>
          <p:nvPr/>
        </p:nvPicPr>
        <p:blipFill>
          <a:blip r:embed="rId1"/>
          <a:stretch/>
        </p:blipFill>
        <p:spPr>
          <a:xfrm>
            <a:off x="1523880" y="2438280"/>
            <a:ext cx="2705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25287-2010-12-23-1289812457_9-copy"/>
          <p:cNvPicPr/>
          <p:nvPr/>
        </p:nvPicPr>
        <p:blipFill>
          <a:blip r:embed="rId1"/>
          <a:stretch/>
        </p:blipFill>
        <p:spPr>
          <a:xfrm>
            <a:off x="5630760" y="1600200"/>
            <a:ext cx="3056040" cy="430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pbs.twimg.com/media/DbyHYyqWsAAeVJe.jpg:large"/>
          <p:cNvPicPr/>
          <p:nvPr/>
        </p:nvPicPr>
        <p:blipFill>
          <a:blip r:embed="rId2"/>
          <a:stretch/>
        </p:blipFill>
        <p:spPr>
          <a:xfrm>
            <a:off x="1066680" y="2322360"/>
            <a:ext cx="29718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втоматизация  звуков раннего он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, У, О, Ы, И, 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, Н, К, Т,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Пользователь Microsoft Office</cp:lastModifiedBy>
  <dcterms:modified xsi:type="dcterms:W3CDTF">2023-01-30T17:25:0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