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E25-1AEE-44ED-A023-7D9A59B0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F47-E714-44CA-8D9D-212A35DE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2C3-E815-4FB3-BD27-C76A1BF3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19F-9FE1-4CDA-9D30-5DC602A5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E69-A1F3-46BC-B524-E53BF973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CE3-E0B7-4647-9DCA-5DD0531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49C-31D7-4094-9F1A-6FBFFE33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D5B-8F37-434B-B3AD-898AC19C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2ED-4B40-456B-9151-B5DA1B38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381-EC0C-4951-B36C-18DF4D81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1CD-C0FA-40B2-887D-92E78A2B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0F1-EA00-42C0-A84D-0A390C8F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E7B3-193F-4786-A220-4B38AD59C9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38080" y="380880"/>
            <a:ext cx="5639040" cy="27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Давайт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Познакомимся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j-lt"/>
              </a:rPr>
              <a:t>Часть 2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j-lt"/>
              <a:ea typeface="+mj-l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419720" y="464832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14400" y="33526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уппа №3 «Светляч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Александрова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952880" y="34290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уппа №5 «Пчёл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Черешнева Любовь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P:\ЕЛЕНА (K)\Лена работа разобрать фигню\ликбез для родителей\Поможем рукам стать трудолюбивыми.jpeg"/>
          <p:cNvPicPr/>
          <p:nvPr/>
        </p:nvPicPr>
        <p:blipFill>
          <a:blip r:embed="rId1"/>
          <a:stretch/>
        </p:blipFill>
        <p:spPr>
          <a:xfrm>
            <a:off x="15840" y="27468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23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звитие мелкой мото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190-1\Desktop\04-Activities-to-Improve-Fine-Motor-Skills-for-Toddlers-make-jewelry-514794530_13-Smile.jpg"/>
          <p:cNvPicPr/>
          <p:nvPr/>
        </p:nvPicPr>
        <p:blipFill>
          <a:blip r:embed="rId2"/>
          <a:stretch/>
        </p:blipFill>
        <p:spPr>
          <a:xfrm>
            <a:off x="800280" y="1295280"/>
            <a:ext cx="3660480" cy="243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190-1\Desktop\formirovaniie-u-starshikh-doshkol-nikov-s-obshchim_2.jpeg"/>
          <p:cNvPicPr/>
          <p:nvPr/>
        </p:nvPicPr>
        <p:blipFill>
          <a:blip r:embed="rId3"/>
          <a:stretch/>
        </p:blipFill>
        <p:spPr>
          <a:xfrm>
            <a:off x="5334120" y="138420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190-1\Desktop\6d30a.jpg"/>
          <p:cNvPicPr/>
          <p:nvPr/>
        </p:nvPicPr>
        <p:blipFill>
          <a:blip r:embed="rId4"/>
          <a:stretch/>
        </p:blipFill>
        <p:spPr>
          <a:xfrm>
            <a:off x="581040" y="4114800"/>
            <a:ext cx="387972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Users\190-1\Desktop\20170324_163832-1024x576.jpg"/>
          <p:cNvPicPr/>
          <p:nvPr/>
        </p:nvPicPr>
        <p:blipFill>
          <a:blip r:embed="rId5"/>
          <a:stretch/>
        </p:blipFill>
        <p:spPr>
          <a:xfrm>
            <a:off x="4967280" y="4299120"/>
            <a:ext cx="41432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C:\Users\190-1\Desktop\kisspng-download-cartoon-holding-a-pencil-cartoon-5a9a62320e8060.5941926015200671220594.jpg"/>
          <p:cNvPicPr/>
          <p:nvPr/>
        </p:nvPicPr>
        <p:blipFill>
          <a:blip r:embed="rId2"/>
          <a:stretch/>
        </p:blipFill>
        <p:spPr>
          <a:xfrm>
            <a:off x="4876920" y="2362320"/>
            <a:ext cx="392436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Развитие мелкой мото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авильный захват каранд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190-1\Desktop\depositphotos_26420147-stock-photo-kids-hand-holding-a-pencil.jpg"/>
          <p:cNvPicPr/>
          <p:nvPr/>
        </p:nvPicPr>
        <p:blipFill>
          <a:blip r:embed="rId3"/>
          <a:stretch/>
        </p:blipFill>
        <p:spPr>
          <a:xfrm>
            <a:off x="504720" y="2362320"/>
            <a:ext cx="4111560" cy="2971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5"/>
          <p:cNvSpPr/>
          <p:nvPr/>
        </p:nvSpPr>
        <p:spPr>
          <a:xfrm>
            <a:off x="5028480" y="1828800"/>
            <a:ext cx="3429000" cy="4191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 flipH="1">
            <a:off x="5486400" y="1447920"/>
            <a:ext cx="1295280" cy="4876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оль родителей  в коррекционном проце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Users\190-1\Desktop\IMG_20190925_151636 (1).jpg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04920" y="152280"/>
            <a:ext cx="8458200" cy="72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Чтобы  занятия дома были успешными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ределить четкое время занятий, т.к. всегда находится «1000 неотложных дел». На исправление упущенного в коррекции речи и воспитании детей потом уходит во много раз больше времени и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15-20 минут - для детей средней груп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едварительно изучить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е делать это при ребенке). Распредели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ую часть задания выполните в игр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е (по дороге, на кухне, в транспор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), а над чем необходимо «посиде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зеркалом, за столом в установл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. Предвидя отказ, использ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тернативные вопросы, ти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Что будем сначала делать - повторим ст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составим рассказ?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28600" y="228600"/>
            <a:ext cx="6477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4. Речь взрослых должна быть чёткой и яс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Занятия проводить в виде игры или в процессе игры. Стараться не использовать прямые инструкции «Скажи!», «Повтори!»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. Говорить мягко и не авторита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ожно попробовать выполнить задание «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анию» со сверстником, братом, се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дкреплять достижения ребенка похва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достными восклицаниями. Подчеркивай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ам нравится заниматься с ним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9. Родителям - иметь терпение, выдерж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ние помочь своему ребенку добиться успе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правильно организова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взаимодействия логопед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ями, позволит им стать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отными, осознанно и дей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овать в процессе коррекции речи детей и их воспит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В мире мудрых мыс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аивая родной язык, ребёнок усваивает не одни тольк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, но бесконечное множество понятий, воззрений на предмет и множество мыслей, чувств, художественных образов, логику и философию языка —  и усваивает легко и скор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аков этот  народный педагог — род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.Д. 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1066680" y="1981080"/>
            <a:ext cx="57913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j-lt"/>
              </a:rPr>
              <a:t>Спасибо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+mj-lt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+mj-lt"/>
              <a:ea typeface="+mj-lt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82480" y="1752480"/>
            <a:ext cx="8104320" cy="4929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36440" y="380880"/>
            <a:ext cx="901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пражнение «Подбери слово-предмет»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Послушай слова-признаки и назови тот предмет, к которому они относятся. 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бразец: спелый, сочный — ... (арбу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огласование существительного с числительны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:\Users\190-1\Desktop\552f9acdce506d1ca9b3a42c4247f3f6.jpg"/>
          <p:cNvPicPr/>
          <p:nvPr/>
        </p:nvPicPr>
        <p:blipFill>
          <a:blip r:embed="rId1"/>
          <a:stretch/>
        </p:blipFill>
        <p:spPr>
          <a:xfrm>
            <a:off x="388800" y="3552840"/>
            <a:ext cx="2125800" cy="212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77239"/>
          <p:cNvPicPr/>
          <p:nvPr/>
        </p:nvPicPr>
        <p:blipFill>
          <a:blip r:embed="rId2"/>
          <a:stretch/>
        </p:blipFill>
        <p:spPr>
          <a:xfrm>
            <a:off x="336600" y="1368360"/>
            <a:ext cx="2552760" cy="190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C:\Users\190-1\Desktop\450f5146e699307725bfbabbf740e704.jpg"/>
          <p:cNvPicPr/>
          <p:nvPr/>
        </p:nvPicPr>
        <p:blipFill>
          <a:blip r:embed="rId3"/>
          <a:stretch/>
        </p:blipFill>
        <p:spPr>
          <a:xfrm>
            <a:off x="3352680" y="1509840"/>
            <a:ext cx="2200320" cy="220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:\Users\190-1\Desktop\1016778667.jpg"/>
          <p:cNvPicPr/>
          <p:nvPr/>
        </p:nvPicPr>
        <p:blipFill>
          <a:blip r:embed="rId4"/>
          <a:stretch/>
        </p:blipFill>
        <p:spPr>
          <a:xfrm>
            <a:off x="3489480" y="3789360"/>
            <a:ext cx="2361960" cy="144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:\Users\190-1\Desktop\554030M_2.jpg"/>
          <p:cNvPicPr/>
          <p:nvPr/>
        </p:nvPicPr>
        <p:blipFill>
          <a:blip r:embed="rId5"/>
          <a:stretch/>
        </p:blipFill>
        <p:spPr>
          <a:xfrm>
            <a:off x="2370240" y="5537160"/>
            <a:ext cx="230004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280" y="252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огласование существительного с прилагатель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190-1\Desktop\7617.50_1_1000x1000.jpg"/>
          <p:cNvPicPr/>
          <p:nvPr/>
        </p:nvPicPr>
        <p:blipFill>
          <a:blip r:embed="rId2"/>
          <a:stretch/>
        </p:blipFill>
        <p:spPr>
          <a:xfrm>
            <a:off x="2666880" y="28954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190-1\Desktop\01.jpg231098e4-df6d-4f98-910a-73384c87e70cOriginal.jpg"/>
          <p:cNvPicPr/>
          <p:nvPr/>
        </p:nvPicPr>
        <p:blipFill>
          <a:blip r:embed="rId3"/>
          <a:stretch/>
        </p:blipFill>
        <p:spPr>
          <a:xfrm>
            <a:off x="457200" y="28954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190-1\Desktop\142310-1.jpg"/>
          <p:cNvPicPr/>
          <p:nvPr/>
        </p:nvPicPr>
        <p:blipFill>
          <a:blip r:embed="rId4"/>
          <a:stretch/>
        </p:blipFill>
        <p:spPr>
          <a:xfrm>
            <a:off x="4876920" y="29718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190-1\Desktop\DdU8acGUwAAnpnL.jpg"/>
          <p:cNvPicPr/>
          <p:nvPr/>
        </p:nvPicPr>
        <p:blipFill>
          <a:blip r:embed="rId5"/>
          <a:stretch/>
        </p:blipFill>
        <p:spPr>
          <a:xfrm>
            <a:off x="7086600" y="2209680"/>
            <a:ext cx="1600200" cy="3675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авильное использование предлог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190-1\Desktop\831b92344915f6d83452e5a750a38a4e.jpg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Составление расс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rech169 - копия"/>
          <p:cNvPicPr/>
          <p:nvPr/>
        </p:nvPicPr>
        <p:blipFill>
          <a:blip r:embed="rId1"/>
          <a:stretch/>
        </p:blipFill>
        <p:spPr>
          <a:xfrm>
            <a:off x="800280" y="1982880"/>
            <a:ext cx="2819160" cy="1903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rech169"/>
          <p:cNvPicPr/>
          <p:nvPr/>
        </p:nvPicPr>
        <p:blipFill>
          <a:blip r:embed="rId2"/>
          <a:stretch/>
        </p:blipFill>
        <p:spPr>
          <a:xfrm>
            <a:off x="685800" y="4052880"/>
            <a:ext cx="3048120" cy="2201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rech169 - копия (3)"/>
          <p:cNvPicPr/>
          <p:nvPr/>
        </p:nvPicPr>
        <p:blipFill>
          <a:blip r:embed="rId3"/>
          <a:stretch/>
        </p:blipFill>
        <p:spPr>
          <a:xfrm>
            <a:off x="5410080" y="1828800"/>
            <a:ext cx="3295800" cy="2208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rech169 - копия (3)"/>
          <p:cNvPicPr/>
          <p:nvPr/>
        </p:nvPicPr>
        <p:blipFill>
          <a:blip r:embed="rId4"/>
          <a:stretch/>
        </p:blipFill>
        <p:spPr>
          <a:xfrm>
            <a:off x="5373720" y="4052880"/>
            <a:ext cx="3313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938 0.0081 L 0.45938 0.0081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782 L 0.01667 0.35116 E">
                                      <p:cBhvr>
                                        <p:cTn id="1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782 L 0.01667 0.35116 E">
                                      <p:cBhvr>
                                        <p:cTn id="2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Формирование речевого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469042_html_17ce6bb9"/>
          <p:cNvPicPr/>
          <p:nvPr/>
        </p:nvPicPr>
        <p:blipFill>
          <a:blip r:embed="rId1"/>
          <a:stretch/>
        </p:blipFill>
        <p:spPr>
          <a:xfrm>
            <a:off x="1523880" y="2438280"/>
            <a:ext cx="2705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Артикуляционная 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25287-2010-12-23-1289812457_9-copy"/>
          <p:cNvPicPr/>
          <p:nvPr/>
        </p:nvPicPr>
        <p:blipFill>
          <a:blip r:embed="rId1"/>
          <a:stretch/>
        </p:blipFill>
        <p:spPr>
          <a:xfrm>
            <a:off x="5630760" y="1600200"/>
            <a:ext cx="3056040" cy="430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s://pbs.twimg.com/media/DbyHYyqWsAAeVJe.jpg:large"/>
          <p:cNvPicPr/>
          <p:nvPr/>
        </p:nvPicPr>
        <p:blipFill>
          <a:blip r:embed="rId2"/>
          <a:stretch/>
        </p:blipFill>
        <p:spPr>
          <a:xfrm>
            <a:off x="1066680" y="2322360"/>
            <a:ext cx="29718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Автоматизация  звуков раннего он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, У, О, Ы, И, 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, Н, К, Т, 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6:26:53Z</dcterms:created>
  <dc:creator>GRAF</dc:creator>
  <dc:description/>
  <dc:language>en-US</dc:language>
  <cp:lastModifiedBy>Пользователь Microsoft Office</cp:lastModifiedBy>
  <dcterms:modified xsi:type="dcterms:W3CDTF">2023-01-30T17:25:05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