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D4A-ACB4-4629-8B84-0C6405F8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CF7-EF3D-42D8-9278-76400794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99C-C27C-42B6-93F9-72F2953B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92A-62FC-406F-8074-EA3A66AE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E65-ED5B-4AE6-BFC6-8AECEC6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318-0ADD-4953-82BE-B4F2809A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EED-2645-4196-B794-8276A6D9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85F-9BA3-46DE-9697-F561E134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FC2-BCE1-4DA0-B306-9097DE17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9AD-57B7-41C6-A8D4-C62B38E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183-7032-4136-8B65-96F43773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6C8-4AC0-494B-866C-9741E3A3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AE83-D468-4873-8508-E6D70F320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6.wmf"/><Relationship Id="rId17" Type="http://schemas.openxmlformats.org/officeDocument/2006/relationships/image" Target="../media/image16.wmf"/><Relationship Id="rId18" Type="http://schemas.openxmlformats.org/officeDocument/2006/relationships/image" Target="../media/image16.wmf"/><Relationship Id="rId19" Type="http://schemas.openxmlformats.org/officeDocument/2006/relationships/image" Target="../media/image16.wmf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21.png"/><Relationship Id="rId39" Type="http://schemas.openxmlformats.org/officeDocument/2006/relationships/image" Target="../media/image21.png"/><Relationship Id="rId40" Type="http://schemas.openxmlformats.org/officeDocument/2006/relationships/image" Target="../media/image21.png"/><Relationship Id="rId41" Type="http://schemas.openxmlformats.org/officeDocument/2006/relationships/image" Target="../media/image21.png"/><Relationship Id="rId42" Type="http://schemas.openxmlformats.org/officeDocument/2006/relationships/image" Target="../media/image20.png"/><Relationship Id="rId43" Type="http://schemas.openxmlformats.org/officeDocument/2006/relationships/image" Target="../media/image20.png"/><Relationship Id="rId44" Type="http://schemas.openxmlformats.org/officeDocument/2006/relationships/image" Target="../media/image20.png"/><Relationship Id="rId45" Type="http://schemas.openxmlformats.org/officeDocument/2006/relationships/image" Target="../media/image20.png"/><Relationship Id="rId46" Type="http://schemas.openxmlformats.org/officeDocument/2006/relationships/image" Target="../media/image20.png"/><Relationship Id="rId47" Type="http://schemas.openxmlformats.org/officeDocument/2006/relationships/image" Target="../media/image20.png"/><Relationship Id="rId48" Type="http://schemas.openxmlformats.org/officeDocument/2006/relationships/image" Target="../media/image23.jpeg"/><Relationship Id="rId49" Type="http://schemas.openxmlformats.org/officeDocument/2006/relationships/image" Target="../media/image23.jpeg"/><Relationship Id="rId50" Type="http://schemas.openxmlformats.org/officeDocument/2006/relationships/image" Target="../media/image23.jpeg"/><Relationship Id="rId51" Type="http://schemas.openxmlformats.org/officeDocument/2006/relationships/image" Target="../media/image23.jpeg"/><Relationship Id="rId52" Type="http://schemas.openxmlformats.org/officeDocument/2006/relationships/image" Target="../media/image23.jpeg"/><Relationship Id="rId53" Type="http://schemas.openxmlformats.org/officeDocument/2006/relationships/image" Target="../media/image23.jpeg"/><Relationship Id="rId5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457200" y="4952880"/>
            <a:ext cx="2057400" cy="1676520"/>
            <a:chOff x="457200" y="4952880"/>
            <a:chExt cx="2057400" cy="1676520"/>
          </a:xfrm>
        </p:grpSpPr>
        <p:pic>
          <p:nvPicPr>
            <p:cNvPr id="44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6"/>
            <p:cNvSpPr/>
            <p:nvPr/>
          </p:nvSpPr>
          <p:spPr>
            <a:xfrm>
              <a:off x="609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47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5029200" y="4952880"/>
            <a:ext cx="2057400" cy="1676520"/>
            <a:chOff x="5029200" y="4952880"/>
            <a:chExt cx="2057400" cy="1676520"/>
          </a:xfrm>
        </p:grpSpPr>
        <p:pic>
          <p:nvPicPr>
            <p:cNvPr id="51" name="Picture 12" descr=""/>
            <p:cNvPicPr/>
            <p:nvPr/>
          </p:nvPicPr>
          <p:blipFill>
            <a:blip r:embed="rId5"/>
            <a:stretch/>
          </p:blipFill>
          <p:spPr>
            <a:xfrm>
              <a:off x="5029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3"/>
            <p:cNvSpPr/>
            <p:nvPr/>
          </p:nvSpPr>
          <p:spPr>
            <a:xfrm>
              <a:off x="5181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j0211162.wav" descr=""/>
          <p:cNvPicPr/>
          <p:nvPr/>
        </p:nvPicPr>
        <p:blipFill>
          <a:blip r:embed="rId6"/>
          <a:stretch/>
        </p:blipFill>
        <p:spPr>
          <a:xfrm>
            <a:off x="6858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-0.32917 -0.56666 E">
                                      <p:cBhvr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pic1a"/>
          <p:cNvPicPr/>
          <p:nvPr/>
        </p:nvPicPr>
        <p:blipFill>
          <a:blip r:embed="rId1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pic2a"/>
          <p:cNvPicPr/>
          <p:nvPr/>
        </p:nvPicPr>
        <p:blipFill>
          <a:blip r:embed="rId2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22"/>
          <p:cNvSpPr/>
          <p:nvPr/>
        </p:nvSpPr>
        <p:spPr>
          <a:xfrm>
            <a:off x="1447920" y="228600"/>
            <a:ext cx="5029200" cy="990720"/>
          </a:xfrm>
          <a:prstGeom prst="cloudCallout">
            <a:avLst>
              <a:gd name="adj1" fmla="val -51736"/>
              <a:gd name="adj2" fmla="val 37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и 13 шариков разделить на 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5500800" y="642960"/>
            <a:ext cx="1904760" cy="838080"/>
          </a:xfrm>
          <a:prstGeom prst="cloudCallout">
            <a:avLst>
              <a:gd name="adj1" fmla="val 81583"/>
              <a:gd name="adj2" fmla="val 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думаю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00040" y="5214960"/>
            <a:ext cx="822960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2428920" y="371484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4572000" y="371484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>
            <a:off x="6643800" y="371484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428760" y="25002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1143000" y="185724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1785960" y="257184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2500200" y="185724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7"/>
          <p:cNvSpPr/>
          <p:nvPr/>
        </p:nvSpPr>
        <p:spPr>
          <a:xfrm>
            <a:off x="3214800" y="257184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3857760" y="185724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4643280" y="264312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5286240" y="192888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5857920" y="264312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6572160" y="192888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0"/>
          <p:cNvSpPr/>
          <p:nvPr/>
        </p:nvSpPr>
        <p:spPr>
          <a:xfrm>
            <a:off x="7143840" y="264312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8143920" y="264312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7643880" y="178596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1219320" y="5257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3 (ост.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00573 0.2794 E">
                                      <p:cBhvr>
                                        <p:cTn id="388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01736 0.37315 E">
                                      <p:cBhvr>
                                        <p:cTn id="39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L -0.02466 0.26898 E">
                                      <p:cBhvr>
                                        <p:cTn id="39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0.00035 0.3625 E">
                                      <p:cBhvr>
                                        <p:cTn id="39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L -0.00764 0.25833 E">
                                      <p:cBhvr>
                                        <p:cTn id="39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-0.02292 0.3625 E">
                                      <p:cBhvr>
                                        <p:cTn id="40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393 L 0.00573 0.25139 E">
                                      <p:cBhvr>
                                        <p:cTn id="404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0.00208 0.35208 E">
                                      <p:cBhvr>
                                        <p:cTn id="40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-0.0132 0.24792 E">
                                      <p:cBhvr>
                                        <p:cTn id="40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2674 0.34166 E">
                                      <p:cBhvr>
                                        <p:cTn id="4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3525 0.22709 E">
                                      <p:cBhvr>
                                        <p:cTn id="414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-0.01129 0.22709 E">
                                      <p:cBhvr>
                                        <p:cTn id="416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-0.05903 -0.08889 E">
                                      <p:cBhvr>
                                        <p:cTn id="4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0" y="3214800"/>
            <a:ext cx="4286160" cy="3203640"/>
          </a:xfrm>
          <a:prstGeom prst="rect">
            <a:avLst/>
          </a:prstGeom>
          <a:ln w="0">
            <a:noFill/>
          </a:ln>
        </p:spPr>
      </p:pic>
      <p:sp>
        <p:nvSpPr>
          <p:cNvPr id="217" name="WordArt 5"/>
          <p:cNvSpPr txBox="1"/>
          <p:nvPr/>
        </p:nvSpPr>
        <p:spPr>
          <a:xfrm>
            <a:off x="500040" y="214200"/>
            <a:ext cx="8137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ление с остатком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7"/>
          <p:cNvSpPr txBox="1"/>
          <p:nvPr/>
        </p:nvSpPr>
        <p:spPr>
          <a:xfrm>
            <a:off x="1692360" y="1341360"/>
            <a:ext cx="518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17 : 2 = 8 ( ост. 1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428760" y="4429080"/>
            <a:ext cx="187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ели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1643040" y="5286240"/>
            <a:ext cx="2676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ел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WordArt 10"/>
          <p:cNvSpPr txBox="1"/>
          <p:nvPr/>
        </p:nvSpPr>
        <p:spPr>
          <a:xfrm>
            <a:off x="3643200" y="4357800"/>
            <a:ext cx="23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част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2" name="WordArt 11"/>
          <p:cNvSpPr txBox="1"/>
          <p:nvPr/>
        </p:nvSpPr>
        <p:spPr>
          <a:xfrm>
            <a:off x="6715080" y="514368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ста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14"/>
          <p:cNvSpPr/>
          <p:nvPr/>
        </p:nvSpPr>
        <p:spPr>
          <a:xfrm flipV="1">
            <a:off x="857160" y="3714480"/>
            <a:ext cx="1081080" cy="71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627280" y="3789360"/>
            <a:ext cx="43200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4211640" y="3860280"/>
            <a:ext cx="0" cy="50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 flipH="1" flipV="1">
            <a:off x="6516360" y="3860280"/>
            <a:ext cx="647640" cy="129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H="1">
            <a:off x="1213920" y="2565360"/>
            <a:ext cx="909720" cy="17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6"/>
          <p:cNvSpPr/>
          <p:nvPr/>
        </p:nvSpPr>
        <p:spPr>
          <a:xfrm flipH="1">
            <a:off x="2928600" y="2492280"/>
            <a:ext cx="58680" cy="265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284720" y="2492280"/>
            <a:ext cx="43020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6516720" y="2276640"/>
            <a:ext cx="64764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164"/>
          <p:cNvSpPr/>
          <p:nvPr/>
        </p:nvSpPr>
        <p:spPr>
          <a:xfrm>
            <a:off x="533520" y="358128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4"/>
          <p:cNvSpPr/>
          <p:nvPr/>
        </p:nvSpPr>
        <p:spPr>
          <a:xfrm>
            <a:off x="2971800" y="5257800"/>
            <a:ext cx="3200400" cy="99072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4"/>
          <p:cNvSpPr/>
          <p:nvPr/>
        </p:nvSpPr>
        <p:spPr>
          <a:xfrm>
            <a:off x="5410080" y="3657600"/>
            <a:ext cx="3124440" cy="990720"/>
          </a:xfrm>
          <a:custGeom>
            <a:avLst/>
            <a:gdLst>
              <a:gd name="textAreaLeft" fmla="*/ 457560 w 3124440"/>
              <a:gd name="textAreaRight" fmla="*/ 2666880 w 312444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4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52480" y="6094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5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762120" y="20574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600200" y="15238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7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514600" y="22096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4343400" y="4572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038480" y="19810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5334120" y="213372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1" descr="помидор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28195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2" descr="помидор"/>
          <p:cNvPicPr/>
          <p:nvPr/>
        </p:nvPicPr>
        <p:blipFill>
          <a:blip r:embed="rId9">
            <a:lum contrast="36000"/>
          </a:blip>
          <a:stretch/>
        </p:blipFill>
        <p:spPr>
          <a:xfrm>
            <a:off x="57913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3" descr="помидор"/>
          <p:cNvPicPr/>
          <p:nvPr/>
        </p:nvPicPr>
        <p:blipFill>
          <a:blip r:embed="rId10">
            <a:lum contrast="36000"/>
          </a:blip>
          <a:stretch/>
        </p:blipFill>
        <p:spPr>
          <a:xfrm>
            <a:off x="6781680" y="182880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4" descr="помидор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7238880" y="83808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0"/>
          <p:cNvSpPr/>
          <p:nvPr/>
        </p:nvSpPr>
        <p:spPr>
          <a:xfrm>
            <a:off x="395280" y="0"/>
            <a:ext cx="79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ожим 11 помидоров в 3 тар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1219320" y="12952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1 : 3 = 3 (ост. 2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500"/>
                            </p:stCondLst>
                            <p:childTnLst>
                              <p:par>
                                <p:cTn id="5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500"/>
                            </p:stCondLst>
                            <p:childTnLst>
                              <p:par>
                                <p:cTn id="5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77457E-006 L 0.10295 0.23307 E">
                                      <p:cBhvr>
                                        <p:cTn id="55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50867E-006 L 0.01128 0.47723 E">
                                      <p:cBhvr>
                                        <p:cTn id="55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02312E-006 L -0.02205 0.26636 E">
                                      <p:cBhvr>
                                        <p:cTn id="56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1329E-006 L 0.09462 0.28856 E">
                                      <p:cBhvr>
                                        <p:cTn id="56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0295 0.45502 E">
                                      <p:cBhvr>
                                        <p:cTn id="568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09249E-007 L 0.03628 0.69919 E">
                                      <p:cBhvr>
                                        <p:cTn id="571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8039 0.39954 E">
                                      <p:cBhvr>
                                        <p:cTn id="57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7795 0.66589 E">
                                      <p:cBhvr>
                                        <p:cTn id="57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1372 0.39954 E">
                                      <p:cBhvr>
                                        <p:cTn id="58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57200" y="304920"/>
          <a:ext cx="8153280" cy="4054320"/>
        </p:xfrm>
        <a:graphic>
          <a:graphicData uri="http://schemas.openxmlformats.org/drawingml/2006/table">
            <a:tbl>
              <a:tblPr/>
              <a:tblGrid>
                <a:gridCol w="1359000"/>
                <a:gridCol w="1358640"/>
                <a:gridCol w="1359000"/>
                <a:gridCol w="1359000"/>
                <a:gridCol w="1359000"/>
                <a:gridCol w="13586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: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54"/>
          <p:cNvSpPr/>
          <p:nvPr/>
        </p:nvSpPr>
        <p:spPr>
          <a:xfrm>
            <a:off x="1905120" y="289548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5"/>
          <p:cNvSpPr/>
          <p:nvPr/>
        </p:nvSpPr>
        <p:spPr>
          <a:xfrm>
            <a:off x="1905120" y="152388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66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6"/>
          <p:cNvSpPr/>
          <p:nvPr/>
        </p:nvSpPr>
        <p:spPr>
          <a:xfrm>
            <a:off x="609480" y="15238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8"/>
          <p:cNvSpPr/>
          <p:nvPr/>
        </p:nvSpPr>
        <p:spPr>
          <a:xfrm rot="20365800">
            <a:off x="2122560" y="1998360"/>
            <a:ext cx="4038480" cy="717480"/>
          </a:xfrm>
          <a:custGeom>
            <a:avLst/>
            <a:gdLst>
              <a:gd name="textAreaLeft" fmla="*/ 841320 w 4038480"/>
              <a:gd name="textAreaRight" fmla="*/ 2793240 w 4038480"/>
              <a:gd name="textAreaTop" fmla="*/ 96120 h 717480"/>
              <a:gd name="textAreaBottom" fmla="*/ 62136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03" hR="21600" stAng="10800000" swAng="-5400000"/>
                <a:lnTo>
                  <a:pt x="10438" y="21600"/>
                </a:lnTo>
                <a:arcTo wR="9003" hR="21600" stAng="5400000" swAng="-2224181"/>
                <a:lnTo>
                  <a:pt x="20480" y="10434"/>
                </a:lnTo>
                <a:lnTo>
                  <a:pt x="18723" y="0"/>
                </a:lnTo>
                <a:lnTo>
                  <a:pt x="14725" y="10434"/>
                </a:lnTo>
                <a:lnTo>
                  <a:pt x="16885" y="10434"/>
                </a:lnTo>
                <a:arcTo wR="9003" hR="21600" stAng="3175819" swAng="2109665"/>
                <a:lnTo>
                  <a:pt x="9720" y="21531"/>
                </a:lnTo>
                <a:arcTo wR="9003" hR="21600" stAng="5514516" swAng="5285484"/>
                <a:close/>
              </a:path>
              <a:path fill="darkenLess" w="21600" h="21600">
                <a:moveTo>
                  <a:pt x="0" y="0"/>
                </a:moveTo>
                <a:arcTo wR="9003" hR="21600" stAng="10800000" swAng="-5400000"/>
                <a:lnTo>
                  <a:pt x="10438" y="21600"/>
                </a:lnTo>
                <a:arcTo wR="9003" hR="21600" stAng="5400000" swAng="114516"/>
                <a:lnTo>
                  <a:pt x="9720" y="21531"/>
                </a:lnTo>
                <a:arcTo wR="9003" hR="21600" stAng="5514516" swAng="528548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9"/>
          <p:cNvSpPr/>
          <p:nvPr/>
        </p:nvSpPr>
        <p:spPr>
          <a:xfrm>
            <a:off x="7315200" y="304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0"/>
          <p:cNvSpPr/>
          <p:nvPr/>
        </p:nvSpPr>
        <p:spPr>
          <a:xfrm>
            <a:off x="2895480" y="28954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Arial"/>
              </a:rPr>
              <a:t>ос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2"/>
          <p:cNvGrpSpPr/>
          <p:nvPr/>
        </p:nvGrpSpPr>
        <p:grpSpPr>
          <a:xfrm>
            <a:off x="1908000" y="1197000"/>
            <a:ext cx="6019560" cy="2601360"/>
            <a:chOff x="1908000" y="1197000"/>
            <a:chExt cx="6019560" cy="2601360"/>
          </a:xfrm>
        </p:grpSpPr>
        <p:grpSp>
          <p:nvGrpSpPr>
            <p:cNvPr id="255" name="Group 33"/>
            <p:cNvGrpSpPr/>
            <p:nvPr/>
          </p:nvGrpSpPr>
          <p:grpSpPr>
            <a:xfrm>
              <a:off x="1908000" y="1668600"/>
              <a:ext cx="6019560" cy="2129760"/>
              <a:chOff x="1908000" y="1668600"/>
              <a:chExt cx="6019560" cy="2129760"/>
            </a:xfrm>
          </p:grpSpPr>
          <p:grpSp>
            <p:nvGrpSpPr>
              <p:cNvPr id="256" name="Group 34"/>
              <p:cNvGrpSpPr/>
              <p:nvPr/>
            </p:nvGrpSpPr>
            <p:grpSpPr>
              <a:xfrm>
                <a:off x="1908000" y="1668600"/>
                <a:ext cx="6019560" cy="2129760"/>
                <a:chOff x="1908000" y="1668600"/>
                <a:chExt cx="6019560" cy="2129760"/>
              </a:xfrm>
            </p:grpSpPr>
            <p:sp>
              <p:nvSpPr>
                <p:cNvPr id="257" name="Freeform 35"/>
                <p:cNvSpPr/>
                <p:nvPr/>
              </p:nvSpPr>
              <p:spPr>
                <a:xfrm>
                  <a:off x="1908000" y="1668600"/>
                  <a:ext cx="6019560" cy="2129760"/>
                </a:xfrm>
                <a:custGeom>
                  <a:avLst/>
                  <a:gdLst>
                    <a:gd name="textAreaLeft" fmla="*/ 0 w 6019560"/>
                    <a:gd name="textAreaRight" fmla="*/ 6019920 w 6019560"/>
                    <a:gd name="textAreaTop" fmla="*/ 0 h 2129760"/>
                    <a:gd name="textAreaBottom" fmla="*/ 2130120 h 2129760"/>
                  </a:gdLst>
                  <a:ahLst/>
                  <a:rect l="textAreaLeft" t="textAreaTop" r="textAreaRight" b="textAreaBottom"/>
                  <a:pathLst>
                    <a:path w="3385" h="1412">
                      <a:moveTo>
                        <a:pt x="3385" y="618"/>
                      </a:moveTo>
                      <a:lnTo>
                        <a:pt x="3375" y="556"/>
                      </a:lnTo>
                      <a:lnTo>
                        <a:pt x="3351" y="493"/>
                      </a:lnTo>
                      <a:lnTo>
                        <a:pt x="3308" y="434"/>
                      </a:lnTo>
                      <a:lnTo>
                        <a:pt x="3250" y="377"/>
                      </a:lnTo>
                      <a:lnTo>
                        <a:pt x="3183" y="321"/>
                      </a:lnTo>
                      <a:lnTo>
                        <a:pt x="3097" y="270"/>
                      </a:lnTo>
                      <a:lnTo>
                        <a:pt x="3000" y="223"/>
                      </a:lnTo>
                      <a:lnTo>
                        <a:pt x="2890" y="178"/>
                      </a:lnTo>
                      <a:lnTo>
                        <a:pt x="2770" y="139"/>
                      </a:lnTo>
                      <a:lnTo>
                        <a:pt x="2640" y="104"/>
                      </a:lnTo>
                      <a:lnTo>
                        <a:pt x="2500" y="74"/>
                      </a:lnTo>
                      <a:lnTo>
                        <a:pt x="2356" y="47"/>
                      </a:lnTo>
                      <a:lnTo>
                        <a:pt x="2197" y="26"/>
                      </a:lnTo>
                      <a:lnTo>
                        <a:pt x="2039" y="12"/>
                      </a:lnTo>
                      <a:lnTo>
                        <a:pt x="1870" y="3"/>
                      </a:lnTo>
                      <a:lnTo>
                        <a:pt x="1697" y="0"/>
                      </a:lnTo>
                      <a:lnTo>
                        <a:pt x="1524" y="3"/>
                      </a:lnTo>
                      <a:lnTo>
                        <a:pt x="1356" y="12"/>
                      </a:lnTo>
                      <a:lnTo>
                        <a:pt x="1192" y="26"/>
                      </a:lnTo>
                      <a:lnTo>
                        <a:pt x="1039" y="47"/>
                      </a:lnTo>
                      <a:lnTo>
                        <a:pt x="890" y="74"/>
                      </a:lnTo>
                      <a:lnTo>
                        <a:pt x="750" y="104"/>
                      </a:lnTo>
                      <a:lnTo>
                        <a:pt x="615" y="139"/>
                      </a:lnTo>
                      <a:lnTo>
                        <a:pt x="495" y="178"/>
                      </a:lnTo>
                      <a:lnTo>
                        <a:pt x="389" y="223"/>
                      </a:lnTo>
                      <a:lnTo>
                        <a:pt x="288" y="270"/>
                      </a:lnTo>
                      <a:lnTo>
                        <a:pt x="207" y="321"/>
                      </a:lnTo>
                      <a:lnTo>
                        <a:pt x="135" y="377"/>
                      </a:lnTo>
                      <a:lnTo>
                        <a:pt x="77" y="434"/>
                      </a:lnTo>
                      <a:lnTo>
                        <a:pt x="34" y="493"/>
                      </a:lnTo>
                      <a:lnTo>
                        <a:pt x="10" y="556"/>
                      </a:lnTo>
                      <a:lnTo>
                        <a:pt x="0" y="618"/>
                      </a:lnTo>
                      <a:lnTo>
                        <a:pt x="10" y="713"/>
                      </a:lnTo>
                      <a:lnTo>
                        <a:pt x="43" y="802"/>
                      </a:lnTo>
                      <a:lnTo>
                        <a:pt x="91" y="886"/>
                      </a:lnTo>
                      <a:lnTo>
                        <a:pt x="163" y="963"/>
                      </a:lnTo>
                      <a:lnTo>
                        <a:pt x="245" y="1034"/>
                      </a:lnTo>
                      <a:lnTo>
                        <a:pt x="346" y="1100"/>
                      </a:lnTo>
                      <a:lnTo>
                        <a:pt x="452" y="1159"/>
                      </a:lnTo>
                      <a:lnTo>
                        <a:pt x="577" y="1213"/>
                      </a:lnTo>
                      <a:lnTo>
                        <a:pt x="707" y="1260"/>
                      </a:lnTo>
                      <a:lnTo>
                        <a:pt x="841" y="1299"/>
                      </a:lnTo>
                      <a:lnTo>
                        <a:pt x="986" y="1335"/>
                      </a:lnTo>
                      <a:lnTo>
                        <a:pt x="1130" y="1361"/>
                      </a:lnTo>
                      <a:lnTo>
                        <a:pt x="1279" y="1385"/>
                      </a:lnTo>
                      <a:lnTo>
                        <a:pt x="1428" y="1400"/>
                      </a:lnTo>
                      <a:lnTo>
                        <a:pt x="1572" y="1409"/>
                      </a:lnTo>
                      <a:lnTo>
                        <a:pt x="1717" y="1412"/>
                      </a:lnTo>
                      <a:lnTo>
                        <a:pt x="1875" y="1409"/>
                      </a:lnTo>
                      <a:lnTo>
                        <a:pt x="2029" y="1400"/>
                      </a:lnTo>
                      <a:lnTo>
                        <a:pt x="2183" y="1382"/>
                      </a:lnTo>
                      <a:lnTo>
                        <a:pt x="2332" y="1361"/>
                      </a:lnTo>
                      <a:lnTo>
                        <a:pt x="2476" y="1332"/>
                      </a:lnTo>
                      <a:lnTo>
                        <a:pt x="2611" y="1296"/>
                      </a:lnTo>
                      <a:lnTo>
                        <a:pt x="2741" y="1254"/>
                      </a:lnTo>
                      <a:lnTo>
                        <a:pt x="2866" y="1207"/>
                      </a:lnTo>
                      <a:lnTo>
                        <a:pt x="2976" y="1153"/>
                      </a:lnTo>
                      <a:lnTo>
                        <a:pt x="3077" y="1097"/>
                      </a:lnTo>
                      <a:lnTo>
                        <a:pt x="3169" y="1031"/>
                      </a:lnTo>
                      <a:lnTo>
                        <a:pt x="3241" y="960"/>
                      </a:lnTo>
                      <a:lnTo>
                        <a:pt x="3303" y="883"/>
                      </a:lnTo>
                      <a:lnTo>
                        <a:pt x="3347" y="799"/>
                      </a:lnTo>
                      <a:lnTo>
                        <a:pt x="3375" y="713"/>
                      </a:lnTo>
                      <a:lnTo>
                        <a:pt x="3385" y="6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36"/>
                <p:cNvSpPr/>
                <p:nvPr/>
              </p:nvSpPr>
              <p:spPr>
                <a:xfrm>
                  <a:off x="2257920" y="2779920"/>
                  <a:ext cx="5498640" cy="915480"/>
                </a:xfrm>
                <a:custGeom>
                  <a:avLst/>
                  <a:gdLst>
                    <a:gd name="textAreaLeft" fmla="*/ 0 w 5498640"/>
                    <a:gd name="textAreaRight" fmla="*/ 5499000 w 5498640"/>
                    <a:gd name="textAreaTop" fmla="*/ 0 h 915480"/>
                    <a:gd name="textAreaBottom" fmla="*/ 915840 h 915480"/>
                  </a:gdLst>
                  <a:ahLst/>
                  <a:rect l="textAreaLeft" t="textAreaTop" r="textAreaRight" b="textAreaBottom"/>
                  <a:pathLst>
                    <a:path w="3092" h="607">
                      <a:moveTo>
                        <a:pt x="3092" y="0"/>
                      </a:moveTo>
                      <a:lnTo>
                        <a:pt x="3087" y="30"/>
                      </a:lnTo>
                      <a:lnTo>
                        <a:pt x="3068" y="62"/>
                      </a:lnTo>
                      <a:lnTo>
                        <a:pt x="3044" y="101"/>
                      </a:lnTo>
                      <a:lnTo>
                        <a:pt x="3000" y="143"/>
                      </a:lnTo>
                      <a:lnTo>
                        <a:pt x="2948" y="184"/>
                      </a:lnTo>
                      <a:lnTo>
                        <a:pt x="2885" y="229"/>
                      </a:lnTo>
                      <a:lnTo>
                        <a:pt x="2808" y="274"/>
                      </a:lnTo>
                      <a:lnTo>
                        <a:pt x="2717" y="318"/>
                      </a:lnTo>
                      <a:lnTo>
                        <a:pt x="2616" y="360"/>
                      </a:lnTo>
                      <a:lnTo>
                        <a:pt x="2500" y="398"/>
                      </a:lnTo>
                      <a:lnTo>
                        <a:pt x="2366" y="434"/>
                      </a:lnTo>
                      <a:lnTo>
                        <a:pt x="2222" y="467"/>
                      </a:lnTo>
                      <a:lnTo>
                        <a:pt x="2063" y="494"/>
                      </a:lnTo>
                      <a:lnTo>
                        <a:pt x="1890" y="511"/>
                      </a:lnTo>
                      <a:lnTo>
                        <a:pt x="1702" y="526"/>
                      </a:lnTo>
                      <a:lnTo>
                        <a:pt x="1500" y="529"/>
                      </a:lnTo>
                      <a:lnTo>
                        <a:pt x="1380" y="526"/>
                      </a:lnTo>
                      <a:lnTo>
                        <a:pt x="1260" y="523"/>
                      </a:lnTo>
                      <a:lnTo>
                        <a:pt x="1144" y="514"/>
                      </a:lnTo>
                      <a:lnTo>
                        <a:pt x="1034" y="503"/>
                      </a:lnTo>
                      <a:lnTo>
                        <a:pt x="923" y="485"/>
                      </a:lnTo>
                      <a:lnTo>
                        <a:pt x="818" y="467"/>
                      </a:lnTo>
                      <a:lnTo>
                        <a:pt x="712" y="449"/>
                      </a:lnTo>
                      <a:lnTo>
                        <a:pt x="616" y="425"/>
                      </a:lnTo>
                      <a:lnTo>
                        <a:pt x="519" y="398"/>
                      </a:lnTo>
                      <a:lnTo>
                        <a:pt x="428" y="372"/>
                      </a:lnTo>
                      <a:lnTo>
                        <a:pt x="342" y="342"/>
                      </a:lnTo>
                      <a:lnTo>
                        <a:pt x="265" y="312"/>
                      </a:lnTo>
                      <a:lnTo>
                        <a:pt x="188" y="280"/>
                      </a:lnTo>
                      <a:lnTo>
                        <a:pt x="120" y="244"/>
                      </a:lnTo>
                      <a:lnTo>
                        <a:pt x="58" y="208"/>
                      </a:lnTo>
                      <a:lnTo>
                        <a:pt x="0" y="172"/>
                      </a:lnTo>
                      <a:lnTo>
                        <a:pt x="58" y="220"/>
                      </a:lnTo>
                      <a:lnTo>
                        <a:pt x="125" y="265"/>
                      </a:lnTo>
                      <a:lnTo>
                        <a:pt x="197" y="309"/>
                      </a:lnTo>
                      <a:lnTo>
                        <a:pt x="274" y="351"/>
                      </a:lnTo>
                      <a:lnTo>
                        <a:pt x="356" y="387"/>
                      </a:lnTo>
                      <a:lnTo>
                        <a:pt x="447" y="422"/>
                      </a:lnTo>
                      <a:lnTo>
                        <a:pt x="539" y="458"/>
                      </a:lnTo>
                      <a:lnTo>
                        <a:pt x="635" y="488"/>
                      </a:lnTo>
                      <a:lnTo>
                        <a:pt x="736" y="514"/>
                      </a:lnTo>
                      <a:lnTo>
                        <a:pt x="837" y="538"/>
                      </a:lnTo>
                      <a:lnTo>
                        <a:pt x="943" y="559"/>
                      </a:lnTo>
                      <a:lnTo>
                        <a:pt x="1053" y="574"/>
                      </a:lnTo>
                      <a:lnTo>
                        <a:pt x="1164" y="589"/>
                      </a:lnTo>
                      <a:lnTo>
                        <a:pt x="1274" y="598"/>
                      </a:lnTo>
                      <a:lnTo>
                        <a:pt x="1385" y="604"/>
                      </a:lnTo>
                      <a:lnTo>
                        <a:pt x="1500" y="607"/>
                      </a:lnTo>
                      <a:lnTo>
                        <a:pt x="1645" y="604"/>
                      </a:lnTo>
                      <a:lnTo>
                        <a:pt x="1784" y="595"/>
                      </a:lnTo>
                      <a:lnTo>
                        <a:pt x="1928" y="583"/>
                      </a:lnTo>
                      <a:lnTo>
                        <a:pt x="2068" y="562"/>
                      </a:lnTo>
                      <a:lnTo>
                        <a:pt x="2202" y="538"/>
                      </a:lnTo>
                      <a:lnTo>
                        <a:pt x="2337" y="511"/>
                      </a:lnTo>
                      <a:lnTo>
                        <a:pt x="2462" y="476"/>
                      </a:lnTo>
                      <a:lnTo>
                        <a:pt x="2577" y="440"/>
                      </a:lnTo>
                      <a:lnTo>
                        <a:pt x="2688" y="398"/>
                      </a:lnTo>
                      <a:lnTo>
                        <a:pt x="2789" y="351"/>
                      </a:lnTo>
                      <a:lnTo>
                        <a:pt x="2875" y="300"/>
                      </a:lnTo>
                      <a:lnTo>
                        <a:pt x="2948" y="247"/>
                      </a:lnTo>
                      <a:lnTo>
                        <a:pt x="3010" y="190"/>
                      </a:lnTo>
                      <a:lnTo>
                        <a:pt x="3053" y="131"/>
                      </a:lnTo>
                      <a:lnTo>
                        <a:pt x="3082" y="65"/>
                      </a:lnTo>
                      <a:lnTo>
                        <a:pt x="30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cccc"/>
                    </a:gs>
                    <a:gs pos="50000">
                      <a:srgbClr val="e9fafa"/>
                    </a:gs>
                    <a:gs pos="100000">
                      <a:srgbClr val="33ccc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37"/>
                <p:cNvSpPr/>
                <p:nvPr/>
              </p:nvSpPr>
              <p:spPr>
                <a:xfrm>
                  <a:off x="2130120" y="1721520"/>
                  <a:ext cx="5583600" cy="1749240"/>
                </a:xfrm>
                <a:custGeom>
                  <a:avLst/>
                  <a:gdLst>
                    <a:gd name="textAreaLeft" fmla="*/ 0 w 5583600"/>
                    <a:gd name="textAreaRight" fmla="*/ 5583960 w 5583600"/>
                    <a:gd name="textAreaTop" fmla="*/ 0 h 1749240"/>
                    <a:gd name="textAreaBottom" fmla="*/ 1749240 h 1749240"/>
                  </a:gdLst>
                  <a:ahLst/>
                  <a:rect l="textAreaLeft" t="textAreaTop" r="textAreaRight" b="textAreaBottom"/>
                  <a:pathLst>
                    <a:path w="3140" h="1160">
                      <a:moveTo>
                        <a:pt x="1572" y="1160"/>
                      </a:moveTo>
                      <a:lnTo>
                        <a:pt x="1750" y="1157"/>
                      </a:lnTo>
                      <a:lnTo>
                        <a:pt x="1919" y="1145"/>
                      </a:lnTo>
                      <a:lnTo>
                        <a:pt x="2077" y="1127"/>
                      </a:lnTo>
                      <a:lnTo>
                        <a:pt x="2231" y="1103"/>
                      </a:lnTo>
                      <a:lnTo>
                        <a:pt x="2370" y="1074"/>
                      </a:lnTo>
                      <a:lnTo>
                        <a:pt x="2495" y="1041"/>
                      </a:lnTo>
                      <a:lnTo>
                        <a:pt x="2616" y="1002"/>
                      </a:lnTo>
                      <a:lnTo>
                        <a:pt x="2721" y="958"/>
                      </a:lnTo>
                      <a:lnTo>
                        <a:pt x="2818" y="913"/>
                      </a:lnTo>
                      <a:lnTo>
                        <a:pt x="2899" y="863"/>
                      </a:lnTo>
                      <a:lnTo>
                        <a:pt x="2972" y="812"/>
                      </a:lnTo>
                      <a:lnTo>
                        <a:pt x="3034" y="759"/>
                      </a:lnTo>
                      <a:lnTo>
                        <a:pt x="3077" y="702"/>
                      </a:lnTo>
                      <a:lnTo>
                        <a:pt x="3111" y="646"/>
                      </a:lnTo>
                      <a:lnTo>
                        <a:pt x="3135" y="592"/>
                      </a:lnTo>
                      <a:lnTo>
                        <a:pt x="3140" y="536"/>
                      </a:lnTo>
                      <a:lnTo>
                        <a:pt x="3130" y="482"/>
                      </a:lnTo>
                      <a:lnTo>
                        <a:pt x="3106" y="428"/>
                      </a:lnTo>
                      <a:lnTo>
                        <a:pt x="3068" y="378"/>
                      </a:lnTo>
                      <a:lnTo>
                        <a:pt x="3015" y="330"/>
                      </a:lnTo>
                      <a:lnTo>
                        <a:pt x="2947" y="283"/>
                      </a:lnTo>
                      <a:lnTo>
                        <a:pt x="2871" y="238"/>
                      </a:lnTo>
                      <a:lnTo>
                        <a:pt x="2779" y="197"/>
                      </a:lnTo>
                      <a:lnTo>
                        <a:pt x="2678" y="158"/>
                      </a:lnTo>
                      <a:lnTo>
                        <a:pt x="2568" y="125"/>
                      </a:lnTo>
                      <a:lnTo>
                        <a:pt x="2447" y="92"/>
                      </a:lnTo>
                      <a:lnTo>
                        <a:pt x="2318" y="66"/>
                      </a:lnTo>
                      <a:lnTo>
                        <a:pt x="2178" y="42"/>
                      </a:lnTo>
                      <a:lnTo>
                        <a:pt x="2039" y="24"/>
                      </a:lnTo>
                      <a:lnTo>
                        <a:pt x="1885" y="12"/>
                      </a:lnTo>
                      <a:lnTo>
                        <a:pt x="1731" y="3"/>
                      </a:lnTo>
                      <a:lnTo>
                        <a:pt x="1572" y="0"/>
                      </a:lnTo>
                      <a:lnTo>
                        <a:pt x="1409" y="3"/>
                      </a:lnTo>
                      <a:lnTo>
                        <a:pt x="1255" y="12"/>
                      </a:lnTo>
                      <a:lnTo>
                        <a:pt x="1106" y="24"/>
                      </a:lnTo>
                      <a:lnTo>
                        <a:pt x="962" y="42"/>
                      </a:lnTo>
                      <a:lnTo>
                        <a:pt x="822" y="66"/>
                      </a:lnTo>
                      <a:lnTo>
                        <a:pt x="692" y="92"/>
                      </a:lnTo>
                      <a:lnTo>
                        <a:pt x="572" y="125"/>
                      </a:lnTo>
                      <a:lnTo>
                        <a:pt x="462" y="158"/>
                      </a:lnTo>
                      <a:lnTo>
                        <a:pt x="361" y="197"/>
                      </a:lnTo>
                      <a:lnTo>
                        <a:pt x="269" y="238"/>
                      </a:lnTo>
                      <a:lnTo>
                        <a:pt x="188" y="283"/>
                      </a:lnTo>
                      <a:lnTo>
                        <a:pt x="125" y="330"/>
                      </a:lnTo>
                      <a:lnTo>
                        <a:pt x="72" y="378"/>
                      </a:lnTo>
                      <a:lnTo>
                        <a:pt x="34" y="428"/>
                      </a:lnTo>
                      <a:lnTo>
                        <a:pt x="10" y="482"/>
                      </a:lnTo>
                      <a:lnTo>
                        <a:pt x="0" y="536"/>
                      </a:lnTo>
                      <a:lnTo>
                        <a:pt x="10" y="601"/>
                      </a:lnTo>
                      <a:lnTo>
                        <a:pt x="34" y="663"/>
                      </a:lnTo>
                      <a:lnTo>
                        <a:pt x="72" y="723"/>
                      </a:lnTo>
                      <a:lnTo>
                        <a:pt x="125" y="779"/>
                      </a:lnTo>
                      <a:lnTo>
                        <a:pt x="188" y="836"/>
                      </a:lnTo>
                      <a:lnTo>
                        <a:pt x="269" y="886"/>
                      </a:lnTo>
                      <a:lnTo>
                        <a:pt x="361" y="934"/>
                      </a:lnTo>
                      <a:lnTo>
                        <a:pt x="462" y="979"/>
                      </a:lnTo>
                      <a:lnTo>
                        <a:pt x="572" y="1017"/>
                      </a:lnTo>
                      <a:lnTo>
                        <a:pt x="692" y="1053"/>
                      </a:lnTo>
                      <a:lnTo>
                        <a:pt x="822" y="1086"/>
                      </a:lnTo>
                      <a:lnTo>
                        <a:pt x="962" y="1112"/>
                      </a:lnTo>
                      <a:lnTo>
                        <a:pt x="1106" y="1133"/>
                      </a:lnTo>
                      <a:lnTo>
                        <a:pt x="1255" y="1148"/>
                      </a:lnTo>
                      <a:lnTo>
                        <a:pt x="1409" y="1157"/>
                      </a:lnTo>
                      <a:lnTo>
                        <a:pt x="1572" y="116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38"/>
                <p:cNvSpPr/>
                <p:nvPr/>
              </p:nvSpPr>
              <p:spPr>
                <a:xfrm>
                  <a:off x="2480400" y="2193480"/>
                  <a:ext cx="4694400" cy="1013400"/>
                </a:xfrm>
                <a:custGeom>
                  <a:avLst/>
                  <a:gdLst>
                    <a:gd name="textAreaLeft" fmla="*/ 0 w 4694400"/>
                    <a:gd name="textAreaRight" fmla="*/ 4694760 w 4694400"/>
                    <a:gd name="textAreaTop" fmla="*/ 0 h 1013400"/>
                    <a:gd name="textAreaBottom" fmla="*/ 1013760 h 1013400"/>
                  </a:gdLst>
                  <a:ahLst/>
                  <a:rect l="textAreaLeft" t="textAreaTop" r="textAreaRight" b="textAreaBottom"/>
                  <a:pathLst>
                    <a:path w="2640" h="672">
                      <a:moveTo>
                        <a:pt x="2452" y="0"/>
                      </a:moveTo>
                      <a:lnTo>
                        <a:pt x="2496" y="26"/>
                      </a:lnTo>
                      <a:lnTo>
                        <a:pt x="2534" y="53"/>
                      </a:lnTo>
                      <a:lnTo>
                        <a:pt x="2563" y="80"/>
                      </a:lnTo>
                      <a:lnTo>
                        <a:pt x="2592" y="110"/>
                      </a:lnTo>
                      <a:lnTo>
                        <a:pt x="2611" y="136"/>
                      </a:lnTo>
                      <a:lnTo>
                        <a:pt x="2625" y="166"/>
                      </a:lnTo>
                      <a:lnTo>
                        <a:pt x="2635" y="199"/>
                      </a:lnTo>
                      <a:lnTo>
                        <a:pt x="2640" y="228"/>
                      </a:lnTo>
                      <a:lnTo>
                        <a:pt x="2635" y="273"/>
                      </a:lnTo>
                      <a:lnTo>
                        <a:pt x="2611" y="318"/>
                      </a:lnTo>
                      <a:lnTo>
                        <a:pt x="2582" y="359"/>
                      </a:lnTo>
                      <a:lnTo>
                        <a:pt x="2534" y="401"/>
                      </a:lnTo>
                      <a:lnTo>
                        <a:pt x="2481" y="440"/>
                      </a:lnTo>
                      <a:lnTo>
                        <a:pt x="2414" y="475"/>
                      </a:lnTo>
                      <a:lnTo>
                        <a:pt x="2337" y="511"/>
                      </a:lnTo>
                      <a:lnTo>
                        <a:pt x="2255" y="541"/>
                      </a:lnTo>
                      <a:lnTo>
                        <a:pt x="2159" y="570"/>
                      </a:lnTo>
                      <a:lnTo>
                        <a:pt x="2058" y="594"/>
                      </a:lnTo>
                      <a:lnTo>
                        <a:pt x="1947" y="618"/>
                      </a:lnTo>
                      <a:lnTo>
                        <a:pt x="1837" y="636"/>
                      </a:lnTo>
                      <a:lnTo>
                        <a:pt x="1712" y="651"/>
                      </a:lnTo>
                      <a:lnTo>
                        <a:pt x="1587" y="663"/>
                      </a:lnTo>
                      <a:lnTo>
                        <a:pt x="1457" y="669"/>
                      </a:lnTo>
                      <a:lnTo>
                        <a:pt x="1322" y="672"/>
                      </a:lnTo>
                      <a:lnTo>
                        <a:pt x="1188" y="669"/>
                      </a:lnTo>
                      <a:lnTo>
                        <a:pt x="1058" y="663"/>
                      </a:lnTo>
                      <a:lnTo>
                        <a:pt x="928" y="651"/>
                      </a:lnTo>
                      <a:lnTo>
                        <a:pt x="808" y="636"/>
                      </a:lnTo>
                      <a:lnTo>
                        <a:pt x="693" y="618"/>
                      </a:lnTo>
                      <a:lnTo>
                        <a:pt x="582" y="594"/>
                      </a:lnTo>
                      <a:lnTo>
                        <a:pt x="481" y="570"/>
                      </a:lnTo>
                      <a:lnTo>
                        <a:pt x="390" y="541"/>
                      </a:lnTo>
                      <a:lnTo>
                        <a:pt x="303" y="511"/>
                      </a:lnTo>
                      <a:lnTo>
                        <a:pt x="226" y="475"/>
                      </a:lnTo>
                      <a:lnTo>
                        <a:pt x="159" y="440"/>
                      </a:lnTo>
                      <a:lnTo>
                        <a:pt x="106" y="401"/>
                      </a:lnTo>
                      <a:lnTo>
                        <a:pt x="58" y="359"/>
                      </a:lnTo>
                      <a:lnTo>
                        <a:pt x="29" y="318"/>
                      </a:lnTo>
                      <a:lnTo>
                        <a:pt x="5" y="273"/>
                      </a:lnTo>
                      <a:lnTo>
                        <a:pt x="0" y="228"/>
                      </a:lnTo>
                      <a:lnTo>
                        <a:pt x="5" y="190"/>
                      </a:lnTo>
                      <a:lnTo>
                        <a:pt x="19" y="154"/>
                      </a:lnTo>
                      <a:lnTo>
                        <a:pt x="39" y="118"/>
                      </a:lnTo>
                      <a:lnTo>
                        <a:pt x="67" y="86"/>
                      </a:lnTo>
                      <a:lnTo>
                        <a:pt x="43" y="136"/>
                      </a:lnTo>
                      <a:lnTo>
                        <a:pt x="39" y="190"/>
                      </a:lnTo>
                      <a:lnTo>
                        <a:pt x="48" y="237"/>
                      </a:lnTo>
                      <a:lnTo>
                        <a:pt x="77" y="285"/>
                      </a:lnTo>
                      <a:lnTo>
                        <a:pt x="116" y="333"/>
                      </a:lnTo>
                      <a:lnTo>
                        <a:pt x="168" y="377"/>
                      </a:lnTo>
                      <a:lnTo>
                        <a:pt x="236" y="416"/>
                      </a:lnTo>
                      <a:lnTo>
                        <a:pt x="317" y="454"/>
                      </a:lnTo>
                      <a:lnTo>
                        <a:pt x="404" y="490"/>
                      </a:lnTo>
                      <a:lnTo>
                        <a:pt x="510" y="520"/>
                      </a:lnTo>
                      <a:lnTo>
                        <a:pt x="620" y="550"/>
                      </a:lnTo>
                      <a:lnTo>
                        <a:pt x="741" y="570"/>
                      </a:lnTo>
                      <a:lnTo>
                        <a:pt x="875" y="591"/>
                      </a:lnTo>
                      <a:lnTo>
                        <a:pt x="1015" y="603"/>
                      </a:lnTo>
                      <a:lnTo>
                        <a:pt x="1159" y="612"/>
                      </a:lnTo>
                      <a:lnTo>
                        <a:pt x="1313" y="615"/>
                      </a:lnTo>
                      <a:lnTo>
                        <a:pt x="1447" y="612"/>
                      </a:lnTo>
                      <a:lnTo>
                        <a:pt x="1577" y="606"/>
                      </a:lnTo>
                      <a:lnTo>
                        <a:pt x="1702" y="597"/>
                      </a:lnTo>
                      <a:lnTo>
                        <a:pt x="1818" y="582"/>
                      </a:lnTo>
                      <a:lnTo>
                        <a:pt x="1928" y="567"/>
                      </a:lnTo>
                      <a:lnTo>
                        <a:pt x="2029" y="547"/>
                      </a:lnTo>
                      <a:lnTo>
                        <a:pt x="2121" y="523"/>
                      </a:lnTo>
                      <a:lnTo>
                        <a:pt x="2207" y="499"/>
                      </a:lnTo>
                      <a:lnTo>
                        <a:pt x="2284" y="469"/>
                      </a:lnTo>
                      <a:lnTo>
                        <a:pt x="2356" y="440"/>
                      </a:lnTo>
                      <a:lnTo>
                        <a:pt x="2414" y="410"/>
                      </a:lnTo>
                      <a:lnTo>
                        <a:pt x="2467" y="374"/>
                      </a:lnTo>
                      <a:lnTo>
                        <a:pt x="2510" y="341"/>
                      </a:lnTo>
                      <a:lnTo>
                        <a:pt x="2544" y="306"/>
                      </a:lnTo>
                      <a:lnTo>
                        <a:pt x="2563" y="267"/>
                      </a:lnTo>
                      <a:lnTo>
                        <a:pt x="2577" y="231"/>
                      </a:lnTo>
                      <a:lnTo>
                        <a:pt x="2573" y="163"/>
                      </a:lnTo>
                      <a:lnTo>
                        <a:pt x="2549" y="104"/>
                      </a:lnTo>
                      <a:lnTo>
                        <a:pt x="2505" y="53"/>
                      </a:lnTo>
                      <a:lnTo>
                        <a:pt x="24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39"/>
              <p:cNvGrpSpPr/>
              <p:nvPr/>
            </p:nvGrpSpPr>
            <p:grpSpPr>
              <a:xfrm>
                <a:off x="6795360" y="2622240"/>
                <a:ext cx="915120" cy="471600"/>
                <a:chOff x="6795360" y="2622240"/>
                <a:chExt cx="915120" cy="471600"/>
              </a:xfrm>
            </p:grpSpPr>
            <p:sp>
              <p:nvSpPr>
                <p:cNvPr id="262" name="Freeform 40"/>
                <p:cNvSpPr/>
                <p:nvPr/>
              </p:nvSpPr>
              <p:spPr>
                <a:xfrm rot="20926200">
                  <a:off x="7353720" y="2653920"/>
                  <a:ext cx="343800" cy="163080"/>
                </a:xfrm>
                <a:custGeom>
                  <a:avLst/>
                  <a:gdLst>
                    <a:gd name="textAreaLeft" fmla="*/ 0 w 343800"/>
                    <a:gd name="textAreaRight" fmla="*/ 344160 w 343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1"/>
                <p:cNvSpPr/>
                <p:nvPr/>
              </p:nvSpPr>
              <p:spPr>
                <a:xfrm rot="20926200">
                  <a:off x="7420320" y="2661120"/>
                  <a:ext cx="230400" cy="126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42"/>
                <p:cNvSpPr/>
                <p:nvPr/>
              </p:nvSpPr>
              <p:spPr>
                <a:xfrm rot="20926200">
                  <a:off x="7050240" y="2729160"/>
                  <a:ext cx="377640" cy="218520"/>
                </a:xfrm>
                <a:custGeom>
                  <a:avLst/>
                  <a:gdLst>
                    <a:gd name="textAreaLeft" fmla="*/ 0 w 377640"/>
                    <a:gd name="textAreaRight" fmla="*/ 378000 w 3776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43"/>
                <p:cNvSpPr/>
                <p:nvPr/>
              </p:nvSpPr>
              <p:spPr>
                <a:xfrm rot="20926200">
                  <a:off x="7154640" y="2755080"/>
                  <a:ext cx="74160" cy="788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4"/>
                <p:cNvSpPr/>
                <p:nvPr/>
              </p:nvSpPr>
              <p:spPr>
                <a:xfrm rot="20926200">
                  <a:off x="7053840" y="2766600"/>
                  <a:ext cx="131040" cy="6552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45"/>
                <p:cNvSpPr/>
                <p:nvPr/>
              </p:nvSpPr>
              <p:spPr>
                <a:xfrm rot="20926200">
                  <a:off x="7160400" y="2712240"/>
                  <a:ext cx="162000" cy="367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46"/>
                <p:cNvSpPr/>
                <p:nvPr/>
              </p:nvSpPr>
              <p:spPr>
                <a:xfrm rot="20926200">
                  <a:off x="7153560" y="2673360"/>
                  <a:ext cx="135720" cy="75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47"/>
                <p:cNvSpPr/>
                <p:nvPr/>
              </p:nvSpPr>
              <p:spPr>
                <a:xfrm rot="20926200">
                  <a:off x="7001280" y="2763360"/>
                  <a:ext cx="180360" cy="4356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48"/>
                <p:cNvSpPr/>
                <p:nvPr/>
              </p:nvSpPr>
              <p:spPr>
                <a:xfrm rot="20926200">
                  <a:off x="7086600" y="2720880"/>
                  <a:ext cx="86400" cy="4536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49"/>
                <p:cNvSpPr/>
                <p:nvPr/>
              </p:nvSpPr>
              <p:spPr>
                <a:xfrm rot="20926200">
                  <a:off x="7133760" y="2835720"/>
                  <a:ext cx="29520" cy="255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50"/>
                <p:cNvSpPr/>
                <p:nvPr/>
              </p:nvSpPr>
              <p:spPr>
                <a:xfrm rot="20926200">
                  <a:off x="7197480" y="288108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1"/>
                <p:cNvSpPr/>
                <p:nvPr/>
              </p:nvSpPr>
              <p:spPr>
                <a:xfrm rot="20926200">
                  <a:off x="7204320" y="284616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52"/>
                <p:cNvSpPr/>
                <p:nvPr/>
              </p:nvSpPr>
              <p:spPr>
                <a:xfrm rot="20926200">
                  <a:off x="7217640" y="280584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53"/>
                <p:cNvSpPr/>
                <p:nvPr/>
              </p:nvSpPr>
              <p:spPr>
                <a:xfrm rot="20926200">
                  <a:off x="7278840" y="287676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54"/>
                <p:cNvSpPr/>
                <p:nvPr/>
              </p:nvSpPr>
              <p:spPr>
                <a:xfrm rot="20926200">
                  <a:off x="7303320" y="282276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55"/>
                <p:cNvSpPr/>
                <p:nvPr/>
              </p:nvSpPr>
              <p:spPr>
                <a:xfrm rot="20926200">
                  <a:off x="7352640" y="2873520"/>
                  <a:ext cx="29160" cy="248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56"/>
                <p:cNvSpPr/>
                <p:nvPr/>
              </p:nvSpPr>
              <p:spPr>
                <a:xfrm rot="20926200">
                  <a:off x="7288560" y="277200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57"/>
                <p:cNvSpPr/>
                <p:nvPr/>
              </p:nvSpPr>
              <p:spPr>
                <a:xfrm rot="20926200">
                  <a:off x="7366320" y="279072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58"/>
                <p:cNvSpPr/>
                <p:nvPr/>
              </p:nvSpPr>
              <p:spPr>
                <a:xfrm rot="20926200">
                  <a:off x="7358760" y="283356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59"/>
                <p:cNvSpPr/>
                <p:nvPr/>
              </p:nvSpPr>
              <p:spPr>
                <a:xfrm rot="20926200">
                  <a:off x="7345080" y="274392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60"/>
                <p:cNvSpPr/>
                <p:nvPr/>
              </p:nvSpPr>
              <p:spPr>
                <a:xfrm rot="20926200">
                  <a:off x="7293600" y="273204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61"/>
                <p:cNvSpPr/>
                <p:nvPr/>
              </p:nvSpPr>
              <p:spPr>
                <a:xfrm rot="20926200">
                  <a:off x="7224480" y="275220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62"/>
                <p:cNvSpPr/>
                <p:nvPr/>
              </p:nvSpPr>
              <p:spPr>
                <a:xfrm rot="20926200">
                  <a:off x="7140240" y="284112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63"/>
                <p:cNvSpPr/>
                <p:nvPr/>
              </p:nvSpPr>
              <p:spPr>
                <a:xfrm rot="20926200">
                  <a:off x="7204320" y="288648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64"/>
                <p:cNvSpPr/>
                <p:nvPr/>
              </p:nvSpPr>
              <p:spPr>
                <a:xfrm rot="20926200">
                  <a:off x="7210080" y="285120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65"/>
                <p:cNvSpPr/>
                <p:nvPr/>
              </p:nvSpPr>
              <p:spPr>
                <a:xfrm rot="20926200">
                  <a:off x="7223040" y="281160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66"/>
                <p:cNvSpPr/>
                <p:nvPr/>
              </p:nvSpPr>
              <p:spPr>
                <a:xfrm rot="20926200">
                  <a:off x="7286040" y="2882520"/>
                  <a:ext cx="16920" cy="140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67"/>
                <p:cNvSpPr/>
                <p:nvPr/>
              </p:nvSpPr>
              <p:spPr>
                <a:xfrm rot="20926200">
                  <a:off x="7309080" y="282816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68"/>
                <p:cNvSpPr/>
                <p:nvPr/>
              </p:nvSpPr>
              <p:spPr>
                <a:xfrm rot="20926200">
                  <a:off x="7358760" y="287856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69"/>
                <p:cNvSpPr/>
                <p:nvPr/>
              </p:nvSpPr>
              <p:spPr>
                <a:xfrm rot="20926200">
                  <a:off x="7294320" y="277776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70"/>
                <p:cNvSpPr/>
                <p:nvPr/>
              </p:nvSpPr>
              <p:spPr>
                <a:xfrm rot="20926200">
                  <a:off x="7373880" y="279576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71"/>
                <p:cNvSpPr/>
                <p:nvPr/>
              </p:nvSpPr>
              <p:spPr>
                <a:xfrm rot="20926200">
                  <a:off x="7364160" y="2838240"/>
                  <a:ext cx="17280" cy="15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72"/>
                <p:cNvSpPr/>
                <p:nvPr/>
              </p:nvSpPr>
              <p:spPr>
                <a:xfrm rot="20926200">
                  <a:off x="7351200" y="274932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73"/>
                <p:cNvSpPr/>
                <p:nvPr/>
              </p:nvSpPr>
              <p:spPr>
                <a:xfrm rot="20926200">
                  <a:off x="7299000" y="273744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74"/>
                <p:cNvSpPr/>
                <p:nvPr/>
              </p:nvSpPr>
              <p:spPr>
                <a:xfrm rot="20926200">
                  <a:off x="7229880" y="275760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75"/>
                <p:cNvGrpSpPr/>
                <p:nvPr/>
              </p:nvGrpSpPr>
              <p:grpSpPr>
                <a:xfrm>
                  <a:off x="6795360" y="2883240"/>
                  <a:ext cx="403200" cy="210600"/>
                  <a:chOff x="6795360" y="2883240"/>
                  <a:chExt cx="403200" cy="210600"/>
                </a:xfrm>
              </p:grpSpPr>
              <p:sp>
                <p:nvSpPr>
                  <p:cNvPr id="298" name="Freeform 76"/>
                  <p:cNvSpPr/>
                  <p:nvPr/>
                </p:nvSpPr>
                <p:spPr>
                  <a:xfrm flipH="1" rot="20926200">
                    <a:off x="6805080" y="2919240"/>
                    <a:ext cx="383400" cy="138600"/>
                  </a:xfrm>
                  <a:custGeom>
                    <a:avLst/>
                    <a:gdLst>
                      <a:gd name="textAreaLeft" fmla="*/ -360 w 383400"/>
                      <a:gd name="textAreaRight" fmla="*/ 383400 w 383400"/>
                      <a:gd name="textAreaTop" fmla="*/ 0 h 138600"/>
                      <a:gd name="textAreaBottom" fmla="*/ 138960 h 13860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9" name="Group 77"/>
                  <p:cNvGrpSpPr/>
                  <p:nvPr/>
                </p:nvGrpSpPr>
                <p:grpSpPr>
                  <a:xfrm>
                    <a:off x="6838560" y="2919240"/>
                    <a:ext cx="329400" cy="153000"/>
                    <a:chOff x="6838560" y="2919240"/>
                    <a:chExt cx="329400" cy="153000"/>
                  </a:xfrm>
                </p:grpSpPr>
                <p:sp>
                  <p:nvSpPr>
                    <p:cNvPr id="300" name="Freeform 78"/>
                    <p:cNvSpPr/>
                    <p:nvPr/>
                  </p:nvSpPr>
                  <p:spPr>
                    <a:xfrm flipH="1" rot="20926200">
                      <a:off x="6845400" y="2945520"/>
                      <a:ext cx="281880" cy="100080"/>
                    </a:xfrm>
                    <a:custGeom>
                      <a:avLst/>
                      <a:gdLst>
                        <a:gd name="textAreaLeft" fmla="*/ -360 w 281880"/>
                        <a:gd name="textAreaRight" fmla="*/ 281880 w 281880"/>
                        <a:gd name="textAreaTop" fmla="*/ 0 h 100080"/>
                        <a:gd name="textAreaBottom" fmla="*/ 100440 h 10008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79"/>
                    <p:cNvSpPr/>
                    <p:nvPr/>
                  </p:nvSpPr>
                  <p:spPr>
                    <a:xfrm flipH="1" rot="20926200">
                      <a:off x="7126920" y="2960280"/>
                      <a:ext cx="39600" cy="13320"/>
                    </a:xfrm>
                    <a:custGeom>
                      <a:avLst/>
                      <a:gdLst>
                        <a:gd name="textAreaLeft" fmla="*/ 360 w 39600"/>
                        <a:gd name="textAreaRight" fmla="*/ 40320 w 39600"/>
                        <a:gd name="textAreaTop" fmla="*/ 0 h 13320"/>
                        <a:gd name="textAreaBottom" fmla="*/ 13680 h 1332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2" name="Group 80"/>
              <p:cNvGrpSpPr/>
              <p:nvPr/>
            </p:nvGrpSpPr>
            <p:grpSpPr>
              <a:xfrm>
                <a:off x="5769360" y="3021120"/>
                <a:ext cx="946080" cy="334080"/>
                <a:chOff x="5769360" y="3021120"/>
                <a:chExt cx="946080" cy="334080"/>
              </a:xfrm>
            </p:grpSpPr>
            <p:sp>
              <p:nvSpPr>
                <p:cNvPr id="303" name="Freeform 81"/>
                <p:cNvSpPr/>
                <p:nvPr/>
              </p:nvSpPr>
              <p:spPr>
                <a:xfrm rot="181200">
                  <a:off x="6367320" y="3079080"/>
                  <a:ext cx="343800" cy="163080"/>
                </a:xfrm>
                <a:custGeom>
                  <a:avLst/>
                  <a:gdLst>
                    <a:gd name="textAreaLeft" fmla="*/ 0 w 343800"/>
                    <a:gd name="textAreaRight" fmla="*/ 344160 w 343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82"/>
                <p:cNvSpPr/>
                <p:nvPr/>
              </p:nvSpPr>
              <p:spPr>
                <a:xfrm rot="181200">
                  <a:off x="6436440" y="3089160"/>
                  <a:ext cx="230400" cy="126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83"/>
                <p:cNvSpPr/>
                <p:nvPr/>
              </p:nvSpPr>
              <p:spPr>
                <a:xfrm rot="181200">
                  <a:off x="6046920" y="3080880"/>
                  <a:ext cx="377640" cy="218520"/>
                </a:xfrm>
                <a:custGeom>
                  <a:avLst/>
                  <a:gdLst>
                    <a:gd name="textAreaLeft" fmla="*/ 0 w 377640"/>
                    <a:gd name="textAreaRight" fmla="*/ 378000 w 3776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84"/>
                <p:cNvSpPr/>
                <p:nvPr/>
              </p:nvSpPr>
              <p:spPr>
                <a:xfrm rot="181200">
                  <a:off x="6163920" y="3096360"/>
                  <a:ext cx="74160" cy="788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85"/>
                <p:cNvSpPr/>
                <p:nvPr/>
              </p:nvSpPr>
              <p:spPr>
                <a:xfrm rot="181200">
                  <a:off x="6063840" y="3090240"/>
                  <a:ext cx="131040" cy="6552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86"/>
                <p:cNvSpPr/>
                <p:nvPr/>
              </p:nvSpPr>
              <p:spPr>
                <a:xfrm rot="181200">
                  <a:off x="6184080" y="3067560"/>
                  <a:ext cx="162000" cy="367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87"/>
                <p:cNvSpPr/>
                <p:nvPr/>
              </p:nvSpPr>
              <p:spPr>
                <a:xfrm rot="181200">
                  <a:off x="6182640" y="3024360"/>
                  <a:ext cx="135720" cy="75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88"/>
                <p:cNvSpPr/>
                <p:nvPr/>
              </p:nvSpPr>
              <p:spPr>
                <a:xfrm rot="181200">
                  <a:off x="6015960" y="3080160"/>
                  <a:ext cx="180360" cy="4356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89"/>
                <p:cNvSpPr/>
                <p:nvPr/>
              </p:nvSpPr>
              <p:spPr>
                <a:xfrm rot="181200">
                  <a:off x="6110280" y="3048480"/>
                  <a:ext cx="86400" cy="4536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90"/>
                <p:cNvSpPr/>
                <p:nvPr/>
              </p:nvSpPr>
              <p:spPr>
                <a:xfrm rot="181200">
                  <a:off x="6131160" y="3165120"/>
                  <a:ext cx="29520" cy="255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91"/>
                <p:cNvSpPr/>
                <p:nvPr/>
              </p:nvSpPr>
              <p:spPr>
                <a:xfrm rot="181200">
                  <a:off x="6181560" y="32245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92"/>
                <p:cNvSpPr/>
                <p:nvPr/>
              </p:nvSpPr>
              <p:spPr>
                <a:xfrm rot="181200">
                  <a:off x="6197040" y="319212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93"/>
                <p:cNvSpPr/>
                <p:nvPr/>
              </p:nvSpPr>
              <p:spPr>
                <a:xfrm rot="181200">
                  <a:off x="6219360" y="315648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94"/>
                <p:cNvSpPr/>
                <p:nvPr/>
              </p:nvSpPr>
              <p:spPr>
                <a:xfrm rot="181200">
                  <a:off x="6261840" y="324036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95"/>
                <p:cNvSpPr/>
                <p:nvPr/>
              </p:nvSpPr>
              <p:spPr>
                <a:xfrm rot="181200">
                  <a:off x="6298560" y="319392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96"/>
                <p:cNvSpPr/>
                <p:nvPr/>
              </p:nvSpPr>
              <p:spPr>
                <a:xfrm rot="181200">
                  <a:off x="6334200" y="3255480"/>
                  <a:ext cx="29160" cy="248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97"/>
                <p:cNvSpPr/>
                <p:nvPr/>
              </p:nvSpPr>
              <p:spPr>
                <a:xfrm rot="181200">
                  <a:off x="6296760" y="314136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98"/>
                <p:cNvSpPr/>
                <p:nvPr/>
              </p:nvSpPr>
              <p:spPr>
                <a:xfrm rot="181200">
                  <a:off x="6368040" y="317844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99"/>
                <p:cNvSpPr/>
                <p:nvPr/>
              </p:nvSpPr>
              <p:spPr>
                <a:xfrm rot="181200">
                  <a:off x="6350040" y="321840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00"/>
                <p:cNvSpPr/>
                <p:nvPr/>
              </p:nvSpPr>
              <p:spPr>
                <a:xfrm rot="181200">
                  <a:off x="6358320" y="312804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101"/>
                <p:cNvSpPr/>
                <p:nvPr/>
              </p:nvSpPr>
              <p:spPr>
                <a:xfrm rot="181200">
                  <a:off x="6311160" y="31039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102"/>
                <p:cNvSpPr/>
                <p:nvPr/>
              </p:nvSpPr>
              <p:spPr>
                <a:xfrm rot="181200">
                  <a:off x="6239520" y="310608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103"/>
                <p:cNvSpPr/>
                <p:nvPr/>
              </p:nvSpPr>
              <p:spPr>
                <a:xfrm rot="181200">
                  <a:off x="6137280" y="317016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04"/>
                <p:cNvSpPr/>
                <p:nvPr/>
              </p:nvSpPr>
              <p:spPr>
                <a:xfrm rot="181200">
                  <a:off x="6188040" y="322992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105"/>
                <p:cNvSpPr/>
                <p:nvPr/>
              </p:nvSpPr>
              <p:spPr>
                <a:xfrm rot="181200">
                  <a:off x="6202440" y="319716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106"/>
                <p:cNvSpPr/>
                <p:nvPr/>
              </p:nvSpPr>
              <p:spPr>
                <a:xfrm rot="181200">
                  <a:off x="6224760" y="31618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07"/>
                <p:cNvSpPr/>
                <p:nvPr/>
              </p:nvSpPr>
              <p:spPr>
                <a:xfrm rot="181200">
                  <a:off x="6268320" y="3246120"/>
                  <a:ext cx="16920" cy="140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08"/>
                <p:cNvSpPr/>
                <p:nvPr/>
              </p:nvSpPr>
              <p:spPr>
                <a:xfrm rot="181200">
                  <a:off x="6303960" y="319968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09"/>
                <p:cNvSpPr/>
                <p:nvPr/>
              </p:nvSpPr>
              <p:spPr>
                <a:xfrm rot="181200">
                  <a:off x="6339600" y="326052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10"/>
                <p:cNvSpPr/>
                <p:nvPr/>
              </p:nvSpPr>
              <p:spPr>
                <a:xfrm rot="181200">
                  <a:off x="6302160" y="314676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11"/>
                <p:cNvSpPr/>
                <p:nvPr/>
              </p:nvSpPr>
              <p:spPr>
                <a:xfrm rot="181200">
                  <a:off x="6374880" y="318348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112"/>
                <p:cNvSpPr/>
                <p:nvPr/>
              </p:nvSpPr>
              <p:spPr>
                <a:xfrm rot="181200">
                  <a:off x="6355080" y="3223080"/>
                  <a:ext cx="17280" cy="15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13"/>
                <p:cNvSpPr/>
                <p:nvPr/>
              </p:nvSpPr>
              <p:spPr>
                <a:xfrm rot="181200">
                  <a:off x="6364440" y="313344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14"/>
                <p:cNvSpPr/>
                <p:nvPr/>
              </p:nvSpPr>
              <p:spPr>
                <a:xfrm rot="181200">
                  <a:off x="6316560" y="310932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15"/>
                <p:cNvSpPr/>
                <p:nvPr/>
              </p:nvSpPr>
              <p:spPr>
                <a:xfrm rot="181200">
                  <a:off x="6244920" y="31114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116"/>
                <p:cNvGrpSpPr/>
                <p:nvPr/>
              </p:nvGrpSpPr>
              <p:grpSpPr>
                <a:xfrm>
                  <a:off x="5769360" y="3196440"/>
                  <a:ext cx="390240" cy="158760"/>
                  <a:chOff x="5769360" y="3196440"/>
                  <a:chExt cx="390240" cy="158760"/>
                </a:xfrm>
              </p:grpSpPr>
              <p:sp>
                <p:nvSpPr>
                  <p:cNvPr id="339" name="Freeform 117"/>
                  <p:cNvSpPr/>
                  <p:nvPr/>
                </p:nvSpPr>
                <p:spPr>
                  <a:xfrm flipH="1" rot="180600">
                    <a:off x="5772600" y="3206160"/>
                    <a:ext cx="383400" cy="138600"/>
                  </a:xfrm>
                  <a:custGeom>
                    <a:avLst/>
                    <a:gdLst>
                      <a:gd name="textAreaLeft" fmla="*/ -360 w 383400"/>
                      <a:gd name="textAreaRight" fmla="*/ 383400 w 383400"/>
                      <a:gd name="textAreaTop" fmla="*/ 0 h 138600"/>
                      <a:gd name="textAreaBottom" fmla="*/ 138960 h 13860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0" name="Group 118"/>
                  <p:cNvGrpSpPr/>
                  <p:nvPr/>
                </p:nvGrpSpPr>
                <p:grpSpPr>
                  <a:xfrm>
                    <a:off x="5808960" y="3222720"/>
                    <a:ext cx="326520" cy="114840"/>
                    <a:chOff x="5808960" y="3222720"/>
                    <a:chExt cx="326520" cy="114840"/>
                  </a:xfrm>
                </p:grpSpPr>
                <p:sp>
                  <p:nvSpPr>
                    <p:cNvPr id="341" name="Freeform 119"/>
                    <p:cNvSpPr/>
                    <p:nvPr/>
                  </p:nvSpPr>
                  <p:spPr>
                    <a:xfrm flipH="1" rot="180600">
                      <a:off x="5810760" y="3229920"/>
                      <a:ext cx="281880" cy="100080"/>
                    </a:xfrm>
                    <a:custGeom>
                      <a:avLst/>
                      <a:gdLst>
                        <a:gd name="textAreaLeft" fmla="*/ -360 w 281880"/>
                        <a:gd name="textAreaRight" fmla="*/ 281880 w 281880"/>
                        <a:gd name="textAreaTop" fmla="*/ 0 h 100080"/>
                        <a:gd name="textAreaBottom" fmla="*/ 100440 h 10008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Freeform 120"/>
                    <p:cNvSpPr/>
                    <p:nvPr/>
                  </p:nvSpPr>
                  <p:spPr>
                    <a:xfrm flipH="1" rot="180600">
                      <a:off x="6095160" y="3285360"/>
                      <a:ext cx="39600" cy="13320"/>
                    </a:xfrm>
                    <a:custGeom>
                      <a:avLst/>
                      <a:gdLst>
                        <a:gd name="textAreaLeft" fmla="*/ 360 w 39600"/>
                        <a:gd name="textAreaRight" fmla="*/ 40320 w 39600"/>
                        <a:gd name="textAreaTop" fmla="*/ 0 h 13320"/>
                        <a:gd name="textAreaBottom" fmla="*/ 13680 h 1332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3" name="Group 121"/>
              <p:cNvGrpSpPr/>
              <p:nvPr/>
            </p:nvGrpSpPr>
            <p:grpSpPr>
              <a:xfrm>
                <a:off x="2243160" y="2457720"/>
                <a:ext cx="550440" cy="740520"/>
                <a:chOff x="2243160" y="2457720"/>
                <a:chExt cx="550440" cy="740520"/>
              </a:xfrm>
            </p:grpSpPr>
            <p:sp>
              <p:nvSpPr>
                <p:cNvPr id="344" name="Freeform 122"/>
                <p:cNvSpPr/>
                <p:nvPr/>
              </p:nvSpPr>
              <p:spPr>
                <a:xfrm rot="4474200">
                  <a:off x="2518920" y="2936520"/>
                  <a:ext cx="282600" cy="198000"/>
                </a:xfrm>
                <a:custGeom>
                  <a:avLst/>
                  <a:gdLst>
                    <a:gd name="textAreaLeft" fmla="*/ 0 w 282600"/>
                    <a:gd name="textAreaRight" fmla="*/ 282960 w 28260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23"/>
                <p:cNvSpPr/>
                <p:nvPr/>
              </p:nvSpPr>
              <p:spPr>
                <a:xfrm rot="4474200">
                  <a:off x="2579040" y="2965680"/>
                  <a:ext cx="189720" cy="153360"/>
                </a:xfrm>
                <a:custGeom>
                  <a:avLst/>
                  <a:gdLst>
                    <a:gd name="textAreaLeft" fmla="*/ 0 w 189720"/>
                    <a:gd name="textAreaRight" fmla="*/ 190080 w 18972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24"/>
                <p:cNvSpPr/>
                <p:nvPr/>
              </p:nvSpPr>
              <p:spPr>
                <a:xfrm rot="4474200">
                  <a:off x="2386080" y="2678040"/>
                  <a:ext cx="310680" cy="266040"/>
                </a:xfrm>
                <a:custGeom>
                  <a:avLst/>
                  <a:gdLst>
                    <a:gd name="textAreaLeft" fmla="*/ 0 w 310680"/>
                    <a:gd name="textAreaRight" fmla="*/ 311040 w 310680"/>
                    <a:gd name="textAreaTop" fmla="*/ 0 h 266040"/>
                    <a:gd name="textAreaBottom" fmla="*/ 266400 h 26604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5"/>
                <p:cNvSpPr/>
                <p:nvPr/>
              </p:nvSpPr>
              <p:spPr>
                <a:xfrm rot="4474200">
                  <a:off x="2563920" y="2716200"/>
                  <a:ext cx="60840" cy="961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6"/>
                <p:cNvSpPr/>
                <p:nvPr/>
              </p:nvSpPr>
              <p:spPr>
                <a:xfrm rot="4474200">
                  <a:off x="2535120" y="2664720"/>
                  <a:ext cx="107640" cy="7956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27"/>
                <p:cNvSpPr/>
                <p:nvPr/>
              </p:nvSpPr>
              <p:spPr>
                <a:xfrm rot="4474200">
                  <a:off x="2603160" y="2773080"/>
                  <a:ext cx="133200" cy="4464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28"/>
                <p:cNvSpPr/>
                <p:nvPr/>
              </p:nvSpPr>
              <p:spPr>
                <a:xfrm rot="4474200">
                  <a:off x="2637720" y="2729880"/>
                  <a:ext cx="111600" cy="921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129"/>
                <p:cNvSpPr/>
                <p:nvPr/>
              </p:nvSpPr>
              <p:spPr>
                <a:xfrm rot="4474200">
                  <a:off x="2532240" y="2652120"/>
                  <a:ext cx="148320" cy="52920"/>
                </a:xfrm>
                <a:custGeom>
                  <a:avLst/>
                  <a:gdLst>
                    <a:gd name="textAreaLeft" fmla="*/ 0 w 148320"/>
                    <a:gd name="textAreaRight" fmla="*/ 148680 w 1483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30"/>
                <p:cNvSpPr/>
                <p:nvPr/>
              </p:nvSpPr>
              <p:spPr>
                <a:xfrm rot="4474200">
                  <a:off x="2620440" y="2676600"/>
                  <a:ext cx="71280" cy="5508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31"/>
                <p:cNvSpPr/>
                <p:nvPr/>
              </p:nvSpPr>
              <p:spPr>
                <a:xfrm rot="4474200">
                  <a:off x="2518560" y="2721240"/>
                  <a:ext cx="24480" cy="313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32"/>
                <p:cNvSpPr/>
                <p:nvPr/>
              </p:nvSpPr>
              <p:spPr>
                <a:xfrm rot="4474200">
                  <a:off x="2463480" y="2781720"/>
                  <a:ext cx="23400" cy="313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133"/>
                <p:cNvSpPr/>
                <p:nvPr/>
              </p:nvSpPr>
              <p:spPr>
                <a:xfrm rot="4474200">
                  <a:off x="2505960" y="2782440"/>
                  <a:ext cx="23400" cy="302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34"/>
                <p:cNvSpPr/>
                <p:nvPr/>
              </p:nvSpPr>
              <p:spPr>
                <a:xfrm rot="4474200">
                  <a:off x="2553120" y="2786400"/>
                  <a:ext cx="23400" cy="30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135"/>
                <p:cNvSpPr/>
                <p:nvPr/>
              </p:nvSpPr>
              <p:spPr>
                <a:xfrm rot="4474200">
                  <a:off x="2467800" y="2850480"/>
                  <a:ext cx="24480" cy="30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36"/>
                <p:cNvSpPr/>
                <p:nvPr/>
              </p:nvSpPr>
              <p:spPr>
                <a:xfrm rot="4474200">
                  <a:off x="2531520" y="2861640"/>
                  <a:ext cx="24120" cy="3096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137"/>
                <p:cNvSpPr/>
                <p:nvPr/>
              </p:nvSpPr>
              <p:spPr>
                <a:xfrm rot="4474200">
                  <a:off x="2470680" y="2912040"/>
                  <a:ext cx="24120" cy="3024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138"/>
                <p:cNvSpPr/>
                <p:nvPr/>
              </p:nvSpPr>
              <p:spPr>
                <a:xfrm rot="4474200">
                  <a:off x="2592720" y="2840760"/>
                  <a:ext cx="23400" cy="30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139"/>
                <p:cNvSpPr/>
                <p:nvPr/>
              </p:nvSpPr>
              <p:spPr>
                <a:xfrm rot="4474200">
                  <a:off x="2569320" y="2910240"/>
                  <a:ext cx="24480" cy="30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40"/>
                <p:cNvSpPr/>
                <p:nvPr/>
              </p:nvSpPr>
              <p:spPr>
                <a:xfrm rot="4474200">
                  <a:off x="2518560" y="2910240"/>
                  <a:ext cx="23400" cy="302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141"/>
                <p:cNvSpPr/>
                <p:nvPr/>
              </p:nvSpPr>
              <p:spPr>
                <a:xfrm rot="4474200">
                  <a:off x="2624760" y="2883600"/>
                  <a:ext cx="24120" cy="3096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42"/>
                <p:cNvSpPr/>
                <p:nvPr/>
              </p:nvSpPr>
              <p:spPr>
                <a:xfrm rot="4474200">
                  <a:off x="2640240" y="2838240"/>
                  <a:ext cx="23400" cy="30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143"/>
                <p:cNvSpPr/>
                <p:nvPr/>
              </p:nvSpPr>
              <p:spPr>
                <a:xfrm rot="4474200">
                  <a:off x="2617200" y="2783160"/>
                  <a:ext cx="23400" cy="313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44"/>
                <p:cNvSpPr/>
                <p:nvPr/>
              </p:nvSpPr>
              <p:spPr>
                <a:xfrm rot="4474200">
                  <a:off x="2523600" y="272808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145"/>
                <p:cNvSpPr/>
                <p:nvPr/>
              </p:nvSpPr>
              <p:spPr>
                <a:xfrm rot="4474200">
                  <a:off x="2468520" y="2789280"/>
                  <a:ext cx="14040" cy="1836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146"/>
                <p:cNvSpPr/>
                <p:nvPr/>
              </p:nvSpPr>
              <p:spPr>
                <a:xfrm rot="4474200">
                  <a:off x="2510640" y="2788560"/>
                  <a:ext cx="14040" cy="1836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147"/>
                <p:cNvSpPr/>
                <p:nvPr/>
              </p:nvSpPr>
              <p:spPr>
                <a:xfrm rot="4474200">
                  <a:off x="2558160" y="279288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148"/>
                <p:cNvSpPr/>
                <p:nvPr/>
              </p:nvSpPr>
              <p:spPr>
                <a:xfrm rot="4474200">
                  <a:off x="2473200" y="2858040"/>
                  <a:ext cx="14040" cy="169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6920"/>
                    <a:gd name="textAreaBottom" fmla="*/ 16920 h 1692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149"/>
                <p:cNvSpPr/>
                <p:nvPr/>
              </p:nvSpPr>
              <p:spPr>
                <a:xfrm rot="4474200">
                  <a:off x="2536560" y="286812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50"/>
                <p:cNvSpPr/>
                <p:nvPr/>
              </p:nvSpPr>
              <p:spPr>
                <a:xfrm rot="4474200">
                  <a:off x="2475360" y="291852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151"/>
                <p:cNvSpPr/>
                <p:nvPr/>
              </p:nvSpPr>
              <p:spPr>
                <a:xfrm rot="4474200">
                  <a:off x="2597760" y="284724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152"/>
                <p:cNvSpPr/>
                <p:nvPr/>
              </p:nvSpPr>
              <p:spPr>
                <a:xfrm rot="4474200">
                  <a:off x="2574360" y="2916360"/>
                  <a:ext cx="14040" cy="187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153"/>
                <p:cNvSpPr/>
                <p:nvPr/>
              </p:nvSpPr>
              <p:spPr>
                <a:xfrm rot="4474200">
                  <a:off x="2523240" y="2916000"/>
                  <a:ext cx="14040" cy="187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54"/>
                <p:cNvSpPr/>
                <p:nvPr/>
              </p:nvSpPr>
              <p:spPr>
                <a:xfrm rot="4474200">
                  <a:off x="2630520" y="289044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55"/>
                <p:cNvSpPr/>
                <p:nvPr/>
              </p:nvSpPr>
              <p:spPr>
                <a:xfrm rot="4474200">
                  <a:off x="2644920" y="284472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56"/>
                <p:cNvSpPr/>
                <p:nvPr/>
              </p:nvSpPr>
              <p:spPr>
                <a:xfrm rot="4474200">
                  <a:off x="2622240" y="279000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Group 157"/>
                <p:cNvGrpSpPr/>
                <p:nvPr/>
              </p:nvGrpSpPr>
              <p:grpSpPr>
                <a:xfrm>
                  <a:off x="2243160" y="2457720"/>
                  <a:ext cx="246240" cy="348840"/>
                  <a:chOff x="2243160" y="2457720"/>
                  <a:chExt cx="246240" cy="348840"/>
                </a:xfrm>
              </p:grpSpPr>
              <p:sp>
                <p:nvSpPr>
                  <p:cNvPr id="380" name="Freeform 158"/>
                  <p:cNvSpPr/>
                  <p:nvPr/>
                </p:nvSpPr>
                <p:spPr>
                  <a:xfrm flipH="1" rot="4473600">
                    <a:off x="2208600" y="2547720"/>
                    <a:ext cx="315360" cy="168480"/>
                  </a:xfrm>
                  <a:custGeom>
                    <a:avLst/>
                    <a:gdLst>
                      <a:gd name="textAreaLeft" fmla="*/ 360 w 315360"/>
                      <a:gd name="textAreaRight" fmla="*/ 316080 w 315360"/>
                      <a:gd name="textAreaTop" fmla="*/ 0 h 168480"/>
                      <a:gd name="textAreaBottom" fmla="*/ 168480 h 16848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1" name="Group 159"/>
                  <p:cNvGrpSpPr/>
                  <p:nvPr/>
                </p:nvGrpSpPr>
                <p:grpSpPr>
                  <a:xfrm>
                    <a:off x="2268360" y="2496960"/>
                    <a:ext cx="178560" cy="276480"/>
                    <a:chOff x="2268360" y="2496960"/>
                    <a:chExt cx="178560" cy="276480"/>
                  </a:xfrm>
                </p:grpSpPr>
                <p:sp>
                  <p:nvSpPr>
                    <p:cNvPr id="382" name="Freeform 160"/>
                    <p:cNvSpPr/>
                    <p:nvPr/>
                  </p:nvSpPr>
                  <p:spPr>
                    <a:xfrm flipH="1" rot="4473600">
                      <a:off x="2241720" y="2563920"/>
                      <a:ext cx="231840" cy="121320"/>
                    </a:xfrm>
                    <a:custGeom>
                      <a:avLst/>
                      <a:gdLst>
                        <a:gd name="textAreaLeft" fmla="*/ 360 w 231840"/>
                        <a:gd name="textAreaRight" fmla="*/ 232560 w 231840"/>
                        <a:gd name="textAreaTop" fmla="*/ 0 h 121320"/>
                        <a:gd name="textAreaBottom" fmla="*/ 121680 h 12132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161"/>
                    <p:cNvSpPr/>
                    <p:nvPr/>
                  </p:nvSpPr>
                  <p:spPr>
                    <a:xfrm flipH="1" rot="4473600">
                      <a:off x="2373120" y="2747160"/>
                      <a:ext cx="32760" cy="16200"/>
                    </a:xfrm>
                    <a:custGeom>
                      <a:avLst/>
                      <a:gdLst>
                        <a:gd name="textAreaLeft" fmla="*/ -360 w 32760"/>
                        <a:gd name="textAreaRight" fmla="*/ 32760 w 32760"/>
                        <a:gd name="textAreaTop" fmla="*/ 0 h 16200"/>
                        <a:gd name="textAreaBottom" fmla="*/ 16200 h 1620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Group 162"/>
              <p:cNvGrpSpPr/>
              <p:nvPr/>
            </p:nvGrpSpPr>
            <p:grpSpPr>
              <a:xfrm>
                <a:off x="3171960" y="3053880"/>
                <a:ext cx="965520" cy="437040"/>
                <a:chOff x="3171960" y="3053880"/>
                <a:chExt cx="965520" cy="437040"/>
              </a:xfrm>
            </p:grpSpPr>
            <p:sp>
              <p:nvSpPr>
                <p:cNvPr id="385" name="Freeform 163"/>
                <p:cNvSpPr/>
                <p:nvPr/>
              </p:nvSpPr>
              <p:spPr>
                <a:xfrm rot="1596000">
                  <a:off x="3775320" y="3259080"/>
                  <a:ext cx="343800" cy="163080"/>
                </a:xfrm>
                <a:custGeom>
                  <a:avLst/>
                  <a:gdLst>
                    <a:gd name="textAreaLeft" fmla="*/ 0 w 343800"/>
                    <a:gd name="textAreaRight" fmla="*/ 344160 w 343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164"/>
                <p:cNvSpPr/>
                <p:nvPr/>
              </p:nvSpPr>
              <p:spPr>
                <a:xfrm rot="1596000">
                  <a:off x="3846240" y="3274920"/>
                  <a:ext cx="230400" cy="126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165"/>
                <p:cNvSpPr/>
                <p:nvPr/>
              </p:nvSpPr>
              <p:spPr>
                <a:xfrm rot="1596000">
                  <a:off x="3468240" y="3136680"/>
                  <a:ext cx="377640" cy="218520"/>
                </a:xfrm>
                <a:custGeom>
                  <a:avLst/>
                  <a:gdLst>
                    <a:gd name="textAreaLeft" fmla="*/ 0 w 377640"/>
                    <a:gd name="textAreaRight" fmla="*/ 378000 w 3776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66"/>
                <p:cNvSpPr/>
                <p:nvPr/>
              </p:nvSpPr>
              <p:spPr>
                <a:xfrm rot="1596000">
                  <a:off x="3610080" y="3143160"/>
                  <a:ext cx="74160" cy="788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167"/>
                <p:cNvSpPr/>
                <p:nvPr/>
              </p:nvSpPr>
              <p:spPr>
                <a:xfrm rot="1596000">
                  <a:off x="3520800" y="3109320"/>
                  <a:ext cx="131040" cy="6552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168"/>
                <p:cNvSpPr/>
                <p:nvPr/>
              </p:nvSpPr>
              <p:spPr>
                <a:xfrm rot="1596000">
                  <a:off x="3644640" y="3144240"/>
                  <a:ext cx="162000" cy="367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169"/>
                <p:cNvSpPr/>
                <p:nvPr/>
              </p:nvSpPr>
              <p:spPr>
                <a:xfrm rot="1596000">
                  <a:off x="3653640" y="3097080"/>
                  <a:ext cx="135720" cy="75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70"/>
                <p:cNvSpPr/>
                <p:nvPr/>
              </p:nvSpPr>
              <p:spPr>
                <a:xfrm rot="1596000">
                  <a:off x="3483720" y="3091680"/>
                  <a:ext cx="180360" cy="4356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71"/>
                <p:cNvSpPr/>
                <p:nvPr/>
              </p:nvSpPr>
              <p:spPr>
                <a:xfrm rot="1596000">
                  <a:off x="3586320" y="3081600"/>
                  <a:ext cx="86400" cy="4536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72"/>
                <p:cNvSpPr/>
                <p:nvPr/>
              </p:nvSpPr>
              <p:spPr>
                <a:xfrm rot="1596000">
                  <a:off x="3564720" y="3186000"/>
                  <a:ext cx="29520" cy="255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73"/>
                <p:cNvSpPr/>
                <p:nvPr/>
              </p:nvSpPr>
              <p:spPr>
                <a:xfrm rot="1596000">
                  <a:off x="3587400" y="32605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74"/>
                <p:cNvSpPr/>
                <p:nvPr/>
              </p:nvSpPr>
              <p:spPr>
                <a:xfrm rot="1596000">
                  <a:off x="3614760" y="323712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75"/>
                <p:cNvSpPr/>
                <p:nvPr/>
              </p:nvSpPr>
              <p:spPr>
                <a:xfrm rot="1596000">
                  <a:off x="3648960" y="321336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76"/>
                <p:cNvSpPr/>
                <p:nvPr/>
              </p:nvSpPr>
              <p:spPr>
                <a:xfrm rot="1596000">
                  <a:off x="3654720" y="330732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7"/>
                <p:cNvSpPr/>
                <p:nvPr/>
              </p:nvSpPr>
              <p:spPr>
                <a:xfrm rot="1596000">
                  <a:off x="3706560" y="327960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78"/>
                <p:cNvSpPr/>
                <p:nvPr/>
              </p:nvSpPr>
              <p:spPr>
                <a:xfrm rot="1596000">
                  <a:off x="3715200" y="3350160"/>
                  <a:ext cx="29160" cy="248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79"/>
                <p:cNvSpPr/>
                <p:nvPr/>
              </p:nvSpPr>
              <p:spPr>
                <a:xfrm rot="1596000">
                  <a:off x="3726000" y="32299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180"/>
                <p:cNvSpPr/>
                <p:nvPr/>
              </p:nvSpPr>
              <p:spPr>
                <a:xfrm rot="1596000">
                  <a:off x="3776760" y="329328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181"/>
                <p:cNvSpPr/>
                <p:nvPr/>
              </p:nvSpPr>
              <p:spPr>
                <a:xfrm rot="1596000">
                  <a:off x="3744360" y="332244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182"/>
                <p:cNvSpPr/>
                <p:nvPr/>
              </p:nvSpPr>
              <p:spPr>
                <a:xfrm rot="1596000">
                  <a:off x="3787920" y="324288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183"/>
                <p:cNvSpPr/>
                <p:nvPr/>
              </p:nvSpPr>
              <p:spPr>
                <a:xfrm rot="1596000">
                  <a:off x="3754440" y="320148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184"/>
                <p:cNvSpPr/>
                <p:nvPr/>
              </p:nvSpPr>
              <p:spPr>
                <a:xfrm rot="1596000">
                  <a:off x="3687480" y="317484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85"/>
                <p:cNvSpPr/>
                <p:nvPr/>
              </p:nvSpPr>
              <p:spPr>
                <a:xfrm rot="1596000">
                  <a:off x="3571200" y="319140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186"/>
                <p:cNvSpPr/>
                <p:nvPr/>
              </p:nvSpPr>
              <p:spPr>
                <a:xfrm rot="1596000">
                  <a:off x="3594240" y="326664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87"/>
                <p:cNvSpPr/>
                <p:nvPr/>
              </p:nvSpPr>
              <p:spPr>
                <a:xfrm rot="1596000">
                  <a:off x="3620520" y="324216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188"/>
                <p:cNvSpPr/>
                <p:nvPr/>
              </p:nvSpPr>
              <p:spPr>
                <a:xfrm rot="1596000">
                  <a:off x="3655080" y="321876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189"/>
                <p:cNvSpPr/>
                <p:nvPr/>
              </p:nvSpPr>
              <p:spPr>
                <a:xfrm rot="1596000">
                  <a:off x="3661200" y="3313440"/>
                  <a:ext cx="16920" cy="140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190"/>
                <p:cNvSpPr/>
                <p:nvPr/>
              </p:nvSpPr>
              <p:spPr>
                <a:xfrm rot="1596000">
                  <a:off x="3712680" y="328536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191"/>
                <p:cNvSpPr/>
                <p:nvPr/>
              </p:nvSpPr>
              <p:spPr>
                <a:xfrm rot="1596000">
                  <a:off x="3720960" y="335556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92"/>
                <p:cNvSpPr/>
                <p:nvPr/>
              </p:nvSpPr>
              <p:spPr>
                <a:xfrm rot="1596000">
                  <a:off x="3732120" y="32356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93"/>
                <p:cNvSpPr/>
                <p:nvPr/>
              </p:nvSpPr>
              <p:spPr>
                <a:xfrm rot="1596000">
                  <a:off x="3783960" y="329868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94"/>
                <p:cNvSpPr/>
                <p:nvPr/>
              </p:nvSpPr>
              <p:spPr>
                <a:xfrm rot="1596000">
                  <a:off x="3750120" y="3326760"/>
                  <a:ext cx="17280" cy="15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95"/>
                <p:cNvSpPr/>
                <p:nvPr/>
              </p:nvSpPr>
              <p:spPr>
                <a:xfrm rot="1596000">
                  <a:off x="3794400" y="32482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96"/>
                <p:cNvSpPr/>
                <p:nvPr/>
              </p:nvSpPr>
              <p:spPr>
                <a:xfrm rot="1596000">
                  <a:off x="3760200" y="320724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97"/>
                <p:cNvSpPr/>
                <p:nvPr/>
              </p:nvSpPr>
              <p:spPr>
                <a:xfrm rot="1596000">
                  <a:off x="3693600" y="318060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0" name="Group 198"/>
                <p:cNvGrpSpPr/>
                <p:nvPr/>
              </p:nvGrpSpPr>
              <p:grpSpPr>
                <a:xfrm>
                  <a:off x="3171960" y="3068280"/>
                  <a:ext cx="404640" cy="295560"/>
                  <a:chOff x="3171960" y="3068280"/>
                  <a:chExt cx="404640" cy="295560"/>
                </a:xfrm>
              </p:grpSpPr>
              <p:sp>
                <p:nvSpPr>
                  <p:cNvPr id="421" name="Freeform 199"/>
                  <p:cNvSpPr/>
                  <p:nvPr/>
                </p:nvSpPr>
                <p:spPr>
                  <a:xfrm flipH="1" rot="1596000">
                    <a:off x="3182400" y="3146760"/>
                    <a:ext cx="383400" cy="138600"/>
                  </a:xfrm>
                  <a:custGeom>
                    <a:avLst/>
                    <a:gdLst>
                      <a:gd name="textAreaLeft" fmla="*/ -360 w 383400"/>
                      <a:gd name="textAreaRight" fmla="*/ 383400 w 383400"/>
                      <a:gd name="textAreaTop" fmla="*/ 0 h 138600"/>
                      <a:gd name="textAreaBottom" fmla="*/ 138960 h 13860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2" name="Group 200"/>
                  <p:cNvGrpSpPr/>
                  <p:nvPr/>
                </p:nvGrpSpPr>
                <p:grpSpPr>
                  <a:xfrm>
                    <a:off x="3213360" y="3107520"/>
                    <a:ext cx="313200" cy="215640"/>
                    <a:chOff x="3213360" y="3107520"/>
                    <a:chExt cx="313200" cy="215640"/>
                  </a:xfrm>
                </p:grpSpPr>
                <p:sp>
                  <p:nvSpPr>
                    <p:cNvPr id="423" name="Freeform 201"/>
                    <p:cNvSpPr/>
                    <p:nvPr/>
                  </p:nvSpPr>
                  <p:spPr>
                    <a:xfrm flipH="1" rot="1596000">
                      <a:off x="3220560" y="3165120"/>
                      <a:ext cx="281880" cy="100080"/>
                    </a:xfrm>
                    <a:custGeom>
                      <a:avLst/>
                      <a:gdLst>
                        <a:gd name="textAreaLeft" fmla="*/ -360 w 281880"/>
                        <a:gd name="textAreaRight" fmla="*/ 281880 w 281880"/>
                        <a:gd name="textAreaTop" fmla="*/ 0 h 100080"/>
                        <a:gd name="textAreaBottom" fmla="*/ 100440 h 10008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202"/>
                    <p:cNvSpPr/>
                    <p:nvPr/>
                  </p:nvSpPr>
                  <p:spPr>
                    <a:xfrm flipH="1" rot="1596000">
                      <a:off x="3485520" y="3284280"/>
                      <a:ext cx="39600" cy="13320"/>
                    </a:xfrm>
                    <a:custGeom>
                      <a:avLst/>
                      <a:gdLst>
                        <a:gd name="textAreaLeft" fmla="*/ 360 w 39600"/>
                        <a:gd name="textAreaRight" fmla="*/ 40320 w 39600"/>
                        <a:gd name="textAreaTop" fmla="*/ 0 h 13320"/>
                        <a:gd name="textAreaBottom" fmla="*/ 13680 h 1332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5" name="Group 203"/>
              <p:cNvGrpSpPr/>
              <p:nvPr/>
            </p:nvGrpSpPr>
            <p:grpSpPr>
              <a:xfrm>
                <a:off x="4678920" y="3132720"/>
                <a:ext cx="971280" cy="326160"/>
                <a:chOff x="4678920" y="3132720"/>
                <a:chExt cx="971280" cy="326160"/>
              </a:xfrm>
            </p:grpSpPr>
            <p:sp>
              <p:nvSpPr>
                <p:cNvPr id="426" name="Freeform 204"/>
                <p:cNvSpPr/>
                <p:nvPr/>
              </p:nvSpPr>
              <p:spPr>
                <a:xfrm rot="655200">
                  <a:off x="5293800" y="3238560"/>
                  <a:ext cx="343800" cy="163080"/>
                </a:xfrm>
                <a:custGeom>
                  <a:avLst/>
                  <a:gdLst>
                    <a:gd name="textAreaLeft" fmla="*/ 0 w 343800"/>
                    <a:gd name="textAreaRight" fmla="*/ 344160 w 343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05"/>
                <p:cNvSpPr/>
                <p:nvPr/>
              </p:nvSpPr>
              <p:spPr>
                <a:xfrm rot="655200">
                  <a:off x="5364000" y="3250080"/>
                  <a:ext cx="230400" cy="126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206"/>
                <p:cNvSpPr/>
                <p:nvPr/>
              </p:nvSpPr>
              <p:spPr>
                <a:xfrm rot="655200">
                  <a:off x="4972320" y="3197520"/>
                  <a:ext cx="377640" cy="218520"/>
                </a:xfrm>
                <a:custGeom>
                  <a:avLst/>
                  <a:gdLst>
                    <a:gd name="textAreaLeft" fmla="*/ 0 w 377640"/>
                    <a:gd name="textAreaRight" fmla="*/ 378000 w 3776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07"/>
                <p:cNvSpPr/>
                <p:nvPr/>
              </p:nvSpPr>
              <p:spPr>
                <a:xfrm rot="655200">
                  <a:off x="5096880" y="3209040"/>
                  <a:ext cx="74160" cy="788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08"/>
                <p:cNvSpPr/>
                <p:nvPr/>
              </p:nvSpPr>
              <p:spPr>
                <a:xfrm rot="655200">
                  <a:off x="4999320" y="3193200"/>
                  <a:ext cx="131040" cy="6552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09"/>
                <p:cNvSpPr/>
                <p:nvPr/>
              </p:nvSpPr>
              <p:spPr>
                <a:xfrm rot="655200">
                  <a:off x="5123160" y="3189600"/>
                  <a:ext cx="162000" cy="367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210"/>
                <p:cNvSpPr/>
                <p:nvPr/>
              </p:nvSpPr>
              <p:spPr>
                <a:xfrm rot="655200">
                  <a:off x="5124960" y="3144600"/>
                  <a:ext cx="135720" cy="75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11"/>
                <p:cNvSpPr/>
                <p:nvPr/>
              </p:nvSpPr>
              <p:spPr>
                <a:xfrm rot="655200">
                  <a:off x="4954680" y="3180240"/>
                  <a:ext cx="180360" cy="4356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12"/>
                <p:cNvSpPr/>
                <p:nvPr/>
              </p:nvSpPr>
              <p:spPr>
                <a:xfrm rot="655200">
                  <a:off x="5052600" y="3155400"/>
                  <a:ext cx="86400" cy="4536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13"/>
                <p:cNvSpPr/>
                <p:nvPr/>
              </p:nvSpPr>
              <p:spPr>
                <a:xfrm rot="655200">
                  <a:off x="5058720" y="3269880"/>
                  <a:ext cx="29520" cy="255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14"/>
                <p:cNvSpPr/>
                <p:nvPr/>
              </p:nvSpPr>
              <p:spPr>
                <a:xfrm rot="655200">
                  <a:off x="5100480" y="333540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15"/>
                <p:cNvSpPr/>
                <p:nvPr/>
              </p:nvSpPr>
              <p:spPr>
                <a:xfrm rot="655200">
                  <a:off x="5120280" y="330552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16"/>
                <p:cNvSpPr/>
                <p:nvPr/>
              </p:nvSpPr>
              <p:spPr>
                <a:xfrm rot="655200">
                  <a:off x="5147280" y="32731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17"/>
                <p:cNvSpPr/>
                <p:nvPr/>
              </p:nvSpPr>
              <p:spPr>
                <a:xfrm rot="655200">
                  <a:off x="5177880" y="336240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18"/>
                <p:cNvSpPr/>
                <p:nvPr/>
              </p:nvSpPr>
              <p:spPr>
                <a:xfrm rot="655200">
                  <a:off x="5220720" y="332136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19"/>
                <p:cNvSpPr/>
                <p:nvPr/>
              </p:nvSpPr>
              <p:spPr>
                <a:xfrm rot="655200">
                  <a:off x="5247720" y="3387240"/>
                  <a:ext cx="29160" cy="248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20"/>
                <p:cNvSpPr/>
                <p:nvPr/>
              </p:nvSpPr>
              <p:spPr>
                <a:xfrm rot="655200">
                  <a:off x="5226120" y="326880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21"/>
                <p:cNvSpPr/>
                <p:nvPr/>
              </p:nvSpPr>
              <p:spPr>
                <a:xfrm rot="655200">
                  <a:off x="5291640" y="331560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22"/>
                <p:cNvSpPr/>
                <p:nvPr/>
              </p:nvSpPr>
              <p:spPr>
                <a:xfrm rot="655200">
                  <a:off x="5268240" y="335232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23"/>
                <p:cNvSpPr/>
                <p:nvPr/>
              </p:nvSpPr>
              <p:spPr>
                <a:xfrm rot="655200">
                  <a:off x="5288760" y="326412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24"/>
                <p:cNvSpPr/>
                <p:nvPr/>
              </p:nvSpPr>
              <p:spPr>
                <a:xfrm rot="655200">
                  <a:off x="5245560" y="32335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25"/>
                <p:cNvSpPr/>
                <p:nvPr/>
              </p:nvSpPr>
              <p:spPr>
                <a:xfrm rot="655200">
                  <a:off x="5174280" y="322596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26"/>
                <p:cNvSpPr/>
                <p:nvPr/>
              </p:nvSpPr>
              <p:spPr>
                <a:xfrm rot="655200">
                  <a:off x="5065200" y="327528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27"/>
                <p:cNvSpPr/>
                <p:nvPr/>
              </p:nvSpPr>
              <p:spPr>
                <a:xfrm rot="655200">
                  <a:off x="5107320" y="334116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28"/>
                <p:cNvSpPr/>
                <p:nvPr/>
              </p:nvSpPr>
              <p:spPr>
                <a:xfrm rot="655200">
                  <a:off x="5126040" y="331092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29"/>
                <p:cNvSpPr/>
                <p:nvPr/>
              </p:nvSpPr>
              <p:spPr>
                <a:xfrm rot="655200">
                  <a:off x="5153040" y="32788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30"/>
                <p:cNvSpPr/>
                <p:nvPr/>
              </p:nvSpPr>
              <p:spPr>
                <a:xfrm rot="655200">
                  <a:off x="5184720" y="3368160"/>
                  <a:ext cx="16920" cy="140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31"/>
                <p:cNvSpPr/>
                <p:nvPr/>
              </p:nvSpPr>
              <p:spPr>
                <a:xfrm rot="655200">
                  <a:off x="5226480" y="332712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32"/>
                <p:cNvSpPr/>
                <p:nvPr/>
              </p:nvSpPr>
              <p:spPr>
                <a:xfrm rot="655200">
                  <a:off x="5253480" y="339264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33"/>
                <p:cNvSpPr/>
                <p:nvPr/>
              </p:nvSpPr>
              <p:spPr>
                <a:xfrm rot="655200">
                  <a:off x="5231880" y="327420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234"/>
                <p:cNvSpPr/>
                <p:nvPr/>
              </p:nvSpPr>
              <p:spPr>
                <a:xfrm rot="655200">
                  <a:off x="5298840" y="332100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35"/>
                <p:cNvSpPr/>
                <p:nvPr/>
              </p:nvSpPr>
              <p:spPr>
                <a:xfrm rot="655200">
                  <a:off x="5273640" y="3357360"/>
                  <a:ext cx="17280" cy="15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36"/>
                <p:cNvSpPr/>
                <p:nvPr/>
              </p:nvSpPr>
              <p:spPr>
                <a:xfrm rot="655200">
                  <a:off x="5295240" y="32698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237"/>
                <p:cNvSpPr/>
                <p:nvPr/>
              </p:nvSpPr>
              <p:spPr>
                <a:xfrm rot="655200">
                  <a:off x="5251320" y="323928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38"/>
                <p:cNvSpPr/>
                <p:nvPr/>
              </p:nvSpPr>
              <p:spPr>
                <a:xfrm rot="655200">
                  <a:off x="5180040" y="323172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1" name="Group 239"/>
                <p:cNvGrpSpPr/>
                <p:nvPr/>
              </p:nvGrpSpPr>
              <p:grpSpPr>
                <a:xfrm>
                  <a:off x="4678920" y="3250080"/>
                  <a:ext cx="402840" cy="208800"/>
                  <a:chOff x="4678920" y="3250080"/>
                  <a:chExt cx="402840" cy="208800"/>
                </a:xfrm>
              </p:grpSpPr>
              <p:sp>
                <p:nvSpPr>
                  <p:cNvPr id="462" name="Freeform 240"/>
                  <p:cNvSpPr/>
                  <p:nvPr/>
                </p:nvSpPr>
                <p:spPr>
                  <a:xfrm flipH="1" rot="655200">
                    <a:off x="4687920" y="3285000"/>
                    <a:ext cx="383400" cy="138600"/>
                  </a:xfrm>
                  <a:custGeom>
                    <a:avLst/>
                    <a:gdLst>
                      <a:gd name="textAreaLeft" fmla="*/ -360 w 383400"/>
                      <a:gd name="textAreaRight" fmla="*/ 383400 w 383400"/>
                      <a:gd name="textAreaTop" fmla="*/ 0 h 138600"/>
                      <a:gd name="textAreaBottom" fmla="*/ 138960 h 13860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3" name="Group 241"/>
                  <p:cNvGrpSpPr/>
                  <p:nvPr/>
                </p:nvGrpSpPr>
                <p:grpSpPr>
                  <a:xfrm>
                    <a:off x="4719960" y="3281760"/>
                    <a:ext cx="328680" cy="151560"/>
                    <a:chOff x="4719960" y="3281760"/>
                    <a:chExt cx="328680" cy="151560"/>
                  </a:xfrm>
                </p:grpSpPr>
                <p:sp>
                  <p:nvSpPr>
                    <p:cNvPr id="464" name="Freeform 242"/>
                    <p:cNvSpPr/>
                    <p:nvPr/>
                  </p:nvSpPr>
                  <p:spPr>
                    <a:xfrm flipH="1" rot="655200">
                      <a:off x="4726800" y="3307320"/>
                      <a:ext cx="281880" cy="100080"/>
                    </a:xfrm>
                    <a:custGeom>
                      <a:avLst/>
                      <a:gdLst>
                        <a:gd name="textAreaLeft" fmla="*/ -360 w 281880"/>
                        <a:gd name="textAreaRight" fmla="*/ 281880 w 281880"/>
                        <a:gd name="textAreaTop" fmla="*/ 0 h 100080"/>
                        <a:gd name="textAreaBottom" fmla="*/ 100440 h 10008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243"/>
                    <p:cNvSpPr/>
                    <p:nvPr/>
                  </p:nvSpPr>
                  <p:spPr>
                    <a:xfrm flipH="1" rot="655200">
                      <a:off x="5007600" y="3384720"/>
                      <a:ext cx="39600" cy="13320"/>
                    </a:xfrm>
                    <a:custGeom>
                      <a:avLst/>
                      <a:gdLst>
                        <a:gd name="textAreaLeft" fmla="*/ 360 w 39600"/>
                        <a:gd name="textAreaRight" fmla="*/ 40320 w 39600"/>
                        <a:gd name="textAreaTop" fmla="*/ 0 h 13320"/>
                        <a:gd name="textAreaBottom" fmla="*/ 13680 h 1332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pic>
          <p:nvPicPr>
            <p:cNvPr id="466" name="Picture 244" descr="food_09"/>
            <p:cNvPicPr/>
            <p:nvPr/>
          </p:nvPicPr>
          <p:blipFill>
            <a:blip r:embed="rId2"/>
            <a:stretch/>
          </p:blipFill>
          <p:spPr>
            <a:xfrm>
              <a:off x="2696040" y="1197000"/>
              <a:ext cx="2030760" cy="167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45" descr="food_09"/>
            <p:cNvPicPr/>
            <p:nvPr/>
          </p:nvPicPr>
          <p:blipFill>
            <a:blip r:embed="rId3"/>
            <a:stretch/>
          </p:blipFill>
          <p:spPr>
            <a:xfrm>
              <a:off x="4989600" y="1256040"/>
              <a:ext cx="2030400" cy="167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Picture 4" descr="коробка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коробка"/>
          <p:cNvPicPr/>
          <p:nvPr/>
        </p:nvPicPr>
        <p:blipFill>
          <a:blip r:embed="rId5"/>
          <a:stretch/>
        </p:blipFill>
        <p:spPr>
          <a:xfrm>
            <a:off x="0" y="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коробка"/>
          <p:cNvPicPr/>
          <p:nvPr/>
        </p:nvPicPr>
        <p:blipFill>
          <a:blip r:embed="rId6"/>
          <a:stretch/>
        </p:blipFill>
        <p:spPr>
          <a:xfrm>
            <a:off x="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коробка"/>
          <p:cNvPicPr/>
          <p:nvPr/>
        </p:nvPicPr>
        <p:blipFill>
          <a:blip r:embed="rId7"/>
          <a:stretch/>
        </p:blipFill>
        <p:spPr>
          <a:xfrm>
            <a:off x="723888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food_09"/>
          <p:cNvPicPr/>
          <p:nvPr/>
        </p:nvPicPr>
        <p:blipFill>
          <a:blip r:embed="rId8"/>
          <a:stretch/>
        </p:blipFill>
        <p:spPr>
          <a:xfrm>
            <a:off x="4648320" y="121932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6" descr="food_09"/>
          <p:cNvPicPr/>
          <p:nvPr/>
        </p:nvPicPr>
        <p:blipFill>
          <a:blip r:embed="rId9"/>
          <a:stretch/>
        </p:blipFill>
        <p:spPr>
          <a:xfrm rot="21144600">
            <a:off x="3733920" y="2286000"/>
            <a:ext cx="939600" cy="9399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7" descr="food_09"/>
          <p:cNvPicPr/>
          <p:nvPr/>
        </p:nvPicPr>
        <p:blipFill>
          <a:blip r:embed="rId10"/>
          <a:stretch/>
        </p:blipFill>
        <p:spPr>
          <a:xfrm rot="20757600">
            <a:off x="2987280" y="234936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9" descr="food_09"/>
          <p:cNvPicPr/>
          <p:nvPr/>
        </p:nvPicPr>
        <p:blipFill>
          <a:blip r:embed="rId11"/>
          <a:stretch/>
        </p:blipFill>
        <p:spPr>
          <a:xfrm rot="1014000">
            <a:off x="3059280" y="191628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1" descr="food_09"/>
          <p:cNvPicPr/>
          <p:nvPr/>
        </p:nvPicPr>
        <p:blipFill>
          <a:blip r:embed="rId12"/>
          <a:stretch/>
        </p:blipFill>
        <p:spPr>
          <a:xfrm rot="349200">
            <a:off x="5333760" y="914040"/>
            <a:ext cx="939600" cy="9399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2" descr="food_09"/>
          <p:cNvPicPr/>
          <p:nvPr/>
        </p:nvPicPr>
        <p:blipFill>
          <a:blip r:embed="rId13"/>
          <a:stretch/>
        </p:blipFill>
        <p:spPr>
          <a:xfrm rot="20599200">
            <a:off x="4495320" y="243792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3" descr="food_09"/>
          <p:cNvPicPr/>
          <p:nvPr/>
        </p:nvPicPr>
        <p:blipFill>
          <a:blip r:embed="rId14"/>
          <a:stretch/>
        </p:blipFill>
        <p:spPr>
          <a:xfrm rot="21456600">
            <a:off x="4343400" y="160020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4" descr="food_09"/>
          <p:cNvPicPr/>
          <p:nvPr/>
        </p:nvPicPr>
        <p:blipFill>
          <a:blip r:embed="rId15"/>
          <a:stretch/>
        </p:blipFill>
        <p:spPr>
          <a:xfrm rot="21258600">
            <a:off x="4211280" y="2060640"/>
            <a:ext cx="939960" cy="939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7" descr="food_09"/>
          <p:cNvPicPr/>
          <p:nvPr/>
        </p:nvPicPr>
        <p:blipFill>
          <a:blip r:embed="rId16"/>
          <a:stretch/>
        </p:blipFill>
        <p:spPr>
          <a:xfrm rot="21207000">
            <a:off x="5435640" y="2204640"/>
            <a:ext cx="939600" cy="93996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231"/>
          <p:cNvSpPr/>
          <p:nvPr/>
        </p:nvSpPr>
        <p:spPr>
          <a:xfrm>
            <a:off x="2824200" y="452916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Arial"/>
              </a:rPr>
              <a:t>11:4=2(ост 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L -0.25209 0.38866 E">
                                      <p:cBhvr>
                                        <p:cTn id="632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32274 0.38843 E">
                                      <p:cBhvr>
                                        <p:cTn id="636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40741E-007 L 0.2125 -0.28357 E">
                                      <p:cBhvr>
                                        <p:cTn id="640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66667E-006 L -0.49618 -0.10486 E">
                                      <p:cBhvr>
                                        <p:cTn id="644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7 L -0.22848 0.4831 E">
                                      <p:cBhvr>
                                        <p:cTn id="648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31493 0.46203 E">
                                      <p:cBhvr>
                                        <p:cTn id="652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3.7037E-007 L 0.41737 -0.29398 E">
                                      <p:cBhvr>
                                        <p:cTn id="656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-0.40156 -0.18912 E">
                                      <p:cBhvr>
                                        <p:cTn id="660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N023"/>
          <p:cNvPicPr/>
          <p:nvPr/>
        </p:nvPicPr>
        <p:blipFill>
          <a:blip r:embed="rId1"/>
          <a:stretch/>
        </p:blipFill>
        <p:spPr>
          <a:xfrm>
            <a:off x="179280" y="342900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N023"/>
          <p:cNvPicPr/>
          <p:nvPr/>
        </p:nvPicPr>
        <p:blipFill>
          <a:blip r:embed="rId2"/>
          <a:stretch/>
        </p:blipFill>
        <p:spPr>
          <a:xfrm>
            <a:off x="90000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N023"/>
          <p:cNvPicPr/>
          <p:nvPr/>
        </p:nvPicPr>
        <p:blipFill>
          <a:blip r:embed="rId3"/>
          <a:stretch/>
        </p:blipFill>
        <p:spPr>
          <a:xfrm>
            <a:off x="1763640" y="342900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N023"/>
          <p:cNvPicPr/>
          <p:nvPr/>
        </p:nvPicPr>
        <p:blipFill>
          <a:blip r:embed="rId4"/>
          <a:stretch/>
        </p:blipFill>
        <p:spPr>
          <a:xfrm>
            <a:off x="179280" y="537372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N023"/>
          <p:cNvPicPr/>
          <p:nvPr/>
        </p:nvPicPr>
        <p:blipFill>
          <a:blip r:embed="rId5"/>
          <a:stretch/>
        </p:blipFill>
        <p:spPr>
          <a:xfrm>
            <a:off x="1763640" y="537372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N023"/>
          <p:cNvPicPr/>
          <p:nvPr/>
        </p:nvPicPr>
        <p:blipFill>
          <a:blip r:embed="rId6"/>
          <a:stretch/>
        </p:blipFill>
        <p:spPr>
          <a:xfrm>
            <a:off x="3492360" y="336240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N023"/>
          <p:cNvPicPr/>
          <p:nvPr/>
        </p:nvPicPr>
        <p:blipFill>
          <a:blip r:embed="rId7"/>
          <a:stretch/>
        </p:blipFill>
        <p:spPr>
          <a:xfrm>
            <a:off x="5364000" y="5516640"/>
            <a:ext cx="825840" cy="1146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N023"/>
          <p:cNvPicPr/>
          <p:nvPr/>
        </p:nvPicPr>
        <p:blipFill>
          <a:blip r:embed="rId8"/>
          <a:stretch/>
        </p:blipFill>
        <p:spPr>
          <a:xfrm>
            <a:off x="3492360" y="5516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1" descr="N023"/>
          <p:cNvPicPr/>
          <p:nvPr/>
        </p:nvPicPr>
        <p:blipFill>
          <a:blip r:embed="rId9"/>
          <a:stretch/>
        </p:blipFill>
        <p:spPr>
          <a:xfrm>
            <a:off x="262728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N023"/>
          <p:cNvPicPr/>
          <p:nvPr/>
        </p:nvPicPr>
        <p:blipFill>
          <a:blip r:embed="rId10"/>
          <a:stretch/>
        </p:blipFill>
        <p:spPr>
          <a:xfrm>
            <a:off x="450072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3" descr="N023"/>
          <p:cNvPicPr/>
          <p:nvPr/>
        </p:nvPicPr>
        <p:blipFill>
          <a:blip r:embed="rId11"/>
          <a:stretch/>
        </p:blipFill>
        <p:spPr>
          <a:xfrm>
            <a:off x="5435640" y="336240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4" descr="N023"/>
          <p:cNvPicPr/>
          <p:nvPr/>
        </p:nvPicPr>
        <p:blipFill>
          <a:blip r:embed="rId12"/>
          <a:stretch/>
        </p:blipFill>
        <p:spPr>
          <a:xfrm>
            <a:off x="622764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5" descr="N023"/>
          <p:cNvPicPr/>
          <p:nvPr/>
        </p:nvPicPr>
        <p:blipFill>
          <a:blip r:embed="rId13"/>
          <a:stretch/>
        </p:blipFill>
        <p:spPr>
          <a:xfrm>
            <a:off x="7380360" y="5300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6" descr="N023"/>
          <p:cNvPicPr/>
          <p:nvPr/>
        </p:nvPicPr>
        <p:blipFill>
          <a:blip r:embed="rId14"/>
          <a:stretch/>
        </p:blipFill>
        <p:spPr>
          <a:xfrm>
            <a:off x="831852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7" descr="N023"/>
          <p:cNvPicPr/>
          <p:nvPr/>
        </p:nvPicPr>
        <p:blipFill>
          <a:blip r:embed="rId15"/>
          <a:stretch/>
        </p:blipFill>
        <p:spPr>
          <a:xfrm>
            <a:off x="7308720" y="3284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8" descr="SO01388_"/>
          <p:cNvPicPr/>
          <p:nvPr/>
        </p:nvPicPr>
        <p:blipFill>
          <a:blip r:embed="rId16"/>
          <a:stretch/>
        </p:blipFill>
        <p:spPr>
          <a:xfrm>
            <a:off x="-36360" y="0"/>
            <a:ext cx="2627280" cy="20779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9" descr="SO01388_"/>
          <p:cNvPicPr/>
          <p:nvPr/>
        </p:nvPicPr>
        <p:blipFill>
          <a:blip r:embed="rId17"/>
          <a:stretch/>
        </p:blipFill>
        <p:spPr>
          <a:xfrm>
            <a:off x="2050920" y="1268280"/>
            <a:ext cx="2627280" cy="2078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0" descr="SO01388_"/>
          <p:cNvPicPr/>
          <p:nvPr/>
        </p:nvPicPr>
        <p:blipFill>
          <a:blip r:embed="rId18"/>
          <a:stretch/>
        </p:blipFill>
        <p:spPr>
          <a:xfrm>
            <a:off x="4500720" y="1268280"/>
            <a:ext cx="2627280" cy="20782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1" descr="SO01388_"/>
          <p:cNvPicPr/>
          <p:nvPr/>
        </p:nvPicPr>
        <p:blipFill>
          <a:blip r:embed="rId19"/>
          <a:stretch/>
        </p:blipFill>
        <p:spPr>
          <a:xfrm>
            <a:off x="6732720" y="0"/>
            <a:ext cx="2627280" cy="20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7341E-007 L 0.01007 -0.47144 E">
                                      <p:cBhvr>
                                        <p:cTn id="67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7341E-007 L 0.06511 -0.29318 E">
                                      <p:cBhvr>
                                        <p:cTn id="67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09249E-007 L 0.15174 -0.27306 E">
                                      <p:cBhvr>
                                        <p:cTn id="679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000"/>
                            </p:stCondLst>
                            <p:childTnLst>
                              <p:par>
                                <p:cTn id="6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09249E-007 L 0.17535 -0.45133 E">
                                      <p:cBhvr>
                                        <p:cTn id="682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8000"/>
                            </p:stCondLst>
                            <p:childTnLst>
                              <p:par>
                                <p:cTn id="68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89017E-007 L -0.72239 -0.4504 E">
                                      <p:cBhvr>
                                        <p:cTn id="685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20231E-007 L 0.23038 -0.40855 E">
                                      <p:cBhvr>
                                        <p:cTn id="68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0.31718 -0.40855 E">
                                      <p:cBhvr>
                                        <p:cTn id="691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20231E-007 L 0.34861 -0.59722 E">
                                      <p:cBhvr>
                                        <p:cTn id="694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54115 -0.59722 E">
                                      <p:cBhvr>
                                        <p:cTn id="69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20231E-007 L -0.52569 -0.41896 E">
                                      <p:cBhvr>
                                        <p:cTn id="700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3237E-006 L 0.63993 -0.57642 E">
                                      <p:cBhvr>
                                        <p:cTn id="703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83237E-006 L 0.72656 -0.74428 E">
                                      <p:cBhvr>
                                        <p:cTn id="706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52"/>
          <p:cNvSpPr/>
          <p:nvPr/>
        </p:nvSpPr>
        <p:spPr>
          <a:xfrm>
            <a:off x="60948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соответствие рисунка и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80880" y="1066680"/>
          <a:ext cx="8610840" cy="15242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380880" y="2743200"/>
          <a:ext cx="8610840" cy="160020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380880" y="4495680"/>
          <a:ext cx="8610840" cy="17528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Picture 8" descr="square"/>
          <p:cNvPicPr/>
          <p:nvPr/>
        </p:nvPicPr>
        <p:blipFill>
          <a:blip r:embed="rId1"/>
          <a:stretch/>
        </p:blipFill>
        <p:spPr>
          <a:xfrm>
            <a:off x="5335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круг"/>
          <p:cNvPicPr/>
          <p:nvPr/>
        </p:nvPicPr>
        <p:blipFill>
          <a:blip r:embed="rId2"/>
          <a:stretch/>
        </p:blipFill>
        <p:spPr>
          <a:xfrm>
            <a:off x="5335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овал"/>
          <p:cNvPicPr/>
          <p:nvPr/>
        </p:nvPicPr>
        <p:blipFill>
          <a:blip r:embed="rId3"/>
          <a:stretch/>
        </p:blipFill>
        <p:spPr>
          <a:xfrm>
            <a:off x="4572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ромб"/>
          <p:cNvPicPr/>
          <p:nvPr/>
        </p:nvPicPr>
        <p:blipFill>
          <a:blip r:embed="rId4"/>
          <a:stretch/>
        </p:blipFill>
        <p:spPr>
          <a:xfrm>
            <a:off x="45720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пятиугольник"/>
          <p:cNvPicPr/>
          <p:nvPr/>
        </p:nvPicPr>
        <p:blipFill>
          <a:blip r:embed="rId5"/>
          <a:stretch/>
        </p:blipFill>
        <p:spPr>
          <a:xfrm>
            <a:off x="45720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1" descr="треугольник"/>
          <p:cNvPicPr/>
          <p:nvPr/>
        </p:nvPicPr>
        <p:blipFill>
          <a:blip r:embed="rId6"/>
          <a:stretch/>
        </p:blipFill>
        <p:spPr>
          <a:xfrm>
            <a:off x="457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2" descr="square"/>
          <p:cNvPicPr/>
          <p:nvPr/>
        </p:nvPicPr>
        <p:blipFill>
          <a:blip r:embed="rId7"/>
          <a:stretch/>
        </p:blipFill>
        <p:spPr>
          <a:xfrm>
            <a:off x="49528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3" descr="square"/>
          <p:cNvPicPr/>
          <p:nvPr/>
        </p:nvPicPr>
        <p:blipFill>
          <a:blip r:embed="rId8"/>
          <a:stretch/>
        </p:blipFill>
        <p:spPr>
          <a:xfrm>
            <a:off x="990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4" descr="square"/>
          <p:cNvPicPr/>
          <p:nvPr/>
        </p:nvPicPr>
        <p:blipFill>
          <a:blip r:embed="rId9"/>
          <a:stretch/>
        </p:blipFill>
        <p:spPr>
          <a:xfrm>
            <a:off x="1447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5" descr="square"/>
          <p:cNvPicPr/>
          <p:nvPr/>
        </p:nvPicPr>
        <p:blipFill>
          <a:blip r:embed="rId10"/>
          <a:stretch/>
        </p:blipFill>
        <p:spPr>
          <a:xfrm>
            <a:off x="22860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6" descr="square"/>
          <p:cNvPicPr/>
          <p:nvPr/>
        </p:nvPicPr>
        <p:blipFill>
          <a:blip r:embed="rId11"/>
          <a:stretch/>
        </p:blipFill>
        <p:spPr>
          <a:xfrm>
            <a:off x="27432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7" descr="square"/>
          <p:cNvPicPr/>
          <p:nvPr/>
        </p:nvPicPr>
        <p:blipFill>
          <a:blip r:embed="rId12"/>
          <a:stretch/>
        </p:blipFill>
        <p:spPr>
          <a:xfrm>
            <a:off x="32004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8" descr="square"/>
          <p:cNvPicPr/>
          <p:nvPr/>
        </p:nvPicPr>
        <p:blipFill>
          <a:blip r:embed="rId13"/>
          <a:stretch/>
        </p:blipFill>
        <p:spPr>
          <a:xfrm>
            <a:off x="41911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9" descr="овал"/>
          <p:cNvPicPr/>
          <p:nvPr/>
        </p:nvPicPr>
        <p:blipFill>
          <a:blip r:embed="rId14"/>
          <a:stretch/>
        </p:blipFill>
        <p:spPr>
          <a:xfrm>
            <a:off x="9144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0" descr="овал"/>
          <p:cNvPicPr/>
          <p:nvPr/>
        </p:nvPicPr>
        <p:blipFill>
          <a:blip r:embed="rId15"/>
          <a:stretch/>
        </p:blipFill>
        <p:spPr>
          <a:xfrm>
            <a:off x="13716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1" descr="овал"/>
          <p:cNvPicPr/>
          <p:nvPr/>
        </p:nvPicPr>
        <p:blipFill>
          <a:blip r:embed="rId16"/>
          <a:stretch/>
        </p:blipFill>
        <p:spPr>
          <a:xfrm>
            <a:off x="19051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82" descr="овал"/>
          <p:cNvPicPr/>
          <p:nvPr/>
        </p:nvPicPr>
        <p:blipFill>
          <a:blip r:embed="rId17"/>
          <a:stretch/>
        </p:blipFill>
        <p:spPr>
          <a:xfrm>
            <a:off x="24382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3" descr="овал"/>
          <p:cNvPicPr/>
          <p:nvPr/>
        </p:nvPicPr>
        <p:blipFill>
          <a:blip r:embed="rId18"/>
          <a:stretch/>
        </p:blipFill>
        <p:spPr>
          <a:xfrm>
            <a:off x="28954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4" descr="овал"/>
          <p:cNvPicPr/>
          <p:nvPr/>
        </p:nvPicPr>
        <p:blipFill>
          <a:blip r:embed="rId19"/>
          <a:stretch/>
        </p:blipFill>
        <p:spPr>
          <a:xfrm>
            <a:off x="3429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5" descr="овал"/>
          <p:cNvPicPr/>
          <p:nvPr/>
        </p:nvPicPr>
        <p:blipFill>
          <a:blip r:embed="rId20"/>
          <a:stretch/>
        </p:blipFill>
        <p:spPr>
          <a:xfrm>
            <a:off x="3962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6" descr="овал"/>
          <p:cNvPicPr/>
          <p:nvPr/>
        </p:nvPicPr>
        <p:blipFill>
          <a:blip r:embed="rId21"/>
          <a:stretch/>
        </p:blipFill>
        <p:spPr>
          <a:xfrm>
            <a:off x="4572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7" descr="овал"/>
          <p:cNvPicPr/>
          <p:nvPr/>
        </p:nvPicPr>
        <p:blipFill>
          <a:blip r:embed="rId22"/>
          <a:stretch/>
        </p:blipFill>
        <p:spPr>
          <a:xfrm>
            <a:off x="5105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8" descr="треугольник"/>
          <p:cNvPicPr/>
          <p:nvPr/>
        </p:nvPicPr>
        <p:blipFill>
          <a:blip r:embed="rId23"/>
          <a:stretch/>
        </p:blipFill>
        <p:spPr>
          <a:xfrm>
            <a:off x="1143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9" descr="треугольник"/>
          <p:cNvPicPr/>
          <p:nvPr/>
        </p:nvPicPr>
        <p:blipFill>
          <a:blip r:embed="rId24"/>
          <a:stretch/>
        </p:blipFill>
        <p:spPr>
          <a:xfrm>
            <a:off x="18288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0" descr="треугольник"/>
          <p:cNvPicPr/>
          <p:nvPr/>
        </p:nvPicPr>
        <p:blipFill>
          <a:blip r:embed="rId25"/>
          <a:stretch/>
        </p:blipFill>
        <p:spPr>
          <a:xfrm>
            <a:off x="25146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1" descr="треугольник"/>
          <p:cNvPicPr/>
          <p:nvPr/>
        </p:nvPicPr>
        <p:blipFill>
          <a:blip r:embed="rId26"/>
          <a:stretch/>
        </p:blipFill>
        <p:spPr>
          <a:xfrm>
            <a:off x="32004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2" descr="треугольник"/>
          <p:cNvPicPr/>
          <p:nvPr/>
        </p:nvPicPr>
        <p:blipFill>
          <a:blip r:embed="rId27"/>
          <a:stretch/>
        </p:blipFill>
        <p:spPr>
          <a:xfrm>
            <a:off x="4572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3" descr="треугольник"/>
          <p:cNvPicPr/>
          <p:nvPr/>
        </p:nvPicPr>
        <p:blipFill>
          <a:blip r:embed="rId28"/>
          <a:stretch/>
        </p:blipFill>
        <p:spPr>
          <a:xfrm>
            <a:off x="3886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95" descr="круг"/>
          <p:cNvPicPr/>
          <p:nvPr/>
        </p:nvPicPr>
        <p:blipFill>
          <a:blip r:embed="rId29"/>
          <a:stretch/>
        </p:blipFill>
        <p:spPr>
          <a:xfrm>
            <a:off x="1066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96" descr="круг"/>
          <p:cNvPicPr/>
          <p:nvPr/>
        </p:nvPicPr>
        <p:blipFill>
          <a:blip r:embed="rId30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7" descr="круг"/>
          <p:cNvPicPr/>
          <p:nvPr/>
        </p:nvPicPr>
        <p:blipFill>
          <a:blip r:embed="rId31"/>
          <a:stretch/>
        </p:blipFill>
        <p:spPr>
          <a:xfrm>
            <a:off x="2209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8" descr="круг"/>
          <p:cNvPicPr/>
          <p:nvPr/>
        </p:nvPicPr>
        <p:blipFill>
          <a:blip r:embed="rId32"/>
          <a:stretch/>
        </p:blipFill>
        <p:spPr>
          <a:xfrm>
            <a:off x="26668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9" descr="круг"/>
          <p:cNvPicPr/>
          <p:nvPr/>
        </p:nvPicPr>
        <p:blipFill>
          <a:blip r:embed="rId33"/>
          <a:stretch/>
        </p:blipFill>
        <p:spPr>
          <a:xfrm>
            <a:off x="32004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0" descr="круг"/>
          <p:cNvPicPr/>
          <p:nvPr/>
        </p:nvPicPr>
        <p:blipFill>
          <a:blip r:embed="rId34"/>
          <a:stretch/>
        </p:blipFill>
        <p:spPr>
          <a:xfrm>
            <a:off x="37339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1" descr="круг"/>
          <p:cNvPicPr/>
          <p:nvPr/>
        </p:nvPicPr>
        <p:blipFill>
          <a:blip r:embed="rId35"/>
          <a:stretch/>
        </p:blipFill>
        <p:spPr>
          <a:xfrm>
            <a:off x="4191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2" descr="круг"/>
          <p:cNvPicPr/>
          <p:nvPr/>
        </p:nvPicPr>
        <p:blipFill>
          <a:blip r:embed="rId36"/>
          <a:stretch/>
        </p:blipFill>
        <p:spPr>
          <a:xfrm>
            <a:off x="4648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3" descr="круг"/>
          <p:cNvPicPr/>
          <p:nvPr/>
        </p:nvPicPr>
        <p:blipFill>
          <a:blip r:embed="rId37"/>
          <a:stretch/>
        </p:blipFill>
        <p:spPr>
          <a:xfrm>
            <a:off x="51814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4" descr="пятиугольник"/>
          <p:cNvPicPr/>
          <p:nvPr/>
        </p:nvPicPr>
        <p:blipFill>
          <a:blip r:embed="rId38"/>
          <a:stretch/>
        </p:blipFill>
        <p:spPr>
          <a:xfrm>
            <a:off x="121932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6" descr="пятиугольник"/>
          <p:cNvPicPr/>
          <p:nvPr/>
        </p:nvPicPr>
        <p:blipFill>
          <a:blip r:embed="rId39"/>
          <a:stretch/>
        </p:blipFill>
        <p:spPr>
          <a:xfrm>
            <a:off x="19810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7" descr="пятиугольник"/>
          <p:cNvPicPr/>
          <p:nvPr/>
        </p:nvPicPr>
        <p:blipFill>
          <a:blip r:embed="rId40"/>
          <a:stretch/>
        </p:blipFill>
        <p:spPr>
          <a:xfrm>
            <a:off x="26668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8" descr="пятиугольник"/>
          <p:cNvPicPr/>
          <p:nvPr/>
        </p:nvPicPr>
        <p:blipFill>
          <a:blip r:embed="rId41"/>
          <a:stretch/>
        </p:blipFill>
        <p:spPr>
          <a:xfrm>
            <a:off x="33526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10" descr="ромб"/>
          <p:cNvPicPr/>
          <p:nvPr/>
        </p:nvPicPr>
        <p:blipFill>
          <a:blip r:embed="rId42"/>
          <a:stretch/>
        </p:blipFill>
        <p:spPr>
          <a:xfrm>
            <a:off x="12193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1" descr="ромб"/>
          <p:cNvPicPr/>
          <p:nvPr/>
        </p:nvPicPr>
        <p:blipFill>
          <a:blip r:embed="rId43"/>
          <a:stretch/>
        </p:blipFill>
        <p:spPr>
          <a:xfrm>
            <a:off x="19810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12" descr="ромб"/>
          <p:cNvPicPr/>
          <p:nvPr/>
        </p:nvPicPr>
        <p:blipFill>
          <a:blip r:embed="rId44"/>
          <a:stretch/>
        </p:blipFill>
        <p:spPr>
          <a:xfrm>
            <a:off x="26668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13" descr="ромб"/>
          <p:cNvPicPr/>
          <p:nvPr/>
        </p:nvPicPr>
        <p:blipFill>
          <a:blip r:embed="rId45"/>
          <a:stretch/>
        </p:blipFill>
        <p:spPr>
          <a:xfrm>
            <a:off x="33526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14" descr="ромб"/>
          <p:cNvPicPr/>
          <p:nvPr/>
        </p:nvPicPr>
        <p:blipFill>
          <a:blip r:embed="rId46"/>
          <a:stretch/>
        </p:blipFill>
        <p:spPr>
          <a:xfrm>
            <a:off x="40384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5" descr="ромб"/>
          <p:cNvPicPr/>
          <p:nvPr/>
        </p:nvPicPr>
        <p:blipFill>
          <a:blip r:embed="rId47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54" name="Line 117"/>
          <p:cNvSpPr/>
          <p:nvPr/>
        </p:nvSpPr>
        <p:spPr>
          <a:xfrm>
            <a:off x="20574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8"/>
          <p:cNvSpPr/>
          <p:nvPr/>
        </p:nvSpPr>
        <p:spPr>
          <a:xfrm>
            <a:off x="38862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9"/>
          <p:cNvSpPr/>
          <p:nvPr/>
        </p:nvSpPr>
        <p:spPr>
          <a:xfrm>
            <a:off x="37339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0"/>
          <p:cNvSpPr/>
          <p:nvPr/>
        </p:nvSpPr>
        <p:spPr>
          <a:xfrm>
            <a:off x="21337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21"/>
          <p:cNvSpPr/>
          <p:nvPr/>
        </p:nvSpPr>
        <p:spPr>
          <a:xfrm>
            <a:off x="449568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22"/>
          <p:cNvSpPr/>
          <p:nvPr/>
        </p:nvSpPr>
        <p:spPr>
          <a:xfrm>
            <a:off x="2362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3"/>
          <p:cNvSpPr/>
          <p:nvPr/>
        </p:nvSpPr>
        <p:spPr>
          <a:xfrm>
            <a:off x="457200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24"/>
          <p:cNvSpPr/>
          <p:nvPr/>
        </p:nvSpPr>
        <p:spPr>
          <a:xfrm>
            <a:off x="31240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5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26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27"/>
          <p:cNvSpPr/>
          <p:nvPr/>
        </p:nvSpPr>
        <p:spPr>
          <a:xfrm>
            <a:off x="190512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8"/>
          <p:cNvSpPr/>
          <p:nvPr/>
        </p:nvSpPr>
        <p:spPr>
          <a:xfrm>
            <a:off x="47242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9"/>
          <p:cNvSpPr/>
          <p:nvPr/>
        </p:nvSpPr>
        <p:spPr>
          <a:xfrm>
            <a:off x="26668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0"/>
          <p:cNvSpPr/>
          <p:nvPr/>
        </p:nvSpPr>
        <p:spPr>
          <a:xfrm>
            <a:off x="518148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44"/>
          <p:cNvSpPr/>
          <p:nvPr/>
        </p:nvSpPr>
        <p:spPr>
          <a:xfrm>
            <a:off x="0" y="1143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5"/>
          <p:cNvSpPr/>
          <p:nvPr/>
        </p:nvSpPr>
        <p:spPr>
          <a:xfrm>
            <a:off x="0" y="1905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46"/>
          <p:cNvSpPr/>
          <p:nvPr/>
        </p:nvSpPr>
        <p:spPr>
          <a:xfrm>
            <a:off x="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7"/>
          <p:cNvSpPr/>
          <p:nvPr/>
        </p:nvSpPr>
        <p:spPr>
          <a:xfrm>
            <a:off x="0" y="3581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8"/>
          <p:cNvSpPr/>
          <p:nvPr/>
        </p:nvSpPr>
        <p:spPr>
          <a:xfrm>
            <a:off x="0" y="4572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9"/>
          <p:cNvSpPr/>
          <p:nvPr/>
        </p:nvSpPr>
        <p:spPr>
          <a:xfrm>
            <a:off x="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35"/>
          <p:cNvSpPr/>
          <p:nvPr/>
        </p:nvSpPr>
        <p:spPr>
          <a:xfrm>
            <a:off x="6019920" y="6095880"/>
            <a:ext cx="2971800" cy="52056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0"/>
          <p:cNvSpPr/>
          <p:nvPr/>
        </p:nvSpPr>
        <p:spPr>
          <a:xfrm>
            <a:off x="3124080" y="6095880"/>
            <a:ext cx="2971800" cy="5205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: 4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1"/>
          <p:cNvSpPr/>
          <p:nvPr/>
        </p:nvSpPr>
        <p:spPr>
          <a:xfrm>
            <a:off x="228600" y="6095880"/>
            <a:ext cx="2971800" cy="52056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3"/>
          <p:cNvSpPr/>
          <p:nvPr/>
        </p:nvSpPr>
        <p:spPr>
          <a:xfrm>
            <a:off x="6019920" y="228600"/>
            <a:ext cx="2971800" cy="5205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2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42"/>
          <p:cNvSpPr/>
          <p:nvPr/>
        </p:nvSpPr>
        <p:spPr>
          <a:xfrm>
            <a:off x="3124080" y="228600"/>
            <a:ext cx="2971800" cy="5205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5 : 2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39"/>
          <p:cNvSpPr/>
          <p:nvPr/>
        </p:nvSpPr>
        <p:spPr>
          <a:xfrm>
            <a:off x="228600" y="228600"/>
            <a:ext cx="2971800" cy="5205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8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78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28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78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28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78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7457E-006 L -0.00417 -0.71537 E">
                                      <p:cBhvr>
                                        <p:cTn id="743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77457E-006 L 0.62917 -0.60439 E">
                                      <p:cBhvr>
                                        <p:cTn id="747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0.3125 -0.47121 E">
                                      <p:cBhvr>
                                        <p:cTn id="751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9942E-006 L -0.00416 0.50543 E">
                                      <p:cBhvr>
                                        <p:cTn id="755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0.3125 0.64971 E">
                                      <p:cBhvr>
                                        <p:cTn id="759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69942E-006 L 0.62917 0.77179 E">
                                      <p:cBhvr>
                                        <p:cTn id="763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ЗАПИСЬ ВЕР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4 : 4 = 2 (ост.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4 : 4 = 3 (ост.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4 : 4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орций по 3 блина вый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испекли 18 бли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блинов?      25 бли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357120" y="4876920"/>
            <a:ext cx="1905120" cy="1676160"/>
            <a:chOff x="357120" y="4876920"/>
            <a:chExt cx="1905120" cy="1676160"/>
          </a:xfrm>
        </p:grpSpPr>
        <p:pic>
          <p:nvPicPr>
            <p:cNvPr id="61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6"/>
            <p:cNvSpPr/>
            <p:nvPr/>
          </p:nvSpPr>
          <p:spPr>
            <a:xfrm>
              <a:off x="357120" y="500040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5143680" y="4786200"/>
            <a:ext cx="1947240" cy="1676520"/>
            <a:chOff x="5143680" y="4786200"/>
            <a:chExt cx="1947240" cy="1676520"/>
          </a:xfrm>
        </p:grpSpPr>
        <p:pic>
          <p:nvPicPr>
            <p:cNvPr id="64" name="Picture 8" descr=""/>
            <p:cNvPicPr/>
            <p:nvPr/>
          </p:nvPicPr>
          <p:blipFill>
            <a:blip r:embed="rId4"/>
            <a:stretch/>
          </p:blipFill>
          <p:spPr>
            <a:xfrm>
              <a:off x="5143680" y="47862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9"/>
            <p:cNvSpPr/>
            <p:nvPr/>
          </p:nvSpPr>
          <p:spPr>
            <a:xfrm>
              <a:off x="5186160" y="4890960"/>
              <a:ext cx="190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1"/>
          <p:cNvGrpSpPr/>
          <p:nvPr/>
        </p:nvGrpSpPr>
        <p:grpSpPr>
          <a:xfrm>
            <a:off x="2928960" y="4857840"/>
            <a:ext cx="1905120" cy="1676160"/>
            <a:chOff x="2928960" y="4857840"/>
            <a:chExt cx="1905120" cy="1676160"/>
          </a:xfrm>
        </p:grpSpPr>
        <p:pic>
          <p:nvPicPr>
            <p:cNvPr id="68" name="Picture 12" descr=""/>
            <p:cNvPicPr/>
            <p:nvPr/>
          </p:nvPicPr>
          <p:blipFill>
            <a:blip r:embed="rId5"/>
            <a:stretch/>
          </p:blipFill>
          <p:spPr>
            <a:xfrm>
              <a:off x="2967120" y="485784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3"/>
            <p:cNvSpPr/>
            <p:nvPr/>
          </p:nvSpPr>
          <p:spPr>
            <a:xfrm>
              <a:off x="2928960" y="498132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10556 -0.41459 E">
                                      <p:cBhvr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4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000160" y="713880"/>
            <a:ext cx="71438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доволен собой, у меня все получилось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чу знать больш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C:\рабочий стол windows 7\b379fad9193c.png"/>
          <p:cNvPicPr/>
          <p:nvPr/>
        </p:nvPicPr>
        <p:blipFill>
          <a:blip r:embed="rId1"/>
          <a:stretch/>
        </p:blipFill>
        <p:spPr>
          <a:xfrm>
            <a:off x="0" y="0"/>
            <a:ext cx="171936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1204920" cy="116352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9"/>
          <p:cNvSpPr/>
          <p:nvPr/>
        </p:nvSpPr>
        <p:spPr>
          <a:xfrm>
            <a:off x="2071800" y="2714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меня не всё получилось, но я постараюс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9" descr=""/>
          <p:cNvPicPr/>
          <p:nvPr/>
        </p:nvPicPr>
        <p:blipFill>
          <a:blip r:embed="rId3"/>
          <a:stretch/>
        </p:blipFill>
        <p:spPr>
          <a:xfrm>
            <a:off x="285840" y="4500720"/>
            <a:ext cx="1439640" cy="128088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11"/>
          <p:cNvSpPr/>
          <p:nvPr/>
        </p:nvSpPr>
        <p:spPr>
          <a:xfrm>
            <a:off x="1830960" y="4929120"/>
            <a:ext cx="732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ичего не понятно на уро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78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7"/>
          <p:cNvGrpSpPr/>
          <p:nvPr/>
        </p:nvGrpSpPr>
        <p:grpSpPr>
          <a:xfrm>
            <a:off x="5500800" y="4929120"/>
            <a:ext cx="2057400" cy="1676520"/>
            <a:chOff x="5500800" y="4929120"/>
            <a:chExt cx="2057400" cy="1676520"/>
          </a:xfrm>
        </p:grpSpPr>
        <p:pic>
          <p:nvPicPr>
            <p:cNvPr id="81" name="Picture 8" descr=""/>
            <p:cNvPicPr/>
            <p:nvPr/>
          </p:nvPicPr>
          <p:blipFill>
            <a:blip r:embed="rId4"/>
            <a:stretch/>
          </p:blipFill>
          <p:spPr>
            <a:xfrm>
              <a:off x="5500800" y="492912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9"/>
            <p:cNvSpPr/>
            <p:nvPr/>
          </p:nvSpPr>
          <p:spPr>
            <a:xfrm>
              <a:off x="5653080" y="508140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3000240" y="4929120"/>
            <a:ext cx="2057400" cy="1676520"/>
            <a:chOff x="3000240" y="4929120"/>
            <a:chExt cx="2057400" cy="1676520"/>
          </a:xfrm>
        </p:grpSpPr>
        <p:pic>
          <p:nvPicPr>
            <p:cNvPr id="85" name="Picture 12" descr=""/>
            <p:cNvPicPr/>
            <p:nvPr/>
          </p:nvPicPr>
          <p:blipFill>
            <a:blip r:embed="rId5"/>
            <a:stretch/>
          </p:blipFill>
          <p:spPr>
            <a:xfrm>
              <a:off x="3000240" y="492912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3"/>
            <p:cNvSpPr/>
            <p:nvPr/>
          </p:nvSpPr>
          <p:spPr>
            <a:xfrm>
              <a:off x="3152520" y="508140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-0.1375 -0.44606 E">
                                      <p:cBhvr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74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95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98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5181480" y="4876920"/>
            <a:ext cx="2057400" cy="1676160"/>
            <a:chOff x="5181480" y="4876920"/>
            <a:chExt cx="2057400" cy="1676160"/>
          </a:xfrm>
        </p:grpSpPr>
        <p:pic>
          <p:nvPicPr>
            <p:cNvPr id="102" name="Picture 12" descr=""/>
            <p:cNvPicPr/>
            <p:nvPr/>
          </p:nvPicPr>
          <p:blipFill>
            <a:blip r:embed="rId5"/>
            <a:stretch/>
          </p:blipFill>
          <p:spPr>
            <a:xfrm>
              <a:off x="51814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/>
            <p:cNvSpPr/>
            <p:nvPr/>
          </p:nvSpPr>
          <p:spPr>
            <a:xfrm>
              <a:off x="533376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34584 -0.56666 E">
                                      <p:cBhvr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474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112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"/>
          <p:cNvGrpSpPr/>
          <p:nvPr/>
        </p:nvGrpSpPr>
        <p:grpSpPr>
          <a:xfrm>
            <a:off x="5214960" y="4786200"/>
            <a:ext cx="2057400" cy="1676520"/>
            <a:chOff x="5214960" y="4786200"/>
            <a:chExt cx="2057400" cy="1676520"/>
          </a:xfrm>
        </p:grpSpPr>
        <p:pic>
          <p:nvPicPr>
            <p:cNvPr id="115" name="Picture 8" descr=""/>
            <p:cNvPicPr/>
            <p:nvPr/>
          </p:nvPicPr>
          <p:blipFill>
            <a:blip r:embed="rId4"/>
            <a:stretch/>
          </p:blipFill>
          <p:spPr>
            <a:xfrm>
              <a:off x="5214960" y="47862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9"/>
            <p:cNvSpPr/>
            <p:nvPr/>
          </p:nvSpPr>
          <p:spPr>
            <a:xfrm>
              <a:off x="5367240" y="493848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786040" y="4929120"/>
            <a:ext cx="2057400" cy="1676520"/>
            <a:chOff x="2786040" y="4929120"/>
            <a:chExt cx="2057400" cy="1676520"/>
          </a:xfrm>
        </p:grpSpPr>
        <p:pic>
          <p:nvPicPr>
            <p:cNvPr id="119" name="Picture 12" descr=""/>
            <p:cNvPicPr/>
            <p:nvPr/>
          </p:nvPicPr>
          <p:blipFill>
            <a:blip r:embed="rId5"/>
            <a:stretch/>
          </p:blipFill>
          <p:spPr>
            <a:xfrm>
              <a:off x="2786040" y="492912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2938320" y="508140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11406 -0.43541 E">
                                      <p:cBhvr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474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4"/>
          <p:cNvGrpSpPr/>
          <p:nvPr/>
        </p:nvGrpSpPr>
        <p:grpSpPr>
          <a:xfrm>
            <a:off x="4786200" y="4929120"/>
            <a:ext cx="1919160" cy="1676520"/>
            <a:chOff x="4786200" y="4929120"/>
            <a:chExt cx="1919160" cy="1676520"/>
          </a:xfrm>
        </p:grpSpPr>
        <p:pic>
          <p:nvPicPr>
            <p:cNvPr id="129" name="Picture 5" descr=""/>
            <p:cNvPicPr/>
            <p:nvPr/>
          </p:nvPicPr>
          <p:blipFill>
            <a:blip r:embed="rId3"/>
            <a:stretch/>
          </p:blipFill>
          <p:spPr>
            <a:xfrm>
              <a:off x="5029200" y="492912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6"/>
            <p:cNvSpPr/>
            <p:nvPr/>
          </p:nvSpPr>
          <p:spPr>
            <a:xfrm>
              <a:off x="4786200" y="51242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7"/>
          <p:cNvGrpSpPr/>
          <p:nvPr/>
        </p:nvGrpSpPr>
        <p:grpSpPr>
          <a:xfrm>
            <a:off x="2786040" y="4952880"/>
            <a:ext cx="1905120" cy="1676520"/>
            <a:chOff x="2786040" y="4952880"/>
            <a:chExt cx="1905120" cy="1676520"/>
          </a:xfrm>
        </p:grpSpPr>
        <p:pic>
          <p:nvPicPr>
            <p:cNvPr id="132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9"/>
            <p:cNvSpPr/>
            <p:nvPr/>
          </p:nvSpPr>
          <p:spPr>
            <a:xfrm>
              <a:off x="2786040" y="50720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0"/>
          <p:cNvSpPr/>
          <p:nvPr/>
        </p:nvSpPr>
        <p:spPr>
          <a:xfrm>
            <a:off x="144792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428760" y="4786200"/>
            <a:ext cx="1938240" cy="1676520"/>
            <a:chOff x="428760" y="4786200"/>
            <a:chExt cx="1938240" cy="1676520"/>
          </a:xfrm>
        </p:grpSpPr>
        <p:pic>
          <p:nvPicPr>
            <p:cNvPr id="136" name="Picture 12" descr=""/>
            <p:cNvPicPr/>
            <p:nvPr/>
          </p:nvPicPr>
          <p:blipFill>
            <a:blip r:embed="rId5"/>
            <a:stretch/>
          </p:blipFill>
          <p:spPr>
            <a:xfrm>
              <a:off x="428760" y="47862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3"/>
            <p:cNvSpPr/>
            <p:nvPr/>
          </p:nvSpPr>
          <p:spPr>
            <a:xfrm>
              <a:off x="461880" y="498132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111E-006 L 0.15035 -0.40417 E">
                                      <p:cBhvr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474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146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5181480" y="4876920"/>
            <a:ext cx="2057400" cy="1676160"/>
            <a:chOff x="5181480" y="4876920"/>
            <a:chExt cx="2057400" cy="1676160"/>
          </a:xfrm>
        </p:grpSpPr>
        <p:pic>
          <p:nvPicPr>
            <p:cNvPr id="153" name="Picture 12" descr=""/>
            <p:cNvPicPr/>
            <p:nvPr/>
          </p:nvPicPr>
          <p:blipFill>
            <a:blip r:embed="rId5"/>
            <a:stretch/>
          </p:blipFill>
          <p:spPr>
            <a:xfrm>
              <a:off x="51814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3"/>
            <p:cNvSpPr/>
            <p:nvPr/>
          </p:nvSpPr>
          <p:spPr>
            <a:xfrm>
              <a:off x="533376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34584 -0.56666 E">
                                      <p:cBhvr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474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4"/>
          <p:cNvGrpSpPr/>
          <p:nvPr/>
        </p:nvGrpSpPr>
        <p:grpSpPr>
          <a:xfrm>
            <a:off x="5105520" y="4876920"/>
            <a:ext cx="2057400" cy="1676160"/>
            <a:chOff x="5105520" y="4876920"/>
            <a:chExt cx="2057400" cy="1676160"/>
          </a:xfrm>
        </p:grpSpPr>
        <p:pic>
          <p:nvPicPr>
            <p:cNvPr id="163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5257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7"/>
          <p:cNvGrpSpPr/>
          <p:nvPr/>
        </p:nvGrpSpPr>
        <p:grpSpPr>
          <a:xfrm>
            <a:off x="2743200" y="4876920"/>
            <a:ext cx="2057400" cy="1676160"/>
            <a:chOff x="2743200" y="4876920"/>
            <a:chExt cx="2057400" cy="1676160"/>
          </a:xfrm>
        </p:grpSpPr>
        <p:pic>
          <p:nvPicPr>
            <p:cNvPr id="166" name="Picture 8" descr=""/>
            <p:cNvPicPr/>
            <p:nvPr/>
          </p:nvPicPr>
          <p:blipFill>
            <a:blip r:embed="rId4"/>
            <a:stretch/>
          </p:blipFill>
          <p:spPr>
            <a:xfrm>
              <a:off x="2743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9"/>
            <p:cNvSpPr/>
            <p:nvPr/>
          </p:nvSpPr>
          <p:spPr>
            <a:xfrm>
              <a:off x="2895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0"/>
          <p:cNvSpPr/>
          <p:nvPr/>
        </p:nvSpPr>
        <p:spPr>
          <a:xfrm>
            <a:off x="1295280" y="106668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457200" y="4952880"/>
            <a:ext cx="2057400" cy="1676520"/>
            <a:chOff x="457200" y="4952880"/>
            <a:chExt cx="2057400" cy="1676520"/>
          </a:xfrm>
        </p:grpSpPr>
        <p:pic>
          <p:nvPicPr>
            <p:cNvPr id="170" name="Picture 12" descr=""/>
            <p:cNvPicPr/>
            <p:nvPr/>
          </p:nvPicPr>
          <p:blipFill>
            <a:blip r:embed="rId5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3"/>
            <p:cNvSpPr/>
            <p:nvPr/>
          </p:nvSpPr>
          <p:spPr>
            <a:xfrm>
              <a:off x="609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j0211178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-0.54444 E">
                                      <p:cBhvr>
                                        <p:cTn id="307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474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180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183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1"/>
          <p:cNvGrpSpPr/>
          <p:nvPr/>
        </p:nvGrpSpPr>
        <p:grpSpPr>
          <a:xfrm>
            <a:off x="5181480" y="4876920"/>
            <a:ext cx="2057400" cy="1676160"/>
            <a:chOff x="5181480" y="4876920"/>
            <a:chExt cx="2057400" cy="1676160"/>
          </a:xfrm>
        </p:grpSpPr>
        <p:pic>
          <p:nvPicPr>
            <p:cNvPr id="187" name="Picture 12" descr=""/>
            <p:cNvPicPr/>
            <p:nvPr/>
          </p:nvPicPr>
          <p:blipFill>
            <a:blip r:embed="rId5"/>
            <a:stretch/>
          </p:blipFill>
          <p:spPr>
            <a:xfrm>
              <a:off x="51814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3"/>
            <p:cNvSpPr/>
            <p:nvPr/>
          </p:nvSpPr>
          <p:spPr>
            <a:xfrm>
              <a:off x="533376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34584 -0.56666 E">
                                      <p:cBhvr>
                                        <p:cTn id="348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474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6:12:36Z</dcterms:created>
  <dc:creator>RaiV</dc:creator>
  <dc:description/>
  <dc:language>en-US</dc:language>
  <cp:lastModifiedBy>RePack by SPecialiST</cp:lastModifiedBy>
  <dcterms:modified xsi:type="dcterms:W3CDTF">2019-02-12T17:52:42Z</dcterms:modified>
  <cp:revision>21</cp:revision>
  <dc:subject/>
  <dc:title>Слайд 1</dc:title>
</cp:coreProperties>
</file>