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7B146-FE44-41E1-88B0-B234212CD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05AD8-5FBF-4189-966B-C9681ED9C5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7BFAD-2DA7-4512-BBE9-F33D1F514C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53859-9A98-4D2C-8AF7-813D7D8587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BA345-C02E-4072-BEA2-3B506D0F96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925FF-626C-4164-AE7D-9E1F06E52B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266-AD52-450E-9218-E966812E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6A1-0E5B-4E43-9A17-4C048012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9D7B4-C323-4C77-93A9-6AAD237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55F5-755E-4270-BC40-73EEBD07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C4479-58BB-4695-A257-265F8AFE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90009-2D3C-4AC6-85FE-CE3E526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F149D-F845-4066-A24B-4B20E07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4111-4BD1-4C02-8E08-2C0813E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308D1-5F2A-47CE-B98F-5963CA03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BC76-A76D-4F00-9B68-60849ACD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803D-510C-4FFE-A44C-AA5BF915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06A1-7CD7-49CB-A1FE-2310BD76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E85-1A79-4CED-AEF1-61B467D2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125B2-E8E6-42ED-8736-CD81D1F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57775-7C54-42CB-9E83-C715CA4F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C1984-D18B-419A-9BE2-65E3E0A5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31AE-A44E-49BD-B868-5039B227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3D21-F940-45DB-BC1D-A2FE9F87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02C12-A55E-444B-A99B-77E03E9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09E7-4C5C-4AC8-8DE7-6D5DD90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3B160-60CF-4DB5-8D3F-8B925D8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52F4B-B957-4D4C-BAE5-4A88D66C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47878-F279-4AF4-A02E-2ACBED43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0B1-F748-465B-A107-E8008E88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A78CA-1AC1-41D4-BC39-7773ED8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13DC7-3209-417F-B63A-FC2449F5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08DD7-DECA-4D95-ACD2-2AA1D55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69884-BCA1-444E-B54F-F894ED8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6C8CC-0F3F-412B-9F8F-59E3149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8C9C2-3FDC-46E9-8B2B-3C54CEA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6EB26-7CA2-4A8C-971B-7B9AD206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E800E-D1F5-492F-B5B5-5599B6B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0E3E-C214-470C-8656-14C21DE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4C6E-48AD-4A92-B59F-751746C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3D0F-A464-405C-A0D2-D010AA7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AB1EE-02CC-4FD0-A4F0-74D25CE2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2BFD9-B03D-4393-8E22-6EE8BBB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6D9F-580B-4579-A0C8-87EF81E0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02CF2-9573-4D84-9B40-9BCCC4F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89846-7A2C-4ADC-B988-3430462A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D715-8D42-444C-8EBC-D6F678BF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36A42-219B-4FFE-936A-69A450A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7E9E5-3CC4-4281-A22D-8D5337B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0C9F-3CAC-43ED-9F33-D0547F4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585BA-CD6A-42EA-8E4C-1A3DDEF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A971-4338-46D5-83F7-B0E4925B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54871-DC28-4C7C-B716-091702B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26C71-2CE1-450D-9FF8-977D180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FB9E2-3F45-4BE4-97BE-383C4E3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81118-73F8-4643-BBF4-6867E16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35E7-C4EB-4C66-AB37-84AA451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0BC6E-FCE6-43A5-A157-66CC1FB9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9E60D-7AAD-4680-B340-6D94D78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FAC81-515E-4113-9034-E898202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01760-973F-47A6-9350-1178025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C0FA0-E3BA-4921-9C8C-908EC3F3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B2E9-2986-42D1-981B-E078269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ACC89-B459-4540-98B4-8275226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81A14-9C2E-4B6D-9D06-8F877E9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8F588-1E65-451D-A8B5-68629D6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387F2-995D-4799-BD1F-3EA78EA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3B464-9858-432F-BC5F-0F30E719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AED05-DA9B-4138-BA1A-B8476E9E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C978D-9570-4CA3-B8D8-7918ECA0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FE07D-E5EA-4714-A48F-EA023053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42D53-6292-4895-946B-C22A9C2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A5610-FE57-4A61-968A-227989A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F4F-F9D6-45CD-96A4-6323FEA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8F6BC-5117-4622-B5C1-3CD415D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F497D-2567-4290-A25C-B067288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E7274-0E21-4C62-A8C4-4802ADA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FEE10-16E7-46A0-ADB7-E880027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A5DA2-2074-4740-B34C-B5B2C8A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F7BA4-E130-4555-BB6F-81D27AA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750AD-57ED-4147-BB6F-52B50FA5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AD05A-5BD1-4E0B-B6F9-A213DC68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B1C64-1843-4B39-A3B5-2616077B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7E884-5C51-4008-A52F-7BC68733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FF9C-8057-48B9-818F-3C6E8C0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E7665-E883-4A44-8BFF-E6C0B134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A2DA9-527A-49FC-A49D-94308603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0A1D3-0019-4345-9CFC-E1462AEA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45CC6-1832-4B25-A72B-32AAB65E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7E27A-FDA4-4928-8BCC-611D3F92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72F07-E9F8-4449-87BA-3FC8503E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F1DCF-406E-4088-A7FD-13434C1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C6F11-C955-4259-90FD-BD7CB22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4770E-DEE2-46CD-97CD-41CD2BB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DA35B-66B9-4395-8E94-F77A6BBF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85D1-8D00-47AD-A1C9-3340FCD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FBF13-785B-4D77-AA8F-756F66EE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05926-1BFC-4AE8-A025-98A7B8BB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32825-6C7D-4DA4-94C2-1F3AE72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CB17E-BA8C-4959-B1D0-9217432B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08593-256A-4BDF-8E5C-455B284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60099-B434-41D0-93B9-3375529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9A932-C468-4C6A-86EB-70BE0480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5F4DA-2150-4725-A7BB-436C59A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49143-E9A3-4CF1-8DF9-692DD19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A7A21-63C8-4321-AFA9-4DC36328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062B-D04D-492F-8907-5B96891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50B62-D76D-4EEB-BA4C-3CC2622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AC8FB-9A99-426A-BD85-F6198D70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BC4B6-25A2-4CDC-AE31-49213B0D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8F7BE-A5C1-4F43-935F-13D587F6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149A7-A5BE-47F2-9D4D-65471C79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7B9E7-ACE6-4445-8C93-71830B6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D46B5-E39C-4EDB-8B65-33EB62F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C5DA6-B753-4B50-B5B7-7EAF5A71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7C35E-503D-42E3-AB0D-7B97B78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F2667-B07D-4223-8E33-D5DB5F3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B15-06E8-4175-975D-8B36560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C2CB-2BC8-4916-B9BB-5AF0000C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1820B-39B9-4C61-8C38-6E96710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43CCD-84C6-4219-9B6E-DE321F0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D31F9-F2DD-42C0-A642-EED003DE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5CEC9-850F-4F7B-BEC1-74FFA839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E1CCC-8C7F-4279-AD7D-DE9B1473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6AE-8BEE-46AF-A70D-8C0FC80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66E0-1E2A-4F78-8E93-952F48F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BD6-043A-4A0E-87BA-A843C696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3F3-B6AD-4759-A05B-5AC0A30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0AC3-4481-483D-9B9F-9DBCC947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813F-C51B-4C9A-AB26-F95DADC8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3151-21C3-436D-9D0B-23B5E26D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3A20-14DC-4A82-B8AB-48414098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D3F4-F0EC-4969-A9A9-5684DA34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132-2D30-41BD-9F21-3A1A2EBB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275E-D69B-424F-8D43-83DF279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D99B-A2C4-4930-B3B6-13ECB99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B6E9-67C6-4429-9BA9-ED21030F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0A76-7799-4B58-B75E-608F4FD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9F99-60ED-4FA0-89FE-B3D1A39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E78D-A96B-4269-91D9-6DAD477A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E1F4-B32D-498E-AC8C-D640A30F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C53D-18F8-4407-9496-62DB4323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D331-35CB-4B4C-91CF-2054D509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C102-3134-4C10-9A15-E1CCDCC3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908-A451-4347-8016-9CD9868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AA37-0F1E-40BD-8E11-7D506324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B0BF-97D3-4BFE-A348-09014854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4735-3802-4904-B267-99639D9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88F1-7011-4F96-BAC0-DDA1231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9815-F844-4019-B97C-78C667E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083B-576E-4604-A7B4-7D3F17E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B4856-BB87-4C3C-8029-60F0A142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5005-DE84-4402-8735-CD7B9AA5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A7F0-BED3-45DD-A472-49AFB69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42E96-2F2E-471A-9FF9-D065CC83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38E-CAF0-48A8-A326-AB5B6529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28EC-A2D0-46FD-ADA2-C6758EF1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45B0-77CD-4FD7-95EA-61C526F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15E7-E35E-40C2-8474-2EF13777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1180-0B55-4115-82E4-17C39B99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CC6D-4ECB-4A7E-AF97-B4C1ACE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CD1D-8220-420C-A974-112EAC9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D385-E42A-4F9D-A95A-FFCBFC1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5514-AB52-40C5-8DA6-351EACD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91BA-6729-43D6-BE2F-10E389B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FCB8-C508-4DE2-8C8E-765703E8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3F9-90B4-4E9E-B9C4-C9EB80A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86F5-7EA9-4BF7-94D8-7A97142D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2F71-5F43-4A92-9AA4-C0564122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1AFC-5F98-49DB-8C93-40F6DC2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4CAA-3CEF-41FB-8717-9D3FD53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F248-8A5B-4047-83C4-EE7D37E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D83BD-2259-4529-9378-9FEB119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A689-6E85-43B2-93F4-A4CE86C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8DCA-7B17-49C1-AD8E-1321E3A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D915C-32EF-4EEB-A6BC-D938DE1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35BC-B4D1-4DC5-AA83-114EB6C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1A7-3BE8-423B-A7B3-5179ACD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B0B7-2395-4E02-AEE7-166A7CB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1231-77AC-456D-AF07-51C01501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D0CC-6F65-419A-A86A-B0680CB4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C7D6-BD9B-48DB-B219-09CB4464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FB6B-65E3-482B-A316-9CA21AD8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9437-23AC-4037-B0A0-F675BB4D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F191-234A-44E2-B1F4-E8A51B0D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2D75F-E7B0-4FB4-9DC9-29BF151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A3927-99A1-4C5F-9B24-D3B2A4AC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ED94-7E4A-45DA-97B4-5A34487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B4B-9053-4FEF-95C5-816D902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04B52-B59B-412B-A0CB-97AF575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CFA8-FA5A-40CA-97F7-FFAEA21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3940A-B99E-44BB-AF71-5085973E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339C-14E4-4EA3-8997-F6ED0429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BA9A-89AC-4304-B3FC-CF79B5B3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5A27-2A8F-409D-91A5-F961666A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0E10-9F9E-4F4F-A734-FFD6A38B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ED65B-2250-48ED-9422-57F84CE7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3953-1B1D-4EC1-A56A-AC62511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D278-5361-46CD-B37D-586076E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9D4-273B-4DD7-9BF3-5394594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D8C8-AD6F-41C0-9476-FFBB346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EFB8-286A-4EB8-9D7A-245EC8E6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892C-0C2F-4A3C-8CD3-B0EF7FD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7DAA-1F42-47A4-8A7A-48FFA4F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7FBFA-5444-45AE-9A12-536515F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8A24E-06E7-4DC0-9926-6ACF09AB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5681-9782-4A4B-9EA7-E1576110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EEE7-4EFB-4026-95E5-D43310A0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35926-2944-4EAC-9FB8-352CD4E1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ECE2-9304-427E-A5AB-39113886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91A4D-9AE8-4DDD-A7A4-CA1E66C5F1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C59E8-19A3-4FA8-851D-6BD7A31CC3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11BAB-B48C-4520-ACA3-D0DC868249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5EA42-14CA-4D9F-AB68-51E206E464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E170D-5045-40E6-B505-CDF2278C6B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91042-F2D7-4B08-A3BA-6E08910EAA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9DC44-0227-4B3B-B71E-64F33265BA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FD192-0078-49F7-A17A-4AEEEF3A73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7A34C-0FA4-4DC9-8805-AEB5DC8C36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7B488-D9BB-4EFF-9C20-34DCB6458F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A9D27-7C12-4FA0-B1CB-149270BBC4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16AD4-2453-49DB-96A2-92E47DE913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976BD-E25B-44B8-AEC2-220AFF47E2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6E856-86D8-4FA9-91A8-309C2D1745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9F8DC-63F1-45A1-B981-F1EFE96710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33010-7672-4430-B540-A5FB47C910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F4D3F-AE90-45DD-BDD3-4319721095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68000" y="4172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262626"/>
                </a:solidFill>
                <a:latin typeface="Century Gothic"/>
              </a:rPr>
              <a:t>День Неизвестного Солдата </a:t>
            </a: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2158920" y="227664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1"/>
          <p:cNvSpPr/>
          <p:nvPr/>
        </p:nvSpPr>
        <p:spPr>
          <a:xfrm>
            <a:off x="4443480" y="25560"/>
            <a:ext cx="185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 txBox="1"/>
          <p:nvPr/>
        </p:nvSpPr>
        <p:spPr>
          <a:xfrm rot="10800000"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8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10" name="Прямоугольник 8"/>
          <p:cNvSpPr/>
          <p:nvPr/>
        </p:nvSpPr>
        <p:spPr>
          <a:xfrm>
            <a:off x="4067280" y="6555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Уже много лет прошло. Сюда приходят взрослые и дети не только в День Победы. К Вечному огню возлагают цветы молодожены, высказывая бесконечное уважение безымянным героя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инута молч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214" name="metronom1.mp3" descr=""/>
          <p:cNvPicPr/>
          <p:nvPr/>
        </p:nvPicPr>
        <p:blipFill>
          <a:blip r:embed="rId3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99640" y="146376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7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60708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каз президента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 декабр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нь Неизвестного Солда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5219280" y="907920"/>
            <a:ext cx="39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сторически, в ходе войн, множество солдат гибло и их останки не были или не могли быть опознаны. В XX веке, после окончания кровопролитной Первой мировой войны начала образовываться традиция, по которой нации и государства устанавливают памятники Неизвестному солдату, символизирующие память, благодарность и уважение всем погибшим солдата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2" descr="https://stihi.ru/pics/2018/12/03/7029.jpg"/>
          <p:cNvPicPr/>
          <p:nvPr/>
        </p:nvPicPr>
        <p:blipFill>
          <a:blip r:embed="rId1"/>
          <a:stretch/>
        </p:blipFill>
        <p:spPr>
          <a:xfrm>
            <a:off x="131760" y="1052640"/>
            <a:ext cx="508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Мемориал Могила Неизвестного Солдата находится в Москве в Александровском саду, у северной стены Кремля. На боевом знамени лежат солдатская каска и лавровая ветвь,. 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5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Прямоугольник 3"/>
          <p:cNvSpPr/>
          <p:nvPr/>
        </p:nvSpPr>
        <p:spPr>
          <a:xfrm>
            <a:off x="1403280" y="4869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«Имя твоё неизвестно, подвиг твой бессмертен», - такие слова начертаны на сводах этого мемориального комплекса. Они стали своеобразным девизом участников поискового движения, которые разыскивают не погребенные останки советских воинов и придают их земл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7" name="Picture 2" descr="https://ds04.infourok.ru/uploads/ex/0761/00012c58-1ad26fc0/img0.jpg"/>
          <p:cNvPicPr/>
          <p:nvPr/>
        </p:nvPicPr>
        <p:blipFill>
          <a:blip r:embed="rId1"/>
          <a:stretch/>
        </p:blipFill>
        <p:spPr>
          <a:xfrm>
            <a:off x="1403280" y="115920"/>
            <a:ext cx="626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Прямоугольник 1"/>
          <p:cNvSpPr/>
          <p:nvPr/>
        </p:nvSpPr>
        <p:spPr>
          <a:xfrm>
            <a:off x="520560" y="4941720"/>
            <a:ext cx="862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еликая Отечественная война унесла жизни десятки миллионов жизней . Многие имена до сих пор неизвестны. В населенных пунктах нашей страны и других государств установлены памятники неизвестному солдату. Эти памятники – дань тем, кто отдал свою жизнь за мир во всем мир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Picture 2" descr="https://ds04.infourok.ru/uploads/ex/0761/00012c58-1ad26fc0/img0.jpg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12120" cy="504828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2"/>
          <p:cNvSpPr/>
          <p:nvPr/>
        </p:nvSpPr>
        <p:spPr>
          <a:xfrm>
            <a:off x="1479240" y="5661000"/>
            <a:ext cx="595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Arial"/>
              </a:rPr>
              <a:t>Ростовская облас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Прямоугольник 1"/>
          <p:cNvSpPr/>
          <p:nvPr/>
        </p:nvSpPr>
        <p:spPr>
          <a:xfrm>
            <a:off x="5354640" y="371520"/>
            <a:ext cx="329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В народе говорят, что души погибших за Отчизну солдат превращаются в журавлей. Эти красивые, гордые птицы стали символом бессмертия души бойцов, которые не вернулись с той далекой войны. Имена многих из них до сих пор остаются неизвестным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Picture 2" descr="http://i.mycdn.me/i?r=AzEPZsRbOZEKgBhR0XGMT1Rk4NF9xfNZKs4s5-aFbtruu6aKTM5SRkZCeTgDn6uOyic"/>
          <p:cNvPicPr/>
          <p:nvPr/>
        </p:nvPicPr>
        <p:blipFill>
          <a:blip r:embed="rId1"/>
          <a:stretch/>
        </p:blipFill>
        <p:spPr>
          <a:xfrm>
            <a:off x="250920" y="287280"/>
            <a:ext cx="4968720" cy="597708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2" descr="https://stihi.ru/pics/2018/12/03/7029.jpg"/>
          <p:cNvPicPr/>
          <p:nvPr/>
        </p:nvPicPr>
        <p:blipFill>
          <a:blip r:embed="rId2"/>
          <a:stretch/>
        </p:blipFill>
        <p:spPr>
          <a:xfrm>
            <a:off x="4859280" y="3429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Влад</cp:lastModifiedBy>
  <cp:lastPrinted>2020-12-24T09:46:56Z</cp:lastPrinted>
  <dcterms:modified xsi:type="dcterms:W3CDTF">2023-01-24T19:55:42Z</dcterms:modified>
  <cp:revision>32</cp:revision>
  <dc:subject/>
  <dc:title>3 декабря - День памяти Неизвестного Солдата</dc:title>
</cp:coreProperties>
</file>