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847A7-0882-4804-951C-402BF444E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E24E2-1F09-4C6B-84EF-219AD7919C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CCC63-5CB7-4F7B-8D1D-BA20583606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4993A-89FF-40E8-8E97-98AB0F2323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EF2FA-84A5-4426-A569-F02216EDE5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2FB16-BBBF-4EB2-8AC0-1C7F4AA5E7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CAE-E467-4252-A688-39F6260C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40E-1B5F-4307-A3FA-4DE4F80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D116D-34EA-4A84-A0B5-ACF1E48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0C8CD-A6C3-4EAA-A6E4-202D429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D6236-E9B1-4D2A-8353-B7CF7FB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8D7C2-4B97-45A1-A816-C59ED93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A4DCE-05D4-4D07-9026-B16490C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EFEAB-7A23-418E-841B-DD5034D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C4DF4-81D7-4900-81EB-F55AC38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D048-3AD9-4F6D-841C-BCF76D77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8840-3EEC-43F1-9721-40209E8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132D-9080-4D54-AB17-B0CCB78F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0DA-BBA8-4B30-AFC9-B7A7AC35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91208-2B84-4251-A26C-A946B46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EC83B-E03E-4CA8-88FF-2DEC65C3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FBBA2-D80F-4F0D-AE67-088B216F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1E5B4-F98A-4D28-943E-9812B724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E14A4-63E9-4DEE-AE71-5084394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C93A7-5A0E-4841-AED8-8990A5C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BC0C0-87A3-4886-90B4-CC295EAA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723E-68BC-4376-989F-97881FE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01F7D-AAFC-4F76-A283-A136D6BC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7B9A-C2CF-4247-A620-589DFAD7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B93-9D6B-4964-8A34-1288705F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42F5-623F-43C1-812B-3E743127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54C72-FD1F-4C7A-A668-87662440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7321-58C0-4462-96F3-100B4700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F5279-849C-4785-B267-E3EBE803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70167-5345-44EB-9B54-70539B1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2AF0E-26DD-4389-9781-B61AEAB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FF477-5368-4DD2-8996-4149CE2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C7ED9-CA53-4DAA-9432-287D689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83BA6-F3A1-490E-B527-3B19117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19A2-7B13-4969-A811-A4FDB6F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195E-51E9-413D-9C1A-46D03913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FFDDB-C6B9-4D7E-9BD7-4088B8EE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8CDE-6987-41EB-B403-84D516C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3ABE2-036E-4AB3-9D3E-6CAA205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0C59E-C1FF-48F8-848C-B3C6D2AB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35F86-20BB-4A5A-B69E-912D652A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708F6-C327-458F-A135-0C7D222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F8D81-5B5C-4CFB-9C7B-0D49BAC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82BAC-C438-43F2-B5A1-00E8C46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102C0-919F-49C3-B962-47D5FD84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2A6D0-0034-4C80-B8CA-FCE04FC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BEF5-9820-4704-AED7-167B590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5EA69-497C-4A2A-8E1B-B444D5F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5EBC9-DC11-47B2-9091-B1E3CB2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C184-5F7C-4290-BB55-7AA9131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FBD39-E770-4DC4-9082-1408B0EB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2C70-36F3-4F13-9C2A-B4DB1E86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9C3ED-2205-411F-B29B-684A152E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0169E-5ACB-4ACA-8D36-C0BE6AF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7D51D-5EC5-4DD9-B491-C1A6E12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11ADB-CDF3-47FE-8811-C7F8059D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F4B10-766A-44A4-B78A-C0CEA9F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A7C-8360-469A-AFA6-FBB6CE4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A908F-76B7-4793-ADB6-AA9D30F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3C3A5-1FF9-4FD3-A136-834C776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ECDC5-64F6-4D0C-8AD3-B0F06CF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3E2A9-AAC8-49B8-B459-CBCCC14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28020-3B76-4EE8-9AC7-D83C76D7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D3A2E-DEC9-4B6A-8554-87BED222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6E68C-63E3-49C2-B46F-8ED8C89D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5DEB4-BF2F-4862-88C0-57F37375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9D0ED-E39E-4063-863A-55F5E6A2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7A2B3-C349-4BB1-8349-59C635B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847-CA9D-428B-9766-8233FCD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F99FB-5E69-4F56-9D36-424E54B2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0715E-4975-4D58-9FFD-31EEA6D2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13B82-BE87-4B63-883A-C6975E5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9F417-5500-4B3E-878F-22A08761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6205D-C20D-4355-AFCD-677A618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C35D9-53E6-4062-8CA8-3AD9C93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8AC1B-1C97-4FDE-BC65-3889E7A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48B7D-2F5F-4A1F-B2EF-36EA7DBF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7D772-4DCE-479B-BB07-FFE34E66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D8F64-905F-4C7B-84F8-8946AE9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BD4E-9B98-461C-80F2-9A6E3DA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44BA0-354B-4636-B48A-E2D60FC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82482-E9A6-462B-BF5D-BEC680C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24317-8F29-47E8-AB1E-613657E5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EB350-2E9A-42A0-869B-EF641D64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A80C5-5D57-47A8-90DD-F01EF832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4C688-D343-4201-AF32-B6E3F5D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1E89C-93F3-41CB-978E-3E90833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4C950-BFD0-4254-B224-3382C26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D335B-DFD9-4D15-AFCA-D64F321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EEF2F-43C5-4AB5-A816-3E689220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AEF0-9C17-4D85-A439-9FCBDAC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5633A-98E0-4DA6-A305-A9B94B4C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540F4-4E7A-4B84-8D24-241567FA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DAD30-00F4-4D99-B866-DC68E5F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ADEC4-CFFD-476B-8FB6-2398902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B3215-F662-4F4A-A4C4-D022F52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12A86-A4E3-4CE5-B234-494AA3E7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30ECA-6BEF-418A-AD3C-CCC1999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53656-F9D2-48EA-91B1-E67DD30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A13F-AA77-4367-B8D7-2059E06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6A7D0-F6F6-4A6C-B324-1B7EE47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8297-B960-4830-972A-5ED323E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F4F1C-7719-406E-B572-55E4B8C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53953-5CD2-4008-B142-987FA570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CC538-D7BC-49EA-B1D1-911734D9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C84CE-102F-4FF5-AF47-AFDCF735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46EAB-2789-4407-8A43-A6B243B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25A73-5084-4101-9823-2203A40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66D37-D847-4247-8977-FBE3DDA3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26E36-AA4B-44E5-867D-770CE752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E1B8B-4E2B-4CF4-B0C7-F704DE4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BB392-4D93-4320-A4F2-40395A8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FF2-2FFD-4CB1-8846-B13C617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4FE5-ED8D-45BF-AF00-3786738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60D25-5669-47A1-903F-6FAE599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B214D-D4CB-4DA3-82AC-AEA1489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CF5B5-400F-400C-B53C-F364ECC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BCDC7-F154-477E-9824-2E44A5EA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0F786-6E30-499D-9C8F-8830A530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DDC-4BC6-4A70-B4F0-9F5074D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CFC-7B7D-465E-8F53-6CFF20A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940-7A60-4A89-B2DE-90CFE080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00E5-34FB-49A7-8FEE-4F71838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9E4C-B969-4E99-A1B0-3E5157EA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285A-C3D9-4E98-8159-0D0C416F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8074-9762-4C8D-8CE6-F160945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3BF9-95BB-4382-949E-55E3084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8534-3C67-4102-8E23-F5844528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1EB-9341-4F8E-A66A-FDFEC438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D7AA-62FB-45BC-979C-7EEDC55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9B4C-DA23-4823-93C9-B6AC3199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8B8E-5ABA-4685-8AF1-A4B81D2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A3A4-1734-41D0-A56F-EC50FBD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E5AE-A25A-4EE2-98DD-22ABC8C5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0B1D-87FB-4A3D-B935-94EFD05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C92E-9159-419C-95B5-1D394CFC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52E9-8F7B-4778-BA1F-CC3984C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FF85-ABBD-44E4-A181-E1F9A2B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BE8B-2321-4092-AEFD-E8EAA09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B61-248D-419D-9DC2-8A884BD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5179-F03D-4FAF-8EAB-6B665C0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56F9-984D-4E44-82F2-424206D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286D-8B5D-472D-B059-501A68B8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31DC-2617-490A-8390-3CE2FCE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D71D-398A-4182-B207-EB20834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7F26-3D6C-4279-BBB5-0064A07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BC5D-328A-4891-BCB9-3D44BA5E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DC0A-44C3-4C87-B227-31E4C58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6F38-8E70-43B4-9E95-2B8BD2E1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E499C-1142-46D0-A6F6-DD9728EC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56F-9F3C-4E7A-B680-17D04D9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CB57-6607-4CBB-A083-4720D19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6E37-ADB6-4A0C-8D7E-B51043B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63E1-65F3-4E8F-A4F7-60D417F7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29A82-DF7E-4E97-A532-5B78A71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1A31-56AA-4A4A-A994-5A1C9FC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6D59-A63C-45D5-8A8A-9EF19C7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D98C-CBA1-4D47-9B8E-8A373B2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5678-010E-476D-9C13-922E986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D6AD-9AA0-4F14-95D3-56C498A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B198-1DA4-498C-B8AD-F472115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BFB-625F-4417-95C8-2ECC74F8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5D76-BE8E-4448-8F45-EBDD74BE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5DEF-6A03-47EF-89DD-81CFB15C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0B39-8353-4C03-8F40-73FF8336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8685-13A5-408A-852E-14D22EF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0924-3992-4802-8F9B-A3D3570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2C3F-7D75-435E-B9F6-99732816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E93B-308C-40D2-B5C0-349225F4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97E3-D523-4118-B1B8-C38C0EB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D428-DB71-4BD3-B96C-DB33093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6ECA-BBFB-44A0-8B20-7647323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0B5-EA6A-4999-B182-5B3A236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468B-7E91-417B-8488-44100E01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2A34-81E7-4B08-B271-8EF346FD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448B-0F51-415B-A4A7-CA282FD5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79B7-F4DC-4768-8315-60E58E95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2302-5B85-4093-A873-5BCB38AF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3CFE-4D8E-4D28-B777-97BB630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00716-FD15-423D-B0D0-AF4CEAED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D16C8-CE55-4F66-A140-4125564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5A94-6B05-450D-8DDE-4CA3EF38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E8694-0C3D-4A09-B415-112D8BD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A5C-BCB7-4A20-864D-A21E82B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D802-F34B-4CEF-9BC0-FB8DB82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D69C-DFC7-4A25-A326-2C08360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5BC8A-DC0D-4EE9-A04C-9FAC3D66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87CD2-B666-4BCB-9875-DD517482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617E-B956-43AE-B5BA-F126ED6E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BFB77-96E9-4FE4-A674-EC612FE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1013-7CA3-47A6-BEB6-F741FE5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EB9E3-C4C8-46D5-A62E-E357832B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2F89A-0333-4CE4-B10B-6814555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D491-98D9-448B-8F2E-DD72CBA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B41-1B0B-4503-99BB-4AD1EBD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3890-3295-485C-B589-F517BC1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10559-0F14-4339-91DB-F549DC2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50DD-966C-498F-90C2-727AA1F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C14A-2A0E-4CF5-8B20-94DFD26E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B7DC-8126-4AFE-8CFF-50FD3FF9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7C0D-F376-412D-AE64-0649FC0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53C1-00AC-49CE-8CA9-7E8E5288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EA5D6-5080-475F-8D59-A09961A4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264AF-711B-44A8-AEAE-F5DCF71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FF8D7-0579-4DFC-B2D5-FE29FF8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A512-1461-4F19-ADD0-BA2E0A0B11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3D8C2-DBFE-42A5-A6DF-F5DFE93BA1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6F43C-ABAD-4306-9985-EEF789B024E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6D2FD-9EDD-4E4B-AA1A-0BB14D5130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83F3F-E194-46BD-8CB4-0C08C1D851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72A29-C3B6-432C-8C8C-02FD17588E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FC5E1-5353-48C8-A45C-22F9CB1570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1CA21-989B-4E9E-A640-577FD71992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B0960-91E7-472D-9085-810DF0ACCE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478E2-13CE-421F-A489-D123690C46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51F95-A1F1-492C-8C64-0DF70FCF6E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FF4B-D01C-4FD7-9F63-C3579BAA3D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D5705-E6C1-4138-AF10-81F44BDCA2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7849E-54E7-4AEE-AB8C-79EF2E518F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CF002-7F5B-4B39-8475-0A55FC8A99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C75F6-A616-4128-8031-4EA3D442FF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4470E-C3FD-4343-9CA7-A0C9CDEAAE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68000" y="4172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262626"/>
                </a:solidFill>
                <a:latin typeface="Century Gothic"/>
              </a:rPr>
              <a:t>День Неизвестного Солдата 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2158920" y="227664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1"/>
          <p:cNvSpPr/>
          <p:nvPr/>
        </p:nvSpPr>
        <p:spPr>
          <a:xfrm>
            <a:off x="4443480" y="25560"/>
            <a:ext cx="185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 txBox="1"/>
          <p:nvPr/>
        </p:nvSpPr>
        <p:spPr>
          <a:xfrm rot="10800000"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8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10" name="Прямоугольник 8"/>
          <p:cNvSpPr/>
          <p:nvPr/>
        </p:nvSpPr>
        <p:spPr>
          <a:xfrm>
            <a:off x="4067280" y="6555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же много лет прошло. Сюда приходят взрослые и дети не только в День Победы. К Вечному огню возлагают цветы молодожены, высказывая бесконечное уважение безымянным героя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инута молч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214" name="metronom1.mp3" descr=""/>
          <p:cNvPicPr/>
          <p:nvPr/>
        </p:nvPicPr>
        <p:blipFill>
          <a:blip r:embed="rId3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99640" y="146376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7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60708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каз президента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 декабр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нь Неизвестного Солда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5219280" y="907920"/>
            <a:ext cx="39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сторически, в ходе войн, множество солдат гибло и их останки не были или не могли быть опознаны. В XX веке, после окончания кровопролитной Первой мировой войны начала образовываться традиция, по которой нации и государства устанавливают памятники Неизвестному солдату, символизирующие память, благодарность и уважение всем погибшим солдата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2" descr="https://stihi.ru/pics/2018/12/03/7029.jpg"/>
          <p:cNvPicPr/>
          <p:nvPr/>
        </p:nvPicPr>
        <p:blipFill>
          <a:blip r:embed="rId1"/>
          <a:stretch/>
        </p:blipFill>
        <p:spPr>
          <a:xfrm>
            <a:off x="131760" y="1052640"/>
            <a:ext cx="508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Мемориал Могила Неизвестного Солдата находится в Москве в Александровском саду, у северной стены Кремля. На боевом знамени лежат солдатская каска и лавровая ветвь,. 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5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Прямоугольник 3"/>
          <p:cNvSpPr/>
          <p:nvPr/>
        </p:nvSpPr>
        <p:spPr>
          <a:xfrm>
            <a:off x="1403280" y="4869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«Имя твоё неизвестно, подвиг твой бессмертен», - такие слова начертаны на сводах этого мемориального комплекса. Они стали своеобразным девизом участников поискового движения, которые разыскивают не погребенные останки советских воинов и придают их земл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7" name="Picture 2" descr="https://ds04.infourok.ru/uploads/ex/0761/00012c58-1ad26fc0/img0.jpg"/>
          <p:cNvPicPr/>
          <p:nvPr/>
        </p:nvPicPr>
        <p:blipFill>
          <a:blip r:embed="rId1"/>
          <a:stretch/>
        </p:blipFill>
        <p:spPr>
          <a:xfrm>
            <a:off x="1403280" y="115920"/>
            <a:ext cx="626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Прямоугольник 1"/>
          <p:cNvSpPr/>
          <p:nvPr/>
        </p:nvSpPr>
        <p:spPr>
          <a:xfrm>
            <a:off x="520560" y="4941720"/>
            <a:ext cx="862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еликая Отечественная война унесла жизни десятки миллионов жизней . Многие имена до сих пор неизвестны. В населенных пунктах нашей страны и других государств установлены памятники неизвестному солдату. Эти памятники – дань тем, кто отдал свою жизнь за мир во всем мир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Picture 2" descr="https://ds04.infourok.ru/uploads/ex/0761/00012c58-1ad26fc0/img0.jpg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12120" cy="504828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2"/>
          <p:cNvSpPr/>
          <p:nvPr/>
        </p:nvSpPr>
        <p:spPr>
          <a:xfrm>
            <a:off x="1479240" y="5661000"/>
            <a:ext cx="595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Arial"/>
              </a:rPr>
              <a:t>Ростовская облас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Прямоугольник 1"/>
          <p:cNvSpPr/>
          <p:nvPr/>
        </p:nvSpPr>
        <p:spPr>
          <a:xfrm>
            <a:off x="5354640" y="371520"/>
            <a:ext cx="329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 народе говорят, что души погибших за Отчизну солдат превращаются в журавлей. Эти красивые, гордые птицы стали символом бессмертия души бойцов, которые не вернулись с той далекой войны. Имена многих из них до сих пор остаются неизвестным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Picture 2" descr="http://i.mycdn.me/i?r=AzEPZsRbOZEKgBhR0XGMT1Rk4NF9xfNZKs4s5-aFbtruu6aKTM5SRkZCeTgDn6uOyic"/>
          <p:cNvPicPr/>
          <p:nvPr/>
        </p:nvPicPr>
        <p:blipFill>
          <a:blip r:embed="rId1"/>
          <a:stretch/>
        </p:blipFill>
        <p:spPr>
          <a:xfrm>
            <a:off x="250920" y="287280"/>
            <a:ext cx="4968720" cy="597708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2" descr="https://stihi.ru/pics/2018/12/03/7029.jpg"/>
          <p:cNvPicPr/>
          <p:nvPr/>
        </p:nvPicPr>
        <p:blipFill>
          <a:blip r:embed="rId2"/>
          <a:stretch/>
        </p:blipFill>
        <p:spPr>
          <a:xfrm>
            <a:off x="4859280" y="3429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Влад</cp:lastModifiedBy>
  <cp:lastPrinted>2020-12-24T09:46:56Z</cp:lastPrinted>
  <dcterms:modified xsi:type="dcterms:W3CDTF">2023-01-24T19:55:42Z</dcterms:modified>
  <cp:revision>32</cp:revision>
  <dc:subject/>
  <dc:title>3 декабря - День памяти Неизвестного Солдата</dc:title>
</cp:coreProperties>
</file>