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7BE-3289-467A-9776-066D1E88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C83-91B8-413E-B423-8C8E9B1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0D8-73CF-4C7F-97FE-51407710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541-7CC7-4E80-A5FB-0EABB222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BEF58-9984-4AE8-9660-B5256AC0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7F1FF-4E01-4519-8529-C1EC9621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BC21-1A9D-4793-83EC-3E41C3D1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2630C-5E21-4004-B642-720FFE0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460E9-8396-4413-8B9D-EC6C41A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07228-6AEE-4C5A-B9E5-10AE561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15EA5-5916-4116-B71D-B3B3924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A76-502A-431B-A76B-0C210B1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FA8AF-1095-4DBE-A2DD-033E1DA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1D506-3885-401B-80BD-D615806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AE099-E964-4DF4-99C9-723EEA47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CD24D-4B08-4D16-A049-E9AD90CA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88C27-F261-4544-8D4E-792E4A58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E66-266A-483F-AFB2-A63A709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C9C-9454-4397-A2EE-65D94E41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2C5-78E6-4174-980D-BD0A7556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043-BC1A-4223-96F8-9DB2434A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0C8-33B6-48EC-B3B7-11DF59D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935-0D59-4FC4-816F-236F7D2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CD9-BCC8-456E-A936-45AD2F5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11D-64D4-45C2-A935-E70AF38B52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A670-4716-4B21-A280-BBCCC5DCDB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келанджело Буонаррот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1475-1564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047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4762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146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62280" y="95400"/>
            <a:ext cx="5419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66880" y="1390680"/>
            <a:ext cx="561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715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23840" y="115920"/>
            <a:ext cx="700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ашный Су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произведение было заказано папой незадолго до конч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ое впечатление, которое мы получаем, сто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Страшным Судом, это ощущ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перед нами поистине космическое событ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центре него мощная фигура Хр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4680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был  назначен главным архитектором со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го Петра. Убедившись в таком доверии к нему и ве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него со стороны папы, Микеланджело, дабы показ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брую волю, пожелал, чтобы в указе было объявле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 он служит на строительстве из любви к Бог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з какого-либо вознагра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в полнейшем сознании составил завещ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ее из трех слов: душу свою отдавал в руки Госп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земле, а имущество ближайшим родственник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февраля 1563 года, по флорентийскому исчис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что по римскому было бы в 1564 году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еланджело ушел из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889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6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35120" y="0"/>
            <a:ext cx="7954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знали и все видели, что все три искус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игли в нем та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ершенства, какого не найдешь ни у древни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 у новых людей за многие и многие г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ображением он обладал таким и столь совершенным и ве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вшиеся ему в идее, были таковы, что руками осущест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ыслы столь великие и потрясающие было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асто он бросал свои творения, более того, многие уничтожа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, известно, что незадолго до смерти он сжег больш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ков, набросков и картонов, созданных собственноруч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никто не смог увидеть трудов, им преодолевавшихся, и т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ми способами он испытывал свой гений, дабы являть его не ина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совершен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усть никому не покажется странным, что Микеландже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ил одиночество, как человек, влюбленный в свое искус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торое требует, чтобы человек был предан ему целиком и т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нем и размышлял; и необходимо, чтобы тот, кто хочет им заним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бегал общества, ибо тот, кто предается размышлениям об искусств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оким и без мыслей никогда не остается, те же, кто припис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в нем чудачествам и странностям, заблуждаются, ибо, к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елательно работать хорошо, тому надлежит удалитьс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х забот, так как талант требует размышлений, уединении и поко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не мысленных блуж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38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ь и деятельность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Буонарроти продолжались почти целое столетие с 1475 по 1564 год. Микеланджело родился 6 марта 1475 в Капрезе, в Тоскане. Он был сыном мелкого чиновн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назвал его Микеланджело: он хотел этим показать, что существо это было небесным и божественным в большей степени, чем это бывает у смертных, как это 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твердилось позднее. Детство его прошло частью во Флоренции, частью в сельской местности, в родовой усадьбе. Мать мальчика умерла, когда ему было шесть лет. В 1488 году отец отдал тринадцатилетнег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келанджело учиться мастерскую Доменико Гирландайо, который в то время почитался одним из лучших мастеров  по всей Италии. Мастерство и личность Микеланджело очень выросл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коре Лоренцо Медичи, прозванный Великолепны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вал его к себе во дворец и открыл ему доступ в свои сады, где находилась богатая коллекция произведений античных мастеров. Мальчик практически самостоятельно овладел необходимыми техническими навыками ремес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ора. Он лепил из глины и рисовал с произведений предшественников Рассказывают, что Торриджано, сдружившийся с ним, но побуждаемый завистью за то, что, как он видел, его и ценили выше и стоил он больше него в искусстве, как бы шутя с такой силой ударил его кулаком по носу, что навсегда его отметил сломанным и безобразно раздавленным носом; за это Торриджано был из Флоренции изгнан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915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04640"/>
            <a:ext cx="1870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смерти Лоренцо Великолепного в 1492 году, Микеланджело возврати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тцовский дом. Для церкви Санто Спирито в городе Флоренции он сдел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ревянное распятие, поставленное и до сих пор стоящее над полукруж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го алтаря.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494 году французский король Карл VIII вынудил Медичи, покров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удожника, оставить Флоренцию, Микеланджело бежал в Венец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затем в Болонью. Микеланджело понимал, что напрасно теряет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 возвратился во Флоренцию, где для Лоренцо, сына Пьерфранче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и Медичи, высек из мрамора св. Иоанна с ребенком и тут же из друг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ка мрамора спящего Купидона натуральной велич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2433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0640" y="635040"/>
            <a:ext cx="85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я истории этой известность Микеланджело стала так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он тут же был вызван в Рим. Художник столь редкостного да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вил достойную о себе память в городе, столь знаменитом, извая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раморную, целиком круглую скульптуру с оплакиванием Хрис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 PIETA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ая по ее завершении была помещена в соборе св. П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апеллу Девы М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то творение Микеланджело вложил столько любви и тру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только на нем (чего он в других своих работах больше не дела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исал он свое имя вдоль пояса, стягивающего грудь Богомате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32637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65000" y="635040"/>
            <a:ext cx="907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го августа 1501 года во Флоренции была провозглашена республ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е-кто из друзей его написал ему из Флоренции, чтобы он приезжал т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гатая корпорация торговцев шерстью дала мастеру за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здание скульптуры Давида. Микеланджело порывает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м способом трактовки образа Дав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не изобразил победителя с головой гиганта у ног и крепк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чом в руке, а представил юношу в ситуации, кото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шествует столкновению, возможно, как раз в момен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тот чувствует замешательство своих соплемен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поединком и издали различает Голиафа, насмехающего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 его народом.  Когда статуя была закончена, коми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видных горожан и художников, реш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новить ее на главной площади города, пе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аццо Веккио. Это был первый случай со времени анти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есть более чем за тысячу лет, появления монумент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туи обнаженного героя в публичном месте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563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76520" y="1052640"/>
            <a:ext cx="399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7640" y="779400"/>
            <a:ext cx="837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коре папа загорелся еще более грандиозным проек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тройкой собора Святого Пе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508 году мастер возвратился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ожидал еще более ошеломляющий заказ: в память Сик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яди Его Святейшества, расписать потолок капеллы, выстрое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дворце Сикстом. Работа над потолком капеллы казалась 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и трудно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ея в виду малый свой опыт в живописи красками, он пытал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якими путями свалить с себя эту тяжесть. Видя, что Его Святейш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орствует, Микеланджело решил, наконец, за это вз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31 октября 1512 года Микеланджело написал на с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кстинской капеллы более трехсот фиг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25:07Z</dcterms:created>
  <dc:creator>да</dc:creator>
  <dc:description/>
  <dc:language>en-US</dc:language>
  <cp:lastModifiedBy>Дмитрий</cp:lastModifiedBy>
  <dcterms:modified xsi:type="dcterms:W3CDTF">2022-11-11T09:23:44Z</dcterms:modified>
  <cp:revision>2</cp:revision>
  <dc:subject/>
  <dc:title>Микеланджело Буонарроти                  (1475-1564)</dc:title>
</cp:coreProperties>
</file>