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B8B-4499-483E-B666-14D8883D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941-8649-43F1-994B-5EED0BF7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6F2-CFD1-4717-8133-71607925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49A-AA6E-428E-9EF0-3810901B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C2E82-05ED-4F90-9E68-F746702D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9D7F8-782B-4F7F-A123-EC785355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C34AD-59DE-4A91-A2C4-A7671EBD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E6CA6-40E5-45FE-95F5-97449697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368C2-A46B-43C3-AE72-7679C713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A6303-6B4B-4F23-89D3-DB32722E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D8BA1-86E5-4CF8-B0D2-8B9931B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8F5-384D-4AC9-8AED-1FEE4E52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8D5C1-CEA7-4422-A3AB-99A2A2E2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B56ED-895D-4C7E-9C49-1741F7B9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2CE68-F71B-4980-AE59-92010BF9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1C09B-B90B-4F0B-9239-DF950A96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9F027-C3AD-466F-A84A-8CA4C069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776-0B1C-4F5E-94FC-69610A87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755-1FE3-4C08-977C-07C84B63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4DB-DDD7-4013-B6DD-529D987A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AC4-DEFB-47BB-B4F8-33767248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B47-8BED-4A7B-BAA3-615126FF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6CF-8B74-4184-84CD-D616D13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01D-7A13-448E-B637-4F9D84DC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49E9-45F8-49D6-B83F-27D2908A9E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8934-FAB6-41EE-874A-1CB9455413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икеланджело Буонаррот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1475-1564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30477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4762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14680" y="14097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62280" y="95400"/>
            <a:ext cx="54194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66880" y="1390680"/>
            <a:ext cx="56102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715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23840" y="115920"/>
            <a:ext cx="70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рашный Су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произведение было заказано папой незадолго до конч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ое впечатление, которое мы получаем, сто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 Страшным Судом, это ощущ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перед нами поистине космическое событ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центре него мощная фигура Хр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0000" y="2349360"/>
            <a:ext cx="4680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еланджело был  назначен главным архитектором со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го Петра. Убедившись в таком доверии к нему и ве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его со стороны папы, Микеланджело, дабы показать сво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брую волю, пожелал, чтобы в указе было объявле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он служит на строительстве из любви к Богу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з какого-либо вознагра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 в полнейшем сознании составил завеща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ее из трех слов: душу свою отдавал в руки Госпо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о земле, а имущество ближайшим родственник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7 февраля 1563 года, по флорентийскому исчисл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что по римскому было бы в 1564 году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еланджело ушел из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38894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616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35120" y="0"/>
            <a:ext cx="79549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знали и все видели, что все три искус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стигли в нем та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ершенства, какого не найдешь ни у древни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и у новых людей за многие и многие г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ображением он обладал таким и столь совершенным и вещ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ставлявшиеся ему в идее, были таковы, что руками осуществ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мыслы столь великие и потрясающие было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часто он бросал свои творения, более того, многие уничтожа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к, известно, что незадолго до смерти он сжег большое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ков, набросков и картонов, созданных собственноруч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бы никто не смог увидеть трудов, им преодолевавшихся, и т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ими способами он испытывал свой гений, дабы являть его не инач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совершен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пусть никому не покажется странным, что Микеландже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бил одиночество, как человек, влюбленный в свое искус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торое требует, чтобы человек был предан ему целиком и т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нем и размышлял; и необходимо, чтобы тот, кто хочет им занимать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бегал общества, ибо тот, кто предается размышлениям об искусств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иноким и без мыслей никогда не остается, те же, кто приписы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в нем чудачествам и странностям, заблуждаются, ибо, к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елательно работать хорошо, тому надлежит удалиться 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х забот, так как талант требует размышлений, уединении и поко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не мысленных блуж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384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знь и деятельность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келанджело Буонарроти продолжались почти целое столетие с 1475 по 1564 год. Микеланджело родился 6 марта 1475 в Капрезе, в Тоскане. Он был сыном мелкого чиновни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ец назвал его Микеланджело: он хотел этим показать, что существо это было небесным и божественным в большей степени, чем это бывает у смертных, как это 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твердилось позднее. Детство его прошло частью во Флоренции, частью в сельской местности, в родовой усадьбе. Мать мальчика умерла, когда ему было шесть лет. В 1488 году отец отдал тринадцатилетнег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келанджело учиться мастерскую Доменико Гирландайо, который в то время почитался одним из лучших мастеров  по всей Италии. Мастерство и личность Микеланджело очень выросл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3628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коре Лоренцо Медичи, прозванный Великолепным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звал его к себе во дворец и открыл ему доступ в свои сады, где находилась богатая коллекция произведений античных мастеров. Мальчик практически самостоятельно овладел необходимыми техническими навыками ремесл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ульптора. Он лепил из глины и рисовал с произведений предшественников Рассказывают, что Торриджано, сдружившийся с ним, но побуждаемый завистью за то, что, как он видел, его и ценили выше и стоил он больше него в искусстве, как бы шутя с такой силой ударил его кулаком по носу, что навсегда его отметил сломанным и безобразно раздавленным носом; за это Торриджано был из Флоренции изгнан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915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04640"/>
            <a:ext cx="18700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 смерти Лоренцо Великолепного в 1492 году, Микеланджело возвратил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тцовский дом. Для церкви Санто Спирито в городе Флоренции он сдел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ревянное распятие, поставленное и до сих пор стоящее над полукруж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ного алтаря.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494 году французский король Карл VIII вынудил Медичи, покровит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удожника, оставить Флоренцию, Микеланджело бежал в Венец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затем в Болонью. Микеланджело понимал, что напрасно теряет вре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 возвратился во Флоренцию, где для Лоренцо, сына Пьерфранчес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и Медичи, высек из мрамора св. Иоанна с ребенком и тут же из друг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ска мрамора спящего Купидона натуральной велич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3284640"/>
            <a:ext cx="2433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0640" y="635040"/>
            <a:ext cx="855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я истории этой известность Микеланджело стала тако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он тут же был вызван в Рим. Художник столь редкостного да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вил достойную о себе память в городе, столь знаменитом, извая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раморную, целиком круглую скульптуру с оплакиванием Хрис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 PIETA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ая по ее завершении была помещена в соборе св. Пе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апеллу Девы Ма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это творение Микеланджело вложил столько любви и труд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только на нем (чего он в других своих работах больше не делал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исал он свое имя вдоль пояса, стягивающего грудь Богоматер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326376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65000" y="635040"/>
            <a:ext cx="907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ого августа 1501 года во Флоренции была провозглашена республ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е-кто из друзей его написал ему из Флоренции, чтобы он приезжал т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гатая корпорация торговцев шерстью дала мастеру зака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оздание скульптуры Давида. Микеланджело порывает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ым способом трактовки образа Дав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не изобразил победителя с головой гиганта у ног и крепк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чом в руке, а представил юношу в ситуации, кото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шествует столкновению, возможно, как раз в момен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тот чувствует замешательство своих соплемен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поединком и издали различает Голиафа, насмехающего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д его народом.  Когда статуя была закончена, комисс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видных горожан и художников, реш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ановить ее на главной площади города, пе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лаццо Веккио. Это был первый случай со времени антич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есть более чем за тысячу лет, появления монумент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туи обнаженного героя в публичном месте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2563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76520" y="1052640"/>
            <a:ext cx="39909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7640" y="779400"/>
            <a:ext cx="837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коре папа загорелся еще более грандиозным проек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стройкой собора Святого Пет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508 году мастер возвратился в Р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го ожидал еще более ошеломляющий заказ: в память Сикс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яди Его Святейшества, расписать потолок капеллы, выстро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дворце Сикстом. Работа над потолком капеллы казалась 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й и трудно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ея в виду малый свой опыт в живописи красками, он пытал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якими путями свалить с себя эту тяжесть. Видя, что Его Святейш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орствует, Микеланджело решил, наконец, за это взя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 31 октября 1512 года Микеланджело написал на св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кстинской капеллы более трехсот фигу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6:25:07Z</dcterms:created>
  <dc:creator>да</dc:creator>
  <dc:description/>
  <dc:language>en-US</dc:language>
  <cp:lastModifiedBy>Дмитрий</cp:lastModifiedBy>
  <dcterms:modified xsi:type="dcterms:W3CDTF">2022-11-11T09:23:44Z</dcterms:modified>
  <cp:revision>2</cp:revision>
  <dc:subject/>
  <dc:title>Микеланджело Буонарроти                  (1475-1564)</dc:title>
</cp:coreProperties>
</file>