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567E2-860F-4F4D-B527-19F8E04D842B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1" name=""/>
          <p:cNvSpPr/>
          <p:nvPr/>
        </p:nvSpPr>
        <p:spPr>
          <a:xfrm>
            <a:off x="427824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3" name="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DF80-5E0A-461C-ADCF-20A27763E87E}" type="slidenum">
              <a: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5" name=""/>
          <p:cNvSpPr/>
          <p:nvPr/>
        </p:nvSpPr>
        <p:spPr>
          <a:xfrm>
            <a:off x="427824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7" name="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59272-31DB-4DE0-B824-A5CC7D12C2A7}" type="slidenum">
              <a: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1" name=""/>
          <p:cNvSpPr/>
          <p:nvPr/>
        </p:nvSpPr>
        <p:spPr>
          <a:xfrm>
            <a:off x="427824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3" name="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C6709-F272-4D15-BC57-28DA305D909B}" type="slidenum">
              <a: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7" name=""/>
          <p:cNvSpPr/>
          <p:nvPr/>
        </p:nvSpPr>
        <p:spPr>
          <a:xfrm>
            <a:off x="427824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9" name="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681DA-0D79-4363-B2A6-501A2AF00281}" type="slidenum">
              <a: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3" name=""/>
          <p:cNvSpPr/>
          <p:nvPr/>
        </p:nvSpPr>
        <p:spPr>
          <a:xfrm>
            <a:off x="427824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5" name="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4DEDE-4248-4266-81C2-8D60283580B4}" type="slidenum">
              <a: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9" name=""/>
          <p:cNvSpPr/>
          <p:nvPr/>
        </p:nvSpPr>
        <p:spPr>
          <a:xfrm>
            <a:off x="427824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1" name="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B5F70-35FC-45ED-880C-9B4452273878}" type="slidenum">
              <a: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5" name=""/>
          <p:cNvSpPr/>
          <p:nvPr/>
        </p:nvSpPr>
        <p:spPr>
          <a:xfrm>
            <a:off x="427824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7" name="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0944A-DFE2-48AF-B94F-F2A3D955524B}" type="slidenum">
              <a: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1" name=""/>
          <p:cNvSpPr/>
          <p:nvPr/>
        </p:nvSpPr>
        <p:spPr>
          <a:xfrm>
            <a:off x="427824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3" name="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04845-8ED1-4942-9DC9-33CF6DE1F114}" type="slidenum">
              <a: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7" name=""/>
          <p:cNvSpPr/>
          <p:nvPr/>
        </p:nvSpPr>
        <p:spPr>
          <a:xfrm>
            <a:off x="427824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9" name="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8D8EE-9BCA-4B93-AF92-A4C03C66CB43}" type="slidenum">
              <a: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3" name=""/>
          <p:cNvSpPr/>
          <p:nvPr/>
        </p:nvSpPr>
        <p:spPr>
          <a:xfrm>
            <a:off x="427824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5" name="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70225-7678-4F4C-8C03-3E88ABEDDE90}" type="slidenum">
              <a: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9" name=""/>
          <p:cNvSpPr/>
          <p:nvPr/>
        </p:nvSpPr>
        <p:spPr>
          <a:xfrm>
            <a:off x="427824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1" name="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930C6-1F2F-42F9-92FC-3395B5362F2E}" type="slidenum">
              <a: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5" name=""/>
          <p:cNvSpPr/>
          <p:nvPr/>
        </p:nvSpPr>
        <p:spPr>
          <a:xfrm>
            <a:off x="427824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7" name="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A81F2-8053-4116-8DA2-E5FF9B3B62D7}" type="slidenum">
              <a: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1" name=""/>
          <p:cNvSpPr/>
          <p:nvPr/>
        </p:nvSpPr>
        <p:spPr>
          <a:xfrm>
            <a:off x="427824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3" name="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5658B-D2F4-4E43-97D3-6E57ED90B999}" type="slidenum">
              <a: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7" name=""/>
          <p:cNvSpPr/>
          <p:nvPr/>
        </p:nvSpPr>
        <p:spPr>
          <a:xfrm>
            <a:off x="427824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9" name="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97C61-A587-4126-9EDB-B02478CCCA1B}" type="slidenum">
              <a: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3" name=""/>
          <p:cNvSpPr/>
          <p:nvPr/>
        </p:nvSpPr>
        <p:spPr>
          <a:xfrm>
            <a:off x="427824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5" name="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8E2CA-F22D-4EE9-A05E-D28EF54EB1FA}" type="slidenum">
              <a: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9" name=""/>
          <p:cNvSpPr/>
          <p:nvPr/>
        </p:nvSpPr>
        <p:spPr>
          <a:xfrm>
            <a:off x="427824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1" name="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06C33-4A66-4330-8C83-87CCD22335EB}" type="slidenum">
              <a:rPr b="0" lang="en-US" sz="1400" spc="-1" strike="noStrike">
                <a:solidFill>
                  <a:srgbClr val="000000"/>
                </a:solidFill>
                <a:latin typeface="DejaVu Serif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6776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859280" y="3716280"/>
            <a:ext cx="4033800" cy="2089080"/>
          </a:xfr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"/>
          <p:cNvSpPr/>
          <p:nvPr/>
        </p:nvSpPr>
        <p:spPr>
          <a:xfrm>
            <a:off x="5076720" y="4005360"/>
            <a:ext cx="352584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Песенка осеннего ветерка»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Индивидуально-подгрупповая НОД по постановке звука С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8" name=""/>
          <p:cNvSpPr/>
          <p:nvPr/>
        </p:nvSpPr>
        <p:spPr>
          <a:xfrm>
            <a:off x="8172360" y="645336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DejaVu Sans"/>
              </a:rPr>
              <a:t>№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DejaVu Sans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DejaVu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3da1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260280"/>
            <a:ext cx="8642160" cy="6408720"/>
          </a:xfr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2" name=""/>
          <p:cNvSpPr/>
          <p:nvPr/>
        </p:nvSpPr>
        <p:spPr>
          <a:xfrm>
            <a:off x="971640" y="33336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пражнение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«Осенний ветерок» 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8209080" cy="41050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57040" y="4005360"/>
            <a:ext cx="3232440" cy="22143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635280" y="4221000"/>
            <a:ext cx="3122640" cy="20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3da1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260280"/>
            <a:ext cx="8642160" cy="6408720"/>
          </a:xfr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36400" y="328680"/>
            <a:ext cx="8071200" cy="608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3da1d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0" name=""/>
          <p:cNvSpPr/>
          <p:nvPr/>
        </p:nvSpPr>
        <p:spPr>
          <a:xfrm>
            <a:off x="179280" y="260280"/>
            <a:ext cx="8783640" cy="6337440"/>
          </a:xfrm>
          <a:solidFill>
            <a:srgbClr val="ffffff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1" name=""/>
          <p:cNvSpPr/>
          <p:nvPr/>
        </p:nvSpPr>
        <p:spPr>
          <a:xfrm>
            <a:off x="3564000" y="3716280"/>
            <a:ext cx="2735280" cy="2665440"/>
          </a:xfrm>
          <a:prstGeom prst="rect">
            <a:avLst/>
          </a:prstGeom>
          <a:solidFill>
            <a:srgbClr val="0033cc"/>
          </a:solidFill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rcRect l="69910" t="55246" r="2543" b="0"/>
          <a:stretch/>
        </p:blipFill>
        <p:spPr>
          <a:xfrm>
            <a:off x="6659640" y="2060640"/>
            <a:ext cx="2014560" cy="23702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564000" y="4653000"/>
            <a:ext cx="2698560" cy="1405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68360" y="1989000"/>
            <a:ext cx="2808360" cy="2735280"/>
          </a:xfrm>
          <a:prstGeom prst="rect">
            <a:avLst/>
          </a:prstGeom>
          <a:solidFill>
            <a:srgbClr val="0033cc"/>
          </a:solidFill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995640" y="1628640"/>
            <a:ext cx="1882800" cy="1800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611280" y="2133720"/>
            <a:ext cx="2460600" cy="24159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332000" y="404640"/>
            <a:ext cx="66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арактеристика звука С 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66" dur="indefinite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6" dur="indefinite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2" dur="indefinite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8" dur="indefinite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94" dur="indefinite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3da1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260280"/>
            <a:ext cx="8642160" cy="6408720"/>
          </a:xfr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03360" y="828720"/>
            <a:ext cx="7900920" cy="55594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692360" y="333360"/>
            <a:ext cx="59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р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Собери картинку»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3da1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260280"/>
            <a:ext cx="8642160" cy="6408720"/>
          </a:xfr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4" name=""/>
          <p:cNvSpPr/>
          <p:nvPr/>
        </p:nvSpPr>
        <p:spPr>
          <a:xfrm>
            <a:off x="1692360" y="333360"/>
            <a:ext cx="59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р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Песенка дождя»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7921440" cy="474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3da1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260280"/>
            <a:ext cx="8642160" cy="6408720"/>
          </a:xfr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8" name=""/>
          <p:cNvSpPr/>
          <p:nvPr/>
        </p:nvSpPr>
        <p:spPr>
          <a:xfrm>
            <a:off x="468360" y="1989000"/>
            <a:ext cx="2808360" cy="2735280"/>
          </a:xfrm>
          <a:prstGeom prst="rect">
            <a:avLst/>
          </a:prstGeom>
          <a:solidFill>
            <a:srgbClr val="0033cc"/>
          </a:solidFill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9" name=""/>
          <p:cNvSpPr/>
          <p:nvPr/>
        </p:nvSpPr>
        <p:spPr>
          <a:xfrm>
            <a:off x="1692360" y="260280"/>
            <a:ext cx="59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тог занятия 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00720" y="981000"/>
            <a:ext cx="3909960" cy="4824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11280" y="2133720"/>
            <a:ext cx="2460600" cy="241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619280" y="0"/>
            <a:ext cx="59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: раскрась осенние листья!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4087800" cy="2805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435640" y="189000"/>
            <a:ext cx="3203640" cy="33638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916360" y="2060640"/>
            <a:ext cx="2808000" cy="2695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5135400" y="3357720"/>
            <a:ext cx="4008600" cy="30574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826920" y="3112920"/>
            <a:ext cx="2657520" cy="37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677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3da1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260280"/>
            <a:ext cx="8642160" cy="6408720"/>
          </a:xfr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2" name=""/>
          <p:cNvSpPr/>
          <p:nvPr/>
        </p:nvSpPr>
        <p:spPr>
          <a:xfrm>
            <a:off x="755640" y="33336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альчиковая игра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Ветер по лесу летал»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508720" y="549360"/>
            <a:ext cx="3208320" cy="3959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68360" y="1125360"/>
            <a:ext cx="2425680" cy="1770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6300720" y="4653000"/>
            <a:ext cx="2014560" cy="1792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3132000" y="2205000"/>
            <a:ext cx="1998720" cy="15685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rcRect l="24141" t="0" r="26336" b="14207"/>
          <a:stretch/>
        </p:blipFill>
        <p:spPr>
          <a:xfrm>
            <a:off x="3708360" y="4292640"/>
            <a:ext cx="1557360" cy="2014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826920" y="429264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" dur="indefinite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0" dur="indefinite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2" dur="indefinite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3da1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260280"/>
            <a:ext cx="8642160" cy="6408720"/>
          </a:xfr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1" name=""/>
          <p:cNvSpPr/>
          <p:nvPr/>
        </p:nvSpPr>
        <p:spPr>
          <a:xfrm>
            <a:off x="826920" y="33336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ра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Подуй на осенний листочек»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7756" t="17234" r="17246" b="5171"/>
          <a:stretch/>
        </p:blipFill>
        <p:spPr>
          <a:xfrm>
            <a:off x="900000" y="907920"/>
            <a:ext cx="7201080" cy="5586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95280" y="2060640"/>
            <a:ext cx="3122640" cy="208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3da1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"/>
          <p:cNvSpPr/>
          <p:nvPr/>
        </p:nvSpPr>
        <p:spPr>
          <a:xfrm>
            <a:off x="250920" y="260280"/>
            <a:ext cx="8642160" cy="6408720"/>
          </a:xfr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280360" cy="64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3da1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260280"/>
            <a:ext cx="8642160" cy="6408720"/>
          </a:xfr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036800" y="542880"/>
            <a:ext cx="7283160" cy="561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3da1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260280"/>
            <a:ext cx="8642160" cy="6408720"/>
          </a:xfr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36400" y="542880"/>
            <a:ext cx="7991640" cy="56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3da1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60280"/>
            <a:ext cx="8642160" cy="6408720"/>
          </a:xfr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03360" y="615960"/>
            <a:ext cx="8076960" cy="560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3da1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260280"/>
            <a:ext cx="8642160" cy="6408720"/>
          </a:xfr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49160" y="974880"/>
            <a:ext cx="7570800" cy="56800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971640" y="33336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СТУПИЛА ОСЕНЬ!!! 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15T17:11:00Z</dcterms:created>
  <dc:creator>Пользователь</dc:creator>
  <dc:description/>
  <dc:language>en-US</dc:language>
  <cp:lastModifiedBy>Маша</cp:lastModifiedBy>
  <dcterms:modified xsi:type="dcterms:W3CDTF">2023-01-30T06:12:03Z</dcterms:modified>
  <cp:revision>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6</vt:r8>
  </property>
  <property fmtid="{D5CDD505-2E9C-101B-9397-08002B2CF9AE}" pid="3" name="PresentationFormat">
    <vt:lpwstr>On-screen Show (4:3)</vt:lpwstr>
  </property>
  <property fmtid="{D5CDD505-2E9C-101B-9397-08002B2CF9AE}" pid="4" name="Slides">
    <vt:r8>16</vt:r8>
  </property>
</Properties>
</file>