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2A2-35DC-42C9-A472-977D80C2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DC5C-7C30-4C8F-A308-1FFD5A4A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DA4-BF58-4403-BE50-DAD26E34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87A-78E1-4AD8-9CAE-533D0EA0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62B9-7F33-4178-B8C3-E5EBC8C5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3E6-1711-4ACE-B31B-5EB885CC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872-B370-4BE4-ADF4-7BB2B073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021-D874-421D-B7CD-73616549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B822-332A-455B-B9D1-CB182C1B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F29-DC36-4425-A885-1213C354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68A-D70A-4137-9710-C3E670D3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FBE-0063-4A14-85A7-44F15E00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051A-C6D9-491B-96FB-96206F10A9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Здравствуй, маслениц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9" descr="1"/>
          <p:cNvPicPr/>
          <p:nvPr/>
        </p:nvPicPr>
        <p:blipFill>
          <a:blip r:embed="rId1"/>
          <a:stretch/>
        </p:blipFill>
        <p:spPr>
          <a:xfrm>
            <a:off x="2556000" y="1484280"/>
            <a:ext cx="395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0105 L 0 4.62428E-006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5734080"/>
            <a:ext cx="3457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ряжают куклу-чуч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untit33led"/>
          <p:cNvPicPr/>
          <p:nvPr/>
        </p:nvPicPr>
        <p:blipFill>
          <a:blip r:embed="rId1"/>
          <a:srcRect l="0" t="12598" r="21044" b="0"/>
          <a:stretch/>
        </p:blipFill>
        <p:spPr>
          <a:xfrm>
            <a:off x="900000" y="1268280"/>
            <a:ext cx="2919600" cy="4318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untitl33ed"/>
          <p:cNvPicPr/>
          <p:nvPr/>
        </p:nvPicPr>
        <p:blipFill>
          <a:blip r:embed="rId2"/>
          <a:stretch/>
        </p:blipFill>
        <p:spPr>
          <a:xfrm>
            <a:off x="4500720" y="1268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611280" y="404640"/>
            <a:ext cx="7916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НЕДЕЛЬНИК - «встреча» маслениц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4211640" y="4221000"/>
            <a:ext cx="395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чинают печь б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4920" y="2349000"/>
            <a:ext cx="4032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 этот день начинаются весёлые игры, а за потеху и веселье угощают бли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79640" y="404640"/>
            <a:ext cx="5398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ТОРНИК - «заигрыш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0" name="Picture 5" descr="a1746bf319d9"/>
          <p:cNvPicPr/>
          <p:nvPr/>
        </p:nvPicPr>
        <p:blipFill>
          <a:blip r:embed="rId1"/>
          <a:stretch/>
        </p:blipFill>
        <p:spPr>
          <a:xfrm>
            <a:off x="4427640" y="1413000"/>
            <a:ext cx="3994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530064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 первом месте в ряду угощений, конечно, б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906560" y="476280"/>
            <a:ext cx="539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РЕДА - «лакомка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3" name="Picture 5" descr="un3titled"/>
          <p:cNvPicPr/>
          <p:nvPr/>
        </p:nvPicPr>
        <p:blipFill>
          <a:blip r:embed="rId1"/>
          <a:stretch/>
        </p:blipFill>
        <p:spPr>
          <a:xfrm>
            <a:off x="1835280" y="1341360"/>
            <a:ext cx="5433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5516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Это время называется Широкой Маслен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908000" y="477720"/>
            <a:ext cx="539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ЧЕТВЕРГ - «разгуляй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6" name="Picture 5" descr="4"/>
          <p:cNvPicPr/>
          <p:nvPr/>
        </p:nvPicPr>
        <p:blipFill>
          <a:blip r:embed="rId1"/>
          <a:stretch/>
        </p:blipFill>
        <p:spPr>
          <a:xfrm>
            <a:off x="2916360" y="1125360"/>
            <a:ext cx="3267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1332000" y="260280"/>
            <a:ext cx="647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ЯТНИЦА - «тёщины вечерки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8" name="Picture 6" descr="8267c4bd46bd"/>
          <p:cNvPicPr/>
          <p:nvPr/>
        </p:nvPicPr>
        <p:blipFill>
          <a:blip r:embed="rId1"/>
          <a:stretch/>
        </p:blipFill>
        <p:spPr>
          <a:xfrm>
            <a:off x="179280" y="960480"/>
            <a:ext cx="8790120" cy="5681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77bf1f7a431d"/>
          <p:cNvPicPr/>
          <p:nvPr/>
        </p:nvPicPr>
        <p:blipFill>
          <a:blip r:embed="rId2"/>
          <a:stretch/>
        </p:blipFill>
        <p:spPr>
          <a:xfrm>
            <a:off x="2989440" y="3152880"/>
            <a:ext cx="1385640" cy="220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блины"/>
          <p:cNvPicPr/>
          <p:nvPr/>
        </p:nvPicPr>
        <p:blipFill>
          <a:blip r:embed="rId3"/>
          <a:stretch/>
        </p:blipFill>
        <p:spPr>
          <a:xfrm>
            <a:off x="3133800" y="20001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01d742f3463"/>
          <p:cNvPicPr/>
          <p:nvPr/>
        </p:nvPicPr>
        <p:blipFill>
          <a:blip r:embed="rId4"/>
          <a:stretch/>
        </p:blipFill>
        <p:spPr>
          <a:xfrm>
            <a:off x="3781440" y="3944880"/>
            <a:ext cx="2438280" cy="1544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a2f37f6a334b"/>
          <p:cNvPicPr/>
          <p:nvPr/>
        </p:nvPicPr>
        <p:blipFill>
          <a:blip r:embed="rId5"/>
          <a:stretch/>
        </p:blipFill>
        <p:spPr>
          <a:xfrm>
            <a:off x="3565440" y="1208160"/>
            <a:ext cx="1150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611280" y="549360"/>
            <a:ext cx="791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УББОТА - «золовкины посиделки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4" name="Picture 6" descr="2368"/>
          <p:cNvPicPr/>
          <p:nvPr/>
        </p:nvPicPr>
        <p:blipFill>
          <a:blip r:embed="rId1"/>
          <a:stretch/>
        </p:blipFill>
        <p:spPr>
          <a:xfrm>
            <a:off x="2124000" y="1268280"/>
            <a:ext cx="4808520" cy="3600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920" y="508464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 этот день сжигают чучело Масленицы и окончательно прощаются с зи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40672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Заканчивается гулянье, на ледяных горках разводят костры, чтобы лед растопить, холод уничтожить. Прощения прос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611280" y="333360"/>
            <a:ext cx="791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СКРЕСЕНЬЕ - «прощеный день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8" name="Picture 5" descr="5"/>
          <p:cNvPicPr/>
          <p:nvPr/>
        </p:nvPicPr>
        <p:blipFill>
          <a:blip r:embed="rId1"/>
          <a:stretch/>
        </p:blipFill>
        <p:spPr>
          <a:xfrm>
            <a:off x="4211640" y="1054080"/>
            <a:ext cx="45784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7:34:41Z</dcterms:created>
  <dc:creator>Customer</dc:creator>
  <dc:description/>
  <dc:language>en-US</dc:language>
  <cp:lastModifiedBy>Windows User</cp:lastModifiedBy>
  <dcterms:modified xsi:type="dcterms:W3CDTF">2018-02-15T09:08:37Z</dcterms:modified>
  <cp:revision>14</cp:revision>
  <dc:subject/>
  <dc:title>Слайд 1</dc:title>
</cp:coreProperties>
</file>