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6.jpeg" ContentType="image/jpeg"/>
  <Override PartName="/ppt/media/image42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4.wmf" ContentType="image/x-wmf"/>
  <Override PartName="/ppt/media/image13.png" ContentType="image/png"/>
  <Override PartName="/ppt/media/image37.png" ContentType="image/png"/>
  <Override PartName="/ppt/media/image40.wmf" ContentType="image/x-wmf"/>
  <Override PartName="/ppt/media/image4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.jpeg" ContentType="image/jpeg"/>
  <Override PartName="/ppt/media/image44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9.png" ContentType="image/png"/>
  <Override PartName="/ppt/media/image2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14E-59A2-4B48-B431-AB7BE416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CD7-F185-430F-BAC1-4AD7B3F2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436-0ABF-42E1-BAE7-DA23FF7B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56B-273D-479C-8ED1-8031AFB7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864-0BDE-49D8-B00C-EFDCA23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D14-6A45-4EE5-A8BC-80DE68AF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6CA-47DE-451F-A613-10753FE7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097-68B4-44A7-AAB1-CD16416E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8C5-AEB4-4A8D-97F0-1A15AB0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3B1-E7C3-4D4F-A78A-6BFFFB71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B84-EEE5-490E-9665-C0641B34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743-42DB-44A7-B94D-48AF404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72D5-58DC-42B3-8914-342ED2E429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image" Target="../media/image18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" Target="slide2.xml"/><Relationship Id="rId4" Type="http://schemas.openxmlformats.org/officeDocument/2006/relationships/image" Target="../media/image18.wm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18.wmf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28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6.xml"/><Relationship Id="rId14" Type="http://schemas.openxmlformats.org/officeDocument/2006/relationships/image" Target="../media/image3.png"/><Relationship Id="rId15" Type="http://schemas.openxmlformats.org/officeDocument/2006/relationships/slide" Target="slide7.xml"/><Relationship Id="rId16" Type="http://schemas.openxmlformats.org/officeDocument/2006/relationships/image" Target="../media/image3.png"/><Relationship Id="rId17" Type="http://schemas.openxmlformats.org/officeDocument/2006/relationships/slide" Target="slide9.xml"/><Relationship Id="rId18" Type="http://schemas.openxmlformats.org/officeDocument/2006/relationships/image" Target="../media/image3.png"/><Relationship Id="rId19" Type="http://schemas.openxmlformats.org/officeDocument/2006/relationships/slide" Target="slide8.xml"/><Relationship Id="rId20" Type="http://schemas.openxmlformats.org/officeDocument/2006/relationships/image" Target="../media/image3.png"/><Relationship Id="rId21" Type="http://schemas.openxmlformats.org/officeDocument/2006/relationships/slide" Target="slide10.xml"/><Relationship Id="rId22" Type="http://schemas.openxmlformats.org/officeDocument/2006/relationships/image" Target="../media/image3.png"/><Relationship Id="rId23" Type="http://schemas.openxmlformats.org/officeDocument/2006/relationships/slide" Target="slide11.xml"/><Relationship Id="rId24" Type="http://schemas.openxmlformats.org/officeDocument/2006/relationships/image" Target="../media/image3.png"/><Relationship Id="rId25" Type="http://schemas.openxmlformats.org/officeDocument/2006/relationships/slide" Target="slide14.xml"/><Relationship Id="rId26" Type="http://schemas.openxmlformats.org/officeDocument/2006/relationships/image" Target="../media/image3.png"/><Relationship Id="rId27" Type="http://schemas.openxmlformats.org/officeDocument/2006/relationships/slide" Target="slide13.xml"/><Relationship Id="rId28" Type="http://schemas.openxmlformats.org/officeDocument/2006/relationships/image" Target="../media/image3.png"/><Relationship Id="rId29" Type="http://schemas.openxmlformats.org/officeDocument/2006/relationships/slide" Target="slide15.xml"/><Relationship Id="rId30" Type="http://schemas.openxmlformats.org/officeDocument/2006/relationships/image" Target="../media/image3.png"/><Relationship Id="rId31" Type="http://schemas.openxmlformats.org/officeDocument/2006/relationships/slide" Target="slide16.xml"/><Relationship Id="rId32" Type="http://schemas.openxmlformats.org/officeDocument/2006/relationships/image" Target="../media/image3.png"/><Relationship Id="rId33" Type="http://schemas.openxmlformats.org/officeDocument/2006/relationships/slide" Target="slide19.xml"/><Relationship Id="rId34" Type="http://schemas.openxmlformats.org/officeDocument/2006/relationships/image" Target="../media/image3.png"/><Relationship Id="rId35" Type="http://schemas.openxmlformats.org/officeDocument/2006/relationships/slide" Target="slide18.xml"/><Relationship Id="rId36" Type="http://schemas.openxmlformats.org/officeDocument/2006/relationships/image" Target="../media/image3.png"/><Relationship Id="rId37" Type="http://schemas.openxmlformats.org/officeDocument/2006/relationships/slide" Target="slide20.xml"/><Relationship Id="rId38" Type="http://schemas.openxmlformats.org/officeDocument/2006/relationships/image" Target="../media/image3.png"/><Relationship Id="rId39" Type="http://schemas.openxmlformats.org/officeDocument/2006/relationships/slide" Target="slide21.xml"/><Relationship Id="rId40" Type="http://schemas.openxmlformats.org/officeDocument/2006/relationships/image" Target="../media/image3.png"/><Relationship Id="rId41" Type="http://schemas.openxmlformats.org/officeDocument/2006/relationships/slide" Target="slide24.xml"/><Relationship Id="rId42" Type="http://schemas.openxmlformats.org/officeDocument/2006/relationships/image" Target="../media/image3.png"/><Relationship Id="rId43" Type="http://schemas.openxmlformats.org/officeDocument/2006/relationships/slide" Target="slide23.xml"/><Relationship Id="rId44" Type="http://schemas.openxmlformats.org/officeDocument/2006/relationships/image" Target="../media/image3.png"/><Relationship Id="rId45" Type="http://schemas.openxmlformats.org/officeDocument/2006/relationships/slide" Target="slide25.xml"/><Relationship Id="rId46" Type="http://schemas.openxmlformats.org/officeDocument/2006/relationships/image" Target="../media/image3.png"/><Relationship Id="rId47" Type="http://schemas.openxmlformats.org/officeDocument/2006/relationships/slide" Target="slide26.xml"/><Relationship Id="rId48" Type="http://schemas.openxmlformats.org/officeDocument/2006/relationships/image" Target="../media/image3.png"/><Relationship Id="rId49" Type="http://schemas.openxmlformats.org/officeDocument/2006/relationships/slide" Target="slide12.xml"/><Relationship Id="rId50" Type="http://schemas.openxmlformats.org/officeDocument/2006/relationships/image" Target="../media/image3.png"/><Relationship Id="rId51" Type="http://schemas.openxmlformats.org/officeDocument/2006/relationships/slide" Target="slide17.xml"/><Relationship Id="rId52" Type="http://schemas.openxmlformats.org/officeDocument/2006/relationships/image" Target="../media/image3.png"/><Relationship Id="rId53" Type="http://schemas.openxmlformats.org/officeDocument/2006/relationships/slide" Target="slide22.xml"/><Relationship Id="rId54" Type="http://schemas.openxmlformats.org/officeDocument/2006/relationships/image" Target="../media/image3.png"/><Relationship Id="rId55" Type="http://schemas.openxmlformats.org/officeDocument/2006/relationships/slide" Target="slide27.xml"/><Relationship Id="rId5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1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4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" Target="slide2.xml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14.jpeg"/><Relationship Id="rId6" Type="http://schemas.openxmlformats.org/officeDocument/2006/relationships/slide" Target="slide2.xml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image" Target="../media/image16.png"/><Relationship Id="rId6" Type="http://schemas.openxmlformats.org/officeDocument/2006/relationships/slide" Target="slide2.xml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2388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2120" y="709560"/>
            <a:ext cx="81471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7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58920" y="4797360"/>
            <a:ext cx="3647880" cy="15562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Поставить стулья в трех угл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53400" y="61740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-4680" y="1409760"/>
            <a:ext cx="6661080" cy="3190680"/>
          </a:xfrm>
          <a:prstGeom prst="wedgeEllipseCallout">
            <a:avLst>
              <a:gd name="adj1" fmla="val 52912"/>
              <a:gd name="adj2" fmla="val -739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попросил школьников расставить 9 стульев у четырёх стен класса так, чтобы у каждой стояли три стула. Ученики справились с задачей. А вы сможет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" descr="математическая головоломка в картинках 9 стульев"/>
          <p:cNvPicPr/>
          <p:nvPr/>
        </p:nvPicPr>
        <p:blipFill>
          <a:blip r:embed="rId5"/>
          <a:stretch/>
        </p:blipFill>
        <p:spPr>
          <a:xfrm>
            <a:off x="5392800" y="2349360"/>
            <a:ext cx="4233960" cy="30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843280" y="5950080"/>
            <a:ext cx="4103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5 * 7 + 3 * 6 = 5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50920" y="1773360"/>
            <a:ext cx="6696000" cy="3814560"/>
          </a:xfrm>
          <a:prstGeom prst="wedgeEllipseCallout">
            <a:avLst>
              <a:gd name="adj1" fmla="val 55499"/>
              <a:gd name="adj2" fmla="val -7218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84360" y="549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373720"/>
            <a:ext cx="112068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математические головоломки"/>
          <p:cNvPicPr/>
          <p:nvPr/>
        </p:nvPicPr>
        <p:blipFill>
          <a:blip r:embed="rId5"/>
          <a:srcRect l="0" t="20666" r="863" b="20666"/>
          <a:stretch/>
        </p:blipFill>
        <p:spPr>
          <a:xfrm>
            <a:off x="684360" y="2349360"/>
            <a:ext cx="5472000" cy="23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68360" y="5805360"/>
            <a:ext cx="4102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80320" y="54936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10960" y="1339920"/>
            <a:ext cx="6769440" cy="4548240"/>
          </a:xfrm>
          <a:prstGeom prst="wedgeEllipseCallout">
            <a:avLst>
              <a:gd name="adj1" fmla="val 52393"/>
              <a:gd name="adj2" fmla="val -10181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3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головоломка с картинками фруктов"/>
          <p:cNvPicPr/>
          <p:nvPr/>
        </p:nvPicPr>
        <p:blipFill>
          <a:blip r:embed="rId4"/>
          <a:srcRect l="10810" t="0" r="17402" b="-720"/>
          <a:stretch/>
        </p:blipFill>
        <p:spPr>
          <a:xfrm>
            <a:off x="1905120" y="1452600"/>
            <a:ext cx="3670200" cy="40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771640" y="5734080"/>
            <a:ext cx="4104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В кажд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50920" y="907920"/>
            <a:ext cx="6697440" cy="4033800"/>
          </a:xfrm>
          <a:prstGeom prst="cloudCallout">
            <a:avLst>
              <a:gd name="adj1" fmla="val 43495"/>
              <a:gd name="adj2" fmla="val -4714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 каком месяце 28 дне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3"/>
          <a:stretch/>
        </p:blipFill>
        <p:spPr>
          <a:xfrm>
            <a:off x="7524720" y="530064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066840" y="5805360"/>
            <a:ext cx="14976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рав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324000" y="981000"/>
            <a:ext cx="7343640" cy="4680000"/>
          </a:xfrm>
          <a:prstGeom prst="cloudCallout">
            <a:avLst>
              <a:gd name="adj1" fmla="val 43513"/>
              <a:gd name="adj2" fmla="val -4568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тяжелее — килограмм железа или килограмм пуха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843280" y="5589720"/>
            <a:ext cx="266544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0" y="1125360"/>
            <a:ext cx="7524720" cy="4391280"/>
          </a:xfrm>
          <a:prstGeom prst="cloudCallout">
            <a:avLst>
              <a:gd name="adj1" fmla="val 44597"/>
              <a:gd name="adj2" fmla="val -5195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 фермера 17 овец, и все, кроме 9, умирают. Сколько осталос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3"/>
          <a:stretch/>
        </p:blipFill>
        <p:spPr>
          <a:xfrm>
            <a:off x="7451640" y="515772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925720" y="6093000"/>
            <a:ext cx="197136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Два час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50920" y="1052640"/>
            <a:ext cx="6906960" cy="3816360"/>
          </a:xfrm>
          <a:prstGeom prst="cloudCallout">
            <a:avLst>
              <a:gd name="adj1" fmla="val 39120"/>
              <a:gd name="adj2" fmla="val -5024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214200" y="1052640"/>
            <a:ext cx="6907320" cy="3816360"/>
          </a:xfrm>
          <a:prstGeom prst="cloudCallout">
            <a:avLst>
              <a:gd name="adj1" fmla="val 39120"/>
              <a:gd name="adj2" fmla="val -50249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а мальчика играли в шашки 2 часа. Сколько времени играл каждый мальчик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050840" y="6021360"/>
            <a:ext cx="517680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онц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250920" y="1268280"/>
            <a:ext cx="6048360" cy="4176720"/>
          </a:xfrm>
          <a:prstGeom prst="cloudCallout">
            <a:avLst>
              <a:gd name="adj1" fmla="val 63541"/>
              <a:gd name="adj2" fmla="val -5722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Сколько концов у палки? У двух палок? У двух с половиной палок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98520" y="260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Шут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4"/>
          <a:stretch/>
        </p:blipFill>
        <p:spPr>
          <a:xfrm>
            <a:off x="8039160" y="5697360"/>
            <a:ext cx="350640" cy="3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 rot="10800000">
            <a:off x="394920" y="1627920"/>
            <a:ext cx="6048360" cy="2737080"/>
          </a:xfrm>
          <a:prstGeom prst="wedgeRectCallout">
            <a:avLst>
              <a:gd name="adj1" fmla="val -60055"/>
              <a:gd name="adj2" fmla="val 7221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я, Катя и Вера играли в мяч. Две девочки играли с большими мячами. Одна девочка играла с маленьким мячом. У Кати и Веры были мячи одинакового размера. Какого размера был мяч у Кат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75480" y="27468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771640" y="5073480"/>
            <a:ext cx="165600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7956720" y="494172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 rot="10800000">
            <a:off x="323640" y="1773000"/>
            <a:ext cx="6335640" cy="2808000"/>
          </a:xfrm>
          <a:prstGeom prst="wedgeRectCallout">
            <a:avLst>
              <a:gd name="adj1" fmla="val -56041"/>
              <a:gd name="adj2" fmla="val 7696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048320" y="26028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187280" y="5661000"/>
            <a:ext cx="49690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а Светлова и Оля Гордее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3"/>
          <a:stretch/>
        </p:blipFill>
        <p:spPr>
          <a:xfrm>
            <a:off x="7812000" y="4941720"/>
            <a:ext cx="1067040" cy="15922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"/>
          <p:cNvSpPr/>
          <p:nvPr/>
        </p:nvSpPr>
        <p:spPr>
          <a:xfrm rot="10800000">
            <a:off x="323640" y="1773000"/>
            <a:ext cx="6335640" cy="2808000"/>
          </a:xfrm>
          <a:prstGeom prst="wedgeRectCallout">
            <a:avLst>
              <a:gd name="adj1" fmla="val -56041"/>
              <a:gd name="adj2" fmla="val 76962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милии Веры и Оли – Гордеева и Светлова. Какую фамилию имеет каждая девочка, если известно, что Вера и Гордеева одноклассниц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486108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71280" y="3500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Шут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2492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оловолом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640" y="1484280"/>
            <a:ext cx="3671640" cy="9367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ебу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4508640"/>
            <a:ext cx="3672000" cy="9363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Лог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2560" y="5514840"/>
            <a:ext cx="3671640" cy="9367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78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94036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6948360" y="1557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792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485928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7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377820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938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6946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86108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5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378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594036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9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6948360" y="3573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1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485928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3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377820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5938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7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6946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9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493236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1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378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6012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5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702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7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791856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9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792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1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799164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3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799164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250920" y="0"/>
            <a:ext cx="8640720" cy="13129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Игра «</a:t>
            </a:r>
            <a:r>
              <a:rPr b="1" lang="ru-RU" sz="4000" spc="-1" strike="noStrike">
                <a:solidFill>
                  <a:srgbClr val="b292ca"/>
                </a:solidFill>
                <a:latin typeface="Bookman Old Style"/>
              </a:rPr>
              <a:t>Математический калейдоскоп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 rot="10800000">
            <a:off x="394920" y="2204280"/>
            <a:ext cx="6048360" cy="3024360"/>
          </a:xfrm>
          <a:prstGeom prst="wedgeRectCallout">
            <a:avLst>
              <a:gd name="adj1" fmla="val -59527"/>
              <a:gd name="adj2" fmla="val 9290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я, каждая из трёх подруг – Катя, Алиса и Аня – получили от Деда Мороза игрушки: медвежонка, зайчика, слоника. Известно, что Катя не получила зайчика. Аня не получила ни зайчика, ни медведя. Кто какую игрушку получи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67280" y="33336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06640" y="5589720"/>
            <a:ext cx="687276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я – слона, Катя – медведя, Алиса – зай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3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 rot="10800000">
            <a:off x="351000" y="1627920"/>
            <a:ext cx="6597360" cy="2521080"/>
          </a:xfrm>
          <a:prstGeom prst="wedgeRectCallout">
            <a:avLst>
              <a:gd name="adj1" fmla="val -59935"/>
              <a:gd name="adj2" fmla="val 8743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ются песочные часы на 3 минуты и 7 минут. Надо опустить яйцо в кипящую воду ровно на 4 минуты. Как это сделать с помощью данных часов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75480" y="27468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69720" y="4564080"/>
            <a:ext cx="6985080" cy="22269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 перевернуть часы одновременно. Когда песок в 3-минутных часах истечёт, положить яйцо в кипящую воду. Оставшееся время работы 7-минутных часов равно 4 мину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3"/>
          <a:stretch/>
        </p:blipFill>
        <p:spPr>
          <a:xfrm>
            <a:off x="7956720" y="501336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 rot="10800000">
            <a:off x="394920" y="2204640"/>
            <a:ext cx="7201080" cy="2952720"/>
          </a:xfrm>
          <a:prstGeom prst="wedgeRectCallout">
            <a:avLst>
              <a:gd name="adj1" fmla="val -59791"/>
              <a:gd name="adj2" fmla="val 9064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а туристов состоит из 6 иностранцев. Они говорят по-французски или по-английски. 4 человека говорят по-английски, 3 человека говорят по-французски. Сколько человек говорит только на одном языке, сколько на дву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75480" y="27468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Лог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1280" y="5199120"/>
            <a:ext cx="6769080" cy="1373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по-английски говорят 3 человека, только по- французски говорят 2 человека, на двух языках говорит 1 челове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3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76200" y="26352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39640" y="6093000"/>
            <a:ext cx="6840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539640" y="1916280"/>
            <a:ext cx="6840720" cy="3458880"/>
          </a:xfrm>
          <a:prstGeom prst="wedgeRoundRectCallout">
            <a:avLst>
              <a:gd name="adj1" fmla="val 48467"/>
              <a:gd name="adj2" fmla="val -68106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лучится, если перемножить все цифры на цифровой клавиатуре телефон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76200" y="27468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050920" y="4797360"/>
            <a:ext cx="309744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 * 4 * 4 + 2 = 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95280" y="2060640"/>
            <a:ext cx="6121440" cy="1944720"/>
          </a:xfrm>
          <a:prstGeom prst="wedgeRoundRectCallout">
            <a:avLst>
              <a:gd name="adj1" fmla="val 62398"/>
              <a:gd name="adj2" fmla="val -73425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ьник пошел на мельницу и увидел в каждом углу по 3 кошки. Сколько ног на мельниц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95280" y="26028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132000" y="5877000"/>
            <a:ext cx="21607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ц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24000" y="1700280"/>
            <a:ext cx="7272360" cy="2592360"/>
          </a:xfrm>
          <a:prstGeom prst="wedgeRoundRectCallout">
            <a:avLst>
              <a:gd name="adj1" fmla="val 45592"/>
              <a:gd name="adj2" fmla="val -62236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та и мяч стоят 1 доллар 10 центов. Бита стоит на один доллар дороже, чем мяч. Сколько стоит мяч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95280" y="26028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5504040"/>
            <a:ext cx="417672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8:2 + (14-8) = 10 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395280" y="1628640"/>
            <a:ext cx="6408720" cy="3384720"/>
          </a:xfrm>
          <a:prstGeom prst="wedgeRoundRectCallout">
            <a:avLst>
              <a:gd name="adj1" fmla="val 63564"/>
              <a:gd name="adj2" fmla="val -67476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гда Джошу было 8 лет, его брат был вдвое моложе его. Теперь, когда Джошу 14 лет, сколько лет его брату? 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3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95280" y="26028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Смекал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39640" y="4869000"/>
            <a:ext cx="7315200" cy="10688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18 рублей (9 рублей за каждую пару лап)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250920" y="1700280"/>
            <a:ext cx="6408720" cy="2446200"/>
          </a:xfrm>
          <a:prstGeom prst="wedgeRoundRectCallout">
            <a:avLst>
              <a:gd name="adj1" fmla="val 63564"/>
              <a:gd name="adj2" fmla="val -73472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тка получила 9 рублей, паук — 36 рублей, пчела — 27 рублей. Основываясь на этой информации, сколько денег дадут кош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3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Спасибо за участие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564000" y="6021360"/>
            <a:ext cx="230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дроб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4000" y="1700280"/>
            <a:ext cx="6624360" cy="2233440"/>
          </a:xfrm>
          <a:prstGeom prst="wedgeRoundRectCallout">
            <a:avLst>
              <a:gd name="adj1" fmla="val 51004"/>
              <a:gd name="adj2" fmla="val -71324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88240" y="260280"/>
            <a:ext cx="38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152160" y="9163080"/>
            <a:ext cx="525600" cy="420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"/>
          <p:cNvPicPr/>
          <p:nvPr/>
        </p:nvPicPr>
        <p:blipFill>
          <a:blip r:embed="rId5"/>
          <a:stretch/>
        </p:blipFill>
        <p:spPr>
          <a:xfrm>
            <a:off x="1008000" y="1568520"/>
            <a:ext cx="5364360" cy="2319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44000" y="6159600"/>
            <a:ext cx="365040" cy="2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564000" y="5897520"/>
            <a:ext cx="2016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745164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68360" y="1628640"/>
            <a:ext cx="6408720" cy="3888000"/>
          </a:xfrm>
          <a:prstGeom prst="wedgeRoundRectCallout">
            <a:avLst>
              <a:gd name="adj1" fmla="val 57305"/>
              <a:gd name="adj2" fmla="val -73685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89320" y="260280"/>
            <a:ext cx="40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159600"/>
            <a:ext cx="365040" cy="293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"/>
          <p:cNvPicPr/>
          <p:nvPr/>
        </p:nvPicPr>
        <p:blipFill>
          <a:blip r:embed="rId5"/>
          <a:stretch/>
        </p:blipFill>
        <p:spPr>
          <a:xfrm>
            <a:off x="625320" y="2133720"/>
            <a:ext cx="6251760" cy="24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340000" y="5734080"/>
            <a:ext cx="280836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знамена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89320" y="260280"/>
            <a:ext cx="40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11280" y="1773360"/>
            <a:ext cx="6192720" cy="3240000"/>
          </a:xfrm>
          <a:prstGeom prst="wedgeRoundRectCallout">
            <a:avLst>
              <a:gd name="adj1" fmla="val 56870"/>
              <a:gd name="adj2" fmla="val -77291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" descr=""/>
          <p:cNvPicPr/>
          <p:nvPr/>
        </p:nvPicPr>
        <p:blipFill>
          <a:blip r:embed="rId5"/>
          <a:stretch/>
        </p:blipFill>
        <p:spPr>
          <a:xfrm>
            <a:off x="665280" y="2133720"/>
            <a:ext cx="6067440" cy="241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627280" y="6093000"/>
            <a:ext cx="31669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омпьют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11280" y="26028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95120" y="1555920"/>
            <a:ext cx="6337440" cy="4105080"/>
          </a:xfrm>
          <a:prstGeom prst="wedgeRoundRectCallout">
            <a:avLst>
              <a:gd name="adj1" fmla="val 60671"/>
              <a:gd name="adj2" fmla="val -67092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66040" y="6086520"/>
            <a:ext cx="382680" cy="307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5"/>
          <a:stretch/>
        </p:blipFill>
        <p:spPr>
          <a:xfrm>
            <a:off x="228600" y="2133720"/>
            <a:ext cx="6300720" cy="25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45440" y="6094440"/>
            <a:ext cx="623880" cy="3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916360" y="5805360"/>
            <a:ext cx="2663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рат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89320" y="260280"/>
            <a:ext cx="40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Ребу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324000" y="1557360"/>
            <a:ext cx="5616360" cy="3382920"/>
          </a:xfrm>
          <a:prstGeom prst="wedgeRoundRectCallout">
            <a:avLst>
              <a:gd name="adj1" fmla="val 73685"/>
              <a:gd name="adj2" fmla="val -69379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722400" y="9658440"/>
            <a:ext cx="430200" cy="344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5"/>
          <a:stretch/>
        </p:blipFill>
        <p:spPr>
          <a:xfrm>
            <a:off x="468360" y="1895400"/>
            <a:ext cx="5367240" cy="261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44000" y="6159600"/>
            <a:ext cx="365040" cy="2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79280" y="5805360"/>
            <a:ext cx="626436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Одному внуку отдать яблоко в корзи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0" y="1268280"/>
            <a:ext cx="6840360" cy="4032360"/>
          </a:xfrm>
          <a:prstGeom prst="wedgeEllipseCallout">
            <a:avLst>
              <a:gd name="adj1" fmla="val 51717"/>
              <a:gd name="adj2" fmla="val -598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бушка оставила для своих пяти внуков 5 яблок и сказала разделить их поровну, но одно оставить в корзине. Как это сделать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11280" y="476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" descr="головоломка с картинками яблок"/>
          <p:cNvPicPr/>
          <p:nvPr/>
        </p:nvPicPr>
        <p:blipFill>
          <a:blip r:embed="rId5"/>
          <a:stretch/>
        </p:blipFill>
        <p:spPr>
          <a:xfrm>
            <a:off x="5867280" y="3098880"/>
            <a:ext cx="2930760" cy="20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042920" y="6021360"/>
            <a:ext cx="4969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нопка первого этаж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17360" y="1982880"/>
            <a:ext cx="7956720" cy="3959280"/>
          </a:xfrm>
          <a:prstGeom prst="wedgeEllipseCallout">
            <a:avLst>
              <a:gd name="adj1" fmla="val 39745"/>
              <a:gd name="adj2" fmla="val -6687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евятиэтажном доме есть лифт. На первом этаже живут два человека, но чем выше, тем количество жильцов становится больше. Подумайте, какая кнопка нажимается этими людьми чаще остальны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80320" y="47628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Головолом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2:48Z</dcterms:created>
  <dc:creator>1234</dc:creator>
  <dc:description/>
  <dc:language>en-US</dc:language>
  <cp:lastModifiedBy>Игорь Ставский</cp:lastModifiedBy>
  <dcterms:modified xsi:type="dcterms:W3CDTF">2022-12-09T19:34:02Z</dcterms:modified>
  <cp:revision>59</cp:revision>
  <dc:subject/>
  <dc:title>Слайд 1</dc:title>
</cp:coreProperties>
</file>