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5"/>
          </p:nvPr>
        </p:nvSpPr>
        <p:spPr>
          <a:xfrm>
            <a:off x="384768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920520" y="743040"/>
            <a:ext cx="4949640" cy="371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79320" y="4705200"/>
            <a:ext cx="543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6"/>
          </p:nvPr>
        </p:nvSpPr>
        <p:spPr>
          <a:xfrm>
            <a:off x="3847680" y="940860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40B94-BC06-406F-986E-82BA6BB2B0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080E6-ECF2-44E8-989E-3E3C9F02EA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87AE3-968A-47D7-B815-49176BFC87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5B00C-23D7-4E33-9F27-A6565654A3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2F7C3-1234-454C-95E0-602A1FB444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2B002-BA38-4CD8-9C1A-D425B858DB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DD7F3-2935-49E6-B6BF-59ED266504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E57EF-96E3-46CA-9373-E12C822EB7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BBAE9-E6B5-41B3-B66E-180B60C34C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81123-A024-4B30-87B0-3138CE4292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AFD64-5104-4409-9B3E-28E99D70C1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88647-6C36-42DD-8746-9D2E2B6161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CAB7A-1E64-457B-909F-D9F8DBA28F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47B8E-A7FC-4AE6-AFE7-A8D66BA492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B3E89-D981-4CDF-9F19-E0E84D6CE44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B4492-1C39-48B3-A2CC-6ED37B7775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397DA-4A66-455C-A3BD-F7A4093FCD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0D26A-1A11-4276-977F-53D5F1703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DFF30-AB04-4303-BE6A-88298999D1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FA355-075B-4046-A208-2880D64F9A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51781-4F56-4390-97AC-3D1E8019FA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407D-ADA0-4409-A6B6-A57950935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DA83-A075-4892-806D-5A2AA35FE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B7F8-676D-4E97-B2F1-F2A4FFBCE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2956-3D25-422E-A910-DCE41A8FC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E5FB-1800-46C7-A474-81EA339EC0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3D17-44F5-4683-80D2-970BFBD806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6A9E-C9D8-49A2-BB5E-0AE074B494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D35D-0461-46C1-80D4-ABC3D5035A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E715-F209-4ED8-A580-3E3560F88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0458-8A41-42E9-9545-A8C3A3C5C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592C-F732-47D6-81FE-317AF8C8D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0DCB-8F70-4D19-9F66-8BF88D34C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F179-F54C-412E-9202-E9B546B28C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55E3-37B0-4956-A361-503091A993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053F-47A9-492E-9BB4-C33E8AE1E6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6A2E-B3DA-40CC-A1E1-9E169F3B8A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49B5-776B-4BAC-822C-38E4063B0F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1FD-81D8-4599-A28A-864041B82A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5FE-D79D-43D2-BA72-FE1A432B9A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59F-627D-4207-AE5E-63C15B6AEA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9F6-1547-4A8E-BF11-3C2A221A33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C89-4F95-4E95-838D-A0D86007A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F2CA-417D-45BB-8996-B0961233CF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ED2-F33C-47B2-9AD9-32DCC4CE00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820-E098-445E-9471-CD60C6A0EE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3E5-2662-4637-A32A-B0077EC391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9F2-A6EE-45B6-8122-B026DA1D88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330-C2C1-4170-9E37-E0F3F410D9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7A7-C82D-4803-8595-FAA6F54F79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E44-94FB-476A-B4D8-F4A1059173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A2D99-7FCE-406E-ADAF-28DA46EBE5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21B35-CA4F-426D-B154-5B72B686A5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D451B-3A77-48D8-9CD9-0CB720EEE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2253-5582-45B6-869C-27C2F5A842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D1BC3-DAA3-4578-9F16-72B50D387A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A972-8F7D-4747-81CD-5B47590B80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9462-64D3-49C2-B94B-F0165370D8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664DB-BF29-4B74-B358-ED8B70D5CC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EEF3-0A39-4E0A-BB4B-9D7A5D4F47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CBE55-9FF3-43BF-9849-289796146C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34BB6-6562-4222-866C-0D741693E8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83D19-B070-4E6D-9904-1B33CB24B1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2DA8F-1D67-4C34-8C2F-0BB8C3CCE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6156-935B-4B11-8881-23A7199EB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7C62-D1F0-4785-900B-52E7F2B9F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AAFA-3AC8-401E-9B08-B01A77B41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39D3-22FD-4213-8771-6D6D12A1B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A324-58B6-46D6-8955-57890A479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0EAB5-B86D-4CA1-90A2-1AEC8A0DE00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1B73F55-E9DA-4592-A284-A66DC8B51082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50DE065-20D8-46AA-9B25-F777D5A7EFC1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>
              <a:alpha val="50000"/>
            </a:srgbClr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585EE5-A85F-4447-9D4C-0280BCDA3C87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572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24000" y="458136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В гр.№ 7 «Звукови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Составила воспита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Белоконская В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Рисунок 2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"/>
          <p:cNvSpPr/>
          <p:nvPr/>
        </p:nvSpPr>
        <p:spPr>
          <a:xfrm>
            <a:off x="488880" y="231840"/>
            <a:ext cx="8363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тренняя гимнасти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3"/>
          <a:stretch/>
        </p:blipFill>
        <p:spPr>
          <a:xfrm>
            <a:off x="469800" y="1098720"/>
            <a:ext cx="3419640" cy="25635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" descr=""/>
          <p:cNvPicPr/>
          <p:nvPr/>
        </p:nvPicPr>
        <p:blipFill>
          <a:blip r:embed="rId4"/>
          <a:stretch/>
        </p:blipFill>
        <p:spPr>
          <a:xfrm>
            <a:off x="4359240" y="1149480"/>
            <a:ext cx="3324240" cy="2493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" descr=""/>
          <p:cNvPicPr/>
          <p:nvPr/>
        </p:nvPicPr>
        <p:blipFill>
          <a:blip r:embed="rId5"/>
          <a:stretch/>
        </p:blipFill>
        <p:spPr>
          <a:xfrm>
            <a:off x="1042920" y="3828960"/>
            <a:ext cx="3627360" cy="27194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6"/>
          <a:stretch/>
        </p:blipFill>
        <p:spPr>
          <a:xfrm>
            <a:off x="4994280" y="374508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2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осле с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93236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 у дет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Рисунок 1" descr=""/>
          <p:cNvPicPr/>
          <p:nvPr/>
        </p:nvPicPr>
        <p:blipFill>
          <a:blip r:embed="rId3"/>
          <a:stretch/>
        </p:blipFill>
        <p:spPr>
          <a:xfrm>
            <a:off x="2558880" y="1471680"/>
            <a:ext cx="2509920" cy="18810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4"/>
          <a:stretch/>
        </p:blipFill>
        <p:spPr>
          <a:xfrm>
            <a:off x="2563920" y="3860640"/>
            <a:ext cx="2531880" cy="19018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" descr=""/>
          <p:cNvPicPr/>
          <p:nvPr/>
        </p:nvPicPr>
        <p:blipFill>
          <a:blip r:embed="rId5"/>
          <a:stretch/>
        </p:blipFill>
        <p:spPr>
          <a:xfrm>
            <a:off x="250920" y="1327320"/>
            <a:ext cx="2081160" cy="2276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6"/>
          <a:stretch/>
        </p:blipFill>
        <p:spPr>
          <a:xfrm>
            <a:off x="250920" y="3730680"/>
            <a:ext cx="2081160" cy="2479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0" y="1341360"/>
            <a:ext cx="507672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82752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"/>
          <p:cNvSpPr/>
          <p:nvPr/>
        </p:nvSpPr>
        <p:spPr>
          <a:xfrm>
            <a:off x="324000" y="333360"/>
            <a:ext cx="830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042920" y="1628640"/>
            <a:ext cx="47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альчиковая гим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 -Джок терап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Релакс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648320" y="1935000"/>
            <a:ext cx="40384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1" descr=""/>
          <p:cNvPicPr/>
          <p:nvPr/>
        </p:nvPicPr>
        <p:blipFill>
          <a:blip r:embed="rId3"/>
          <a:stretch/>
        </p:blipFill>
        <p:spPr>
          <a:xfrm>
            <a:off x="185760" y="1847880"/>
            <a:ext cx="4276800" cy="3208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2"/>
          <p:cNvSpPr/>
          <p:nvPr/>
        </p:nvSpPr>
        <p:spPr>
          <a:xfrm>
            <a:off x="82692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4535640" y="1585800"/>
            <a:ext cx="40384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Укрепляет мышцы гла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3"/>
          <a:stretch/>
        </p:blipFill>
        <p:spPr>
          <a:xfrm>
            <a:off x="347760" y="1859040"/>
            <a:ext cx="4187880" cy="3139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"/>
          <p:cNvSpPr/>
          <p:nvPr/>
        </p:nvSpPr>
        <p:spPr>
          <a:xfrm>
            <a:off x="457200" y="18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у-Джок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457200" y="1413000"/>
            <a:ext cx="40384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427640" y="2060640"/>
            <a:ext cx="453708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4705200" y="1484280"/>
            <a:ext cx="1965600" cy="18734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" descr=""/>
          <p:cNvPicPr/>
          <p:nvPr/>
        </p:nvPicPr>
        <p:blipFill>
          <a:blip r:embed="rId4"/>
          <a:stretch/>
        </p:blipFill>
        <p:spPr>
          <a:xfrm>
            <a:off x="4059360" y="3675240"/>
            <a:ext cx="1758960" cy="2346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390600" y="-128520"/>
            <a:ext cx="8075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24000" y="1593720"/>
            <a:ext cx="39607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Рисунок 1" descr=""/>
          <p:cNvPicPr/>
          <p:nvPr/>
        </p:nvPicPr>
        <p:blipFill>
          <a:blip r:embed="rId3"/>
          <a:stretch/>
        </p:blipFill>
        <p:spPr>
          <a:xfrm>
            <a:off x="4284720" y="954000"/>
            <a:ext cx="2592360" cy="15051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" descr=""/>
          <p:cNvPicPr/>
          <p:nvPr/>
        </p:nvPicPr>
        <p:blipFill>
          <a:blip r:embed="rId4"/>
          <a:stretch/>
        </p:blipFill>
        <p:spPr>
          <a:xfrm>
            <a:off x="4284720" y="2584440"/>
            <a:ext cx="2608200" cy="18939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" descr=""/>
          <p:cNvPicPr/>
          <p:nvPr/>
        </p:nvPicPr>
        <p:blipFill>
          <a:blip r:embed="rId5"/>
          <a:stretch/>
        </p:blipFill>
        <p:spPr>
          <a:xfrm>
            <a:off x="4290840" y="4597560"/>
            <a:ext cx="2605320" cy="1833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"/>
          <p:cNvSpPr/>
          <p:nvPr/>
        </p:nvSpPr>
        <p:spPr>
          <a:xfrm>
            <a:off x="539640" y="260280"/>
            <a:ext cx="8147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24000" y="1628640"/>
            <a:ext cx="42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чит детей расслабля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пособствует концентрации вни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могает снять напря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нимает возбу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1" descr=""/>
          <p:cNvPicPr/>
          <p:nvPr/>
        </p:nvPicPr>
        <p:blipFill>
          <a:blip r:embed="rId3"/>
          <a:stretch/>
        </p:blipFill>
        <p:spPr>
          <a:xfrm>
            <a:off x="4910040" y="3789360"/>
            <a:ext cx="3630600" cy="27226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" descr=""/>
          <p:cNvPicPr/>
          <p:nvPr/>
        </p:nvPicPr>
        <p:blipFill>
          <a:blip r:embed="rId4"/>
          <a:stretch/>
        </p:blipFill>
        <p:spPr>
          <a:xfrm>
            <a:off x="4881600" y="1125360"/>
            <a:ext cx="3659040" cy="2487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324000" y="549360"/>
            <a:ext cx="8362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Здоровье ребенка превыше всего,</a:t>
            </a:r>
            <a:br>
              <a:rPr sz="4000"/>
            </a:b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Богатство земли не заменит его.</a:t>
            </a:r>
            <a:br>
              <a:rPr sz="4000"/>
            </a:b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Здоровье не купишь, никто не продаст.</a:t>
            </a:r>
            <a:br>
              <a:rPr sz="4000"/>
            </a:b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Его берегите, как сердце, как глаз!!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1763640" y="836640"/>
            <a:ext cx="6764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  <a:ea typeface="Microsoft YaHei"/>
              </a:rPr>
              <a:t>«Детям совершенно так же, как и взрослым, хочется быть здоровыми и сильными, только дети не знают, что для этого надо делат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  <a:ea typeface="Microsoft YaHei"/>
              </a:rPr>
              <a:t>Объясним им, и они будут беречьс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300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  <a:ea typeface="Microsoft YaHei"/>
              </a:rPr>
              <a:t>Януш Корч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3"/>
          <a:stretch/>
        </p:blipFill>
        <p:spPr>
          <a:xfrm>
            <a:off x="108000" y="1411200"/>
            <a:ext cx="2436840" cy="2954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"/>
          <p:cNvSpPr/>
          <p:nvPr/>
        </p:nvSpPr>
        <p:spPr>
          <a:xfrm>
            <a:off x="685800" y="907920"/>
            <a:ext cx="77724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685800" y="907920"/>
            <a:ext cx="77724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"/>
          <p:cNvSpPr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три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68580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5720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ижные и спортивные игры</a:t>
            </a:r>
            <a:r>
              <a:rPr b="1" i="1" lang="ru-RU" sz="31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мнастика дыхательная</a:t>
            </a:r>
            <a:r>
              <a:rPr b="1" i="1" lang="ru-RU" sz="31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амическая гимнасти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мнастика пробуждени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1338120" y="692280"/>
            <a:ext cx="7772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Microsoft YaHei"/>
              </a:rPr>
              <a:t>Технологии обучения здоровому образу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Рисунок 1" descr=""/>
          <p:cNvPicPr/>
          <p:nvPr/>
        </p:nvPicPr>
        <p:blipFill>
          <a:blip r:embed="rId3"/>
          <a:stretch/>
        </p:blipFill>
        <p:spPr>
          <a:xfrm>
            <a:off x="3203640" y="4200480"/>
            <a:ext cx="2406600" cy="2657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4"/>
          <a:stretch/>
        </p:blipFill>
        <p:spPr>
          <a:xfrm>
            <a:off x="395280" y="1763640"/>
            <a:ext cx="3240000" cy="2303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"/>
          <p:cNvPicPr/>
          <p:nvPr/>
        </p:nvPicPr>
        <p:blipFill>
          <a:blip r:embed="rId5"/>
          <a:stretch/>
        </p:blipFill>
        <p:spPr>
          <a:xfrm>
            <a:off x="5364000" y="1809720"/>
            <a:ext cx="3299040" cy="2257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503280" y="142920"/>
            <a:ext cx="8642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одвижные и спортивные игры</a:t>
            </a:r>
            <a:r>
              <a:rPr b="1" i="1" lang="ru-RU" sz="4000" spc="-1" strike="noStrike" u="sng">
                <a:solidFill>
                  <a:srgbClr val="9900cc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2"/>
          <a:stretch/>
        </p:blipFill>
        <p:spPr>
          <a:xfrm>
            <a:off x="546120" y="884160"/>
            <a:ext cx="3378240" cy="20494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3"/>
          <a:stretch/>
        </p:blipFill>
        <p:spPr>
          <a:xfrm>
            <a:off x="4824360" y="884160"/>
            <a:ext cx="3276720" cy="21225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" descr=""/>
          <p:cNvPicPr/>
          <p:nvPr/>
        </p:nvPicPr>
        <p:blipFill>
          <a:blip r:embed="rId4"/>
          <a:stretch/>
        </p:blipFill>
        <p:spPr>
          <a:xfrm>
            <a:off x="684360" y="3581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5"/>
          <a:stretch/>
        </p:blipFill>
        <p:spPr>
          <a:xfrm>
            <a:off x="4788000" y="3581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User</cp:lastModifiedBy>
  <cp:lastPrinted>2018-05-03T13:13:10Z</cp:lastPrinted>
  <dcterms:modified xsi:type="dcterms:W3CDTF">2023-01-30T14:38:44Z</dcterms:modified>
  <cp:revision>93</cp:revision>
  <dc:subject/>
  <dc:title>Your Title Here…</dc:title>
</cp:coreProperties>
</file>