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5"/>
          </p:nvPr>
        </p:nvSpPr>
        <p:spPr>
          <a:xfrm>
            <a:off x="384768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920520" y="743040"/>
            <a:ext cx="4949640" cy="3711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79320" y="4705200"/>
            <a:ext cx="543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6"/>
          </p:nvPr>
        </p:nvSpPr>
        <p:spPr>
          <a:xfrm>
            <a:off x="3847680" y="940860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BED53-63EA-476A-AC37-A54C37FC14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3EAE3-695C-4657-9A0B-D028334683E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33206-3313-4129-8F19-D54CA239A6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92EDB-A1D2-45B4-BE77-E74CB9B188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AF3A6-BABE-4F49-864A-20AA7F6E59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E2616-998C-41BD-9E65-9EEE58F278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2C84B-DBEA-4E90-A23B-EEA3DCB54E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DD075-369F-4380-9CCB-79D9F6A6B9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8B071-E8D7-4402-8F51-A47F9DEEA86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89B34-B187-4244-B63E-3864ABB43C4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12CF7-8A22-4B7B-BC25-3E91983FFE1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98F9D-0214-4F9F-B672-4BB56EBEEA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E0C72-8BB2-4E76-9D90-011913602E9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C0290-FF63-42AA-A0F6-32DDA692AA4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766ED-8177-44AB-B8DC-398891B41B5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6C2BC-D4B8-48F7-A038-AA291344E4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2B0F4-435E-4669-B532-91146248239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ED5FC-363B-42CE-BE5D-4B449DDAC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1CB8B-92F1-4A1B-A058-57744A71AD1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EE147-2111-4192-947C-63BBD9B2484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48040" y="940896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22263-24E6-4CD0-98DA-CA9F501B540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CDB5-A06F-456E-AA7A-60CC8F1BA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701F-461D-441F-9FD8-6EB09A646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240B-CA84-4CDB-93DB-2AE6436E0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7216-44E2-4117-AA41-ED37AA95E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52CC-F70B-4C86-835D-48B5F7E2F7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32B5-2162-450E-AF46-F53A4DE4E9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7791-4C71-46DD-9F4A-6E69C9B898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7084-B206-4738-B6B9-88ACEF0CC8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4938-4D07-43E9-A471-61D42DF0A6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FACA-66D5-45F0-88C7-9BC49ED0B0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B159-7868-4E58-A4F5-06E6E67F4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A61F-52A1-4F71-934C-5626EC567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7CBA-438B-4CD8-B985-5BFDA4B7E0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2550-7011-42F1-BAAE-3F3306B0DE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24F9-4E05-4359-9FF5-7382BE4CB4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BDBE-D8B1-4CCE-9788-A18B058DC3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6EBB-7F8B-41D8-85CE-0A2F852FCE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CBC-6630-40DE-8C0F-BAF795CDF7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567-6F97-44F5-AC79-AE68B4D88A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21C-8BBF-41E7-8906-18CF9AD21E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A8F-82FE-47E6-AB8B-9D9C284476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54B-A331-4D27-8128-D065A0066D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474F-36EC-435E-96E5-861003E962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E0F-5FB5-4566-BC5A-88434F4525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0C9-1B88-4428-AB24-81190EFBB5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AE4-FB51-476D-9AE6-C78A38570C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C3E-6A32-44F3-A526-F56BA639AC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551-E2A0-43B8-85BA-76B1FCEECF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2BD-5A2D-4955-9F11-769F8C8BD2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3AF-848E-4B3E-9E79-5E27B9AC41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2AD65-97C5-4ECF-9912-DE13FF342F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25805-657D-4F02-872E-FA6EEB35B8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76A86-565E-42D8-BEA7-244FFD57D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54A7-E7C5-4F9D-85FF-38660BAF24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E7B25-389D-4DA5-A49E-0F7F0E80F8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E79BB-5DB8-4907-8D47-65D16BA5FB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F0463-3AD8-4816-9C8D-C31A45ABE3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AC042-03BE-48F5-94D1-171501CA00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03502-F251-4233-A43F-0172AEDADB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34E52-17E8-4ECF-BA1C-BE1D6DDDE3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A2D2B-B2D4-4976-B272-6DB9569D96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0AB4D-727B-433C-8A57-83C6E7B1DC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950AE-BEB3-449E-B2C0-100D96FA8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ED98-30E8-4841-8694-08D1389E7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2136-BDB3-44D3-82DA-91C03620F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8E45-D1AD-4DB6-912A-7D4FE86BD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E8E9-E9A7-4B45-B565-40A35E78D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8C71-5617-46F4-86D5-79FB9587D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51372"/>
                </a:srgbClr>
              </a:gs>
              <a:gs pos="100000">
                <a:srgbClr val="00ebf8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51372"/>
                </a:srgbClr>
              </a:gs>
              <a:gs pos="100000">
                <a:srgbClr val="009be5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80AFB-6D8F-4C44-9810-3DF7761AC9D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3720" cy="644760"/>
              <a:chOff x="-19080" y="203040"/>
              <a:chExt cx="9153720" cy="64476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140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7480" cy="558720"/>
              <a:chOff x="-19080" y="247680"/>
              <a:chExt cx="9177480" cy="5587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51372"/>
                </a:srgbClr>
              </a:gs>
              <a:gs pos="100000">
                <a:srgbClr val="00ebf8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51372"/>
                </a:srgbClr>
              </a:gs>
              <a:gs pos="100000">
                <a:srgbClr val="009be5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3720" cy="644760"/>
              <a:chOff x="-19080" y="203040"/>
              <a:chExt cx="9153720" cy="64476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140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7480" cy="558720"/>
              <a:chOff x="-19080" y="247680"/>
              <a:chExt cx="9177480" cy="55872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2A12729-25A0-473A-8B1A-F62BBEAD8514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51372"/>
                </a:srgbClr>
              </a:gs>
              <a:gs pos="100000">
                <a:srgbClr val="00ebf8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51372"/>
                </a:srgbClr>
              </a:gs>
              <a:gs pos="100000">
                <a:srgbClr val="009be5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3720" cy="644760"/>
              <a:chOff x="-19080" y="203040"/>
              <a:chExt cx="9153720" cy="64476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140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7480" cy="558720"/>
              <a:chOff x="-19080" y="247680"/>
              <a:chExt cx="9177480" cy="55872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3193D39-AC25-46C5-8331-C6D59ADE5276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>
              <a:alpha val="50000"/>
            </a:srgbClr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51372"/>
                </a:srgbClr>
              </a:gs>
              <a:gs pos="100000">
                <a:srgbClr val="00ebf8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51372"/>
                </a:srgbClr>
              </a:gs>
              <a:gs pos="100000">
                <a:srgbClr val="009be5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4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A54214-0F41-440B-9724-79D3F0530059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4572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«Современные здоровьесберегающ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и в детском саду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24000" y="458136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В гр.№ 7 «Звукович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Составила воспитат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Белоконская В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Рисунок 2" descr=""/>
          <p:cNvPicPr/>
          <p:nvPr/>
        </p:nvPicPr>
        <p:blipFill>
          <a:blip r:embed="rId3"/>
          <a:stretch/>
        </p:blipFill>
        <p:spPr>
          <a:xfrm>
            <a:off x="324000" y="11592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"/>
          <p:cNvSpPr/>
          <p:nvPr/>
        </p:nvSpPr>
        <p:spPr>
          <a:xfrm>
            <a:off x="488880" y="231840"/>
            <a:ext cx="83631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тренняя гимнасти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1" descr=""/>
          <p:cNvPicPr/>
          <p:nvPr/>
        </p:nvPicPr>
        <p:blipFill>
          <a:blip r:embed="rId3"/>
          <a:stretch/>
        </p:blipFill>
        <p:spPr>
          <a:xfrm>
            <a:off x="469800" y="1098720"/>
            <a:ext cx="3419640" cy="25635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" descr=""/>
          <p:cNvPicPr/>
          <p:nvPr/>
        </p:nvPicPr>
        <p:blipFill>
          <a:blip r:embed="rId4"/>
          <a:stretch/>
        </p:blipFill>
        <p:spPr>
          <a:xfrm>
            <a:off x="4359240" y="1149480"/>
            <a:ext cx="3324240" cy="2493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3" descr=""/>
          <p:cNvPicPr/>
          <p:nvPr/>
        </p:nvPicPr>
        <p:blipFill>
          <a:blip r:embed="rId5"/>
          <a:stretch/>
        </p:blipFill>
        <p:spPr>
          <a:xfrm>
            <a:off x="1042920" y="3828960"/>
            <a:ext cx="3627360" cy="27194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" descr=""/>
          <p:cNvPicPr/>
          <p:nvPr/>
        </p:nvPicPr>
        <p:blipFill>
          <a:blip r:embed="rId6"/>
          <a:stretch/>
        </p:blipFill>
        <p:spPr>
          <a:xfrm>
            <a:off x="4994280" y="374508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2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осле с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932360" y="1700280"/>
            <a:ext cx="4103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Учит детей сознательно заботиться о своём здоровь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овышает жизненный тонус у дет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рививает им чувство ответственности за своё здоровье, уверенность в том, что они сами могут помочь себе улучшить своё самочув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Рисунок 1" descr=""/>
          <p:cNvPicPr/>
          <p:nvPr/>
        </p:nvPicPr>
        <p:blipFill>
          <a:blip r:embed="rId3"/>
          <a:stretch/>
        </p:blipFill>
        <p:spPr>
          <a:xfrm>
            <a:off x="2558880" y="1471680"/>
            <a:ext cx="2509920" cy="18810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"/>
          <p:cNvPicPr/>
          <p:nvPr/>
        </p:nvPicPr>
        <p:blipFill>
          <a:blip r:embed="rId4"/>
          <a:stretch/>
        </p:blipFill>
        <p:spPr>
          <a:xfrm>
            <a:off x="2563920" y="3860640"/>
            <a:ext cx="2531880" cy="19018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" descr=""/>
          <p:cNvPicPr/>
          <p:nvPr/>
        </p:nvPicPr>
        <p:blipFill>
          <a:blip r:embed="rId5"/>
          <a:stretch/>
        </p:blipFill>
        <p:spPr>
          <a:xfrm>
            <a:off x="250920" y="1327320"/>
            <a:ext cx="2081160" cy="22762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"/>
          <p:cNvPicPr/>
          <p:nvPr/>
        </p:nvPicPr>
        <p:blipFill>
          <a:blip r:embed="rId6"/>
          <a:stretch/>
        </p:blipFill>
        <p:spPr>
          <a:xfrm>
            <a:off x="250920" y="3730680"/>
            <a:ext cx="2081160" cy="2479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ыхательная гимнастика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0" y="1341360"/>
            <a:ext cx="507672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3827520" cy="3240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"/>
          <p:cNvSpPr/>
          <p:nvPr/>
        </p:nvSpPr>
        <p:spPr>
          <a:xfrm>
            <a:off x="324000" y="333360"/>
            <a:ext cx="830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Коррекционные техноло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042920" y="1628640"/>
            <a:ext cx="47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казкотерап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альчиковая гим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у -Джок терап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Музыкотерап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aaf2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Релакс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альчикова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648320" y="1935000"/>
            <a:ext cx="40384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могает развивать р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нимает трево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1" descr=""/>
          <p:cNvPicPr/>
          <p:nvPr/>
        </p:nvPicPr>
        <p:blipFill>
          <a:blip r:embed="rId3"/>
          <a:stretch/>
        </p:blipFill>
        <p:spPr>
          <a:xfrm>
            <a:off x="185760" y="1847880"/>
            <a:ext cx="4276800" cy="3208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2"/>
          <p:cNvSpPr/>
          <p:nvPr/>
        </p:nvSpPr>
        <p:spPr>
          <a:xfrm>
            <a:off x="82692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4535640" y="1585800"/>
            <a:ext cx="40384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Укрепляет мышцы глаз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6600ff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3"/>
          <a:stretch/>
        </p:blipFill>
        <p:spPr>
          <a:xfrm>
            <a:off x="347760" y="1859040"/>
            <a:ext cx="4187880" cy="3139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"/>
          <p:cNvSpPr/>
          <p:nvPr/>
        </p:nvSpPr>
        <p:spPr>
          <a:xfrm>
            <a:off x="457200" y="189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Су-Джок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457200" y="1413000"/>
            <a:ext cx="40384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мелкую моторику ру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427640" y="2060640"/>
            <a:ext cx="453708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3"/>
          <a:stretch/>
        </p:blipFill>
        <p:spPr>
          <a:xfrm>
            <a:off x="4705200" y="1484280"/>
            <a:ext cx="1965600" cy="18734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" descr=""/>
          <p:cNvPicPr/>
          <p:nvPr/>
        </p:nvPicPr>
        <p:blipFill>
          <a:blip r:embed="rId4"/>
          <a:stretch/>
        </p:blipFill>
        <p:spPr>
          <a:xfrm>
            <a:off x="4059360" y="3675240"/>
            <a:ext cx="1758960" cy="2346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"/>
          <p:cNvSpPr/>
          <p:nvPr/>
        </p:nvSpPr>
        <p:spPr>
          <a:xfrm>
            <a:off x="390600" y="-128520"/>
            <a:ext cx="80755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Музыко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324000" y="1593720"/>
            <a:ext cx="39607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ет иммунитет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имает напряжение и раздраж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имает головную б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авливает спокойное дых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Рисунок 1" descr=""/>
          <p:cNvPicPr/>
          <p:nvPr/>
        </p:nvPicPr>
        <p:blipFill>
          <a:blip r:embed="rId3"/>
          <a:stretch/>
        </p:blipFill>
        <p:spPr>
          <a:xfrm>
            <a:off x="4284720" y="954000"/>
            <a:ext cx="2592360" cy="15051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2" descr=""/>
          <p:cNvPicPr/>
          <p:nvPr/>
        </p:nvPicPr>
        <p:blipFill>
          <a:blip r:embed="rId4"/>
          <a:stretch/>
        </p:blipFill>
        <p:spPr>
          <a:xfrm>
            <a:off x="4284720" y="2584440"/>
            <a:ext cx="2608200" cy="18939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3" descr=""/>
          <p:cNvPicPr/>
          <p:nvPr/>
        </p:nvPicPr>
        <p:blipFill>
          <a:blip r:embed="rId5"/>
          <a:stretch/>
        </p:blipFill>
        <p:spPr>
          <a:xfrm>
            <a:off x="4290840" y="4597560"/>
            <a:ext cx="2605320" cy="18334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"/>
          <p:cNvSpPr/>
          <p:nvPr/>
        </p:nvSpPr>
        <p:spPr>
          <a:xfrm>
            <a:off x="539640" y="260280"/>
            <a:ext cx="81471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Релакс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24000" y="1628640"/>
            <a:ext cx="42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Учит детей расслабля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пособствует концентрации вни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омогает снять напря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нимает возбуж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1" descr=""/>
          <p:cNvPicPr/>
          <p:nvPr/>
        </p:nvPicPr>
        <p:blipFill>
          <a:blip r:embed="rId3"/>
          <a:stretch/>
        </p:blipFill>
        <p:spPr>
          <a:xfrm>
            <a:off x="4910040" y="3789360"/>
            <a:ext cx="3630600" cy="27226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" descr=""/>
          <p:cNvPicPr/>
          <p:nvPr/>
        </p:nvPicPr>
        <p:blipFill>
          <a:blip r:embed="rId4"/>
          <a:stretch/>
        </p:blipFill>
        <p:spPr>
          <a:xfrm>
            <a:off x="4881600" y="1125360"/>
            <a:ext cx="3659040" cy="2487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324000" y="549360"/>
            <a:ext cx="8362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66cc"/>
                </a:solidFill>
                <a:latin typeface="Times New Roman"/>
              </a:rPr>
              <a:t>Здоровье ребенка превыше всего,</a:t>
            </a:r>
            <a:br>
              <a:rPr sz="4000"/>
            </a:br>
            <a:r>
              <a:rPr b="1" i="1" lang="ru-RU" sz="4000" spc="-1" strike="noStrike">
                <a:solidFill>
                  <a:srgbClr val="0066cc"/>
                </a:solidFill>
                <a:latin typeface="Times New Roman"/>
              </a:rPr>
              <a:t>Богатство земли не заменит его.</a:t>
            </a:r>
            <a:br>
              <a:rPr sz="4000"/>
            </a:br>
            <a:r>
              <a:rPr b="1" i="1" lang="ru-RU" sz="4000" spc="-1" strike="noStrike">
                <a:solidFill>
                  <a:srgbClr val="0066cc"/>
                </a:solidFill>
                <a:latin typeface="Times New Roman"/>
              </a:rPr>
              <a:t>Здоровье не купишь, никто не продаст.</a:t>
            </a:r>
            <a:br>
              <a:rPr sz="4000"/>
            </a:br>
            <a:r>
              <a:rPr b="1" i="1" lang="ru-RU" sz="4000" spc="-1" strike="noStrike">
                <a:solidFill>
                  <a:srgbClr val="0066cc"/>
                </a:solidFill>
                <a:latin typeface="Times New Roman"/>
              </a:rPr>
              <a:t>Его берегите, как сердце, как глаз!!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1763640" y="836640"/>
            <a:ext cx="67644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3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Times New Roman"/>
                <a:ea typeface="Microsoft YaHei"/>
              </a:rPr>
              <a:t>«Детям совершенно так же, как и взрослым, хочется быть здоровыми и сильными, только дети не знают, что для этого надо делать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3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Times New Roman"/>
                <a:ea typeface="Microsoft YaHei"/>
              </a:rPr>
              <a:t>Объясним им, и они будут беречьс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3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300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  <a:ea typeface="Microsoft YaHei"/>
              </a:rPr>
              <a:t>Януш Корч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1" descr=""/>
          <p:cNvPicPr/>
          <p:nvPr/>
        </p:nvPicPr>
        <p:blipFill>
          <a:blip r:embed="rId3"/>
          <a:stretch/>
        </p:blipFill>
        <p:spPr>
          <a:xfrm>
            <a:off x="108000" y="1411200"/>
            <a:ext cx="2436840" cy="2954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"/>
          <p:cNvSpPr/>
          <p:nvPr/>
        </p:nvSpPr>
        <p:spPr>
          <a:xfrm>
            <a:off x="685800" y="907920"/>
            <a:ext cx="777240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физических дефект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685800" y="907920"/>
            <a:ext cx="777240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-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Задачи здоровьесбережения</a:t>
            </a:r>
            <a:r>
              <a:rPr b="0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"/>
          <p:cNvSpPr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доровьесберегающие образовательные технологии делятся на </a:t>
            </a: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три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1. Технологии сохранения и стимулирования здоров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2. Технологии обучения здоровому образу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3. Коррекционные технолог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95360" indent="-49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"/>
          <p:cNvSpPr/>
          <p:nvPr/>
        </p:nvSpPr>
        <p:spPr>
          <a:xfrm>
            <a:off x="68580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сохранения и стимулир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45720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ижные и спортивные игры</a:t>
            </a:r>
            <a:r>
              <a:rPr b="1" i="1" lang="ru-RU" sz="31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мнастика дыхательная</a:t>
            </a:r>
            <a:r>
              <a:rPr b="1" i="1" lang="ru-RU" sz="31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намическая гимнасти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енняя гимнасти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мнастика пробуждени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"/>
          <p:cNvSpPr/>
          <p:nvPr/>
        </p:nvSpPr>
        <p:spPr>
          <a:xfrm>
            <a:off x="1338120" y="692280"/>
            <a:ext cx="77724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3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Microsoft YaHei"/>
              </a:rPr>
              <a:t>Технологии обучения здоровому образу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Рисунок 1" descr=""/>
          <p:cNvPicPr/>
          <p:nvPr/>
        </p:nvPicPr>
        <p:blipFill>
          <a:blip r:embed="rId3"/>
          <a:stretch/>
        </p:blipFill>
        <p:spPr>
          <a:xfrm>
            <a:off x="3203640" y="4200480"/>
            <a:ext cx="2406600" cy="26575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" descr=""/>
          <p:cNvPicPr/>
          <p:nvPr/>
        </p:nvPicPr>
        <p:blipFill>
          <a:blip r:embed="rId4"/>
          <a:stretch/>
        </p:blipFill>
        <p:spPr>
          <a:xfrm>
            <a:off x="395280" y="1763640"/>
            <a:ext cx="3240000" cy="2303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"/>
          <p:cNvPicPr/>
          <p:nvPr/>
        </p:nvPicPr>
        <p:blipFill>
          <a:blip r:embed="rId5"/>
          <a:stretch/>
        </p:blipFill>
        <p:spPr>
          <a:xfrm>
            <a:off x="5364000" y="1809720"/>
            <a:ext cx="3299040" cy="2257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503280" y="142920"/>
            <a:ext cx="8642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одвижные и спортивные игры</a:t>
            </a:r>
            <a:r>
              <a:rPr b="1" i="1" lang="ru-RU" sz="4000" spc="-1" strike="noStrike" u="sng">
                <a:solidFill>
                  <a:srgbClr val="9900cc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2"/>
          <a:stretch/>
        </p:blipFill>
        <p:spPr>
          <a:xfrm>
            <a:off x="546120" y="884160"/>
            <a:ext cx="3378240" cy="20494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"/>
          <p:cNvPicPr/>
          <p:nvPr/>
        </p:nvPicPr>
        <p:blipFill>
          <a:blip r:embed="rId3"/>
          <a:stretch/>
        </p:blipFill>
        <p:spPr>
          <a:xfrm>
            <a:off x="4824360" y="884160"/>
            <a:ext cx="3276720" cy="21225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" descr=""/>
          <p:cNvPicPr/>
          <p:nvPr/>
        </p:nvPicPr>
        <p:blipFill>
          <a:blip r:embed="rId4"/>
          <a:stretch/>
        </p:blipFill>
        <p:spPr>
          <a:xfrm>
            <a:off x="684360" y="3581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"/>
          <p:cNvPicPr/>
          <p:nvPr/>
        </p:nvPicPr>
        <p:blipFill>
          <a:blip r:embed="rId5"/>
          <a:stretch/>
        </p:blipFill>
        <p:spPr>
          <a:xfrm>
            <a:off x="4788000" y="3581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User</cp:lastModifiedBy>
  <cp:lastPrinted>2018-05-03T13:13:10Z</cp:lastPrinted>
  <dcterms:modified xsi:type="dcterms:W3CDTF">2023-01-30T14:38:44Z</dcterms:modified>
  <cp:revision>93</cp:revision>
  <dc:subject/>
  <dc:title>Your Title Here…</dc:title>
</cp:coreProperties>
</file>