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345-FC2F-44EA-8707-832C2C1A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495-34A4-4F31-AF92-FB4FB274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28E-FC35-4411-944B-011556E5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859-A1BA-45DF-81BA-4A07BF72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9DAC-000E-4F9D-A51A-4E49B640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807B-DCAD-47CF-AE78-D30686E0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A0CD-0312-4E19-A37E-D3589CB4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B09A-66FF-45E9-832D-61E598CB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45D2-5C55-43EE-9AD1-6568D31D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DBBE-27DC-41F0-BEF6-ACE20AEC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AB23-31A0-4526-A0DD-93F96B05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D11-C8E2-43A3-ABCF-14F08EC0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A6A5-0892-43AB-88ED-0AB9CB05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9F55-52C7-4A2B-AFEE-365A0278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FE2C-4EC1-45EC-B3CB-714CC84C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F9FC-E7FD-4D60-A0FB-9E4253D2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3B61-5BD6-4430-8DD9-459D9789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B325C-4F8B-4DA5-B55F-293C1932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4D0A-9D1B-433B-BD7D-FB70E689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8E03-F942-49B8-A337-0D8037B6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FC4BA-AA5F-40B0-8770-2689FA73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A17B-9872-4197-85F9-33D4FA8B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808-A4F6-4122-9204-0C498807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B7B2-5B68-4A1A-A646-9EA78968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FC67-68F8-4F14-95B8-5507B305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FCDFC-96B2-44B9-ADC8-DFB7C632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D723-F12E-44C8-86BD-394238A3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0A38C-DF27-499C-BD58-51DC0917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22A8-2BAC-4C3C-9D07-DC332F17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61C9-69A0-4435-BD66-812A4CA9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D4D51-7314-4D91-B190-0B9F4D0A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F74DC-BF39-4EB8-8992-597CB5AE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412D-E582-4D0F-B77D-375B2140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664-D4CA-4A1A-84D5-FDD72BFC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39C6-A071-44E0-81FC-57C95A73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DD38C-838F-4424-9E3D-CE80E750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B54C1-E631-4E09-A093-2F0FB5DF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4981-3FE2-4964-94F3-49D58072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73B87-2304-4C36-B9A2-B1966F89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3020F-43D1-4565-99F4-AB2DFEA5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17FC-A6BC-4F8C-A4F6-C8A0B75F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7F5C6-0F38-4427-A4E4-389E3F13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62C4-1C02-47E5-9AA1-2C198355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824-D2F6-401A-80D5-2DE0F94A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F96-CF3D-4C01-9C45-B20405E5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04F-51DD-430E-94D3-A83BE609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D27-FEE4-4CB7-BA36-A28A7733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F98-2A0F-4099-B0B7-D67E2C33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BC81-DE41-4E3F-9015-9C80221CFBB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2752-D841-4B0B-BCCA-78FA2D44654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DCEA-06B5-4A3A-889A-C823F0707ED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A1DD-F383-4312-8C09-2E6B165489B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1189080"/>
            <a:ext cx="8217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ловесный анализ средств наглядности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ьзование различных средств наглядности помогает более чётко формировать мысль, прослеживать переход от одной операции к другой, создаёт необходимые условия для активизации пассивного словаря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глядный материал стимулирует речь учащихся, они более чётко, полно, правильно рассказывают о проделанной рабо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24000" y="69192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легче было работать, используется схе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лгоритм деятельности учащихс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Берём брусок белого пластили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лим его стекой на три ча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Большую часть , греем в руках, разминаем, раскатываем шар. Затем, берём следующую часть пластилина греем, разминаем, раскатываем и т. 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Соединяем дета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Лепим нос, рот и гла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вторение алгоритма действ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Установление взаимосвязи между речевой и трудовой деятельностью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здание единой согласованной системы «речь - действие - реч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 качестве педагогических средств стимуляции повышения речевой активности учащихся можно использовать следующие прием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побуждение самостоятельно высказываться о проделанной работ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 обсуждение образца предстоящей работ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планирование предстоящей работы и запись плана в тетрад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взаимное инструктирование и взаимопроверк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 обсуждение готовой работы и её приемк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 систематический опрос и работа с использованием средств нагляд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На уроках используются следующие методики: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                 Методика «Сравнение понятий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                 Методика «Установление последовательности события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                 Методика «Исключение понятий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                 Методика «Умение следовать инструкци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                 Методика «Комбинаторик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                 Методика «Исследование способности установить логические связи и отношения между понятиям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Основные методы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глядно-практиче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левые и деловые иг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од поощр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ый и текущий инструкта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скурс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ногократное повторение и практическое закрепл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речи у детей с нарушениями ее развития является одной из важнейших проблем логопед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лагоприятные условия для развития речи могут быть созданы на уроках ручного труд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а по себе трудовая деятельность, если ее целенаправленно не использовать, не улучшает речевое развитие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76464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бота по развитию речи включает следующие моменты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варная рабо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осы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се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весный анализ средств наглядност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лючительный этап работы - установление взаимосвязи между речевой и трудовой деятельности учащихс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ловарная работа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знакомление учащихся с новым словом, термином по схем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ачало  с загадки. Они оживляют урок, учат детей узнавать предметы по цвету, величине, назначению. Загадки расширяют кругозор учеников, уточняют и пополняют знания об окружающем мире. Загадки побуждают к творчеству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 написание слова на доске (использование  картинок), проговаривани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толкование его значения, связанное с практическим показо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выполнение учениками соответствующих действий, их закрепл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прос учащихс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ос должен осуществляться регулярно на каждом занятии, он чётко планируется с учётом индивидуальных особенностей учащихся. Опрос закрепляет знания учащихся, углубляя и расширяя их, способствует развитию речи. Место опроса в структуре урока может быть различным (в его начале, конце или середине), всё зависит от темы занятия и целей, которые ставит учитель перед собой в данном случа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оцессе опроса необходимо добиваться полных ответов учащихся, так как часто за пропущенными словом и скрывается непонимание зад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ос предполагает тренировку логической памяти учащихся, мышления, умения строить связное высказыв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просы, активизирующие логическую память, т.е. требующие воспроизведения усвоенного, как правило, содержит просьбу что-то назвать, повторить, перечислить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просы требуют сопоставления предметов или явлений. Устанавливая сходство и различие предметов, дети учатся обобщать, выделять глав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вопросах учителя важное место занимают слова «дальше», «тогда», «после  этого», «затем», с помощью которых передается временная последовательность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оследовательность трудовых операции при изготовлении изделий служит планом в построении связного рассказа о проделанной работе учащихся. Составление такого рассказа происходит сначала на основе образца, а затем без него, что служит переходу от речи, тесно связанной с ситуацией, к речи обобщенной. Рассказ о предстоящей работе является следующей ступенью развития связной речи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Бесе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метод обучения, при котором учитель с помощью вопросов выясняет, насколько прочно ученики овладели учебным материалом, и, опираясь на имеющиеся у них знания, навыки, опыт, готовит их к усвоению новых зна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этапе ориентировки речь помогает детям лучше осознать предстоящее задание. На этапе планирования особенно благотворно влияет устное проговаривание - учащийся начинает более четко представлять себе порядок и содержание предстоящей операц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Учитель должен взять за правило  там, где это можно, обходиться без вопросов, прибегая во время беседы к другим средствам, скажем к демонстрации предмета, сопоставлению фактов, напоминанию, тому  или иному  стимулу, побуждающему к высказыванию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Немаловажен и тон беседы - спокойный и доброжелательный. Вместе с тем учитель следит за чистотой речи учащихся, обращая внимание школьников на допущенные ими ошибки, делая это с необходимой тактичностью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27T19:19:18Z</dcterms:created>
  <dc:creator>ольга</dc:creator>
  <dc:description/>
  <dc:language>en-US</dc:language>
  <cp:lastModifiedBy>ольга</cp:lastModifiedBy>
  <dcterms:modified xsi:type="dcterms:W3CDTF">2022-02-27T21:57:48Z</dcterms:modified>
  <cp:revision>17</cp:revision>
  <dc:subject/>
  <dc:title>Развитие речи средствами учебного предмета (технология)</dc:title>
</cp:coreProperties>
</file>