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0D8-8F80-41AE-A62C-E0F4C56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A74-7748-490D-BFCE-00D455C4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B79-120E-4ABD-88DF-1CCF86F4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AF8-BAE5-46B7-915F-9D95D143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C43-EE81-41F3-969A-B803F7AF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424-9050-44EE-A20D-4E7CC38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EFAD-ED40-4AA3-B6C1-FB77E10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19A7-1399-4F1F-BA10-41A9C6E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3410-03CC-48AA-9EDA-953FED2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A0D-DAAC-45B3-8FFF-B667F62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BAB8-797A-4F97-8FC7-4BCE196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A5F-C9D0-41A0-BDF4-E737101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89B-05AD-4C3A-A3B5-A08AFFFB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5840-E04E-491A-8B05-AD0C518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E947-A6C9-4668-94EE-D982AE89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3B0-5141-45CD-8046-0AA4BD73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4EF7-51F1-4E4D-B764-72955FAB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F5C6-AA29-4668-A286-3EA1663D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076F-B772-40B5-82A9-7C4A8AC1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F3B6-C4BB-46A1-B8C3-6A6FFEC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E952-EBC2-4452-A686-053C3799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612C-16C6-4A15-BF26-8D6FBD2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B0A-C1CB-4CC2-B707-FE76DD78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A94E-781C-48DF-895E-3F2C2C7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1F08-291F-4A08-98D9-011B5A9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96F8-7F4D-460B-AA80-3794A08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E6A8-3A38-4F46-AF5F-D7AF3BD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391C-4C5C-420E-8559-B9700210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2CF9-1869-463C-B63A-0059D74A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148C-292B-4CE7-8868-B2FAD641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1D52-FB6A-4805-9997-5BE39F06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36FD-4961-47E8-8D14-B42A39A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9B9E-6D37-4148-8AEF-9536B2C9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5BE-E141-451B-923D-B32618F6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28AE-51E6-42FA-846C-5316288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7D14-004B-4829-BD20-5222FE70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8BAF-55A4-4DFB-9258-62C773D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956D-EA8F-4CE4-A44D-1D87471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BB4F-7C04-4401-92C4-BB668D9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3BD4-EC42-4C44-BA99-13188BD3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292E-587B-4CC7-9519-849CB0A6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1544-7DB5-4375-8DF4-CAD6731F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07DE-1C03-4528-AB40-639D2027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5F5-C280-42D8-9B00-C8A090A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1E7-4E90-4C30-8333-2D8D8746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9AC-47FC-4C6C-8737-1FE0DEB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BF6-F348-4B7F-9552-E5A6185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78A-B740-4119-9469-0A6E7CC5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D940-C128-4C90-ABF2-1213BF15DF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2CA4-40BB-44B5-8D0B-0E60E1DC97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D68-C643-460F-81F1-6002589E5C0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720-B828-40BA-B3B7-A3A2D91665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189080"/>
            <a:ext cx="8217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ловесный анализ средств наглядност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ьзование различных средств наглядности помогает более чётко формировать мысль, прослеживать переход от одной операции к другой, создаёт необходимые условия для активизации пассивного словаря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глядный материал стимулирует речь учащихся, они более чётко, полно, правильно рассказывают о проделанной рабо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24000" y="69192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гче было работать, используется схе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горитм деятельности учащихс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ерём брусок белого пластил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елим его стекой на три ча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Большую часть , греем в руках, разминаем, раскатываем шар. Затем, берём следующую часть пластилина греем, разминаем, раскатываем и т. 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оединяем дет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Лепим нос, рот и гл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торение алгоритма действ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Установление взаимосвязи между речевой и трудовой деятельность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единой согласованной системы «речь - действие - реч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 качестве педагогических средств стимуляции повышения речевой активности учащихся можно использовать следующие прием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побуждение самостоятельно высказываться о проделанной работ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обсуждение образца предстоящей работ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планирование предстоящей работы и запись плана в тетрад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взаимное инструктирование и взаимопроверк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. обсуждение готовой работы и её приемк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. систематический опрос и работа с использованием средств нагляд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На уроках используются следующие методики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                 Методика «Сравнение понятий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                 Методика «Установление последовательности событ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                 Методика «Исключение понятий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                 Методика «Умение следовать инструкци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                 Методика «Комбинаторик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                 Методика «Исследование способности установить логические связи и отношения между понятиям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Основные методы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глядно-прак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левые и деловые иг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поощр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ый и текущий инструкта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курс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ногократное повторение и практическое закреп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речи у детей с нарушениями ее развития является одной из важнейших проблем логопед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агоприятные условия для развития речи могут быть созданы на уроках ручного тру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а по себе трудовая деятельность, если ее целенаправленно не использовать, не улучшает речевое развитие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бота по развитию речи включает следующие моменты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рная рабо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ы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ед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есный анализ средств наглядност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лючительный этап работы - установление взаимосвязи между речевой и трудовой деятельности учащих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ловарная работ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знакомление учащихся с новым словом, термином по схем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ачало  с загадки. Они оживляют урок, учат детей узнавать предметы по цвету, величине, назначению. Загадки расширяют кругозор учеников, уточняют и пополняют знания об окружающем мире. Загадки побуждают к творчеств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 написание слова на доске (использование  картинок), проговаривани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толкование его значения, связанное с практическим показ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выполнение учениками соответствующих действий, их закрепл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прос учащихс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 должен осуществляться регулярно на каждом занятии, он чётко планируется с учётом индивидуальных особенностей учащихся. Опрос закрепляет знания учащихся, углубляя и расширяя их, способствует развитию речи. Место опроса в структуре урока может быть различным (в его начале, конце или середине), всё зависит от темы занятия и целей, которые ставит учитель перед собой в данном случа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проса необходимо добиваться полных ответов учащихся, так как часто за пропущенными словом и скрывается непонимани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ос предполагает тренировку логической памяти учащихся, мышления, умения строить связное высказыв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ы, активизирующие логическую память, т.е. требующие воспроизведения усвоенного, как правило, содержит просьбу что-то назвать, повторить, перечисли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ы требуют сопоставления предметов или явлений. Устанавливая сходство и различие предметов, дети учатся обобщать, выделять глав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вопросах учителя важное место занимают слова «дальше», «тогда», «после  этого», «затем», с помощью которых передается временная последовательность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оследовательность трудовых операции при изготовлении изделий служит планом в построении связного рассказа о проделанной работе учащихся. Составление такого рассказа происходит сначала на основе образца, а затем без него, что служит переходу от речи, тесно связанной с ситуацией, к речи обобщенной. Рассказ о предстоящей работе является следующей ступенью развития связной речи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Бесе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метод обучения, при котором учитель с помощью вопросов выясняет, насколько прочно ученики овладели учебным материалом, и, опираясь на имеющиеся у них знания, навыки, опыт, готовит их к усвоению новых зн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этапе ориентировки речь помогает детям лучше осознать предстоящее задание. На этапе планирования особенно благотворно влияет устное проговаривание - учащийся начинает более четко представлять себе порядок и содержание предстоящей операц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Учитель должен взять за правило  там, где это можно, обходиться без вопросов, прибегая во время беседы к другим средствам, скажем к демонстрации предмета, сопоставлению фактов, напоминанию, тому  или иному  стимулу, побуждающему к высказыванию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емаловажен и тон беседы - спокойный и доброжелательный. Вместе с тем учитель следит за чистотой речи учащихся, обращая внимание школьников на допущенные ими ошибки, делая это с необходимой тактичностью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27T19:19:18Z</dcterms:created>
  <dc:creator>ольга</dc:creator>
  <dc:description/>
  <dc:language>en-US</dc:language>
  <cp:lastModifiedBy>ольга</cp:lastModifiedBy>
  <dcterms:modified xsi:type="dcterms:W3CDTF">2022-02-27T21:57:48Z</dcterms:modified>
  <cp:revision>17</cp:revision>
  <dc:subject/>
  <dc:title>Развитие речи средствами учебного предмета (технология)</dc:title>
</cp:coreProperties>
</file>