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A99-D4C4-4C05-B84C-75839DC756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0B47-993E-4DFC-9EA5-E45A22A7EB66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раздел не считаю обязательным. Каждый для себя сам определит его необходимость в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6776-0E94-4566-8C54-6AB19336D3AD}" type="slidenum">
              <a:rPr b="0" lang="ru-RU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41F-E2C6-44E1-A3CB-4B09C53D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E78-41DC-4164-B8A4-E3525BA9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95D-9F10-453C-A33B-E607A56F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E50-D7ED-48FC-BCFE-A94F3615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D84C-27A2-4C84-B7C8-15134A6D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195C-E801-4673-913C-7005DA5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E6B-1BF3-46A4-9058-8C562628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3ED3-0535-49C7-9DE0-9438348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B8D-2B8A-4037-8C00-D4805CE3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79AC-799A-48B2-B3C8-70739B69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C61D-B98B-4C53-9E48-50CF6EA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89F-7D02-4A56-A2B7-DA0B719C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4C58-AA08-49A9-8E60-FBC7897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FB6F-24A4-477A-B4A6-8D421CA6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1535-CF33-4F52-9E78-8932176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0EE4-8958-4F20-8A2A-5AE64E62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272A-222E-4C85-8922-22286798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A11-E92C-4DC9-AEAA-D5A8C68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D1D-3DD9-43A7-A600-0123F46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41D-B48D-4A2D-A4BF-DB6FADD3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B25-A900-4B51-AC22-AF91F76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FCA-3FD3-48BD-BEC3-1B626796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356-8779-421D-B21D-43B219C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AA8-A9D2-4C14-930B-8600F00F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29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8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10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11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12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13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14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5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6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7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8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9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20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21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22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23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24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5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6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7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8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9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30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31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32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33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34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5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6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7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8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9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40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41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42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43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44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5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6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7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8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9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50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51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52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5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6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7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8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9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60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61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62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63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64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5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6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7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8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9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70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71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72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73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74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5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6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7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8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9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80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81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82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83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84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5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6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7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8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9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90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91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92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93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94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5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6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7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8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9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100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101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102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103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104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5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6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7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8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9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10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11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12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13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14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5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6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7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8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9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20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21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22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23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24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5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6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7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8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9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30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31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32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33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34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5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6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7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8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9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40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41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42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43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44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5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6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7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8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9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50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51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52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53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54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5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6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7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8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9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60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61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62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63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64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5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6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7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8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9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70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71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72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73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74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5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6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7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8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9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80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81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82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83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84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5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6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7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8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9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90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91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92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93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94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5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6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7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8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9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200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201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202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203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204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5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6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7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8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9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10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11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12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13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14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5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6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7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8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9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20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21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22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23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24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5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6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7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8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9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30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31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32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33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34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5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7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8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9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40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41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42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43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44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6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7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8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9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50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51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52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53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54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5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6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7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8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9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60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61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62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63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64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5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6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7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8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9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70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71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72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73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74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5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6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7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8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9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80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327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92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302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326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2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3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4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5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6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7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8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9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90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323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328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321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0686-A118-45F3-A7D9-3B5C200F54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3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4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5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6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7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9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10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1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2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3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4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5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6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7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8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9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20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1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2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3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4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5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6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7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8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9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30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1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2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3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4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5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6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7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8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9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1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2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3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4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5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6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7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8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9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50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1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2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3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4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5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7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8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9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60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1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2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3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4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5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6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7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8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9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70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1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2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3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4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5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6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7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8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9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80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1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2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4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5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6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7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8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9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90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1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2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3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4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5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6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7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8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100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1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2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3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4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5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6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7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8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9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10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1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2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3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4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5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6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7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8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20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1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2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3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4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5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6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7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8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9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30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2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3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4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5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6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7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8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9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40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1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2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3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4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5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6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7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8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9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50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1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2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3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4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6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7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8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9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60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1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2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3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4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5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6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7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8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9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70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1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2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3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4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5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6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7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8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9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80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1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2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3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4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5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6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7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8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9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90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1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2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3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4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5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6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7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8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9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200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1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2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3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4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5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6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7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8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9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10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1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2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3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4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5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6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7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8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9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20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1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2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3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4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5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6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7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8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9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30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1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2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3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4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5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6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7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8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9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40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1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2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3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4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5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6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7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8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9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50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1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2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3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4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5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6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7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8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9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60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1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2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3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4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5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6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7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8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9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70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1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2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3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4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5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80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82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83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84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85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6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302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1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7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8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9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301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300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77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78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9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00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9D2A-3577-4278-8694-DEDD0EA7E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57160" y="3071520"/>
            <a:ext cx="78487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Здоровьесберегающие технологии на уроках физической культуры</a:t>
            </a:r>
            <a:endParaRPr b="0" lang="en-US" sz="36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31640" y="713880"/>
            <a:ext cx="73832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икова Ирина Анатольевна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– высшее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 № 1» город Гурьевск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лавная задача учителя физической культуры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09548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6" name="Прямоугольник 3"/>
          <p:cNvSpPr/>
          <p:nvPr/>
        </p:nvSpPr>
        <p:spPr>
          <a:xfrm>
            <a:off x="1357200" y="2286000"/>
            <a:ext cx="7561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7" name="TextBox 4"/>
          <p:cNvSpPr/>
          <p:nvPr/>
        </p:nvSpPr>
        <p:spPr>
          <a:xfrm>
            <a:off x="785880" y="2428920"/>
            <a:ext cx="886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укрепление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стающего поколения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2"/>
          <p:cNvSpPr/>
          <p:nvPr/>
        </p:nvSpPr>
        <p:spPr>
          <a:xfrm>
            <a:off x="857160" y="1571760"/>
            <a:ext cx="807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дух в здоровом теле - вот краткое, но полное описание счастливого состояния в этом мир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бладает и тем и другим, тому остается желать немногого, а кто лишен хотя бы одного, тому в малой степени может компенсировать что бы то ни было и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е или несчастье человека в основном является делом его собственных рук. Тот, у кого тело нездоровое и слабое, никогда не будет в состоянии продвигаться вперед по этому пути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 Лок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6560" y="571320"/>
            <a:ext cx="831708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Impact"/>
              </a:rPr>
              <a:t>Алгоритмы достижения цели: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0" name="Rectangle 590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1071720" y="1524240"/>
            <a:ext cx="7786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сть и правильность постановки задач в освоении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т нагрузки, исходя их возрастных особенностей и работоспособности обучающихся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правильно планировать и сочетать компетентности в обучени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мальность распределения учебного материала по мере его освоения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лгоритмы достижения цели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928800" y="1664280"/>
            <a:ext cx="7786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наиболее приемлемых методов и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   управления    учебной    и   внеучебной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ю  обучающихс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       благоприятной        эмоционально-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й   атмосферы   в   процессе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ое   медицинское   сопровож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е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и апробации исследовательско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  по    здоровьесбережению   в    области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68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Алгоритмы достижения цели:</a:t>
            </a:r>
            <a:br>
              <a:rPr sz="4400"/>
            </a:b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1071720" y="1932120"/>
            <a:ext cx="785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у обучающихся потребности в непрерывном самообразовании и самосовершенствовании в области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ИКТ в области оздоровительных систем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тическая работа с родителями, коллегами  по данному вопросу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1"/>
          <p:cNvSpPr/>
          <p:nvPr/>
        </p:nvSpPr>
        <p:spPr>
          <a:xfrm>
            <a:off x="857160" y="164304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делать так, чтобы физическая культура стала основной двигающей силой формирования здорового образа жизни?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Прямоугольник 1"/>
          <p:cNvSpPr/>
          <p:nvPr/>
        </p:nvSpPr>
        <p:spPr>
          <a:xfrm>
            <a:off x="1285920" y="1571760"/>
            <a:ext cx="7572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высить эффективность практического использования традиционных и новых образовательных систем и технологий?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1"/>
          <p:cNvSpPr/>
          <p:nvPr/>
        </p:nvSpPr>
        <p:spPr>
          <a:xfrm>
            <a:off x="928800" y="1785960"/>
            <a:ext cx="7929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ормировать положи-тельную мотивацию к занятиям физической культурой и спортом?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Прямоугольник 1"/>
          <p:cNvSpPr/>
          <p:nvPr/>
        </p:nvSpPr>
        <p:spPr>
          <a:xfrm>
            <a:off x="1428840" y="1785960"/>
            <a:ext cx="70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влечь к занятиям физической культурой учащихся с разным уровнем подготовленности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Прямоугольник 1"/>
          <p:cNvSpPr/>
          <p:nvPr/>
        </p:nvSpPr>
        <p:spPr>
          <a:xfrm>
            <a:off x="1071720" y="171468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обрать оптимальную систему упражнений для каждого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5399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Цель работы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755280" y="1642680"/>
            <a:ext cx="83883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формирован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, информационной и физической 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 школьников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готовность вест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ый образ жизни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 относиться к жизни и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ю,   как условию самореализаци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и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Главная задача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988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и поддерживать интерес учащихся к занятиям физической культурой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Impact"/>
              </a:rPr>
              <a:t>Технологии: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785520" y="107136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тивны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личностно -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го    обучения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го обучения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компетентностного  подхода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;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3:01:21Z</dcterms:created>
  <dc:creator>sszh91@gmail.com</dc:creator>
  <dc:description/>
  <dc:language>en-US</dc:language>
  <cp:lastModifiedBy>Admin</cp:lastModifiedBy>
  <dcterms:modified xsi:type="dcterms:W3CDTF">2023-01-31T20:03:20Z</dcterms:modified>
  <cp:revision>20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