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3CC-ACCA-4DCA-9D60-82B7F538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3EA-F99C-4BC8-BAD9-B8040AC6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6F2-CBBD-4822-ABC6-302C5AFD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0C3-5A35-4CDF-A024-0821BF9B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1409-EA81-4299-9FE4-A74AA0C8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83DA-AA1D-4EAE-BE8E-0CB85F43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3F27-4ED6-4503-ADBA-C398BF6C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F0E7-6B48-4F2D-98EF-CE6DDB13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6DA2-42FB-4C34-A31B-51EC4AA6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A3EE-F248-463E-B327-E91E3FEC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A7D0-34B7-40AF-B6BA-2833A912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39D-AD06-43C6-96EA-C1A79FF8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6256-40F2-409B-BA5F-76FCD01B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7424-55C4-4F4F-A725-3BBA168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2008-07B7-44EA-8FE7-504666E0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E482-FEEB-4F10-8D11-170E5256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2134-0975-4BC9-ACAC-2F9A67F9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57624-1194-42D9-8A5C-B24E3AAD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0C5F-D58C-4E57-9FB6-4D9355CE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D78E-C7F8-436D-A361-04B5E442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A325-507B-4542-8D20-5071F86A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7586-2980-44D9-9DD5-C59AD77C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51F-70F3-430A-B29C-DD842E2D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654F-DBE6-4DD6-AE0D-66A31D32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A8C6-7AD1-466B-BFE2-9895CFF7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231A-5331-46C1-A4B3-779C5027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DA6C-3C9B-4A37-AF39-20E5DC94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57F1-CF36-4B81-9B70-9582334B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23D73-2FD0-4060-B455-86E0E146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86FF-166C-4272-9CBC-67EE4CEA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E072-E632-4E44-9BE8-AC212478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3D2EB-B6CB-49C5-B637-34F90906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859F0-2C7C-482B-8AFB-42CBA2B5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568-ABC0-435D-B52A-91939D00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AD12-2D2C-4978-A84D-6652700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5F96C-1211-4BB2-BE55-B30434DC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9D1FD-9F44-4132-A79B-EDD71CD9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BACB2-C73D-4E94-8A5D-ED73514E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219B0-7494-4784-B17C-6F6D7159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0F1A-269F-4230-81E1-47A8AD7B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ED9A-C1CD-472C-AB14-BA6A6CBF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FEEE-AA80-454B-A571-EF2546C8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5FDA-C40D-4DDB-A095-3E2C5F39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AFC37-3D8D-438A-9D6E-7AB7C62D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C54-F82E-45E1-A43D-561B02C7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34E88-8C9B-4935-AFF8-1B19F3EA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2F447-6D4B-4FB1-8CB1-1D06B11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9E0A1-F009-4D3A-8B2C-1F6757C0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087B-74AB-4E98-B36C-E19BAAF7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EAF59-12E5-432F-8D86-A6D3D245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5D803-6C86-4641-8FF4-FDF28308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A03F8-72E8-4A02-9DEA-51E6479F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7020C-FD1F-4DBF-A4C0-383864C3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7FE53-9300-461B-B6F3-2930685A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88F64-69FF-4E9F-9F08-DD100A84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368-3076-45A0-A8BC-DC298725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9284B-2189-4611-BDFF-664ED9E6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59094-70B6-4607-BDA9-05DD3B55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6FC89-73CB-4A65-8DDD-05B96BFA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7D1ED-33B2-4DDF-B2DA-F6838449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1AE42-3263-42FD-8062-0D967387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93512-1B29-424D-B989-679FA0FC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BA973-E296-4BFB-9D22-C18FA451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BC704-FD9A-4C26-8096-4492D94F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44F6B-D06A-4406-8A7F-68E6DA7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FEF7F-9D56-4EE8-B759-BDE0CD05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52E-3BFB-4A55-B4B7-F67F1509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726F7-7DC6-4B30-9739-9287CD74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4C668-55F9-4712-B59A-5FDFDC2C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F8434-0CFD-419D-BB7E-596F74C5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FBC-474A-4B5B-A597-6E6AA054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BCB-C7C6-49A8-BE08-DA80CD0C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52D3-3AB6-4650-91BC-0C42C6E4C539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b2b"/>
            </a:gs>
            <a:gs pos="100000">
              <a:srgbClr val="81818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A527-48C6-44AB-8CFE-5F7FE4B37620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b2b"/>
            </a:gs>
            <a:gs pos="100000">
              <a:srgbClr val="81818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3283-14AE-4C2E-9E4D-24DAEC88D20B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9A80-90CE-4769-9FC0-90C79063A140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C842-15FB-4B23-8E9C-9511454937F2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1001-6162-4342-A1D9-C6FF09C19A94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206360" y="1700280"/>
            <a:ext cx="71564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42960" y="2428920"/>
            <a:ext cx="79725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6 месяцев ребенок не просто обменивается ласками со взрослым, но тут же затеива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игру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прячется, или включает в прежнее «чистое», ничем не опосредствованно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бщение через какие-либо объек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уговицу, безделушк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вплетена в совместную познавательную деятельность –                                 </a:t>
            </a:r>
            <a:r>
              <a:rPr b="1" lang="ru-RU" sz="2800" spc="-1" strike="noStrike">
                <a:solidFill>
                  <a:srgbClr val="d5a7b1"/>
                </a:solidFill>
                <a:latin typeface="Arial"/>
              </a:rPr>
              <a:t>«теоретическое сотрудничеств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звитие любознательност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амках предыдущей формы общения и постоянно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вершенствование способо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е удовлетворения заставляют ребенка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ставить перед собой все более сложные вопрос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ано, что дошкольник пытается понять ни много, ни мало, как происхождение и устройство мира, взаимосвязи в природе и т.д. (Пиаже, Флейвел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о возможность понять такие проблемы ограниче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357120" y="2643120"/>
            <a:ext cx="8400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динственно реальным путем к их пониманию становится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бщение с окружающи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             Дети – «почемучки» обрушивают на старших лавину вопро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ественно, потому что ведущий в третьей форме общения – </a:t>
            </a:r>
            <a:r>
              <a:rPr b="0" i="1" lang="ru-RU" sz="2800" spc="-1" strike="noStrike">
                <a:solidFill>
                  <a:srgbClr val="f2a4a7"/>
                </a:solidFill>
                <a:latin typeface="Arial"/>
              </a:rPr>
              <a:t>познавательный мо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57120" y="2357280"/>
            <a:ext cx="84009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рослый выступает перед детьми в новом качестве – как </a:t>
            </a:r>
            <a:r>
              <a:rPr b="0" lang="ru-RU" sz="2800" spc="-1" strike="noStrike">
                <a:solidFill>
                  <a:srgbClr val="f2a4a7"/>
                </a:solidFill>
                <a:latin typeface="Arial"/>
              </a:rPr>
              <a:t>эруд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способный дать им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овые сведения, информ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поскольку обсуждаются проблемы, далекие от обстановки взаимодействия детей и старших, общение приобретает – впервые после рождения ребенка – выраженный </a:t>
            </a:r>
            <a:r>
              <a:rPr b="0" i="1" lang="ru-RU" sz="2800" spc="-1" strike="noStrike">
                <a:solidFill>
                  <a:srgbClr val="f2a4a7"/>
                </a:solidFill>
                <a:latin typeface="Arial"/>
              </a:rPr>
              <a:t>внеситуативный характ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357120" y="2356920"/>
            <a:ext cx="84009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концу дошкольного возраста у детей появляется четвертая высшая для дошкольников форма общения со взросл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идно из ее названия (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личност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она аналогична первой генетической форме общения и знаменует, что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процесс развит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ршил таким образом первый виток, и, описывая спираль,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перешел на второй вито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357120" y="2356920"/>
            <a:ext cx="84009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ичие в том, что одна из них –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ситуатив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а другая –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внеситуатив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разница в степени ситуативности оборачивается  величайшими возможностями в возможности контактов, их природе и влиянии на общее психическое развитие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357120" y="2356920"/>
            <a:ext cx="84009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Личностный моти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совершенно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иной характе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4-ой стадии коммуникативной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рослый выступает для ребенка в наибольшей полноте своих дарований, характерных черт и жизненного опы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357120" y="2356920"/>
            <a:ext cx="84009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ние Е.О. Смирновой (1977 г.) показало, что если в разговорах дошкольников с </a:t>
            </a: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познавательным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тивами</a:t>
            </a: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ения преобладают </a:t>
            </a:r>
            <a:r>
              <a:rPr b="0" i="1" lang="ru-RU" sz="2800" spc="-1" strike="noStrike">
                <a:solidFill>
                  <a:srgbClr val="92d050"/>
                </a:solidFill>
                <a:latin typeface="Arial"/>
              </a:rPr>
              <a:t>темы о живой природе, зверях, предмет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о дошкольники с </a:t>
            </a:r>
            <a:r>
              <a:rPr b="1" lang="ru-RU" sz="2800" spc="-1" strike="noStrike">
                <a:solidFill>
                  <a:srgbClr val="f3a276"/>
                </a:solidFill>
                <a:latin typeface="Arial"/>
              </a:rPr>
              <a:t>личностны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формами проявляют основной интерес к людям и говорят о </a:t>
            </a:r>
            <a:r>
              <a:rPr b="0" i="1" lang="ru-RU" sz="2800" spc="-1" strike="noStrike">
                <a:solidFill>
                  <a:srgbClr val="f3a276"/>
                </a:solidFill>
                <a:latin typeface="Arial"/>
              </a:rPr>
              <a:t>себе, своих родителях, товарищ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спрашивают взрослых </a:t>
            </a:r>
            <a:r>
              <a:rPr b="0" i="1" lang="ru-RU" sz="2800" spc="-1" strike="noStrike">
                <a:solidFill>
                  <a:srgbClr val="f3a276"/>
                </a:solidFill>
                <a:latin typeface="Arial"/>
              </a:rPr>
              <a:t>о их жизни, работе, семь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357120" y="2356920"/>
            <a:ext cx="84009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хотя сотрудничество также носит теоретический характер и вплетено в познавательную деятельность, но здесь проявляется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сосредоточенность ребенка на социальном окружении, на мире люд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а не предме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6840" y="2428920"/>
            <a:ext cx="81867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уроках ППО создаются наиболее благоприятные условия для реализации ведущего принципа -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5a7b1"/>
                </a:solidFill>
                <a:uFillTx/>
                <a:latin typeface="Arial"/>
              </a:rPr>
              <a:t>принципа коммуник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соответствует процессу формирования речи у маленьких слышащих детей при общении со взрослыми в ходе понятной и интересной для них предмет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357120" y="35712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1. Активизация речевого развития детей. Формирование речи как средства общения в связи с предметно-практической деятель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357120" y="2214720"/>
            <a:ext cx="84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работах Лисиной показано, что сформированность внеситуативно-личностного общения говорит о </a:t>
            </a:r>
            <a:r>
              <a:rPr b="0" i="1" lang="ru-RU" sz="2600" spc="-1" strike="noStrike">
                <a:solidFill>
                  <a:srgbClr val="d5a7b1"/>
                </a:solidFill>
                <a:latin typeface="Arial"/>
              </a:rPr>
              <a:t>коммуникативной готовности ребенка к обучению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 Настроенность на взрослого позволяет детям с внеситуативно-личностной формой общения понять, что в ситуации учения он </a:t>
            </a:r>
            <a:r>
              <a:rPr b="0" i="1" lang="ru-RU" sz="2600" spc="-1" strike="noStrike">
                <a:solidFill>
                  <a:srgbClr val="66ff66"/>
                </a:solidFill>
                <a:latin typeface="Arial"/>
              </a:rPr>
              <a:t>(взрослый) выступает как педагог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и, следовательно, </a:t>
            </a:r>
            <a:r>
              <a:rPr b="0" lang="ru-RU" sz="2600" spc="-1" strike="noStrike">
                <a:solidFill>
                  <a:srgbClr val="f7c1a4"/>
                </a:solidFill>
                <a:latin typeface="Arial"/>
              </a:rPr>
              <a:t>им </a:t>
            </a:r>
            <a:r>
              <a:rPr b="0" i="1" lang="ru-RU" sz="2600" spc="-1" strike="noStrike">
                <a:solidFill>
                  <a:srgbClr val="f7c1a4"/>
                </a:solidFill>
                <a:latin typeface="Arial"/>
              </a:rPr>
              <a:t>положено вести себя как ученикам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нужно слушать, выполнять задачу, стараться запомнить, умение учиться в адекватных услови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357120" y="2428560"/>
            <a:ext cx="84009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имание детьми своей позиции –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позиции «школьника»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видно из того, что они не отвлекаются, тщательно прослеживают все действия взрослых, не затевают разговоров на темы, не имеющие отношение к зада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1856880"/>
            <a:ext cx="818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ключение ППО обеспечило равномерную работу по формированию достаточного круга понят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гласно учению о формировании понятий, которое развил Выготский Л.С.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«в момент усвоения нового слова ребенок не просто запоминает понятие в готовом виде. В момент усвоения нового слова </a:t>
            </a:r>
            <a:r>
              <a:rPr b="0" i="1" lang="ru-RU" sz="2600" spc="-1" strike="noStrike">
                <a:solidFill>
                  <a:srgbClr val="d5a7b1"/>
                </a:solidFill>
                <a:latin typeface="Arial"/>
              </a:rPr>
              <a:t>процесс развития соответствующего понятия не заканчивается, а только начинается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». «И требует он применения целого ряда функций: произвольного внимания, логической памяти, абстракции, сравнения и размышления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428760" y="35712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2. Формирование житейских понятий            как базы для овладения общеобразовательными предме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1856880"/>
            <a:ext cx="818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исследованиях психологов, развивающих деятельностный подход к психологии, было показано, какое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огромное влияние на развитие всей познавательной деятельност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целом (восприятия, памяти, мышления, воображения), нормальное развитие ребенка оказывает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разнообраз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предметная деяте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428760" y="3571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3. Развитие познавательной деятельности глухих школь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6840" y="2286000"/>
            <a:ext cx="818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ПО – специфическая форма обучения ручному тру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428760" y="35712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4. Формирование комплекса трудовых умений, как чисто физических, так и интеллектуального харак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6"/>
          <p:cNvSpPr/>
          <p:nvPr/>
        </p:nvSpPr>
        <p:spPr>
          <a:xfrm>
            <a:off x="428760" y="3571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5. Развитие положительных качеств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856880"/>
            <a:ext cx="81867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ительное отношение к творче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стоятельность и акти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ание оказывать помощь товарищ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бознательность (интерес к миру вещей и миру люде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ологическая готовность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идчив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многие друг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493560" y="6480"/>
            <a:ext cx="7912080" cy="1560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99680" y="2571840"/>
            <a:ext cx="81867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lnSpc>
                <a:spcPct val="15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3eef5"/>
                </a:solidFill>
                <a:latin typeface="Arial"/>
              </a:rPr>
              <a:t>Ситуативно-личностна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15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3eef5"/>
                </a:solidFill>
                <a:latin typeface="Arial"/>
              </a:rPr>
              <a:t>Ситуативно-делова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15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3eef5"/>
                </a:solidFill>
                <a:latin typeface="Arial"/>
              </a:rPr>
              <a:t>Внеситуативно-познавательна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15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3eef5"/>
                </a:solidFill>
                <a:latin typeface="Arial"/>
              </a:rPr>
              <a:t>Внеситуативно-личностна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TextBox 3" descr=""/>
          <p:cNvPicPr/>
          <p:nvPr/>
        </p:nvPicPr>
        <p:blipFill>
          <a:blip r:embed="rId2"/>
          <a:stretch/>
        </p:blipFill>
        <p:spPr>
          <a:xfrm>
            <a:off x="639720" y="1444680"/>
            <a:ext cx="75106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овлетворение потребности ребенка в </a:t>
            </a:r>
            <a:r>
              <a:rPr b="0" i="1" lang="ru-RU" sz="2800" spc="-1" strike="noStrike">
                <a:solidFill>
                  <a:srgbClr val="66ff66"/>
                </a:solidFill>
                <a:latin typeface="Arial"/>
              </a:rPr>
              <a:t>доброжелательном</a:t>
            </a:r>
            <a:r>
              <a:rPr b="0" lang="ru-RU" sz="2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6ff66"/>
                </a:solidFill>
                <a:latin typeface="Arial"/>
              </a:rPr>
              <a:t>внимании взросл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a276"/>
                </a:solidFill>
                <a:latin typeface="Arial"/>
              </a:rPr>
              <a:t>Доброжелательное отношение взрослого –</a:t>
            </a:r>
            <a:r>
              <a:rPr b="0" lang="ru-RU" sz="2800" spc="-1" strike="noStrike">
                <a:solidFill>
                  <a:srgbClr val="d5a7b1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позитивная окраска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a276"/>
                </a:solidFill>
                <a:latin typeface="Arial"/>
              </a:rPr>
              <a:t>Безразличное отношение взрослого</a:t>
            </a: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3a276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тревожность угнетенность ребенка, ответное поведение затормажив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00040" y="2142720"/>
            <a:ext cx="8400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полугода ребенок </a:t>
            </a: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не отличает положительных экспрессий от отрицательных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укоризна, гнев), реагирует только на проявление вним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енцы тонко </a:t>
            </a: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различают градации вниман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рослого, но </a:t>
            </a: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не отличают одного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рослого человека </a:t>
            </a: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от другого</a:t>
            </a:r>
            <a:r>
              <a:rPr b="0" lang="ru-RU" sz="2800" spc="-1" strike="noStrike">
                <a:solidFill>
                  <a:srgbClr val="c07b8a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концу первого полугодия уверенно узнают м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42600" y="2499840"/>
            <a:ext cx="7643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едущий мотив общен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7b8a"/>
                </a:solidFill>
                <a:latin typeface="Arial"/>
              </a:rPr>
              <a:t>– </a:t>
            </a:r>
            <a:r>
              <a:rPr b="1" lang="ru-RU" sz="3000" spc="-1" strike="noStrike">
                <a:solidFill>
                  <a:srgbClr val="c07b8a"/>
                </a:solidFill>
                <a:latin typeface="Arial"/>
              </a:rPr>
              <a:t>личностный моти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итуативно-личностное общение занимает положение </a:t>
            </a:r>
            <a:r>
              <a:rPr b="0" i="1" lang="ru-RU" sz="3000" spc="-1" strike="noStrike">
                <a:solidFill>
                  <a:srgbClr val="c07b8a"/>
                </a:solidFill>
                <a:latin typeface="Arial"/>
              </a:rPr>
              <a:t>ведущей деятельности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первом полугодии жизни ребен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дущий вид деятельности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предметно-манипулятивная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дущий мотив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деловой мот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е поводы для контактов со взрослыми связаны с общим делом –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актической деятельность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бенка занимает,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что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как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делает с вещами взрослый, и старшие раскрываются именно с этой стороны 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000" spc="-1" strike="noStrike">
                <a:solidFill>
                  <a:srgbClr val="d5a7b1"/>
                </a:solidFill>
                <a:latin typeface="Arial"/>
              </a:rPr>
              <a:t>как удивительные умельцы и искусники, способные творить с предметом истинные чудес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итуативно-деловом общении детям необходимо </a:t>
            </a:r>
            <a:r>
              <a:rPr b="0" i="1" lang="ru-RU" sz="2800" spc="-1" strike="noStrike">
                <a:solidFill>
                  <a:srgbClr val="f7c1a4"/>
                </a:solidFill>
                <a:latin typeface="Arial"/>
              </a:rPr>
              <a:t>присутствие взрослого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го </a:t>
            </a:r>
            <a:r>
              <a:rPr b="0" i="1" lang="ru-RU" sz="2800" spc="-1" strike="noStrike">
                <a:solidFill>
                  <a:srgbClr val="f7c1a4"/>
                </a:solidFill>
                <a:latin typeface="Arial"/>
              </a:rPr>
              <a:t>доброжелательное вним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о этого недостаточ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му нужно, чтобы взрослый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имел</a:t>
            </a:r>
            <a:r>
              <a:rPr b="0" lang="ru-RU" sz="2800" spc="-1" strike="noStrike">
                <a:solidFill>
                  <a:srgbClr val="d5a7b1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отношение</a:t>
            </a:r>
            <a:r>
              <a:rPr b="0" lang="ru-RU" sz="2800" spc="-1" strike="noStrike">
                <a:solidFill>
                  <a:srgbClr val="d5a7b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тому, чем занимается ребенок, и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участвовал 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этом процесс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8:54:22Z</dcterms:created>
  <dc:creator>Your User Name</dc:creator>
  <dc:description/>
  <dc:language>en-US</dc:language>
  <cp:lastModifiedBy>Your User Name</cp:lastModifiedBy>
  <dcterms:modified xsi:type="dcterms:W3CDTF">2011-11-27T06:08:56Z</dcterms:modified>
  <cp:revision>10</cp:revision>
  <dc:subject/>
  <dc:title>ЗАДАЧИ УРОКОВ ПРЕДМЕТНО-ПРАКТИЧЕСКОГО  ОБУЧЕНИЯ</dc:title>
</cp:coreProperties>
</file>