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A0D-3C15-4F47-8D80-20F339F0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CB0-E877-4A16-818A-953D553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A10-DC57-476F-AE4C-24BBB614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79A-2543-49A5-82A8-2C483AF2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C123-493C-43F2-AFFA-5A503E68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5EEA-D862-48D6-886A-DC62CC78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2CCF-3505-4C2A-80C1-026F81E5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E143-BDE5-4976-860F-0BA8D4A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BF77-8502-4EE3-A34C-70A0F5FD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E319-40F7-4AA9-8B13-3C17C5A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7A9-12A9-46E4-A440-5571B19B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BCA-B6BD-4095-AE43-E1C5696A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158D-38EE-428D-BD44-1D71A44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3C59-566D-4C94-8BA7-DFC3458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0512-5568-4031-9318-BF9E22EC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FCBE-2ACF-424B-929C-F197230A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6503-C8F9-411F-AE6E-14B5DBB8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A7EA-ACA1-4257-9286-C2C5F0AC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285C-ADB2-4333-A1BA-48046CB3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E629-6335-4B77-8248-352A61C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E6B8-955C-493F-942A-32A2F4E6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0332-C181-4387-AEE6-B88D6A11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EB2-0AE3-4CB2-9FD3-1FC1C775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EBC8-F3C8-4CB2-A55D-F0F23009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2B0D-5F52-467E-8401-9B6092EE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09E2-179E-4598-BFCB-3F012E87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BECF-A18B-452A-A3D5-485E70DD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BFBE9-EE58-4DE3-A0C2-DEF039CE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F0E3-066D-4B9D-AE66-26B0AC9E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E5B4-6444-4D4D-AC86-2FB27D5C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B241-7D3E-4310-8B21-F26E768E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A8385-D36F-4210-978C-1821B5A9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4D7F-96C0-44D7-B086-CADF097A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3AF-768E-4F08-A9C0-713B2493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E921-0EAE-4CCD-B8EA-44BCDAA5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C3AE-39E1-47B6-B387-98F44B0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DF33-EE03-4722-A2F4-0C40A1CC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6BB6-2F16-438E-A629-5684EA3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A107-31F0-4DD0-84BF-B500FA8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56FF-B522-4242-8FB7-312B39B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E47D-301B-49FB-8789-2F1CC788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4A25-4A62-4614-A248-8E1D0D95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F572-73E0-42D8-89F9-3E782A13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AAFAB-B628-4099-B208-79B0557F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475-57DB-4120-96D5-FD36CF4A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DD85-1A6E-49D4-B4DF-84A2B9EE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F62E5-1197-47B9-AE07-0BB3FAD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35D0-DB00-46E3-A599-590B589E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3306C-1DD8-413B-90BB-07294CB2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518D-21A8-457C-941E-CFFFFE4F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CB962-9DF9-4A5B-B15B-92F9F978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2E15-7EAE-4AAC-A00F-4E91B4EA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D1E43-59AE-4D62-8E70-57284D7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68304-E382-45F8-8042-58691E09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9CD9-14CC-432B-8197-2DC962AE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922-31F3-4BC9-96AD-47EBF36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8B0B9-2E70-45FD-BA86-45BEB8C3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5C8E0-0657-4FDF-8780-6A6C7B8C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1D219-48F2-4D27-B221-F8ACE7B4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5BB1F-EBF5-423C-BAA3-7EDEF204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8C13-2660-4165-BFB9-B6B03C7D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AA0A-DE82-4486-8E82-174FE8D7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C831D-B8F9-43C6-9303-92CAA9CE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D6021-9F3D-4E89-99E0-EEEE605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96FE2-5104-4CE3-9177-9CB8B7E0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D1B02-49FF-40AD-9A19-F64DEDE3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44D-9DA3-4DA5-9E46-929F0CDA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94B1E-BD26-4ACB-A309-5366FA70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6C808-7B0F-4E48-B7AA-D0DCDD3D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91477-9472-421E-9488-3DB0B9FA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A3C-41DB-43D5-B4B4-00C602E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807-AA36-4B6B-B2DA-394DDEFA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3D24-6B58-423D-A200-C654F5A2389C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b2b"/>
            </a:gs>
            <a:gs pos="100000">
              <a:srgbClr val="81818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7A2-9189-4AD4-A78D-78552F37BED8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b2b"/>
            </a:gs>
            <a:gs pos="100000">
              <a:srgbClr val="81818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894B-16EF-418A-8A38-52CC67158547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F868-E51F-48B9-B006-FB388A2C3F83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260D-075A-4D4A-B1D9-B8A4F02172A6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da2b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a1f28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b641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3963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1265-BF9F-4AE6-92C9-4F1305AD8DB8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206360" y="1700280"/>
            <a:ext cx="71564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42960" y="2428920"/>
            <a:ext cx="79725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6 месяцев ребенок не просто обменивается ласками со взрослым, но тут же затеив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игру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прячется, или включает в прежнее «чистое», ничем не опосредствованно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бщение через какие-либо объек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пуговицу, безделушк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вплетена в совместную познавательную деятельность –                                 </a:t>
            </a:r>
            <a:r>
              <a:rPr b="1" lang="ru-RU" sz="2800" spc="-1" strike="noStrike">
                <a:solidFill>
                  <a:srgbClr val="d5a7b1"/>
                </a:solidFill>
                <a:latin typeface="Arial"/>
              </a:rPr>
              <a:t>«теоретическое сотрудничеств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звитие любознательност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амках предыдущей формы общения и постоянно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вершенствование способо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е удовлетворения заставляют ребенка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ставить перед собой все более сложные вопрос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но, что дошкольник пытается понять ни много, ни мало, как происхождение и устройство мира, взаимосвязи в природе и т.д. (Пиаже, Флейвел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 возможность понять такие проблемы ограниче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57120" y="2643120"/>
            <a:ext cx="8400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динственно реальным путем к их пониманию становится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бщение с окружающи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             Дети – «почемучки» обрушивают на старших лавину вопро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ественно, потому что ведущий в третьей форме общения – </a:t>
            </a:r>
            <a:r>
              <a:rPr b="0" i="1" lang="ru-RU" sz="2800" spc="-1" strike="noStrike">
                <a:solidFill>
                  <a:srgbClr val="f2a4a7"/>
                </a:solidFill>
                <a:latin typeface="Arial"/>
              </a:rPr>
              <a:t>познавательный мо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57120" y="2357280"/>
            <a:ext cx="84009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ый выступает перед детьми в новом качестве – как </a:t>
            </a:r>
            <a:r>
              <a:rPr b="0" lang="ru-RU" sz="2800" spc="-1" strike="noStrike">
                <a:solidFill>
                  <a:srgbClr val="f2a4a7"/>
                </a:solidFill>
                <a:latin typeface="Arial"/>
              </a:rPr>
              <a:t>эруд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способный дать им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вые сведения, информ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поскольку обсуждаются проблемы, далекие от обстановки взаимодействия детей и старших, общение приобретает – впервые после рождения ребенка – выраженный </a:t>
            </a:r>
            <a:r>
              <a:rPr b="0" i="1" lang="ru-RU" sz="2800" spc="-1" strike="noStrike">
                <a:solidFill>
                  <a:srgbClr val="f2a4a7"/>
                </a:solidFill>
                <a:latin typeface="Arial"/>
              </a:rPr>
              <a:t>внеситуативный харак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концу дошкольного возраста у детей появляется четвертая высшая для дошкольников форма общения со взросл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идно из ее названия (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личност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она аналогична первой генетической форме общения и знаменует, что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роцесс развит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ршил таким образом первый виток, и, описывая спираль,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ерешел на второй вито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ичие в том, что одна из них –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ситуатив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 другая –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внеситуатив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разница в степени ситуативности оборачивается  величайшими возможностями в возможности контактов, их природе и влиянии на общее психическое развитие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Личностный моти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совершенно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иной характе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4-ой стадии коммуникативной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ый выступает для ребенка в наибольшей полноте своих дарований, характерных черт и жизненного оп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е Е.О. Смирновой (1977 г.) показало, что если в разговорах дошкольников с </a:t>
            </a: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познавательным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тивами</a:t>
            </a: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ния преобладают </a:t>
            </a:r>
            <a:r>
              <a:rPr b="0" i="1" lang="ru-RU" sz="2800" spc="-1" strike="noStrike">
                <a:solidFill>
                  <a:srgbClr val="92d050"/>
                </a:solidFill>
                <a:latin typeface="Arial"/>
              </a:rPr>
              <a:t>темы о живой природе, зверях, предмет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дошкольники с </a:t>
            </a:r>
            <a:r>
              <a:rPr b="1" lang="ru-RU" sz="2800" spc="-1" strike="noStrike">
                <a:solidFill>
                  <a:srgbClr val="f3a276"/>
                </a:solidFill>
                <a:latin typeface="Arial"/>
              </a:rPr>
              <a:t>личностны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формами проявляют основной интерес к людям и говорят о </a:t>
            </a:r>
            <a:r>
              <a:rPr b="0" i="1" lang="ru-RU" sz="2800" spc="-1" strike="noStrike">
                <a:solidFill>
                  <a:srgbClr val="f3a276"/>
                </a:solidFill>
                <a:latin typeface="Arial"/>
              </a:rPr>
              <a:t>себе, своих родителях, товарищ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спрашивают взрослых </a:t>
            </a:r>
            <a:r>
              <a:rPr b="0" i="1" lang="ru-RU" sz="2800" spc="-1" strike="noStrike">
                <a:solidFill>
                  <a:srgbClr val="f3a276"/>
                </a:solidFill>
                <a:latin typeface="Arial"/>
              </a:rPr>
              <a:t>о их жизни, работе, семь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57120" y="2356920"/>
            <a:ext cx="840096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хотя сотрудничество также носит теоретический характер и вплетено в познавательную деятельность, но здесь проявляется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сосредоточенность ребенка на социальном окружении, на мире люд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 не предме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6840" y="2428920"/>
            <a:ext cx="81867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уроках ППО создаются наиболее благоприятные условия для реализации ведущего принципа -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5a7b1"/>
                </a:solidFill>
                <a:uFillTx/>
                <a:latin typeface="Arial"/>
              </a:rPr>
              <a:t>принципа коммун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оответствует процессу формирования речи у маленьких слышащих детей при общении со взрослыми в ходе понятной и интересной для них предмет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357120" y="35712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1. Активизация речевого развития детей. Формирование речи как средства общения в связи с предметно-практической дея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357120" y="2214720"/>
            <a:ext cx="84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работах Лисиной показано, что сформированность внеситуативно-личностного общения говорит о </a:t>
            </a:r>
            <a:r>
              <a:rPr b="0" i="1" lang="ru-RU" sz="2600" spc="-1" strike="noStrike">
                <a:solidFill>
                  <a:srgbClr val="d5a7b1"/>
                </a:solidFill>
                <a:latin typeface="Arial"/>
              </a:rPr>
              <a:t>коммуникативной готовности ребенка к обучению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Настроенность на взрослого позволяет детям с внеситуативно-личностной формой общения понять, что в ситуации учения он </a:t>
            </a:r>
            <a:r>
              <a:rPr b="0" i="1" lang="ru-RU" sz="2600" spc="-1" strike="noStrike">
                <a:solidFill>
                  <a:srgbClr val="66ff66"/>
                </a:solidFill>
                <a:latin typeface="Arial"/>
              </a:rPr>
              <a:t>(взрослый) выступает как педагог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и, следовательно, </a:t>
            </a:r>
            <a:r>
              <a:rPr b="0" lang="ru-RU" sz="2600" spc="-1" strike="noStrike">
                <a:solidFill>
                  <a:srgbClr val="f7c1a4"/>
                </a:solidFill>
                <a:latin typeface="Arial"/>
              </a:rPr>
              <a:t>им </a:t>
            </a:r>
            <a:r>
              <a:rPr b="0" i="1" lang="ru-RU" sz="2600" spc="-1" strike="noStrike">
                <a:solidFill>
                  <a:srgbClr val="f7c1a4"/>
                </a:solidFill>
                <a:latin typeface="Arial"/>
              </a:rPr>
              <a:t>положено вести себя как ученикам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нужно слушать, выполнять задачу, стараться запомнить, умение учиться в адекватных услови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357120" y="2428560"/>
            <a:ext cx="84009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имание детьми своей позиции –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озиции «школьника»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видно из того, что они не отвлекаются, тщательно прослеживают все действия взрослых, не затевают разговоров на темы, не имеющие отношение к зада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1856880"/>
            <a:ext cx="81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ключение ППО обеспечило равномерную работу по формированию достаточного круга понят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гласно учению о формировании понятий, которое развил Выготский Л.С.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«в момент усвоения нового слова ребенок не просто запоминает понятие в готовом виде. В момент усвоения нового слова </a:t>
            </a:r>
            <a:r>
              <a:rPr b="0" i="1" lang="ru-RU" sz="2600" spc="-1" strike="noStrike">
                <a:solidFill>
                  <a:srgbClr val="d5a7b1"/>
                </a:solidFill>
                <a:latin typeface="Arial"/>
              </a:rPr>
              <a:t>процесс развития соответствующего понятия не заканчивается, а только начинается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». «И требует он применения целого ряда функций: произвольного внимания, логической памяти, абстракции, сравнения и размышления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428760" y="35712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2. Формирование житейских понятий            как базы для овладения общеобразовательными предме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1856880"/>
            <a:ext cx="81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сследованиях психологов, развивающих деятельностный подход к психологии, было показано, какое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огромное влияние на развитие всей познавательной деятельност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целом (восприятия, памяти, мышления, воображения), нормальное развитие ребенка оказывает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разнообраз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редметная деяте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428760" y="3571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3. Развитие познавательной деятельности глухих школь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6840" y="2286000"/>
            <a:ext cx="818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ПО – специфическая форма обучения ручному тру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428760" y="35712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4. Формирование комплекса трудовых умений, как чисто физических, так и интеллектуального харак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6"/>
          <p:cNvSpPr/>
          <p:nvPr/>
        </p:nvSpPr>
        <p:spPr>
          <a:xfrm>
            <a:off x="428760" y="3571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Arial"/>
              </a:rPr>
              <a:t>5. Развитие положительных качеств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856880"/>
            <a:ext cx="81867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тельное отношение к творче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стоятельность и ак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ание оказывать помощь товарищ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бознательность (интерес к миру вещей и миру люд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логическая готовность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идч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многие друг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93560" y="6480"/>
            <a:ext cx="7912080" cy="1560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99680" y="2571840"/>
            <a:ext cx="81867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3880">
              <a:lnSpc>
                <a:spcPct val="15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3eef5"/>
                </a:solidFill>
                <a:latin typeface="Arial"/>
              </a:rPr>
              <a:t>Ситуативно-личностна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15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3eef5"/>
                </a:solidFill>
                <a:latin typeface="Arial"/>
              </a:rPr>
              <a:t>Ситуативно-делова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15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3eef5"/>
                </a:solidFill>
                <a:latin typeface="Arial"/>
              </a:rPr>
              <a:t>Внеситуативно-познавательна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150000"/>
              </a:lnSpc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3eef5"/>
                </a:solidFill>
                <a:latin typeface="Arial"/>
              </a:rPr>
              <a:t>Внеситуативно-личностна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TextBox 3" descr=""/>
          <p:cNvPicPr/>
          <p:nvPr/>
        </p:nvPicPr>
        <p:blipFill>
          <a:blip r:embed="rId2"/>
          <a:stretch/>
        </p:blipFill>
        <p:spPr>
          <a:xfrm>
            <a:off x="639720" y="1444680"/>
            <a:ext cx="75106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овлетворение потребности ребенка в </a:t>
            </a:r>
            <a:r>
              <a:rPr b="0" i="1" lang="ru-RU" sz="2800" spc="-1" strike="noStrike">
                <a:solidFill>
                  <a:srgbClr val="66ff66"/>
                </a:solidFill>
                <a:latin typeface="Arial"/>
              </a:rPr>
              <a:t>доброжелательном</a:t>
            </a:r>
            <a:r>
              <a:rPr b="0" lang="ru-RU" sz="2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ff66"/>
                </a:solidFill>
                <a:latin typeface="Arial"/>
              </a:rPr>
              <a:t>внимании взросл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a276"/>
                </a:solidFill>
                <a:latin typeface="Arial"/>
              </a:rPr>
              <a:t>Доброжелательное отношение взрослого –</a:t>
            </a:r>
            <a:r>
              <a:rPr b="0" lang="ru-RU" sz="2800" spc="-1" strike="noStrike">
                <a:solidFill>
                  <a:srgbClr val="d5a7b1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позитивная окраска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a276"/>
                </a:solidFill>
                <a:latin typeface="Arial"/>
              </a:rPr>
              <a:t>Безразличное отношение взрослого</a:t>
            </a: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3a276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тревожность угнетенность ребенка, ответное поведение затормаж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00040" y="2142720"/>
            <a:ext cx="8400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полугода ребенок </a:t>
            </a: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не отличает положительных экспрессий от отрицательных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укоризна, гнев), реагирует только на проявление вним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енцы тонко </a:t>
            </a: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различают градации вниман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ого, но </a:t>
            </a: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не отличают одног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ого человека </a:t>
            </a: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от другого</a:t>
            </a:r>
            <a:r>
              <a:rPr b="0" lang="ru-RU" sz="2800" spc="-1" strike="noStrike">
                <a:solidFill>
                  <a:srgbClr val="c07b8a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концу первого полугодия уверенно узнают м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42600" y="2499840"/>
            <a:ext cx="7643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едущий мотив обще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7b8a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c07b8a"/>
                </a:solidFill>
                <a:latin typeface="Arial"/>
              </a:rPr>
              <a:t>личностный моти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туативно-личностное общение занимает положение </a:t>
            </a:r>
            <a:r>
              <a:rPr b="0" i="1" lang="ru-RU" sz="3000" spc="-1" strike="noStrike">
                <a:solidFill>
                  <a:srgbClr val="c07b8a"/>
                </a:solidFill>
                <a:latin typeface="Arial"/>
              </a:rPr>
              <a:t>ведущей деятельности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первом полугодии жизни ребен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дущий вид деятельности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предметно-манипулятив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дущий мотив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7b8a"/>
                </a:solidFill>
                <a:latin typeface="Arial"/>
              </a:rPr>
              <a:t>деловой мот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е поводы для контактов со взрослыми связаны с общим делом –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ктической деятельность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бенка занимает,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что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как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делает с вещами взрослый, и старшие раскрываются именно с этой стороны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000" spc="-1" strike="noStrike">
                <a:solidFill>
                  <a:srgbClr val="d5a7b1"/>
                </a:solidFill>
                <a:latin typeface="Arial"/>
              </a:rPr>
              <a:t>как удивительные умельцы и искусники, способные творить с предметом истинные чудес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85840" y="2357280"/>
            <a:ext cx="8400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итуативно-деловом общении детям необходимо </a:t>
            </a:r>
            <a:r>
              <a:rPr b="0" i="1" lang="ru-RU" sz="2800" spc="-1" strike="noStrike">
                <a:solidFill>
                  <a:srgbClr val="f7c1a4"/>
                </a:solidFill>
                <a:latin typeface="Arial"/>
              </a:rPr>
              <a:t>присутствие взрослог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</a:t>
            </a:r>
            <a:r>
              <a:rPr b="0" i="1" lang="ru-RU" sz="2800" spc="-1" strike="noStrike">
                <a:solidFill>
                  <a:srgbClr val="f7c1a4"/>
                </a:solidFill>
                <a:latin typeface="Arial"/>
              </a:rPr>
              <a:t>доброжелательное вним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 этого недостаточ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му нужно, чтобы взрослый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имел</a:t>
            </a:r>
            <a:r>
              <a:rPr b="0" lang="ru-RU" sz="2800" spc="-1" strike="noStrike">
                <a:solidFill>
                  <a:srgbClr val="d5a7b1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отношение</a:t>
            </a:r>
            <a:r>
              <a:rPr b="0" lang="ru-RU" sz="2800" spc="-1" strike="noStrike">
                <a:solidFill>
                  <a:srgbClr val="d5a7b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тому, чем занимается ребенок, и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участвовал 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d5a7b1"/>
                </a:solidFill>
                <a:latin typeface="Arial"/>
              </a:rPr>
              <a:t>этом процесс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493560" y="-19080"/>
            <a:ext cx="7912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8:54:22Z</dcterms:created>
  <dc:creator>Your User Name</dc:creator>
  <dc:description/>
  <dc:language>en-US</dc:language>
  <cp:lastModifiedBy>Your User Name</cp:lastModifiedBy>
  <dcterms:modified xsi:type="dcterms:W3CDTF">2011-11-27T06:08:56Z</dcterms:modified>
  <cp:revision>10</cp:revision>
  <dc:subject/>
  <dc:title>ЗАДАЧИ УРОКОВ ПРЕДМЕТНО-ПРАКТИЧЕСКОГО  ОБУЧЕНИЯ</dc:title>
</cp:coreProperties>
</file>