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AD70-C1EC-49A3-9FBE-A393C826F38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5E5C-FA21-4A97-B29A-D2DECEA498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E654-820E-4222-A8E7-78DD2FDDF66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CD82-4074-48DB-BE2E-2368A9EC305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D59D-B207-4CAB-9B2B-E4F011687D8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1635-BCB7-4B1D-B6F9-595FCF5C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F20C-4EDF-4054-B481-D1B8024B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C450-52E6-47B1-8693-56015DBE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D80-7839-47AD-A416-13DF7304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BE74-1286-4284-9F8B-5CEF0DC6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1964-4715-479C-8209-E80A844B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2D9B-A786-4A25-8CC1-6479C1DA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CF96-2E6A-46E3-8D07-220142C1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97B5-6055-4761-8BAE-65C53D9D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A9B8-42B6-4623-B1DF-988CDD4D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5357-65A4-41AD-B60C-3FDF3142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A89B-0CCE-4F5E-BD71-A389D756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7066-6894-43E4-8AB1-5AB3BF817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1" descr=""/>
          <p:cNvPicPr/>
          <p:nvPr/>
        </p:nvPicPr>
        <p:blipFill>
          <a:blip r:embed="rId2"/>
          <a:stretch/>
        </p:blipFill>
        <p:spPr>
          <a:xfrm>
            <a:off x="1371600" y="566640"/>
            <a:ext cx="6400800" cy="6067440"/>
          </a:xfrm>
          <a:prstGeom prst="rect">
            <a:avLst/>
          </a:prstGeom>
          <a:ln w="0">
            <a:noFill/>
          </a:ln>
        </p:spPr>
      </p:pic>
      <p:pic>
        <p:nvPicPr>
          <p:cNvPr id="51" name="shepel-viviza-uvedomlenie.mp3" descr=""/>
          <p:cNvPicPr/>
          <p:nvPr/>
        </p:nvPicPr>
        <p:blipFill>
          <a:blip r:embed="rId3"/>
          <a:stretch/>
        </p:blipFill>
        <p:spPr>
          <a:xfrm>
            <a:off x="6494400" y="57056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2"/>
          <a:stretch/>
        </p:blipFill>
        <p:spPr>
          <a:xfrm>
            <a:off x="1187280" y="981000"/>
            <a:ext cx="6080400" cy="4756320"/>
          </a:xfrm>
          <a:prstGeom prst="rect">
            <a:avLst/>
          </a:prstGeom>
          <a:ln w="0">
            <a:noFill/>
          </a:ln>
        </p:spPr>
      </p:pic>
      <p:pic>
        <p:nvPicPr>
          <p:cNvPr id="54" name="улица Строителей (1)" descr=""/>
          <p:cNvPicPr/>
          <p:nvPr/>
        </p:nvPicPr>
        <p:blipFill>
          <a:blip r:embed="rId3"/>
          <a:stretch/>
        </p:blipFill>
        <p:spPr>
          <a:xfrm>
            <a:off x="6156360" y="479736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1" descr=""/>
          <p:cNvPicPr/>
          <p:nvPr/>
        </p:nvPicPr>
        <p:blipFill>
          <a:blip r:embed="rId2"/>
          <a:stretch/>
        </p:blipFill>
        <p:spPr>
          <a:xfrm>
            <a:off x="2374920" y="2038320"/>
            <a:ext cx="4211640" cy="3294000"/>
          </a:xfrm>
          <a:prstGeom prst="rect">
            <a:avLst/>
          </a:prstGeom>
          <a:ln w="0">
            <a:noFill/>
          </a:ln>
        </p:spPr>
      </p:pic>
      <p:sp>
        <p:nvSpPr>
          <p:cNvPr id="58" name="Трапеция 2"/>
          <p:cNvSpPr/>
          <p:nvPr/>
        </p:nvSpPr>
        <p:spPr>
          <a:xfrm rot="7614000">
            <a:off x="2406240" y="1751040"/>
            <a:ext cx="914400" cy="1216080"/>
          </a:xfrm>
          <a:custGeom>
            <a:avLst/>
            <a:gdLst/>
            <a:ahLst/>
            <a:rect l="l" t="t" r="r" b="b"/>
            <a:pathLst>
              <a:path w="914400" h="1216025">
                <a:moveTo>
                  <a:pt x="0" y="1216025"/>
                </a:moveTo>
                <a:lnTo>
                  <a:pt x="228600" y="0"/>
                </a:lnTo>
                <a:lnTo>
                  <a:pt x="685800" y="0"/>
                </a:lnTo>
                <a:lnTo>
                  <a:pt x="914400" y="1216025"/>
                </a:lnTo>
                <a:lnTo>
                  <a:pt x="0" y="121602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Трапеция 3"/>
          <p:cNvSpPr/>
          <p:nvPr/>
        </p:nvSpPr>
        <p:spPr>
          <a:xfrm rot="10640400">
            <a:off x="4220640" y="1031400"/>
            <a:ext cx="914400" cy="1216080"/>
          </a:xfrm>
          <a:custGeom>
            <a:avLst/>
            <a:gdLst/>
            <a:ahLst/>
            <a:rect l="l" t="t" r="r" b="b"/>
            <a:pathLst>
              <a:path w="914400" h="1216025">
                <a:moveTo>
                  <a:pt x="0" y="1216025"/>
                </a:moveTo>
                <a:lnTo>
                  <a:pt x="228600" y="0"/>
                </a:lnTo>
                <a:lnTo>
                  <a:pt x="685800" y="0"/>
                </a:lnTo>
                <a:lnTo>
                  <a:pt x="914400" y="1216025"/>
                </a:lnTo>
                <a:lnTo>
                  <a:pt x="0" y="121602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Трапеция 4"/>
          <p:cNvSpPr/>
          <p:nvPr/>
        </p:nvSpPr>
        <p:spPr>
          <a:xfrm rot="12887400">
            <a:off x="5962680" y="1418760"/>
            <a:ext cx="914400" cy="1238400"/>
          </a:xfrm>
          <a:custGeom>
            <a:avLst/>
            <a:gdLst/>
            <a:ahLst/>
            <a:rect l="l" t="t" r="r" b="b"/>
            <a:pathLst>
              <a:path w="914400" h="1238250">
                <a:moveTo>
                  <a:pt x="0" y="1238250"/>
                </a:moveTo>
                <a:lnTo>
                  <a:pt x="228600" y="0"/>
                </a:lnTo>
                <a:lnTo>
                  <a:pt x="685800" y="0"/>
                </a:lnTo>
                <a:lnTo>
                  <a:pt x="914400" y="1238250"/>
                </a:lnTo>
                <a:lnTo>
                  <a:pt x="0" y="123825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Трапеция 5"/>
          <p:cNvSpPr/>
          <p:nvPr/>
        </p:nvSpPr>
        <p:spPr>
          <a:xfrm rot="4668600">
            <a:off x="1630080" y="3250800"/>
            <a:ext cx="1101600" cy="1648080"/>
          </a:xfrm>
          <a:custGeom>
            <a:avLst/>
            <a:gdLst/>
            <a:ahLst/>
            <a:rect l="l" t="t" r="r" b="b"/>
            <a:pathLst>
              <a:path w="1101725" h="1647825">
                <a:moveTo>
                  <a:pt x="0" y="1647825"/>
                </a:moveTo>
                <a:lnTo>
                  <a:pt x="275431" y="0"/>
                </a:lnTo>
                <a:lnTo>
                  <a:pt x="826294" y="0"/>
                </a:lnTo>
                <a:lnTo>
                  <a:pt x="1101725" y="1647825"/>
                </a:lnTo>
                <a:lnTo>
                  <a:pt x="0" y="164782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Трапеция 6"/>
          <p:cNvSpPr/>
          <p:nvPr/>
        </p:nvSpPr>
        <p:spPr>
          <a:xfrm>
            <a:off x="6973920" y="3801960"/>
            <a:ext cx="46080" cy="44640"/>
          </a:xfrm>
          <a:custGeom>
            <a:avLst/>
            <a:gdLst/>
            <a:ahLst/>
            <a:rect l="l" t="t" r="r" b="b"/>
            <a:pathLst>
              <a:path w="46037" h="44450">
                <a:moveTo>
                  <a:pt x="0" y="-21086"/>
                </a:moveTo>
                <a:lnTo>
                  <a:pt x="11113" y="0"/>
                </a:lnTo>
                <a:lnTo>
                  <a:pt x="-30611" y="0"/>
                </a:lnTo>
                <a:lnTo>
                  <a:pt x="-19499" y="-21086"/>
                </a:lnTo>
                <a:lnTo>
                  <a:pt x="0" y="-2108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Трапеция 7"/>
          <p:cNvSpPr/>
          <p:nvPr/>
        </p:nvSpPr>
        <p:spPr>
          <a:xfrm rot="16200000">
            <a:off x="6804720" y="2705400"/>
            <a:ext cx="974520" cy="1544400"/>
          </a:xfrm>
          <a:custGeom>
            <a:avLst/>
            <a:gdLst/>
            <a:ahLst/>
            <a:rect l="l" t="t" r="r" b="b"/>
            <a:pathLst>
              <a:path w="974725" h="1544637">
                <a:moveTo>
                  <a:pt x="0" y="1544637"/>
                </a:moveTo>
                <a:lnTo>
                  <a:pt x="243681" y="0"/>
                </a:lnTo>
                <a:lnTo>
                  <a:pt x="731044" y="0"/>
                </a:lnTo>
                <a:lnTo>
                  <a:pt x="974725" y="1544637"/>
                </a:lnTo>
                <a:lnTo>
                  <a:pt x="0" y="154463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Трапеция 8"/>
          <p:cNvSpPr/>
          <p:nvPr/>
        </p:nvSpPr>
        <p:spPr>
          <a:xfrm rot="2488800">
            <a:off x="2968200" y="4849920"/>
            <a:ext cx="879480" cy="1830240"/>
          </a:xfrm>
          <a:custGeom>
            <a:avLst/>
            <a:gdLst/>
            <a:ahLst/>
            <a:rect l="l" t="t" r="r" b="b"/>
            <a:pathLst>
              <a:path w="879475" h="1830387">
                <a:moveTo>
                  <a:pt x="0" y="1830387"/>
                </a:moveTo>
                <a:lnTo>
                  <a:pt x="167364" y="0"/>
                </a:lnTo>
                <a:lnTo>
                  <a:pt x="712111" y="0"/>
                </a:lnTo>
                <a:lnTo>
                  <a:pt x="879475" y="1830387"/>
                </a:lnTo>
                <a:lnTo>
                  <a:pt x="0" y="18303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Трапеция 9"/>
          <p:cNvSpPr/>
          <p:nvPr/>
        </p:nvSpPr>
        <p:spPr>
          <a:xfrm rot="18339600">
            <a:off x="6603120" y="4248720"/>
            <a:ext cx="993600" cy="1814760"/>
          </a:xfrm>
          <a:custGeom>
            <a:avLst/>
            <a:gdLst/>
            <a:ahLst/>
            <a:rect l="l" t="t" r="r" b="b"/>
            <a:pathLst>
              <a:path w="993775" h="1814512">
                <a:moveTo>
                  <a:pt x="0" y="1814512"/>
                </a:moveTo>
                <a:lnTo>
                  <a:pt x="248444" y="0"/>
                </a:lnTo>
                <a:lnTo>
                  <a:pt x="745331" y="0"/>
                </a:lnTo>
                <a:lnTo>
                  <a:pt x="993775" y="1814512"/>
                </a:lnTo>
                <a:lnTo>
                  <a:pt x="0" y="181451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Трапеция 10"/>
          <p:cNvSpPr/>
          <p:nvPr/>
        </p:nvSpPr>
        <p:spPr>
          <a:xfrm rot="20423400">
            <a:off x="5062320" y="5133600"/>
            <a:ext cx="977760" cy="1486080"/>
          </a:xfrm>
          <a:custGeom>
            <a:avLst/>
            <a:gdLst/>
            <a:ahLst/>
            <a:rect l="l" t="t" r="r" b="b"/>
            <a:pathLst>
              <a:path w="977900" h="1485900">
                <a:moveTo>
                  <a:pt x="0" y="1485900"/>
                </a:moveTo>
                <a:lnTo>
                  <a:pt x="244475" y="0"/>
                </a:lnTo>
                <a:lnTo>
                  <a:pt x="733425" y="0"/>
                </a:lnTo>
                <a:lnTo>
                  <a:pt x="977900" y="1485900"/>
                </a:lnTo>
                <a:lnTo>
                  <a:pt x="0" y="14859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2874960" y="2060640"/>
            <a:ext cx="3394080" cy="33955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632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Трапеция 3"/>
          <p:cNvSpPr/>
          <p:nvPr/>
        </p:nvSpPr>
        <p:spPr>
          <a:xfrm rot="10800000">
            <a:off x="4590720" y="455760"/>
            <a:ext cx="971640" cy="1334880"/>
          </a:xfrm>
          <a:custGeom>
            <a:avLst/>
            <a:gdLst/>
            <a:ahLst/>
            <a:rect l="l" t="t" r="r" b="b"/>
            <a:pathLst>
              <a:path w="971550" h="1335087">
                <a:moveTo>
                  <a:pt x="0" y="1335087"/>
                </a:moveTo>
                <a:lnTo>
                  <a:pt x="242888" y="0"/>
                </a:lnTo>
                <a:lnTo>
                  <a:pt x="728663" y="0"/>
                </a:lnTo>
                <a:lnTo>
                  <a:pt x="971550" y="1335087"/>
                </a:lnTo>
                <a:lnTo>
                  <a:pt x="0" y="13350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Трапеция 4"/>
          <p:cNvSpPr/>
          <p:nvPr/>
        </p:nvSpPr>
        <p:spPr>
          <a:xfrm rot="14047200">
            <a:off x="6412680" y="1243800"/>
            <a:ext cx="1090800" cy="1425600"/>
          </a:xfrm>
          <a:custGeom>
            <a:avLst/>
            <a:gdLst/>
            <a:ahLst/>
            <a:rect l="l" t="t" r="r" b="b"/>
            <a:pathLst>
              <a:path w="1090612" h="1425575">
                <a:moveTo>
                  <a:pt x="0" y="1425575"/>
                </a:moveTo>
                <a:lnTo>
                  <a:pt x="272653" y="0"/>
                </a:lnTo>
                <a:lnTo>
                  <a:pt x="817959" y="0"/>
                </a:lnTo>
                <a:lnTo>
                  <a:pt x="1090612" y="1425575"/>
                </a:lnTo>
                <a:lnTo>
                  <a:pt x="0" y="142557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Трапеция 5"/>
          <p:cNvSpPr/>
          <p:nvPr/>
        </p:nvSpPr>
        <p:spPr>
          <a:xfrm rot="16956600">
            <a:off x="6625800" y="3244680"/>
            <a:ext cx="914400" cy="1216080"/>
          </a:xfrm>
          <a:custGeom>
            <a:avLst/>
            <a:gdLst/>
            <a:ahLst/>
            <a:rect l="l" t="t" r="r" b="b"/>
            <a:pathLst>
              <a:path w="914400" h="1216025">
                <a:moveTo>
                  <a:pt x="0" y="1216025"/>
                </a:moveTo>
                <a:lnTo>
                  <a:pt x="228600" y="0"/>
                </a:lnTo>
                <a:lnTo>
                  <a:pt x="685800" y="0"/>
                </a:lnTo>
                <a:lnTo>
                  <a:pt x="914400" y="1216025"/>
                </a:lnTo>
                <a:lnTo>
                  <a:pt x="0" y="121602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Трапеция 6"/>
          <p:cNvSpPr/>
          <p:nvPr/>
        </p:nvSpPr>
        <p:spPr>
          <a:xfrm rot="8973000">
            <a:off x="2509560" y="622080"/>
            <a:ext cx="976320" cy="1655640"/>
          </a:xfrm>
          <a:custGeom>
            <a:avLst/>
            <a:gdLst/>
            <a:ahLst/>
            <a:rect l="l" t="t" r="r" b="b"/>
            <a:pathLst>
              <a:path w="976312" h="1655763">
                <a:moveTo>
                  <a:pt x="0" y="1655763"/>
                </a:moveTo>
                <a:lnTo>
                  <a:pt x="244078" y="0"/>
                </a:lnTo>
                <a:lnTo>
                  <a:pt x="732234" y="0"/>
                </a:lnTo>
                <a:lnTo>
                  <a:pt x="976312" y="1655763"/>
                </a:lnTo>
                <a:lnTo>
                  <a:pt x="0" y="1655763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Трапеция 7"/>
          <p:cNvSpPr/>
          <p:nvPr/>
        </p:nvSpPr>
        <p:spPr>
          <a:xfrm rot="5841600">
            <a:off x="1425600" y="2448000"/>
            <a:ext cx="914400" cy="1216080"/>
          </a:xfrm>
          <a:custGeom>
            <a:avLst/>
            <a:gdLst/>
            <a:ahLst/>
            <a:rect l="l" t="t" r="r" b="b"/>
            <a:pathLst>
              <a:path w="914400" h="1216025">
                <a:moveTo>
                  <a:pt x="0" y="1216025"/>
                </a:moveTo>
                <a:lnTo>
                  <a:pt x="228600" y="0"/>
                </a:lnTo>
                <a:lnTo>
                  <a:pt x="685800" y="0"/>
                </a:lnTo>
                <a:lnTo>
                  <a:pt x="914400" y="1216025"/>
                </a:lnTo>
                <a:lnTo>
                  <a:pt x="0" y="121602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Трапеция 8"/>
          <p:cNvSpPr/>
          <p:nvPr/>
        </p:nvSpPr>
        <p:spPr>
          <a:xfrm>
            <a:off x="2411280" y="5157720"/>
            <a:ext cx="46080" cy="71640"/>
          </a:xfrm>
          <a:custGeom>
            <a:avLst/>
            <a:gdLst/>
            <a:ahLst/>
            <a:rect l="l" t="t" r="r" b="b"/>
            <a:pathLst>
              <a:path w="46037" h="71437">
                <a:moveTo>
                  <a:pt x="0" y="71437"/>
                </a:moveTo>
                <a:lnTo>
                  <a:pt x="11509" y="0"/>
                </a:lnTo>
                <a:lnTo>
                  <a:pt x="34528" y="0"/>
                </a:lnTo>
                <a:lnTo>
                  <a:pt x="46037" y="71437"/>
                </a:lnTo>
                <a:lnTo>
                  <a:pt x="0" y="7143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Трапеция 9"/>
          <p:cNvSpPr/>
          <p:nvPr/>
        </p:nvSpPr>
        <p:spPr>
          <a:xfrm rot="3652800">
            <a:off x="1425240" y="4267080"/>
            <a:ext cx="1212840" cy="1841400"/>
          </a:xfrm>
          <a:custGeom>
            <a:avLst/>
            <a:gdLst/>
            <a:ahLst/>
            <a:rect l="l" t="t" r="r" b="b"/>
            <a:pathLst>
              <a:path w="1212850" h="1841500">
                <a:moveTo>
                  <a:pt x="0" y="1841500"/>
                </a:moveTo>
                <a:lnTo>
                  <a:pt x="303213" y="0"/>
                </a:lnTo>
                <a:lnTo>
                  <a:pt x="909638" y="0"/>
                </a:lnTo>
                <a:lnTo>
                  <a:pt x="1212850" y="1841500"/>
                </a:lnTo>
                <a:lnTo>
                  <a:pt x="0" y="18415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Трапеция 10"/>
          <p:cNvSpPr/>
          <p:nvPr/>
        </p:nvSpPr>
        <p:spPr>
          <a:xfrm rot="1089000">
            <a:off x="3665160" y="5528880"/>
            <a:ext cx="914400" cy="1216080"/>
          </a:xfrm>
          <a:custGeom>
            <a:avLst/>
            <a:gdLst/>
            <a:ahLst/>
            <a:rect l="l" t="t" r="r" b="b"/>
            <a:pathLst>
              <a:path w="914400" h="1216025">
                <a:moveTo>
                  <a:pt x="0" y="1216025"/>
                </a:moveTo>
                <a:lnTo>
                  <a:pt x="228600" y="0"/>
                </a:lnTo>
                <a:lnTo>
                  <a:pt x="685800" y="0"/>
                </a:lnTo>
                <a:lnTo>
                  <a:pt x="914400" y="1216025"/>
                </a:lnTo>
                <a:lnTo>
                  <a:pt x="0" y="121602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Трапеция 11"/>
          <p:cNvSpPr/>
          <p:nvPr/>
        </p:nvSpPr>
        <p:spPr>
          <a:xfrm rot="19462200">
            <a:off x="5951160" y="4959360"/>
            <a:ext cx="1049400" cy="1768320"/>
          </a:xfrm>
          <a:custGeom>
            <a:avLst/>
            <a:gdLst/>
            <a:ahLst/>
            <a:rect l="l" t="t" r="r" b="b"/>
            <a:pathLst>
              <a:path w="1049337" h="1768475">
                <a:moveTo>
                  <a:pt x="0" y="1768475"/>
                </a:moveTo>
                <a:lnTo>
                  <a:pt x="262334" y="0"/>
                </a:lnTo>
                <a:lnTo>
                  <a:pt x="787003" y="0"/>
                </a:lnTo>
                <a:lnTo>
                  <a:pt x="1049337" y="1768475"/>
                </a:lnTo>
                <a:lnTo>
                  <a:pt x="0" y="176847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0:11:32Z</dcterms:created>
  <dc:creator/>
  <dc:description/>
  <cp:keywords/>
  <dc:language>en-US</dc:language>
  <cp:lastModifiedBy>ПК-1</cp:lastModifiedBy>
  <dcterms:modified xsi:type="dcterms:W3CDTF">2020-03-25T07:14:21Z</dcterms:modified>
  <cp:revision>13</cp:revision>
  <dc:subject/>
  <dc:title>Презентация PowerPoint</dc:title>
</cp:coreProperties>
</file>