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1493-35C8-4385-8846-8055069ED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C3B6-3E78-4CFA-BEBD-892DD0A7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75D7-6531-423F-9C5A-227E97956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4084-8461-4F8B-99EA-04A219F97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0AD2-4DEF-4442-9364-2E0C3A4A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BEAB-9C48-448A-A4DB-7AC71956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8F1F-7BE3-493B-B9BF-687249FE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5027-1C24-4A4D-81A4-9D9F5842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A12C-9FDB-44FB-95D2-4FD04491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D7FB-3B97-457F-ADFB-399A669D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81D1-2F15-4D76-9F43-81347286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64E7-9FA6-4BCD-BB5E-ADE52A55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8D38-4669-4DA2-A483-1E4A557A3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1-31T14:17:11Z</dcterms:created>
  <dc:creator>emachines</dc:creator>
  <dc:description/>
  <dc:language>en-US</dc:language>
  <cp:lastModifiedBy>emachines</cp:lastModifiedBy>
  <dcterms:modified xsi:type="dcterms:W3CDTF">2023-01-31T14:19:02Z</dcterms:modified>
  <cp:revision>1</cp:revision>
  <dc:subject/>
  <dc:title>Слайд 1</dc:title>
</cp:coreProperties>
</file>