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39F-76FD-49F1-99E9-97C69AB5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5AB-3D4C-493C-858F-6F040145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DFE-66E3-4DBD-8427-FF1C2E59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F06-6462-4010-882A-5AA07EED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1A7-1170-40DF-9E0A-E1A371EF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7CD-1686-4381-A61F-09BF65B4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5A3-4686-4915-B50D-DF08D25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62D-E2CC-4FCE-8CF7-842140CD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0CE-3AC0-43C3-A50A-DAABAA8B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3BE-1D6A-4F6D-A9B2-89F41095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2DC-D946-478A-B756-644457C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5B8-AA91-40EE-887B-4AF7FFB9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8641-4805-40DA-BA5B-F481ADE1F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31T14:17:11Z</dcterms:created>
  <dc:creator>emachines</dc:creator>
  <dc:description/>
  <dc:language>en-US</dc:language>
  <cp:lastModifiedBy>emachines</cp:lastModifiedBy>
  <dcterms:modified xsi:type="dcterms:W3CDTF">2023-01-31T14:19:02Z</dcterms:modified>
  <cp:revision>1</cp:revision>
  <dc:subject/>
  <dc:title>Слайд 1</dc:title>
</cp:coreProperties>
</file>