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D38-4A12-40F9-8D0D-D5281617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3F1-A80F-4CED-997B-0388485B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9F4-A81B-4679-893A-6A0FD57E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6A7-D6BF-4A37-B5AF-FAF4FDFA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DFA-6C2B-41A4-BD89-F33BD7FC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2B3-FFF3-4AB3-9E39-F3CC205A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3A2-7862-4295-B2E6-1CDE127B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B37-B0EE-4780-972B-2F8A2317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BC9-27B5-40E8-8638-F0E02C0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8B9-DDE8-462A-AE65-A6E8B6B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A94-9B21-4424-BC41-CE892C0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9BA-A5F2-4E92-A520-0C8629D8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242D-16E2-4C36-966F-3552A0AD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31T13:48:38Z</dcterms:created>
  <dc:creator>emachines</dc:creator>
  <dc:description/>
  <dc:language>en-US</dc:language>
  <cp:lastModifiedBy>emachines</cp:lastModifiedBy>
  <dcterms:modified xsi:type="dcterms:W3CDTF">2023-01-31T13:51:30Z</dcterms:modified>
  <cp:revision>1</cp:revision>
  <dc:subject/>
  <dc:title>Слайд 1</dc:title>
</cp:coreProperties>
</file>