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7D3-A3B0-4255-81B5-24C82CAA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965-4ECB-4E8E-AB39-0EEA3D65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6DF-94FC-44F6-A907-E59B88E5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3FE-F3D6-4048-8473-76EEE363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ADB-0AED-4531-A1FD-A58D58F8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1D1-8226-4BF3-BA34-0A63B663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0AC-D710-4EED-93AB-F68195CD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CF9-EE93-4A4F-99DB-580DDCF0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BBA-3E34-4486-9AC8-BDF51823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5D0-A66F-4FC6-B94C-8B845B84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EBD-118A-4DB9-BD21-499CBC3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54A-F784-4A6F-9632-1B1EE4D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DF5-2636-491C-97C6-6A91DE37F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31T13:48:38Z</dcterms:created>
  <dc:creator>emachines</dc:creator>
  <dc:description/>
  <dc:language>en-US</dc:language>
  <cp:lastModifiedBy>emachines</cp:lastModifiedBy>
  <dcterms:modified xsi:type="dcterms:W3CDTF">2023-01-31T13:51:30Z</dcterms:modified>
  <cp:revision>1</cp:revision>
  <dc:subject/>
  <dc:title>Слайд 1</dc:title>
</cp:coreProperties>
</file>